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13.png" ContentType="image/png"/>
  <Override PartName="/ppt/media/image50.png" ContentType="image/png"/>
  <Override PartName="/ppt/media/image4.png" ContentType="image/png"/>
  <Override PartName="/ppt/media/image34.png" ContentType="image/png"/>
  <Override PartName="/ppt/media/image40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11.png" ContentType="image/png"/>
  <Override PartName="/ppt/media/image41.png" ContentType="image/png"/>
  <Override PartName="/ppt/media/image9.png" ContentType="image/png"/>
  <Override PartName="/ppt/media/image39.png" ContentType="image/png"/>
  <Override PartName="/ppt/media/image48.jpeg" ContentType="image/jpe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736F3-1649-484E-8A3E-795351EBC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34C68-95BD-43BE-A6F1-075047CEE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579B4-AEA2-4AC5-9E20-9AB143FF7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DE390-29D3-40DC-8834-F5384C199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EE25B-43F2-420F-8D66-97C3158BB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7059E-2BF4-4424-86DD-1E83CB113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C2BC1-F324-4C59-B47A-CECE8B802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B8EA2-1477-4CA6-BBE5-41B71229F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2880"/>
            <a:ext cx="82296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E361B-7507-472F-B22A-4428FE851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FFDE6-E72C-456D-8E45-309560157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64674-6C43-4031-A357-47634B72D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9CEC9-B6D7-4319-BD09-7EFCF37F6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ul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Gulim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C934B-F7AE-4833-8D3E-F1470003CB88}" type="slidenum">
              <a:rPr b="0" lang="en-US" sz="1400" spc="-1" strike="noStrike">
                <a:solidFill>
                  <a:srgbClr val="000000"/>
                </a:solidFill>
                <a:latin typeface="Gulim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3.png"/><Relationship Id="rId16" Type="http://schemas.openxmlformats.org/officeDocument/2006/relationships/image" Target="../media/image3.png"/><Relationship Id="rId17" Type="http://schemas.openxmlformats.org/officeDocument/2006/relationships/image" Target="../media/image3.png"/><Relationship Id="rId18" Type="http://schemas.openxmlformats.org/officeDocument/2006/relationships/image" Target="../media/image3.png"/><Relationship Id="rId19" Type="http://schemas.openxmlformats.org/officeDocument/2006/relationships/image" Target="../media/image3.png"/><Relationship Id="rId20" Type="http://schemas.openxmlformats.org/officeDocument/2006/relationships/image" Target="../media/image3.png"/><Relationship Id="rId21" Type="http://schemas.openxmlformats.org/officeDocument/2006/relationships/image" Target="../media/image3.png"/><Relationship Id="rId22" Type="http://schemas.openxmlformats.org/officeDocument/2006/relationships/image" Target="../media/image1.png"/><Relationship Id="rId23" Type="http://schemas.openxmlformats.org/officeDocument/2006/relationships/image" Target="../media/image4.png"/><Relationship Id="rId24" Type="http://schemas.openxmlformats.org/officeDocument/2006/relationships/image" Target="../media/image5.png"/><Relationship Id="rId25" Type="http://schemas.openxmlformats.org/officeDocument/2006/relationships/image" Target="../media/image4.png"/><Relationship Id="rId26" Type="http://schemas.openxmlformats.org/officeDocument/2006/relationships/image" Target="../media/image5.png"/><Relationship Id="rId27" Type="http://schemas.openxmlformats.org/officeDocument/2006/relationships/image" Target="../media/image4.png"/><Relationship Id="rId28" Type="http://schemas.openxmlformats.org/officeDocument/2006/relationships/image" Target="../media/image5.png"/><Relationship Id="rId29" Type="http://schemas.openxmlformats.org/officeDocument/2006/relationships/image" Target="../media/image4.png"/><Relationship Id="rId30" Type="http://schemas.openxmlformats.org/officeDocument/2006/relationships/image" Target="../media/image5.png"/><Relationship Id="rId31" Type="http://schemas.openxmlformats.org/officeDocument/2006/relationships/image" Target="../media/image6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10.png"/><Relationship Id="rId3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2.png"/><Relationship Id="rId11" Type="http://schemas.openxmlformats.org/officeDocument/2006/relationships/image" Target="../media/image12.png"/><Relationship Id="rId12" Type="http://schemas.openxmlformats.org/officeDocument/2006/relationships/image" Target="../media/image12.png"/><Relationship Id="rId13" Type="http://schemas.openxmlformats.org/officeDocument/2006/relationships/image" Target="../media/image12.png"/><Relationship Id="rId14" Type="http://schemas.openxmlformats.org/officeDocument/2006/relationships/image" Target="../media/image12.png"/><Relationship Id="rId15" Type="http://schemas.openxmlformats.org/officeDocument/2006/relationships/image" Target="../media/image12.png"/><Relationship Id="rId16" Type="http://schemas.openxmlformats.org/officeDocument/2006/relationships/image" Target="../media/image12.png"/><Relationship Id="rId17" Type="http://schemas.openxmlformats.org/officeDocument/2006/relationships/image" Target="../media/image12.png"/><Relationship Id="rId18" Type="http://schemas.openxmlformats.org/officeDocument/2006/relationships/image" Target="../media/image12.png"/><Relationship Id="rId19" Type="http://schemas.openxmlformats.org/officeDocument/2006/relationships/image" Target="../media/image12.png"/><Relationship Id="rId20" Type="http://schemas.openxmlformats.org/officeDocument/2006/relationships/image" Target="../media/image12.png"/><Relationship Id="rId21" Type="http://schemas.openxmlformats.org/officeDocument/2006/relationships/image" Target="../media/image12.png"/><Relationship Id="rId22" Type="http://schemas.openxmlformats.org/officeDocument/2006/relationships/image" Target="../media/image1.png"/><Relationship Id="rId23" Type="http://schemas.openxmlformats.org/officeDocument/2006/relationships/image" Target="../media/image13.png"/><Relationship Id="rId24" Type="http://schemas.openxmlformats.org/officeDocument/2006/relationships/image" Target="../media/image14.png"/><Relationship Id="rId25" Type="http://schemas.openxmlformats.org/officeDocument/2006/relationships/image" Target="../media/image12.png"/><Relationship Id="rId26" Type="http://schemas.openxmlformats.org/officeDocument/2006/relationships/image" Target="../media/image12.png"/><Relationship Id="rId27" Type="http://schemas.openxmlformats.org/officeDocument/2006/relationships/image" Target="../media/image12.png"/><Relationship Id="rId28" Type="http://schemas.openxmlformats.org/officeDocument/2006/relationships/image" Target="../media/image15.png"/><Relationship Id="rId29" Type="http://schemas.openxmlformats.org/officeDocument/2006/relationships/image" Target="../media/image16.png"/><Relationship Id="rId30" Type="http://schemas.openxmlformats.org/officeDocument/2006/relationships/image" Target="../media/image9.png"/><Relationship Id="rId31" Type="http://schemas.openxmlformats.org/officeDocument/2006/relationships/image" Target="../media/image8.png"/><Relationship Id="rId32" Type="http://schemas.openxmlformats.org/officeDocument/2006/relationships/image" Target="../media/image10.png"/><Relationship Id="rId3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image" Target="../media/image21.png"/><Relationship Id="rId9" Type="http://schemas.openxmlformats.org/officeDocument/2006/relationships/image" Target="../media/image22.png"/><Relationship Id="rId10" Type="http://schemas.openxmlformats.org/officeDocument/2006/relationships/image" Target="../media/image22.png"/><Relationship Id="rId11" Type="http://schemas.openxmlformats.org/officeDocument/2006/relationships/image" Target="../media/image23.png"/><Relationship Id="rId12" Type="http://schemas.openxmlformats.org/officeDocument/2006/relationships/image" Target="../media/image24.png"/><Relationship Id="rId13" Type="http://schemas.openxmlformats.org/officeDocument/2006/relationships/image" Target="../media/image25.png"/><Relationship Id="rId14" Type="http://schemas.openxmlformats.org/officeDocument/2006/relationships/image" Target="../media/image25.png"/><Relationship Id="rId15" Type="http://schemas.openxmlformats.org/officeDocument/2006/relationships/image" Target="../media/image25.png"/><Relationship Id="rId16" Type="http://schemas.openxmlformats.org/officeDocument/2006/relationships/image" Target="../media/image25.png"/><Relationship Id="rId17" Type="http://schemas.openxmlformats.org/officeDocument/2006/relationships/image" Target="../media/image26.png"/><Relationship Id="rId18" Type="http://schemas.openxmlformats.org/officeDocument/2006/relationships/image" Target="../media/image10.png"/><Relationship Id="rId19" Type="http://schemas.openxmlformats.org/officeDocument/2006/relationships/image" Target="../media/image10.png"/><Relationship Id="rId20" Type="http://schemas.openxmlformats.org/officeDocument/2006/relationships/image" Target="../media/image27.png"/><Relationship Id="rId21" Type="http://schemas.openxmlformats.org/officeDocument/2006/relationships/image" Target="../media/image28.png"/><Relationship Id="rId2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5.png"/><Relationship Id="rId3" Type="http://schemas.openxmlformats.org/officeDocument/2006/relationships/image" Target="../media/image25.png"/><Relationship Id="rId4" Type="http://schemas.openxmlformats.org/officeDocument/2006/relationships/image" Target="../media/image25.png"/><Relationship Id="rId5" Type="http://schemas.openxmlformats.org/officeDocument/2006/relationships/image" Target="../media/image25.png"/><Relationship Id="rId6" Type="http://schemas.openxmlformats.org/officeDocument/2006/relationships/image" Target="../media/image10.png"/><Relationship Id="rId7" Type="http://schemas.openxmlformats.org/officeDocument/2006/relationships/image" Target="../media/image29.png"/><Relationship Id="rId8" Type="http://schemas.openxmlformats.org/officeDocument/2006/relationships/image" Target="../media/image24.png"/><Relationship Id="rId9" Type="http://schemas.openxmlformats.org/officeDocument/2006/relationships/image" Target="../media/image30.pn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5.png"/><Relationship Id="rId3" Type="http://schemas.openxmlformats.org/officeDocument/2006/relationships/image" Target="../media/image25.png"/><Relationship Id="rId4" Type="http://schemas.openxmlformats.org/officeDocument/2006/relationships/image" Target="../media/image25.png"/><Relationship Id="rId5" Type="http://schemas.openxmlformats.org/officeDocument/2006/relationships/image" Target="../media/image31.png"/><Relationship Id="rId6" Type="http://schemas.openxmlformats.org/officeDocument/2006/relationships/image" Target="../media/image31.png"/><Relationship Id="rId7" Type="http://schemas.openxmlformats.org/officeDocument/2006/relationships/image" Target="../media/image31.png"/><Relationship Id="rId8" Type="http://schemas.openxmlformats.org/officeDocument/2006/relationships/image" Target="../media/image10.png"/><Relationship Id="rId9" Type="http://schemas.openxmlformats.org/officeDocument/2006/relationships/image" Target="../media/image32.png"/><Relationship Id="rId10" Type="http://schemas.openxmlformats.org/officeDocument/2006/relationships/image" Target="../media/image31.png"/><Relationship Id="rId11" Type="http://schemas.openxmlformats.org/officeDocument/2006/relationships/image" Target="../media/image30.png"/><Relationship Id="rId1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36.png"/><Relationship Id="rId5" Type="http://schemas.openxmlformats.org/officeDocument/2006/relationships/image" Target="../media/image37.png"/><Relationship Id="rId6" Type="http://schemas.openxmlformats.org/officeDocument/2006/relationships/image" Target="../media/image10.png"/><Relationship Id="rId7" Type="http://schemas.openxmlformats.org/officeDocument/2006/relationships/image" Target="../media/image38.png"/><Relationship Id="rId8" Type="http://schemas.openxmlformats.org/officeDocument/2006/relationships/image" Target="../media/image38.png"/><Relationship Id="rId9" Type="http://schemas.openxmlformats.org/officeDocument/2006/relationships/image" Target="../media/image39.png"/><Relationship Id="rId10" Type="http://schemas.openxmlformats.org/officeDocument/2006/relationships/hyperlink" Target="http://www.eeppt.com" TargetMode="External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2.png"/><Relationship Id="rId6" Type="http://schemas.openxmlformats.org/officeDocument/2006/relationships/image" Target="../media/image43.png"/><Relationship Id="rId7" Type="http://schemas.openxmlformats.org/officeDocument/2006/relationships/image" Target="../media/image42.png"/><Relationship Id="rId8" Type="http://schemas.openxmlformats.org/officeDocument/2006/relationships/image" Target="../media/image44.png"/><Relationship Id="rId9" Type="http://schemas.openxmlformats.org/officeDocument/2006/relationships/image" Target="../media/image45.png"/><Relationship Id="rId10" Type="http://schemas.openxmlformats.org/officeDocument/2006/relationships/image" Target="../media/image46.png"/><Relationship Id="rId11" Type="http://schemas.openxmlformats.org/officeDocument/2006/relationships/image" Target="../media/image47.png"/><Relationship Id="rId12" Type="http://schemas.openxmlformats.org/officeDocument/2006/relationships/image" Target="../media/image42.png"/><Relationship Id="rId13" Type="http://schemas.openxmlformats.org/officeDocument/2006/relationships/image" Target="../media/image42.png"/><Relationship Id="rId14" Type="http://schemas.openxmlformats.org/officeDocument/2006/relationships/image" Target="../media/image42.png"/><Relationship Id="rId15" Type="http://schemas.openxmlformats.org/officeDocument/2006/relationships/image" Target="../media/image10.png"/><Relationship Id="rId16" Type="http://schemas.openxmlformats.org/officeDocument/2006/relationships/image" Target="../media/image10.png"/><Relationship Id="rId17" Type="http://schemas.openxmlformats.org/officeDocument/2006/relationships/image" Target="../media/image10.png"/><Relationship Id="rId18" Type="http://schemas.openxmlformats.org/officeDocument/2006/relationships/image" Target="../media/image10.png"/><Relationship Id="rId19" Type="http://schemas.openxmlformats.org/officeDocument/2006/relationships/image" Target="../media/image10.png"/><Relationship Id="rId20" Type="http://schemas.openxmlformats.org/officeDocument/2006/relationships/image" Target="../media/image10.png"/><Relationship Id="rId2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텍스트"/>
          <p:cNvPicPr/>
          <p:nvPr/>
        </p:nvPicPr>
        <p:blipFill>
          <a:blip r:embed="rId1"/>
          <a:srcRect l="7484" t="32157" r="70472" b="41601"/>
          <a:stretch/>
        </p:blipFill>
        <p:spPr>
          <a:xfrm rot="2567400">
            <a:off x="1216080" y="-2230200"/>
            <a:ext cx="1376280" cy="12272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7" descr="텍스트"/>
          <p:cNvPicPr/>
          <p:nvPr/>
        </p:nvPicPr>
        <p:blipFill>
          <a:blip r:embed="rId2"/>
          <a:srcRect l="7484" t="32157" r="70472" b="41601"/>
          <a:stretch/>
        </p:blipFill>
        <p:spPr>
          <a:xfrm rot="2567400">
            <a:off x="2573280" y="-2197080"/>
            <a:ext cx="1487520" cy="13269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0" descr="텍스트"/>
          <p:cNvPicPr/>
          <p:nvPr/>
        </p:nvPicPr>
        <p:blipFill>
          <a:blip r:embed="rId3"/>
          <a:srcRect l="7484" t="32157" r="70472" b="41601"/>
          <a:stretch/>
        </p:blipFill>
        <p:spPr>
          <a:xfrm rot="2567400">
            <a:off x="5756040" y="-2093760"/>
            <a:ext cx="1015920" cy="9079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2" descr="텍스트2"/>
          <p:cNvPicPr/>
          <p:nvPr/>
        </p:nvPicPr>
        <p:blipFill>
          <a:blip r:embed="rId4"/>
          <a:srcRect l="20071" t="61554" r="61807" b="13239"/>
          <a:stretch/>
        </p:blipFill>
        <p:spPr>
          <a:xfrm rot="17548200">
            <a:off x="7265880" y="-2223720"/>
            <a:ext cx="1193760" cy="12477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3" descr="텍스트"/>
          <p:cNvPicPr/>
          <p:nvPr/>
        </p:nvPicPr>
        <p:blipFill>
          <a:blip r:embed="rId5"/>
          <a:srcRect l="7484" t="32157" r="70472" b="41601"/>
          <a:stretch/>
        </p:blipFill>
        <p:spPr>
          <a:xfrm rot="2567400">
            <a:off x="-980640" y="-2392200"/>
            <a:ext cx="2008080" cy="17906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4" descr="텍스트"/>
          <p:cNvPicPr/>
          <p:nvPr/>
        </p:nvPicPr>
        <p:blipFill>
          <a:blip r:embed="rId6"/>
          <a:srcRect l="7484" t="32157" r="70472" b="41601"/>
          <a:stretch/>
        </p:blipFill>
        <p:spPr>
          <a:xfrm rot="2567400">
            <a:off x="3639960" y="-2045880"/>
            <a:ext cx="1295640" cy="11541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5" descr="텍스트"/>
          <p:cNvPicPr/>
          <p:nvPr/>
        </p:nvPicPr>
        <p:blipFill>
          <a:blip r:embed="rId7"/>
          <a:srcRect l="7484" t="32157" r="70472" b="41601"/>
          <a:stretch/>
        </p:blipFill>
        <p:spPr>
          <a:xfrm rot="2567400">
            <a:off x="5724360" y="-2115720"/>
            <a:ext cx="1638360" cy="14619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6" descr="텍스트"/>
          <p:cNvPicPr/>
          <p:nvPr/>
        </p:nvPicPr>
        <p:blipFill>
          <a:blip r:embed="rId8"/>
          <a:srcRect l="7484" t="32157" r="70472" b="41601"/>
          <a:stretch/>
        </p:blipFill>
        <p:spPr>
          <a:xfrm rot="2567400">
            <a:off x="2535120" y="-2650680"/>
            <a:ext cx="2073240" cy="18507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0" descr="qhf"/>
          <p:cNvPicPr/>
          <p:nvPr/>
        </p:nvPicPr>
        <p:blipFill>
          <a:blip r:embed="rId9"/>
          <a:srcRect l="71268" t="56299" r="24012" b="37407"/>
          <a:stretch/>
        </p:blipFill>
        <p:spPr>
          <a:xfrm>
            <a:off x="-216000" y="-604800"/>
            <a:ext cx="432000" cy="4334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2" descr="qhf"/>
          <p:cNvPicPr/>
          <p:nvPr/>
        </p:nvPicPr>
        <p:blipFill>
          <a:blip r:embed="rId10"/>
          <a:srcRect l="71268" t="56299" r="24012" b="37407"/>
          <a:stretch/>
        </p:blipFill>
        <p:spPr>
          <a:xfrm>
            <a:off x="324000" y="-604800"/>
            <a:ext cx="431640" cy="4334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3" descr="qhf"/>
          <p:cNvPicPr/>
          <p:nvPr/>
        </p:nvPicPr>
        <p:blipFill>
          <a:blip r:embed="rId11"/>
          <a:srcRect l="71268" t="56299" r="24012" b="37407"/>
          <a:stretch/>
        </p:blipFill>
        <p:spPr>
          <a:xfrm>
            <a:off x="7885080" y="-433440"/>
            <a:ext cx="432000" cy="4334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4" descr="qhf"/>
          <p:cNvPicPr/>
          <p:nvPr/>
        </p:nvPicPr>
        <p:blipFill>
          <a:blip r:embed="rId12"/>
          <a:srcRect l="71268" t="56299" r="24012" b="37407"/>
          <a:stretch/>
        </p:blipFill>
        <p:spPr>
          <a:xfrm>
            <a:off x="4140360" y="-433440"/>
            <a:ext cx="431640" cy="4334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5" descr="qhf"/>
          <p:cNvPicPr/>
          <p:nvPr/>
        </p:nvPicPr>
        <p:blipFill>
          <a:blip r:embed="rId13"/>
          <a:srcRect l="71268" t="56299" r="24012" b="37407"/>
          <a:stretch/>
        </p:blipFill>
        <p:spPr>
          <a:xfrm>
            <a:off x="5651640" y="-433440"/>
            <a:ext cx="431640" cy="4334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6" descr="qhf"/>
          <p:cNvPicPr/>
          <p:nvPr/>
        </p:nvPicPr>
        <p:blipFill>
          <a:blip r:embed="rId14"/>
          <a:srcRect l="71268" t="56299" r="24012" b="37407"/>
          <a:stretch/>
        </p:blipFill>
        <p:spPr>
          <a:xfrm>
            <a:off x="1332000" y="-528480"/>
            <a:ext cx="287280" cy="2840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7" descr="qhf"/>
          <p:cNvPicPr/>
          <p:nvPr/>
        </p:nvPicPr>
        <p:blipFill>
          <a:blip r:embed="rId15"/>
          <a:srcRect l="71268" t="56299" r="24012" b="37407"/>
          <a:stretch/>
        </p:blipFill>
        <p:spPr>
          <a:xfrm>
            <a:off x="2627280" y="-53172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8" descr="qhf"/>
          <p:cNvPicPr/>
          <p:nvPr/>
        </p:nvPicPr>
        <p:blipFill>
          <a:blip r:embed="rId16"/>
          <a:srcRect l="71268" t="56299" r="24012" b="37407"/>
          <a:stretch/>
        </p:blipFill>
        <p:spPr>
          <a:xfrm>
            <a:off x="8459640" y="-433440"/>
            <a:ext cx="432000" cy="4334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9" descr="qhf"/>
          <p:cNvPicPr/>
          <p:nvPr/>
        </p:nvPicPr>
        <p:blipFill>
          <a:blip r:embed="rId17"/>
          <a:srcRect l="71268" t="56299" r="24012" b="37407"/>
          <a:stretch/>
        </p:blipFill>
        <p:spPr>
          <a:xfrm>
            <a:off x="3132000" y="-433440"/>
            <a:ext cx="432000" cy="4334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0" descr="qhf"/>
          <p:cNvPicPr/>
          <p:nvPr/>
        </p:nvPicPr>
        <p:blipFill>
          <a:blip r:embed="rId18"/>
          <a:srcRect l="71268" t="56299" r="24012" b="37407"/>
          <a:stretch/>
        </p:blipFill>
        <p:spPr>
          <a:xfrm>
            <a:off x="9144000" y="2709720"/>
            <a:ext cx="431640" cy="4302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1" descr="qhf"/>
          <p:cNvPicPr/>
          <p:nvPr/>
        </p:nvPicPr>
        <p:blipFill>
          <a:blip r:embed="rId19"/>
          <a:srcRect l="71268" t="56299" r="24012" b="37407"/>
          <a:stretch/>
        </p:blipFill>
        <p:spPr>
          <a:xfrm>
            <a:off x="9144000" y="1628640"/>
            <a:ext cx="431640" cy="432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2" descr="qhf"/>
          <p:cNvPicPr/>
          <p:nvPr/>
        </p:nvPicPr>
        <p:blipFill>
          <a:blip r:embed="rId20"/>
          <a:srcRect l="71268" t="56299" r="24012" b="37407"/>
          <a:stretch/>
        </p:blipFill>
        <p:spPr>
          <a:xfrm>
            <a:off x="-1260360" y="334800"/>
            <a:ext cx="287280" cy="2876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33" descr="qhf"/>
          <p:cNvPicPr/>
          <p:nvPr/>
        </p:nvPicPr>
        <p:blipFill>
          <a:blip r:embed="rId21"/>
          <a:srcRect l="71268" t="56299" r="24012" b="37407"/>
          <a:stretch/>
        </p:blipFill>
        <p:spPr>
          <a:xfrm>
            <a:off x="-1476360" y="1486080"/>
            <a:ext cx="287280" cy="2840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6" descr="텍스트"/>
          <p:cNvPicPr/>
          <p:nvPr/>
        </p:nvPicPr>
        <p:blipFill>
          <a:blip r:embed="rId22"/>
          <a:srcRect l="38976" t="15349" r="32673" b="2756"/>
          <a:stretch/>
        </p:blipFill>
        <p:spPr>
          <a:xfrm>
            <a:off x="3357720" y="1571760"/>
            <a:ext cx="3255840" cy="70563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47" descr="빨간라인"/>
          <p:cNvPicPr/>
          <p:nvPr/>
        </p:nvPicPr>
        <p:blipFill>
          <a:blip r:embed="rId23"/>
          <a:srcRect l="5902" t="39491" r="50004" b="29008"/>
          <a:stretch/>
        </p:blipFill>
        <p:spPr>
          <a:xfrm>
            <a:off x="539640" y="2709720"/>
            <a:ext cx="4032360" cy="21592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8" descr="빨간라인2"/>
          <p:cNvPicPr/>
          <p:nvPr/>
        </p:nvPicPr>
        <p:blipFill>
          <a:blip r:embed="rId24"/>
          <a:srcRect l="24811" t="50005" r="9843" b="17454"/>
          <a:stretch/>
        </p:blipFill>
        <p:spPr>
          <a:xfrm>
            <a:off x="2268360" y="3476520"/>
            <a:ext cx="5975640" cy="2233800"/>
          </a:xfrm>
          <a:prstGeom prst="rect">
            <a:avLst/>
          </a:prstGeom>
          <a:ln w="0">
            <a:noFill/>
          </a:ln>
        </p:spPr>
      </p:pic>
      <p:grpSp>
        <p:nvGrpSpPr>
          <p:cNvPr id="65" name="Group 49"/>
          <p:cNvGrpSpPr/>
          <p:nvPr/>
        </p:nvGrpSpPr>
        <p:grpSpPr>
          <a:xfrm>
            <a:off x="539640" y="2709720"/>
            <a:ext cx="7704000" cy="3000240"/>
            <a:chOff x="539640" y="2709720"/>
            <a:chExt cx="7704000" cy="3000240"/>
          </a:xfrm>
        </p:grpSpPr>
        <p:pic>
          <p:nvPicPr>
            <p:cNvPr id="66" name="Picture 50" descr="빨간라인"/>
            <p:cNvPicPr/>
            <p:nvPr/>
          </p:nvPicPr>
          <p:blipFill>
            <a:blip r:embed="rId25"/>
            <a:srcRect l="5902" t="39491" r="50004" b="29008"/>
            <a:stretch/>
          </p:blipFill>
          <p:spPr>
            <a:xfrm>
              <a:off x="539640" y="2709720"/>
              <a:ext cx="4032360" cy="216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Picture 51" descr="빨간라인2"/>
            <p:cNvPicPr/>
            <p:nvPr/>
          </p:nvPicPr>
          <p:blipFill>
            <a:blip r:embed="rId26"/>
            <a:srcRect l="24811" t="50005" r="9843" b="17454"/>
            <a:stretch/>
          </p:blipFill>
          <p:spPr>
            <a:xfrm>
              <a:off x="2268360" y="3477960"/>
              <a:ext cx="5975280" cy="2232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8" name="Group 52"/>
          <p:cNvGrpSpPr/>
          <p:nvPr/>
        </p:nvGrpSpPr>
        <p:grpSpPr>
          <a:xfrm>
            <a:off x="552600" y="2695680"/>
            <a:ext cx="7704000" cy="2998440"/>
            <a:chOff x="552600" y="2695680"/>
            <a:chExt cx="7704000" cy="2998440"/>
          </a:xfrm>
        </p:grpSpPr>
        <p:pic>
          <p:nvPicPr>
            <p:cNvPr id="69" name="Picture 53" descr="빨간라인"/>
            <p:cNvPicPr/>
            <p:nvPr/>
          </p:nvPicPr>
          <p:blipFill>
            <a:blip r:embed="rId27"/>
            <a:srcRect l="5902" t="39491" r="50004" b="29008"/>
            <a:stretch/>
          </p:blipFill>
          <p:spPr>
            <a:xfrm>
              <a:off x="552600" y="2695680"/>
              <a:ext cx="4032360" cy="215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" name="Picture 54" descr="빨간라인2"/>
            <p:cNvPicPr/>
            <p:nvPr/>
          </p:nvPicPr>
          <p:blipFill>
            <a:blip r:embed="rId28"/>
            <a:srcRect l="24811" t="50005" r="9843" b="17454"/>
            <a:stretch/>
          </p:blipFill>
          <p:spPr>
            <a:xfrm>
              <a:off x="2281320" y="3463200"/>
              <a:ext cx="5975280" cy="2230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1" name="Group 55"/>
          <p:cNvGrpSpPr/>
          <p:nvPr/>
        </p:nvGrpSpPr>
        <p:grpSpPr>
          <a:xfrm>
            <a:off x="-289080" y="1989000"/>
            <a:ext cx="9721440" cy="4606200"/>
            <a:chOff x="-289080" y="1989000"/>
            <a:chExt cx="9721440" cy="4606200"/>
          </a:xfrm>
        </p:grpSpPr>
        <p:pic>
          <p:nvPicPr>
            <p:cNvPr id="72" name="Picture 56" descr="빨간라인"/>
            <p:cNvPicPr/>
            <p:nvPr/>
          </p:nvPicPr>
          <p:blipFill>
            <a:blip r:embed="rId29"/>
            <a:srcRect l="5902" t="39491" r="50004" b="29008"/>
            <a:stretch/>
          </p:blipFill>
          <p:spPr>
            <a:xfrm>
              <a:off x="-289080" y="1989000"/>
              <a:ext cx="5088600" cy="331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Picture 57" descr="빨간라인2"/>
            <p:cNvPicPr/>
            <p:nvPr/>
          </p:nvPicPr>
          <p:blipFill>
            <a:blip r:embed="rId30"/>
            <a:srcRect l="24811" t="50005" r="9843" b="17454"/>
            <a:stretch/>
          </p:blipFill>
          <p:spPr>
            <a:xfrm>
              <a:off x="1892160" y="3168360"/>
              <a:ext cx="7540200" cy="3426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4" name="Picture 37" descr="1"/>
          <p:cNvPicPr/>
          <p:nvPr/>
        </p:nvPicPr>
        <p:blipFill>
          <a:blip r:embed="rId31"/>
          <a:srcRect l="9843" t="42640" r="7484" b="38451"/>
          <a:stretch/>
        </p:blipFill>
        <p:spPr>
          <a:xfrm>
            <a:off x="-3852720" y="1557360"/>
            <a:ext cx="19802160" cy="33973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8" descr="1-1"/>
          <p:cNvPicPr/>
          <p:nvPr/>
        </p:nvPicPr>
        <p:blipFill>
          <a:blip r:embed="rId32"/>
          <a:srcRect l="33075" t="47501" r="39378" b="44100"/>
          <a:stretch/>
        </p:blipFill>
        <p:spPr>
          <a:xfrm rot="20763000">
            <a:off x="1115640" y="3428640"/>
            <a:ext cx="2519280" cy="5763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40" descr="로고2"/>
          <p:cNvPicPr/>
          <p:nvPr/>
        </p:nvPicPr>
        <p:blipFill>
          <a:blip r:embed="rId3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41" descr="로고"/>
          <p:cNvPicPr/>
          <p:nvPr/>
        </p:nvPicPr>
        <p:blipFill>
          <a:blip r:embed="rId34"/>
          <a:srcRect l="27953" t="22709" r="24012" b="22709"/>
          <a:stretch/>
        </p:blipFill>
        <p:spPr>
          <a:xfrm>
            <a:off x="2340000" y="1557360"/>
            <a:ext cx="4392720" cy="37432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35" descr="칸막이"/>
          <p:cNvPicPr/>
          <p:nvPr/>
        </p:nvPicPr>
        <p:blipFill>
          <a:blip r:embed="rId3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108000" y="645336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1" lang="en-US" sz="16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0" name=""/>
          <p:cNvSpPr/>
          <p:nvPr/>
        </p:nvSpPr>
        <p:spPr>
          <a:xfrm>
            <a:off x="2967120" y="765000"/>
            <a:ext cx="2923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Gulim"/>
              </a:rPr>
              <a:t>韩国幻灯片在线下载</a:t>
            </a:r>
            <a:endParaRPr b="1" lang="en-US" sz="40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xit" presetID="19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6" dur="20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mph" presetID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21600000">
                                      <p:cBhvr>
                                        <p:cTn id="10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" nodeType="with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.0033 0.00347 C -0.00434 0.0662 -0.00173 0.06528 0.00608 0.18495 C 0.01407 0.30463 0.01789 0.57847 0.05191 0.72176 C 0.08577 0.86481 0.23646 1.00555 0.21025 1.04444 C 0.18403 1.08333 -0.00711000000000001 0.92708 -0.10503 0.95555 C -0.20295 0.98403 -0.32048 1.16088 -0.37725 1.21481 E">
                                      <p:cBhvr>
                                        <p:cTn id="12" dur="2000" fill="hold"/>
                                        <p:tgtEl>
                                          <p:spTgt spid="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" nodeType="withEffect" fill="hold" presetClass="exit" presetID="19" presetSubtype="10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" dur="2000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mph" presetID="8">
                                  <p:stCondLst>
                                    <p:cond delay="100"/>
                                  </p:stCondLst>
                                  <p:childTnLst>
                                    <p:animRot by="21600000">
                                      <p:cBhvr>
                                        <p:cTn id="1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9" nodeType="withEffect" fill="hold" presetClass="path" presetID="0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1.11111E-006 -3.7037E-006 C 0.00729 0.09329 0.04913 0.15093 0.04028 0.24074 C 0.03142 0.33056 -0.07517 0.47732 -0.05278 0.53843 C -0.03038 0.59954 0.14462 0.54144 0.175 0.60741 C 0.20538 0.67338 0.09184 0.85301 0.12917 0.93473 C 0.16649 1.01644 0.29288 1.06135 0.39861 1.09815 C 0.50434 1.13496 0.68785 1.14329 0.76389 1.1551 E">
                                      <p:cBhvr>
                                        <p:cTn id="20" dur="2000" fill="hold"/>
                                        <p:tgtEl>
                                          <p:spTgt spid="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" nodeType="withEffect" fill="hold" presetClass="emph" presetID="8">
                                  <p:stCondLst>
                                    <p:cond delay="200"/>
                                  </p:stCondLst>
                                  <p:childTnLst>
                                    <p:animRot by="21600000">
                                      <p:cBhvr>
                                        <p:cTn id="22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" nodeType="withEffect" fill="hold" presetClass="exit" presetID="19" presetSubtype="10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" dur="20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path" presetID="0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-5E-006 -4.07407E-006 C 0.0125 0.15718 0.025 0.31436 -0.00973 0.43889 C -0.04445 0.56343 -0.15504 0.65718 -0.20834 0.74815 C -0.26164 0.83912 -0.28195 0.92037 -0.32917 0.98519 C -0.3764 1.05 -0.43404 1.09352 -0.49167 1.13704 E">
                                      <p:cBhvr>
                                        <p:cTn id="28" dur="2000" fill="hold"/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" nodeType="withEffect" fill="hold" presetClass="exit" presetID="19" presetSubtype="10">
                                  <p:stCondLst>
                                    <p:cond delay="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" dur="20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mph" presetID="8">
                                  <p:stCondLst>
                                    <p:cond delay="300"/>
                                  </p:stCondLst>
                                  <p:childTnLst>
                                    <p:animRot by="21600000">
                                      <p:cBhvr>
                                        <p:cTn id="34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5" nodeType="withEffect" fill="hold" presetClass="path" presetID="0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-1.38889E-006 -3.7037E-007 C 0.0151 0.10185 0.03038 0.20394 -0.00417 0.28519 C -0.03872 0.36644 -0.11997 0.4294 -0.20695 0.48704 C -0.29392 0.54468 -0.48247 0.58333 -0.52639 0.63148 C -0.57031 0.6794 -0.45278 0.72894 -0.47083 0.77593 C -0.48889 0.82292 -0.5849 0.86574 -0.63472 0.91296 C -0.68472 0.96019 -0.74497 1.01921 -0.77083 1.05926 C -0.7967 1.09931 -0.78663 1.13796 -0.79028 1.15371 E">
                                      <p:cBhvr>
                                        <p:cTn id="36" dur="2000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" nodeType="withEffect" fill="hold" presetClass="exit" presetID="19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38" dur="20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mph" presetID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21600000">
                                      <p:cBhvr>
                                        <p:cTn id="42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3" nodeType="with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.00295 0.00348 C -0.00382 0.06621 -0.01181 0.12917 0.0059 0.18519 C 0.02413 0.24074 0.00521000000000001 0.24375 0.11181 0.33843 C 0.21806 0.43334 0.53038 0.63195 0.6441 0.75371 C 0.75799 0.87593 0.72604 0.97269 0.79306 1.07269 C 0.85972 1.17246 1.00069 1.30139 1.04583 1.35394 C 1.09097 1.40672 1.08194 1.38172 1.06389 1.38936 C 1.04583 1.39676 0.96389 1.39676 0.9375 1.39861 E">
                                      <p:cBhvr>
                                        <p:cTn id="44" dur="20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5" nodeType="withEffect" fill="hold" presetClass="exit" presetID="19" presetSubtype="10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6" dur="20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21600000">
                                      <p:cBhvr>
                                        <p:cTn id="50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1" nodeType="with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1.38889E-006 0 C 0.10764 0.12037 0.21545 0.24097 0.22917 0.33519 C 0.24288 0.4294 0.14514 0.51366 0.08194 0.56481 C 0.01875 0.61597 -0.13195 0.58218 -0.15 0.64259 C -0.16806 0.70301 0.0033 0.86389 -0.02639 0.92755 C -0.05608 0.9912 -0.23038 1.01088 -0.3283 1.02523 C -0.42622 1.03958 -0.55486 1.01644 -0.61441 1.01412 E">
                                      <p:cBhvr>
                                        <p:cTn id="52" dur="20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3" nodeType="withEffect" fill="hold" presetClass="exit" presetID="19" presetSubtype="10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4" dur="20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path" presetID="0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2.22222E-006 -2.96296E-006 C 0.0625 0.13079 0.07656 0.2669 0.13472 0.35371 C 0.19288 0.44028 0.33802 0.46227 0.3493 0.5213 C 0.36059 0.58056 0.22413 0.63449 0.20278 0.70741 C 0.18142 0.7801 0.20555 0.90741 0.22083 0.95926 C 0.23611 1.01111 0.22864 1.01181 0.29444 1.01852 C 0.36024 1.02523 0.54896 1.00324 0.61597 0.99931 E">
                                      <p:cBhvr>
                                        <p:cTn id="58" dur="20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" nodeType="withEffect" fill="hold" presetClass="emph" presetID="8">
                                  <p:stCondLst>
                                    <p:cond delay="300"/>
                                  </p:stCondLst>
                                  <p:childTnLst>
                                    <p:animRot by="21600000">
                                      <p:cBhvr>
                                        <p:cTn id="60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1" nodeType="withEffect" fill="hold" presetClass="exit" presetID="19" presetSubtype="10">
                                  <p:stCondLst>
                                    <p:cond delay="6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2" dur="20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mph" presetID="8">
                                  <p:stCondLst>
                                    <p:cond delay="600"/>
                                  </p:stCondLst>
                                  <p:childTnLst>
                                    <p:animRot by="21600000">
                                      <p:cBhvr>
                                        <p:cTn id="66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7" nodeType="withEffect" fill="hold" presetClass="path" presetID="0">
                                  <p:stCondLst>
                                    <p:cond delay="600"/>
                                  </p:stCondLst>
                                  <p:childTnLst>
                                    <p:animMotion origin="layout" path="M 5E-006 1.85185E-006 C -0.02777 0.06782 -0.18195 0.29074 -0.16702 0.40741 C -0.15209 0.52384 0.06145 0.60764 0.08907 0.70046 C 0.11667 0.79329 -0.01563 0.91435 -0.00138 0.96481 C 0.01285 1.01528 0.1106 1.00764 0.17466 1.0037 C 0.23872 0.99977 0.33959 0.95393 0.38299 0.94074 E">
                                      <p:cBhvr>
                                        <p:cTn id="68" dur="2000" fill="hold"/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9" nodeType="withEffect" fill="hold" presetClass="emph" presetID="6" repeatCount="indefinite">
                                  <p:stCondLst>
                                    <p:cond delay="8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Scale>
                                      <p:cBhvr>
                                        <p:cTn id="70" dur="2000" fill="hold"/>
                                        <p:tgtEl>
                                          <p:spTgt spid="49"/>
                                        </p:tgtEl>
                                      </p:cBhvr>
                                      <p:to x="98000" y="98000"/>
                                    </p:animScale>
                                  </p:childTnLst>
                                </p:cTn>
                              </p:par>
                              <p:par>
                                <p:cTn id="71" nodeType="withEffect" fill="hold" presetClass="path" presetID="0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0 3.7037E-007 C 0.01632 0.15324 0.03264 0.30648 0.09722 0.38125 C 0.16163 0.45648 0.30851 0.37592 0.3875 0.45 C 0.46649 0.52407 0.60833 0.72037 0.57083 0.82569 C 0.53333 0.93125 0.34774 1.00625 0.16233 1.08148 E">
                                      <p:cBhvr>
                                        <p:cTn id="72" dur="2000" fill="hold"/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3" nodeType="withEffect" fill="hold" presetClass="emph" presetID="6" repeatCount="indefinite">
                                  <p:stCondLst>
                                    <p:cond delay="8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Scale>
                                      <p:cBhvr>
                                        <p:cTn id="74" dur="2000" fill="hold"/>
                                        <p:tgtEl>
                                          <p:spTgt spid="50"/>
                                        </p:tgtEl>
                                      </p:cBhvr>
                                      <p:to x="98000" y="98000"/>
                                    </p:animScale>
                                  </p:childTnLst>
                                </p:cTn>
                              </p:par>
                              <p:par>
                                <p:cTn id="75" nodeType="withEffect" fill="hold" presetClass="path" presetID="0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2.22222E-006 1.48148E-006 C 0.01632 0.15324 0.0934 0.26389 0.09722 0.38102 C 0.10104 0.49861 0.01302 0.62338 0.02291 0.70417 C 0.03281 0.78518 0.13298 0.80301 0.15625 0.86574 C 0.17951 0.92824 0.16111 1.03657 0.16232 1.08148 E">
                                      <p:cBhvr>
                                        <p:cTn id="76" dur="2000" fill="hold"/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7" nodeType="withEffect" fill="hold" presetClass="emph" presetID="6" repeatCount="indefinite">
                                  <p:stCondLst>
                                    <p:cond delay="8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Scale>
                                      <p:cBhvr>
                                        <p:cTn id="78" dur="2000" fill="hold"/>
                                        <p:tgtEl>
                                          <p:spTgt spid="51"/>
                                        </p:tgtEl>
                                      </p:cBhvr>
                                      <p:to x="98000" y="98000"/>
                                    </p:animScale>
                                  </p:childTnLst>
                                </p:cTn>
                              </p:par>
                              <p:par>
                                <p:cTn id="79" nodeType="withEffect" fill="hold" presetClass="path" presetID="0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2.5E-006 1.48148E-006 C 0.01632 0.15324 0.13611 0.27106 0.09722 0.38102 C 0.05833 0.49097 -0.16094 0.54907 -0.23316 0.65926 C -0.30538 0.76944 -0.40191 0.97222 -0.33594 1.04259 C -0.26997 1.11296 0.0585 1.07338 0.16232 1.08148 E">
                                      <p:cBhvr>
                                        <p:cTn id="80" dur="200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1" nodeType="withEffect" fill="hold" presetClass="emph" presetID="6" repeatCount="indefinite">
                                  <p:stCondLst>
                                    <p:cond delay="8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Scale>
                                      <p:cBhvr>
                                        <p:cTn id="82" dur="2000" fill="hold"/>
                                        <p:tgtEl>
                                          <p:spTgt spid="52"/>
                                        </p:tgtEl>
                                      </p:cBhvr>
                                      <p:to x="98000" y="98000"/>
                                    </p:animScale>
                                  </p:childTnLst>
                                </p:cTn>
                              </p:par>
                              <p:par>
                                <p:cTn id="83" nodeType="with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0.00017 1.48148E-006 C -0.04236 0.05069 -0.21528 0.1956 -0.25434 0.30532 C -0.29306 0.41504 -0.16528 0.53032 -0.23316 0.65926 C -0.30122 0.78819 -0.62865 1.00162 -0.66111 1.07963 C -0.69358 1.15764 -0.47656 1.12129 -0.42778 1.12778 C -0.37917 1.13426 -0.38056 1.12037 -0.36823 1.11852 E">
                                      <p:cBhvr>
                                        <p:cTn id="84" dur="2000" fill="hold"/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5" nodeType="withEffect" fill="hold" presetClass="emph" presetID="6" repeatCount="indefinite">
                                  <p:stCondLst>
                                    <p:cond delay="8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Scale>
                                      <p:cBhvr>
                                        <p:cTn id="86" dur="2000" fill="hold"/>
                                        <p:tgtEl>
                                          <p:spTgt spid="53"/>
                                        </p:tgtEl>
                                      </p:cBhvr>
                                      <p:to x="98000" y="98000"/>
                                    </p:animScale>
                                  </p:childTnLst>
                                </p:cTn>
                              </p:par>
                              <p:par>
                                <p:cTn id="87" nodeType="withEffect" fill="hold" presetClass="path" presetID="0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3.33333E-006 1.48148E-006 C -0.02084 0.0669 -0.125 0.28217 -0.125 0.40162 C -0.125 0.52153 0.03507 0.61157 3.33333E-006 0.71852 C -0.03507 0.825 -0.36302 0.98217 -0.33594 1.04259 C -0.30886 1.10301 0.0585 1.07338 0.16232 1.08148 E">
                                      <p:cBhvr>
                                        <p:cTn id="88" dur="200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9" nodeType="withEffect" fill="hold" presetClass="emph" presetID="6" repeatCount="indefinite">
                                  <p:stCondLst>
                                    <p:cond delay="8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Scale>
                                      <p:cBhvr>
                                        <p:cTn id="90" dur="2000" fill="hold"/>
                                        <p:tgtEl>
                                          <p:spTgt spid="54"/>
                                        </p:tgtEl>
                                      </p:cBhvr>
                                      <p:to x="98000" y="98000"/>
                                    </p:animScale>
                                  </p:childTnLst>
                                </p:cTn>
                              </p:par>
                              <p:par>
                                <p:cTn id="9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1.48148E-006 C 0.01632 0.15324 0.0934 0.26389 0.09722 0.38102 C 0.10104 0.49861 0.01302 0.62338 0.02291 0.70417 C 0.03281 0.78518 0.13298 0.80301 0.15625 0.86574 C 0.17951 0.92824 0.16111 1.03657 0.16232 1.08148 E">
                                      <p:cBhvr>
                                        <p:cTn id="92" dur="200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3" nodeType="withEffect" fill="hold" presetClass="emph" presetID="6" repeatCount="indefinite">
                                  <p:stCondLst>
                                    <p:cond delay="8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Scale>
                                      <p:cBhvr>
                                        <p:cTn id="94" dur="2000" fill="hold"/>
                                        <p:tgtEl>
                                          <p:spTgt spid="55"/>
                                        </p:tgtEl>
                                      </p:cBhvr>
                                      <p:to x="98000" y="98000"/>
                                    </p:animScale>
                                  </p:childTnLst>
                                </p:cTn>
                              </p:par>
                              <p:par>
                                <p:cTn id="95" nodeType="withEffect" fill="hold" presetClass="path" presetID="0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-1.38889E-006 1.48148E-006 C -0.00364 0.0493 -0.00798 0.22639 -0.02239 0.29537 C -0.0368 0.36412 -0.12604 0.34745 -0.08628 0.41204 C -0.04653 0.47616 0.1533 0.59514 0.21649 0.68055 C 0.27969 0.76597 0.30191 0.8581 0.29288 0.925 C 0.28386 0.9919 0.18958 1.04884 0.16233 1.08148 E">
                                      <p:cBhvr>
                                        <p:cTn id="96" dur="2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7" nodeType="withEffect" fill="hold" presetClass="emph" presetID="6" repeatCount="indefinite">
                                  <p:stCondLst>
                                    <p:cond delay="8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Scale>
                                      <p:cBhvr>
                                        <p:cTn id="98" dur="2000" fill="hold"/>
                                        <p:tgtEl>
                                          <p:spTgt spid="56"/>
                                        </p:tgtEl>
                                      </p:cBhvr>
                                      <p:to x="98000" y="98000"/>
                                    </p:animScale>
                                  </p:childTnLst>
                                </p:cTn>
                              </p:par>
                              <p:par>
                                <p:cTn id="99" nodeType="withEffect" fill="hold" presetClass="path" presetID="0">
                                  <p:stCondLst>
                                    <p:cond delay="900"/>
                                  </p:stCondLst>
                                  <p:childTnLst>
                                    <p:animMotion origin="layout" path="M -4.72222E-006 1.48148E-006 C -0.04236 0.05069 -0.21527 0.1956 -0.25416 0.30555 C -0.29305 0.41551 -0.21961 0.53657 -0.23315 0.65903 C -0.2467 0.78171 -0.34947 0.97199 -0.33593 1.04259 C -0.32239 1.11319 -0.17777 1.06458 -0.15156 1.08333 C -0.12534 1.10208 -0.2302 1.15579 -0.17795 1.15555 C -0.12569 1.15532 0.0915 1.09699 0.16233 1.08148 E">
                                      <p:cBhvr>
                                        <p:cTn id="100" dur="2000" fill="hold"/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1" nodeType="withEffect" fill="hold" presetClass="emph" presetID="6" repeatCount="indefinite">
                                  <p:stCondLst>
                                    <p:cond delay="8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Scale>
                                      <p:cBhvr>
                                        <p:cTn id="102" dur="2000" fill="hold"/>
                                        <p:tgtEl>
                                          <p:spTgt spid="57"/>
                                        </p:tgtEl>
                                      </p:cBhvr>
                                      <p:to x="98000" y="98000"/>
                                    </p:animScale>
                                  </p:childTnLst>
                                </p:cTn>
                              </p:par>
                              <p:par>
                                <p:cTn id="103" nodeType="withEffect" fill="hold" presetClass="path" presetID="0">
                                  <p:stCondLst>
                                    <p:cond delay="900"/>
                                  </p:stCondLst>
                                  <p:childTnLst>
                                    <p:animMotion origin="layout" path="M 0 3.7037E-007 C 0.01632 0.15324 0.03264 0.30648 0.09722 0.38125 C 0.16163 0.45648 0.30851 0.37592 0.3875 0.45 C 0.46649 0.52407 0.60833 0.72037 0.57083 0.82569 C 0.53333 0.93125 0.34774 1.00625 0.16233 1.08148 E">
                                      <p:cBhvr>
                                        <p:cTn id="104" dur="20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5" nodeType="withEffect" fill="hold" presetClass="emph" presetID="6" repeatCount="indefinite">
                                  <p:stCondLst>
                                    <p:cond delay="8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Scale>
                                      <p:cBhvr>
                                        <p:cTn id="106" dur="2000" fill="hold"/>
                                        <p:tgtEl>
                                          <p:spTgt spid="58"/>
                                        </p:tgtEl>
                                      </p:cBhvr>
                                      <p:to x="98000" y="98000"/>
                                    </p:animScale>
                                  </p:childTnLst>
                                </p:cTn>
                              </p:par>
                              <p:par>
                                <p:cTn id="107" nodeType="withEffect" fill="hold" presetClass="path" presetID="0">
                                  <p:stCondLst>
                                    <p:cond delay="1400"/>
                                  </p:stCondLst>
                                  <p:childTnLst>
                                    <p:animMotion origin="layout" path="M -0.00278 1.11111E-006 C -0.07986 0.0243 -0.37222 0.09375 -0.46528 0.14583 C -0.55816 0.19792 -0.46302 0.25069 -0.55955 0.3125 C -0.65625 0.3743 -0.94792 0.49375 -1.04549 0.5162 C -1.14323 0.53866 -1.12483 0.46204 -1.14566 0.44768 E">
                                      <p:cBhvr>
                                        <p:cTn id="108" dur="2000" fill="hold"/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9" nodeType="withEffect" fill="hold" presetClass="emph" presetID="6" repeatCount="indefinite">
                                  <p:stCondLst>
                                    <p:cond delay="800"/>
                                  </p:stCondLst>
                                  <p:endCondLst>
                                    <p:cond evt="onNext"/>
                                  </p:endCondLst>
                                  <p:iterate type="lt">
                                    <p:tmAbs val="0"/>
                                  </p:iterate>
                                  <p:childTnLst>
                                    <p:animScale>
                                      <p:cBhvr>
                                        <p:cTn id="110" dur="2000" fill="hold"/>
                                        <p:tgtEl>
                                          <p:spTgt spid="59"/>
                                        </p:tgtEl>
                                      </p:cBhvr>
                                      <p:to x="98000" y="98000"/>
                                    </p:animScale>
                                  </p:childTnLst>
                                </p:cTn>
                              </p:par>
                              <p:par>
                                <p:cTn id="111" nodeType="withEffect" fill="hold" presetClass="exit" presetID="31">
                                  <p:stCondLst>
                                    <p:cond delay="9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12" dur="10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5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mph" presetID="6" repeatCount="indefinite">
                                  <p:stCondLst>
                                    <p:cond delay="8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Scale>
                                      <p:cBhvr>
                                        <p:cTn id="118" dur="2000" fill="hold"/>
                                        <p:tgtEl>
                                          <p:spTgt spid="60"/>
                                        </p:tgtEl>
                                      </p:cBhvr>
                                      <p:to x="98000" y="98000"/>
                                    </p:animScale>
                                  </p:childTnLst>
                                </p:cTn>
                              </p:par>
                              <p:par>
                                <p:cTn id="119" nodeType="withEffect" fill="hold" presetClass="path" presetID="0">
                                  <p:stCondLst>
                                    <p:cond delay="1100"/>
                                  </p:stCondLst>
                                  <p:childTnLst>
                                    <p:animMotion origin="layout" path="M -1.38889E-006 -4.44444E-006 C 0.01632 0.15301 0.03507 0.28588 0.09722 0.38079 C 0.15938 0.4757 0.25833 0.52338 0.37344 0.5676 C 0.48837 0.61135 0.64705 0.60695 0.78733 0.64514 C 0.92761 0.68311 1.12604 0.76389 1.21511 0.79537 E">
                                      <p:cBhvr>
                                        <p:cTn id="120" dur="20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1" nodeType="withEffect" fill="hold" presetClass="emph" presetID="6" repeatCount="indefinite">
                                  <p:stCondLst>
                                    <p:cond delay="8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Scale>
                                      <p:cBhvr>
                                        <p:cTn id="122" dur="2000" fill="hold"/>
                                        <p:tgtEl>
                                          <p:spTgt spid="61"/>
                                        </p:tgtEl>
                                      </p:cBhvr>
                                      <p:to x="98000" y="98000"/>
                                    </p:animScale>
                                  </p:childTnLst>
                                </p:cTn>
                              </p:par>
                              <p:par>
                                <p:cTn id="123" nodeType="withEffect" fill="hold" presetClass="path" presetID="0">
                                  <p:stCondLst>
                                    <p:cond delay="1300"/>
                                  </p:stCondLst>
                                  <p:childTnLst>
                                    <p:animMotion origin="layout" path="M -2.77778E-007 1.48148E-006 C 0.01632 0.15301 0.01667 0.30347 0.09722 0.38079 C 0.17778 0.4581 0.32865 0.41667 0.48316 0.46458 C 0.63767 0.5125 0.90868 0.58449 1.02483 0.66829 C 1.14097 0.75185 1.14792 0.9037 1.18038 0.96574 E">
                                      <p:cBhvr>
                                        <p:cTn id="124" dur="20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8" presetSubtype="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7" dur="4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8" presetSubtype="6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4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0">
                                  <p:stCondLst>
                                    <p:cond delay="9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3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mph" presetID="8">
                                  <p:stCondLst>
                                    <p:cond delay="1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21600000">
                                      <p:cBhvr>
                                        <p:cTn id="135" dur="3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6" nodeType="withEffect" fill="hold" presetClass="exit" presetID="31">
                                  <p:stCondLst>
                                    <p:cond delay="1200"/>
                                  </p:stCondLst>
                                  <p:iterate type="lt">
                                    <p:tmAbs val="1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37" dur="2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0" dur="2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path" presetID="0">
                                  <p:stCondLst>
                                    <p:cond delay="12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-4.44444E-006 -8.67362E-019 L -0.34652 0.06296 E">
                                      <p:cBhvr>
                                        <p:cTn id="143" dur="200" fill="hold"/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0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xit" presetID="10">
                                  <p:stCondLst>
                                    <p:cond delay="1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remove" presetClass="emph" presetID="6">
                                  <p:stCondLst>
                                    <p:cond delay="1400"/>
                                  </p:stCondLst>
                                  <p:childTnLst>
                                    <p:animScale>
                                      <p:cBhvr>
                                        <p:cTn id="151" dur="200" fill="hold"/>
                                        <p:tgtEl>
                                          <p:spTgt spid="7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52" nodeType="withEffect" fill="hold" presetClass="exit" presetID="10">
                                  <p:stCondLst>
                                    <p:cond delay="1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0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xit" presetID="10" repeatCount="2000">
                                  <p:stCondLst>
                                    <p:cond delay="1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9" dur="2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mph" presetID="6">
                                  <p:stCondLst>
                                    <p:cond delay="1200"/>
                                  </p:stCondLst>
                                  <p:childTnLst>
                                    <p:animScale>
                                      <p:cBhvr>
                                        <p:cTn id="162" dur="200" fill="hold"/>
                                        <p:tgtEl>
                                          <p:spTgt spid="65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53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2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2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xit" presetID="10">
                                  <p:stCondLst>
                                    <p:cond delay="14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9" dur="2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0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xit" presetID="10">
                                  <p:stCondLst>
                                    <p:cond delay="19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5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xit" presetID="10">
                                  <p:stCondLst>
                                    <p:cond delay="19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0">
                                  <p:stCondLst>
                                    <p:cond delay="290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3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mph" presetID="8">
                                  <p:stCondLst>
                                    <p:cond delay="3000"/>
                                  </p:stCondLst>
                                  <p:childTnLst>
                                    <p:animRot by="21600000">
                                      <p:cBhvr>
                                        <p:cTn id="184" dur="3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5" nodeType="withEffect" fill="hold" presetClass="exit" presetID="53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6" dur="3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3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8" dur="3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5" descr="텍스트"/>
          <p:cNvPicPr/>
          <p:nvPr/>
        </p:nvPicPr>
        <p:blipFill>
          <a:blip r:embed="rId1"/>
          <a:srcRect l="34031" t="14677" r="44878" b="59286"/>
          <a:stretch/>
        </p:blipFill>
        <p:spPr>
          <a:xfrm>
            <a:off x="1143000" y="-2073240"/>
            <a:ext cx="1235160" cy="11462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7" descr="텍스트"/>
          <p:cNvPicPr/>
          <p:nvPr/>
        </p:nvPicPr>
        <p:blipFill>
          <a:blip r:embed="rId2"/>
          <a:srcRect l="33248" t="14189" r="44098" b="59774"/>
          <a:stretch/>
        </p:blipFill>
        <p:spPr>
          <a:xfrm>
            <a:off x="2251080" y="-1714680"/>
            <a:ext cx="1409760" cy="12146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0" descr="텍스트"/>
          <p:cNvPicPr/>
          <p:nvPr/>
        </p:nvPicPr>
        <p:blipFill>
          <a:blip r:embed="rId3"/>
          <a:srcRect l="32815" t="14583" r="43752" b="61459"/>
          <a:stretch/>
        </p:blipFill>
        <p:spPr>
          <a:xfrm rot="2806200">
            <a:off x="5433120" y="-1346760"/>
            <a:ext cx="1216080" cy="9316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2" descr="텍스트2"/>
          <p:cNvPicPr/>
          <p:nvPr/>
        </p:nvPicPr>
        <p:blipFill>
          <a:blip r:embed="rId4"/>
          <a:srcRect l="33587" t="14824" r="44539" b="60178"/>
          <a:stretch/>
        </p:blipFill>
        <p:spPr>
          <a:xfrm rot="4150200">
            <a:off x="7182000" y="-1871280"/>
            <a:ext cx="1412640" cy="12096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3" descr="텍스트"/>
          <p:cNvPicPr/>
          <p:nvPr/>
        </p:nvPicPr>
        <p:blipFill>
          <a:blip r:embed="rId5"/>
          <a:srcRect l="33177" t="13165" r="44949" b="58824"/>
          <a:stretch/>
        </p:blipFill>
        <p:spPr>
          <a:xfrm rot="2567400">
            <a:off x="-927000" y="-1406160"/>
            <a:ext cx="1436760" cy="13780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4" descr="텍스트"/>
          <p:cNvPicPr/>
          <p:nvPr/>
        </p:nvPicPr>
        <p:blipFill>
          <a:blip r:embed="rId6"/>
          <a:srcRect l="33299" t="14100" r="44047" b="58824"/>
          <a:stretch/>
        </p:blipFill>
        <p:spPr>
          <a:xfrm rot="17403000">
            <a:off x="4143960" y="-1715400"/>
            <a:ext cx="927000" cy="8334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5" descr="텍스트"/>
          <p:cNvPicPr/>
          <p:nvPr/>
        </p:nvPicPr>
        <p:blipFill>
          <a:blip r:embed="rId7"/>
          <a:srcRect l="33161" t="14052" r="44185" b="59911"/>
          <a:stretch/>
        </p:blipFill>
        <p:spPr>
          <a:xfrm rot="19045200">
            <a:off x="6208200" y="-2752560"/>
            <a:ext cx="1587600" cy="13683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6" descr="텍스트"/>
          <p:cNvPicPr/>
          <p:nvPr/>
        </p:nvPicPr>
        <p:blipFill>
          <a:blip r:embed="rId8"/>
          <a:srcRect l="33563" t="14541" r="44390" b="59911"/>
          <a:stretch/>
        </p:blipFill>
        <p:spPr>
          <a:xfrm rot="2567400">
            <a:off x="4359240" y="-3214440"/>
            <a:ext cx="1911240" cy="16588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0" descr="qhf"/>
          <p:cNvPicPr/>
          <p:nvPr/>
        </p:nvPicPr>
        <p:blipFill>
          <a:blip r:embed="rId9"/>
          <a:srcRect l="89256" t="17176" r="6843" b="75538"/>
          <a:stretch/>
        </p:blipFill>
        <p:spPr>
          <a:xfrm>
            <a:off x="0" y="-500040"/>
            <a:ext cx="357120" cy="5000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2" descr="qhf"/>
          <p:cNvPicPr/>
          <p:nvPr/>
        </p:nvPicPr>
        <p:blipFill>
          <a:blip r:embed="rId10"/>
          <a:srcRect l="88039" t="19260" r="6496" b="74493"/>
          <a:stretch/>
        </p:blipFill>
        <p:spPr>
          <a:xfrm>
            <a:off x="571680" y="-426960"/>
            <a:ext cx="500040" cy="4269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3" descr="qhf"/>
          <p:cNvPicPr/>
          <p:nvPr/>
        </p:nvPicPr>
        <p:blipFill>
          <a:blip r:embed="rId11"/>
          <a:srcRect l="89724" t="18845" r="6374" b="74913"/>
          <a:stretch/>
        </p:blipFill>
        <p:spPr>
          <a:xfrm>
            <a:off x="7572240" y="-426960"/>
            <a:ext cx="357480" cy="4269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4" descr="qhf"/>
          <p:cNvPicPr/>
          <p:nvPr/>
        </p:nvPicPr>
        <p:blipFill>
          <a:blip r:embed="rId12"/>
          <a:srcRect l="89272" t="18845" r="5260" b="72829"/>
          <a:stretch/>
        </p:blipFill>
        <p:spPr>
          <a:xfrm>
            <a:off x="3857760" y="-573120"/>
            <a:ext cx="500040" cy="5731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5" descr="qhf"/>
          <p:cNvPicPr/>
          <p:nvPr/>
        </p:nvPicPr>
        <p:blipFill>
          <a:blip r:embed="rId13"/>
          <a:srcRect l="89150" t="18845" r="5382" b="74913"/>
          <a:stretch/>
        </p:blipFill>
        <p:spPr>
          <a:xfrm>
            <a:off x="5214960" y="-426960"/>
            <a:ext cx="500040" cy="4269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26" descr="qhf"/>
          <p:cNvPicPr/>
          <p:nvPr/>
        </p:nvPicPr>
        <p:blipFill>
          <a:blip r:embed="rId14"/>
          <a:srcRect l="89516" t="19239" r="6583" b="75559"/>
          <a:stretch/>
        </p:blipFill>
        <p:spPr>
          <a:xfrm>
            <a:off x="1357200" y="-500040"/>
            <a:ext cx="357480" cy="3571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7" descr="qhf"/>
          <p:cNvPicPr/>
          <p:nvPr/>
        </p:nvPicPr>
        <p:blipFill>
          <a:blip r:embed="rId15"/>
          <a:srcRect l="89409" t="18220" r="6685" b="75538"/>
          <a:stretch/>
        </p:blipFill>
        <p:spPr>
          <a:xfrm>
            <a:off x="2071800" y="-426960"/>
            <a:ext cx="357120" cy="4269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8" descr="qhf"/>
          <p:cNvPicPr/>
          <p:nvPr/>
        </p:nvPicPr>
        <p:blipFill>
          <a:blip r:embed="rId16"/>
          <a:srcRect l="89689" t="18845" r="6406" b="74913"/>
          <a:stretch/>
        </p:blipFill>
        <p:spPr>
          <a:xfrm>
            <a:off x="8501040" y="-426960"/>
            <a:ext cx="357120" cy="4269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9" descr="qhf"/>
          <p:cNvPicPr/>
          <p:nvPr/>
        </p:nvPicPr>
        <p:blipFill>
          <a:blip r:embed="rId17"/>
          <a:srcRect l="89358" t="18845" r="5957" b="74913"/>
          <a:stretch/>
        </p:blipFill>
        <p:spPr>
          <a:xfrm>
            <a:off x="2714760" y="-426960"/>
            <a:ext cx="428400" cy="4269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30" descr="qhf"/>
          <p:cNvPicPr/>
          <p:nvPr/>
        </p:nvPicPr>
        <p:blipFill>
          <a:blip r:embed="rId18"/>
          <a:srcRect l="89240" t="18892" r="6858" b="74866"/>
          <a:stretch/>
        </p:blipFill>
        <p:spPr>
          <a:xfrm>
            <a:off x="9144000" y="2643120"/>
            <a:ext cx="357120" cy="4302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31" descr="qhf"/>
          <p:cNvPicPr/>
          <p:nvPr/>
        </p:nvPicPr>
        <p:blipFill>
          <a:blip r:embed="rId19"/>
          <a:srcRect l="89240" t="19008" r="6079" b="73706"/>
          <a:stretch/>
        </p:blipFill>
        <p:spPr>
          <a:xfrm>
            <a:off x="9144000" y="1784520"/>
            <a:ext cx="428760" cy="5000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32" descr="qhf"/>
          <p:cNvPicPr/>
          <p:nvPr/>
        </p:nvPicPr>
        <p:blipFill>
          <a:blip r:embed="rId20"/>
          <a:srcRect l="89740" t="19144" r="7138" b="74609"/>
          <a:stretch/>
        </p:blipFill>
        <p:spPr>
          <a:xfrm>
            <a:off x="-285840" y="1500120"/>
            <a:ext cx="285840" cy="4269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33" descr="qhf"/>
          <p:cNvPicPr/>
          <p:nvPr/>
        </p:nvPicPr>
        <p:blipFill>
          <a:blip r:embed="rId21"/>
          <a:srcRect l="88976" t="19029" r="6339" b="74724"/>
          <a:stretch/>
        </p:blipFill>
        <p:spPr>
          <a:xfrm>
            <a:off x="-571680" y="3284640"/>
            <a:ext cx="428760" cy="4302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6" descr="텍스트"/>
          <p:cNvPicPr/>
          <p:nvPr/>
        </p:nvPicPr>
        <p:blipFill>
          <a:blip r:embed="rId22"/>
          <a:srcRect l="38976" t="15349" r="32673" b="2756"/>
          <a:stretch/>
        </p:blipFill>
        <p:spPr>
          <a:xfrm>
            <a:off x="3060720" y="1413000"/>
            <a:ext cx="3255840" cy="70563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47" descr="빨간라인"/>
          <p:cNvPicPr/>
          <p:nvPr/>
        </p:nvPicPr>
        <p:blipFill>
          <a:blip r:embed="rId23"/>
          <a:srcRect l="7811" t="48961" r="52346" b="18751"/>
          <a:stretch/>
        </p:blipFill>
        <p:spPr>
          <a:xfrm>
            <a:off x="714240" y="2643120"/>
            <a:ext cx="3643560" cy="22147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48" descr="빨간라인2"/>
          <p:cNvPicPr/>
          <p:nvPr/>
        </p:nvPicPr>
        <p:blipFill>
          <a:blip r:embed="rId24"/>
          <a:srcRect l="0" t="60908" r="0" b="13055"/>
          <a:stretch/>
        </p:blipFill>
        <p:spPr>
          <a:xfrm>
            <a:off x="0" y="3500280"/>
            <a:ext cx="9144000" cy="1784520"/>
          </a:xfrm>
          <a:prstGeom prst="rect">
            <a:avLst/>
          </a:prstGeom>
          <a:ln w="0">
            <a:noFill/>
          </a:ln>
        </p:spPr>
      </p:pic>
      <p:pic>
        <p:nvPicPr>
          <p:cNvPr id="105" name="그림 35" descr="블루.PNG"/>
          <p:cNvPicPr/>
          <p:nvPr/>
        </p:nvPicPr>
        <p:blipFill>
          <a:blip r:embed="rId25"/>
          <a:srcRect l="0" t="52084" r="10937" b="6252"/>
          <a:stretch/>
        </p:blipFill>
        <p:spPr>
          <a:xfrm>
            <a:off x="-109440" y="2898720"/>
            <a:ext cx="8281800" cy="2906640"/>
          </a:xfrm>
          <a:prstGeom prst="rect">
            <a:avLst/>
          </a:prstGeom>
          <a:ln w="0">
            <a:noFill/>
          </a:ln>
        </p:spPr>
      </p:pic>
      <p:pic>
        <p:nvPicPr>
          <p:cNvPr id="106" name="그림 35" descr="블루.PNG"/>
          <p:cNvPicPr/>
          <p:nvPr/>
        </p:nvPicPr>
        <p:blipFill>
          <a:blip r:embed="rId26"/>
          <a:srcRect l="0" t="52084" r="10937" b="6252"/>
          <a:stretch/>
        </p:blipFill>
        <p:spPr>
          <a:xfrm>
            <a:off x="-108000" y="2898720"/>
            <a:ext cx="8282160" cy="2906640"/>
          </a:xfrm>
          <a:prstGeom prst="rect">
            <a:avLst/>
          </a:prstGeom>
          <a:ln w="0">
            <a:noFill/>
          </a:ln>
        </p:spPr>
      </p:pic>
      <p:pic>
        <p:nvPicPr>
          <p:cNvPr id="107" name="그림 35" descr="블루.PNG"/>
          <p:cNvPicPr/>
          <p:nvPr/>
        </p:nvPicPr>
        <p:blipFill>
          <a:blip r:embed="rId27"/>
          <a:srcRect l="0" t="52084" r="10937" b="6252"/>
          <a:stretch/>
        </p:blipFill>
        <p:spPr>
          <a:xfrm>
            <a:off x="-757080" y="2340000"/>
            <a:ext cx="10297800" cy="39686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32" descr="색깔"/>
          <p:cNvPicPr/>
          <p:nvPr/>
        </p:nvPicPr>
        <p:blipFill>
          <a:blip r:embed="rId28"/>
          <a:srcRect l="9236" t="34777" r="7059" b="30451"/>
          <a:stretch/>
        </p:blipFill>
        <p:spPr>
          <a:xfrm>
            <a:off x="-2629080" y="1395360"/>
            <a:ext cx="12530160" cy="39052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31" descr="색깔2"/>
          <p:cNvPicPr/>
          <p:nvPr/>
        </p:nvPicPr>
        <p:blipFill>
          <a:blip r:embed="rId29"/>
          <a:srcRect l="32673" t="46856" r="42917" b="43706"/>
          <a:stretch/>
        </p:blipFill>
        <p:spPr>
          <a:xfrm rot="21109800">
            <a:off x="1258920" y="3429000"/>
            <a:ext cx="2232000" cy="6476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33" descr="로고"/>
          <p:cNvPicPr/>
          <p:nvPr/>
        </p:nvPicPr>
        <p:blipFill>
          <a:blip r:embed="rId3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34" descr="로고2"/>
          <p:cNvPicPr/>
          <p:nvPr/>
        </p:nvPicPr>
        <p:blipFill>
          <a:blip r:embed="rId3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35" descr="칸막이"/>
          <p:cNvPicPr/>
          <p:nvPr/>
        </p:nvPicPr>
        <p:blipFill>
          <a:blip r:embed="rId3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withEffect" fill="hold" presetClass="exit" presetID="19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98" dur="30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30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21600000">
                                      <p:cBhvr>
                                        <p:cTn id="202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3" nodeType="with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.0033 0.00347 C -0.00434 0.0662 -0.00173 0.06528 0.00608 0.18495 C 0.01407 0.30463 0.01789 0.57847 0.05191 0.72176 C 0.08577 0.86481 0.23646 1.00555 0.21025 1.04444 C 0.18403 1.08333 -0.00711000000000001 0.92708 -0.10503 0.95555 C -0.20295 0.98403 -0.32048 1.16088 -0.37725 1.21481 E">
                                      <p:cBhvr>
                                        <p:cTn id="204" dur="3000" fill="hold"/>
                                        <p:tgtEl>
                                          <p:spTgt spid="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5" nodeType="withEffect" fill="hold" presetClass="exit" presetID="19" presetSubtype="10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6" dur="30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30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8">
                                  <p:stCondLst>
                                    <p:cond delay="100"/>
                                  </p:stCondLst>
                                  <p:childTnLst>
                                    <p:animRot by="21600000">
                                      <p:cBhvr>
                                        <p:cTn id="210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11" nodeType="withEffect" fill="hold" presetClass="path" presetID="0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1.11111E-006 -3.7037E-006 C 0.00729 0.09329 0.04913 0.15093 0.04028 0.24074 C 0.03142 0.33056 -0.07517 0.47732 -0.05278 0.53843 C -0.03038 0.59954 0.14462 0.54144 0.175 0.60741 C 0.20538 0.67338 0.09184 0.85301 0.12917 0.93473 C 0.16649 1.01644 0.29288 1.06135 0.39861 1.09815 C 0.50434 1.13496 0.68785 1.14329 0.76389 1.1551 E">
                                      <p:cBhvr>
                                        <p:cTn id="212" dur="3000" fill="hold"/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3" nodeType="withEffect" fill="hold" presetClass="emph" presetID="8">
                                  <p:stCondLst>
                                    <p:cond delay="200"/>
                                  </p:stCondLst>
                                  <p:childTnLst>
                                    <p:animRot by="21600000">
                                      <p:cBhvr>
                                        <p:cTn id="214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15" nodeType="withEffect" fill="hold" presetClass="exit" presetID="19" presetSubtype="10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6" dur="30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30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path" presetID="0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-5E-006 -4.07407E-006 C 0.0125 0.15718 0.025 0.31436 -0.00973 0.43889 C -0.04445 0.56343 -0.15504 0.65718 -0.20834 0.74815 C -0.26164 0.83912 -0.28195 0.92037 -0.32917 0.98519 C -0.3764 1.05 -0.43404 1.09352 -0.49167 1.13704 E">
                                      <p:cBhvr>
                                        <p:cTn id="220" dur="3000" fill="hold"/>
                                        <p:tgtEl>
                                          <p:spTgt spid="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1" nodeType="withEffect" fill="hold" presetClass="exit" presetID="19" presetSubtype="10">
                                  <p:stCondLst>
                                    <p:cond delay="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2" dur="30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30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mph" presetID="8">
                                  <p:stCondLst>
                                    <p:cond delay="300"/>
                                  </p:stCondLst>
                                  <p:childTnLst>
                                    <p:animRot by="21600000">
                                      <p:cBhvr>
                                        <p:cTn id="226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27" nodeType="withEffect" fill="hold" presetClass="path" presetID="0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-1.38889E-006 -3.7037E-007 C 0.0151 0.10185 0.03038 0.20394 -0.00417 0.28519 C -0.03872 0.36644 -0.11997 0.4294 -0.20695 0.48704 C -0.29392 0.54468 -0.48247 0.58333 -0.52639 0.63148 C -0.57031 0.6794 -0.45278 0.72894 -0.47083 0.77593 C -0.48889 0.82292 -0.5849 0.86574 -0.63472 0.91296 C -0.68472 0.96019 -0.74497 1.01921 -0.77083 1.05926 C -0.7967 1.09931 -0.78663 1.13796 -0.79028 1.15371 E">
                                      <p:cBhvr>
                                        <p:cTn id="228" dur="3000" fill="hold"/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9" nodeType="withEffect" fill="hold" presetClass="exit" presetID="19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30" dur="30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30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21600000">
                                      <p:cBhvr>
                                        <p:cTn id="234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5" nodeType="with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.00295 0.00348 C -0.00382 0.06621 -0.01181 0.12917 0.0059 0.18519 C 0.02413 0.24074 0.00521000000000001 0.24375 0.11181 0.33843 C 0.21806 0.43334 0.53038 0.63195 0.6441 0.75371 C 0.75799 0.87593 0.72604 0.97269 0.79306 1.07269 C 0.85972 1.17246 1.00069 1.30139 1.04583 1.35394 C 1.09097 1.40672 1.08194 1.38172 1.06389 1.38936 C 1.04583 1.39676 0.96389 1.39676 0.9375 1.39861 E">
                                      <p:cBhvr>
                                        <p:cTn id="236" dur="3000" fill="hold"/>
                                        <p:tgtEl>
                                          <p:spTgt spid="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7" nodeType="withEffect" fill="hold" presetClass="exit" presetID="19" presetSubtype="10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8" dur="30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30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21600000">
                                      <p:cBhvr>
                                        <p:cTn id="242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43" nodeType="with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1.38889E-006 0 C 0.10764 0.12037 0.21545 0.24097 0.22917 0.33519 C 0.24288 0.4294 0.14514 0.51366 0.08194 0.56481 C 0.01875 0.61597 -0.13195 0.58218 -0.15 0.64259 C -0.16806 0.70301 0.0033 0.86389 -0.02639 0.92755 C -0.05608 0.9912 -0.23038 1.01088 -0.3283 1.02523 C -0.42622 1.03958 -0.55486 1.01644 -0.61441 1.01412 E">
                                      <p:cBhvr>
                                        <p:cTn id="244" dur="30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5" nodeType="withEffect" fill="hold" presetClass="exit" presetID="19" presetSubtype="10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6" dur="30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30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path" presetID="0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2.22222E-006 -2.96296E-006 C 0.0625 0.13079 0.07656 0.2669 0.13472 0.35371 C 0.19288 0.44028 0.33802 0.46227 0.3493 0.5213 C 0.36059 0.58056 0.22413 0.63449 0.20278 0.70741 C 0.18142 0.7801 0.20555 0.90741 0.22083 0.95926 C 0.23611 1.01111 0.22864 1.01181 0.29444 1.01852 C 0.36024 1.02523 0.54896 1.00324 0.61597 0.99931 E">
                                      <p:cBhvr>
                                        <p:cTn id="250" dur="3000" fill="hold"/>
                                        <p:tgtEl>
                                          <p:spTgt spid="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1" nodeType="withEffect" fill="hold" presetClass="emph" presetID="8">
                                  <p:stCondLst>
                                    <p:cond delay="300"/>
                                  </p:stCondLst>
                                  <p:childTnLst>
                                    <p:animRot by="21600000">
                                      <p:cBhvr>
                                        <p:cTn id="252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3" nodeType="withEffect" fill="hold" presetClass="exit" presetID="19" presetSubtype="10">
                                  <p:stCondLst>
                                    <p:cond delay="6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4" dur="30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30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mph" presetID="8">
                                  <p:stCondLst>
                                    <p:cond delay="600"/>
                                  </p:stCondLst>
                                  <p:childTnLst>
                                    <p:animRot by="21600000">
                                      <p:cBhvr>
                                        <p:cTn id="258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9" nodeType="withEffect" fill="hold" presetClass="path" presetID="0">
                                  <p:stCondLst>
                                    <p:cond delay="600"/>
                                  </p:stCondLst>
                                  <p:childTnLst>
                                    <p:animMotion origin="layout" path="M 5E-006 1.85185E-006 C -0.02777 0.06782 -0.18195 0.29074 -0.16702 0.40741 C -0.15209 0.52384 0.06145 0.60764 0.08907 0.70046 C 0.11667 0.79329 -0.01563 0.91435 -0.00138 0.96481 C 0.01285 1.01528 0.1106 1.00764 0.17466 1.0037 C 0.23872 0.99977 0.33959 0.95393 0.38299 0.94074 E">
                                      <p:cBhvr>
                                        <p:cTn id="260" dur="3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6" repeatCount="indefinite">
                                  <p:stCondLst>
                                    <p:cond delay="8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Scale>
                                      <p:cBhvr>
                                        <p:cTn id="262" dur="1000" fill="hold"/>
                                        <p:tgtEl>
                                          <p:spTgt spid="89"/>
                                        </p:tgtEl>
                                      </p:cBhvr>
                                      <p:to x="98000" y="98000"/>
                                    </p:animScale>
                                  </p:childTnLst>
                                </p:cTn>
                              </p:par>
                              <p:par>
                                <p:cTn id="263" nodeType="withEffect" fill="hold" presetClass="path" presetID="0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0 3.7037E-007 C 0.01632 0.15324 0.03264 0.30648 0.09722 0.38125 C 0.16163 0.45648 0.30851 0.37592 0.3875 0.45 C 0.46649 0.52407 0.60833 0.72037 0.57083 0.82569 C 0.53333 0.93125 0.34774 1.00625 0.16233 1.08148 E">
                                      <p:cBhvr>
                                        <p:cTn id="264" dur="2500" fill="hold"/>
                                        <p:tgtEl>
                                          <p:spTgt spid="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5" nodeType="withEffect" fill="hold" presetClass="emph" presetID="6" repeatCount="indefinite">
                                  <p:stCondLst>
                                    <p:cond delay="8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Scale>
                                      <p:cBhvr>
                                        <p:cTn id="266" dur="1000" fill="hold"/>
                                        <p:tgtEl>
                                          <p:spTgt spid="90"/>
                                        </p:tgtEl>
                                      </p:cBhvr>
                                      <p:to x="98000" y="98000"/>
                                    </p:animScale>
                                  </p:childTnLst>
                                </p:cTn>
                              </p:par>
                              <p:par>
                                <p:cTn id="267" nodeType="withEffect" fill="hold" presetClass="path" presetID="0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2.22222E-006 1.48148E-006 C 0.01632 0.15324 0.0934 0.26389 0.09722 0.38102 C 0.10104 0.49861 0.01302 0.62338 0.02291 0.70417 C 0.03281 0.78518 0.13298 0.80301 0.15625 0.86574 C 0.17951 0.92824 0.16111 1.03657 0.16232 1.08148 E">
                                      <p:cBhvr>
                                        <p:cTn id="268" dur="2500" fill="hold"/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6" repeatCount="indefinite">
                                  <p:stCondLst>
                                    <p:cond delay="8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Scale>
                                      <p:cBhvr>
                                        <p:cTn id="270" dur="1000" fill="hold"/>
                                        <p:tgtEl>
                                          <p:spTgt spid="91"/>
                                        </p:tgtEl>
                                      </p:cBhvr>
                                      <p:to x="98000" y="98000"/>
                                    </p:animScale>
                                  </p:childTnLst>
                                </p:cTn>
                              </p:par>
                              <p:par>
                                <p:cTn id="271" nodeType="withEffect" fill="hold" presetClass="path" presetID="0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2.5E-006 1.48148E-006 C 0.01632 0.15324 0.13611 0.27106 0.09722 0.38102 C 0.05833 0.49097 -0.16094 0.54907 -0.23316 0.65926 C -0.30538 0.76944 -0.40191 0.97222 -0.33594 1.04259 C -0.26997 1.11296 0.0585 1.07338 0.16232 1.08148 E">
                                      <p:cBhvr>
                                        <p:cTn id="272" dur="2500" fill="hold"/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3" nodeType="withEffect" fill="hold" presetClass="emph" presetID="6" repeatCount="indefinite">
                                  <p:stCondLst>
                                    <p:cond delay="8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Scale>
                                      <p:cBhvr>
                                        <p:cTn id="274" dur="1000" fill="hold"/>
                                        <p:tgtEl>
                                          <p:spTgt spid="92"/>
                                        </p:tgtEl>
                                      </p:cBhvr>
                                      <p:to x="98000" y="98000"/>
                                    </p:animScale>
                                  </p:childTnLst>
                                </p:cTn>
                              </p:par>
                              <p:par>
                                <p:cTn id="275" nodeType="with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0.00017 1.48148E-006 C -0.04236 0.05069 -0.21528 0.1956 -0.25434 0.30532 C -0.29306 0.41504 -0.16528 0.53032 -0.23316 0.65926 C -0.30122 0.78819 -0.62865 1.00162 -0.66111 1.07963 C -0.69358 1.15764 -0.47656 1.12129 -0.42778 1.12778 C -0.37917 1.13426 -0.38056 1.12037 -0.36823 1.11852 E">
                                      <p:cBhvr>
                                        <p:cTn id="276" dur="2500" fill="hold"/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7" nodeType="withEffect" fill="hold" presetClass="emph" presetID="6" repeatCount="indefinite">
                                  <p:stCondLst>
                                    <p:cond delay="8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Scale>
                                      <p:cBhvr>
                                        <p:cTn id="278" dur="1000" fill="hold"/>
                                        <p:tgtEl>
                                          <p:spTgt spid="93"/>
                                        </p:tgtEl>
                                      </p:cBhvr>
                                      <p:to x="98000" y="98000"/>
                                    </p:animScale>
                                  </p:childTnLst>
                                </p:cTn>
                              </p:par>
                              <p:par>
                                <p:cTn id="279" nodeType="withEffect" fill="hold" presetClass="path" presetID="0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3.33333E-006 1.48148E-006 C -0.02084 0.0669 -0.125 0.28217 -0.125 0.40162 C -0.125 0.52153 0.03507 0.61157 3.33333E-006 0.71852 C -0.03507 0.825 -0.36302 0.98217 -0.33594 1.04259 C -0.30886 1.10301 0.0585 1.07338 0.16232 1.08148 E">
                                      <p:cBhvr>
                                        <p:cTn id="280" dur="2500" fill="hold"/>
                                        <p:tgtEl>
                                          <p:spTgt spid="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6" repeatCount="indefinite">
                                  <p:stCondLst>
                                    <p:cond delay="8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Scale>
                                      <p:cBhvr>
                                        <p:cTn id="282" dur="1000" fill="hold"/>
                                        <p:tgtEl>
                                          <p:spTgt spid="94"/>
                                        </p:tgtEl>
                                      </p:cBhvr>
                                      <p:to x="98000" y="98000"/>
                                    </p:animScale>
                                  </p:childTnLst>
                                </p:cTn>
                              </p:par>
                              <p:par>
                                <p:cTn id="28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8 -0.00023 C 0.0165 0.15301 0.09358 0.26366 0.0974 0.38079 C 0.10122 0.49838 0.0132 0.62292 0.0231 0.7037 C 0.03299 0.78495 0.13316 0.80278 0.15643 0.86551 C 0.17969 0.92778 0.16129 1.03634 0.1625 1.08125 E">
                                      <p:cBhvr>
                                        <p:cTn id="284" dur="2500" fill="hold"/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5" nodeType="withEffect" fill="hold" presetClass="emph" presetID="6" repeatCount="indefinite">
                                  <p:stCondLst>
                                    <p:cond delay="8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Scale>
                                      <p:cBhvr>
                                        <p:cTn id="286" dur="1000" fill="hold"/>
                                        <p:tgtEl>
                                          <p:spTgt spid="95"/>
                                        </p:tgtEl>
                                      </p:cBhvr>
                                      <p:to x="98000" y="98000"/>
                                    </p:animScale>
                                  </p:childTnLst>
                                </p:cTn>
                              </p:par>
                              <p:par>
                                <p:cTn id="287" nodeType="withEffect" fill="hold" presetClass="path" presetID="0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0.00208 -0.00417 C -0.00157 0.04491 -0.00591 0.22222 -0.02032 0.2912 C -0.03473 0.35995 -0.12396 0.34306 -0.0842 0.40787 C -0.04445 0.47199 0.15538 0.59097 0.21857 0.67639 C 0.28177 0.76181 0.30399 0.85394 0.29496 0.92083 C 0.28593 0.98773 0.19166 1.04468 0.16441 1.07731 E">
                                      <p:cBhvr>
                                        <p:cTn id="288" dur="2500" fill="hold"/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6" repeatCount="indefinite">
                                  <p:stCondLst>
                                    <p:cond delay="8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Scale>
                                      <p:cBhvr>
                                        <p:cTn id="290" dur="1000" fill="hold"/>
                                        <p:tgtEl>
                                          <p:spTgt spid="96"/>
                                        </p:tgtEl>
                                      </p:cBhvr>
                                      <p:to x="98000" y="98000"/>
                                    </p:animScale>
                                  </p:childTnLst>
                                </p:cTn>
                              </p:par>
                              <p:par>
                                <p:cTn id="291" nodeType="withEffect" fill="hold" presetClass="path" presetID="0">
                                  <p:stCondLst>
                                    <p:cond delay="900"/>
                                  </p:stCondLst>
                                  <p:childTnLst>
                                    <p:animMotion origin="layout" path="M -4.72222E-006 1.48148E-006 C -0.04236 0.05069 -0.21527 0.1956 -0.25416 0.30555 C -0.29305 0.41551 -0.21961 0.53657 -0.23315 0.65903 C -0.2467 0.78171 -0.34947 0.97199 -0.33593 1.04259 C -0.32239 1.11319 -0.17777 1.06458 -0.15156 1.08333 C -0.12534 1.10208 -0.2302 1.15579 -0.17795 1.15555 C -0.12569 1.15532 0.0915 1.09699 0.16233 1.08148 E">
                                      <p:cBhvr>
                                        <p:cTn id="292" dur="2500" fill="hold"/>
                                        <p:tgtEl>
                                          <p:spTgt spid="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3" nodeType="withEffect" fill="hold" presetClass="emph" presetID="6" repeatCount="indefinite">
                                  <p:stCondLst>
                                    <p:cond delay="8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Scale>
                                      <p:cBhvr>
                                        <p:cTn id="294" dur="1000" fill="hold"/>
                                        <p:tgtEl>
                                          <p:spTgt spid="97"/>
                                        </p:tgtEl>
                                      </p:cBhvr>
                                      <p:to x="98000" y="98000"/>
                                    </p:animScale>
                                  </p:childTnLst>
                                </p:cTn>
                              </p:par>
                              <p:par>
                                <p:cTn id="295" nodeType="withEffect" fill="hold" presetClass="path" presetID="0">
                                  <p:stCondLst>
                                    <p:cond delay="900"/>
                                  </p:stCondLst>
                                  <p:childTnLst>
                                    <p:animMotion origin="layout" path="M 0 3.7037E-007 C 0.01632 0.15324 0.03264 0.30648 0.09722 0.38125 C 0.16163 0.45648 0.30851 0.37592 0.3875 0.45 C 0.46649 0.52407 0.60833 0.72037 0.57083 0.82569 C 0.53333 0.93125 0.34774 1.00625 0.16233 1.08148 E">
                                      <p:cBhvr>
                                        <p:cTn id="296" dur="2500" fill="hold"/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7" nodeType="withEffect" fill="hold" presetClass="emph" presetID="6" repeatCount="indefinite">
                                  <p:stCondLst>
                                    <p:cond delay="8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Scale>
                                      <p:cBhvr>
                                        <p:cTn id="298" dur="1000" fill="hold"/>
                                        <p:tgtEl>
                                          <p:spTgt spid="98"/>
                                        </p:tgtEl>
                                      </p:cBhvr>
                                      <p:to x="98000" y="98000"/>
                                    </p:animScale>
                                  </p:childTnLst>
                                </p:cTn>
                              </p:par>
                              <p:par>
                                <p:cTn id="299" nodeType="withEffect" fill="hold" presetClass="path" presetID="0">
                                  <p:stCondLst>
                                    <p:cond delay="1400"/>
                                  </p:stCondLst>
                                  <p:childTnLst>
                                    <p:animMotion origin="layout" path="M -0.00017 1.11111E-006 C -0.07726 0.0243 -0.36962 0.09375 -0.4625 0.14583 C -0.55555 0.19792 -0.46024 0.25069 -0.55694 0.3125 C -0.65364 0.3743 -0.94531 0.49375 -1.04288 0.5162 C -1.14062 0.53866 -1.12222 0.46204 -1.14305 0.44768 E">
                                      <p:cBhvr>
                                        <p:cTn id="300" dur="2500" fill="hold"/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1" nodeType="withEffect" fill="hold" presetClass="emph" presetID="6" repeatCount="indefinite">
                                  <p:stCondLst>
                                    <p:cond delay="8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Scale>
                                      <p:cBhvr>
                                        <p:cTn id="302" dur="1000" fill="hold"/>
                                        <p:tgtEl>
                                          <p:spTgt spid="99"/>
                                        </p:tgtEl>
                                      </p:cBhvr>
                                      <p:to x="98000" y="98000"/>
                                    </p:animScale>
                                  </p:childTnLst>
                                </p:cTn>
                              </p:par>
                              <p:par>
                                <p:cTn id="303" nodeType="withEffect" fill="hold" presetClass="path" presetID="0">
                                  <p:stCondLst>
                                    <p:cond delay="900"/>
                                  </p:stCondLst>
                                  <p:childTnLst>
                                    <p:animMotion origin="layout" path="M -0.00035 -1.48148E-006 C -0.07726 0.02431 -0.34132 0.02685 -0.46267 0.14583 C -0.58368 0.26482 -0.61458 0.64375 -0.72795 0.71435 C -0.84132 0.78496 -1.05972 0.5956 -1.14305 0.56991 C -1.22639 0.54421 -1.21007 0.5625 -1.22778 0.56065 E">
                                      <p:cBhvr>
                                        <p:cTn id="304" dur="2500" fill="hold"/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5" nodeType="withEffect" fill="hold" presetClass="emph" presetID="6" repeatCount="indefinite">
                                  <p:stCondLst>
                                    <p:cond delay="8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Scale>
                                      <p:cBhvr>
                                        <p:cTn id="306" dur="1000" fill="hold"/>
                                        <p:tgtEl>
                                          <p:spTgt spid="100"/>
                                        </p:tgtEl>
                                      </p:cBhvr>
                                      <p:to x="98000" y="98000"/>
                                    </p:animScale>
                                  </p:childTnLst>
                                </p:cTn>
                              </p:par>
                              <p:par>
                                <p:cTn id="307" nodeType="withEffect" fill="hold" presetClass="path" presetID="0">
                                  <p:stCondLst>
                                    <p:cond delay="1100"/>
                                  </p:stCondLst>
                                  <p:childTnLst>
                                    <p:animMotion origin="layout" path="M -1.38889E-006 -4.44444E-006 C 0.01632 0.15301 0.03507 0.28588 0.09722 0.38079 C 0.15938 0.4757 0.25833 0.52338 0.37344 0.5676 C 0.48837 0.61135 0.64705 0.60695 0.78733 0.64514 C 0.92761 0.68311 1.12604 0.76389 1.21511 0.79537 E">
                                      <p:cBhvr>
                                        <p:cTn id="308" dur="2500" fill="hold"/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9" nodeType="withEffect" fill="hold" presetClass="emph" presetID="6" repeatCount="indefinite">
                                  <p:stCondLst>
                                    <p:cond delay="8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Scale>
                                      <p:cBhvr>
                                        <p:cTn id="310" dur="1000" fill="hold"/>
                                        <p:tgtEl>
                                          <p:spTgt spid="101"/>
                                        </p:tgtEl>
                                      </p:cBhvr>
                                      <p:to x="98000" y="98000"/>
                                    </p:animScale>
                                  </p:childTnLst>
                                </p:cTn>
                              </p:par>
                              <p:par>
                                <p:cTn id="311" nodeType="withEffect" fill="hold" presetClass="path" presetID="0">
                                  <p:stCondLst>
                                    <p:cond delay="1300"/>
                                  </p:stCondLst>
                                  <p:childTnLst>
                                    <p:animMotion origin="layout" path="M -2.77778E-007 1.48148E-006 C 0.01632 0.15301 0.01667 0.30347 0.09722 0.38079 C 0.17778 0.4581 0.32865 0.41667 0.48316 0.46458 C 0.63767 0.5125 0.90868 0.58449 1.02483 0.66829 C 1.14097 0.75185 1.14792 0.9037 1.18038 0.96574 E">
                                      <p:cBhvr>
                                        <p:cTn id="312" dur="2500" fill="hold"/>
                                        <p:tgtEl>
                                          <p:spTgt spid="1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8" presetSubtype="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15" dur="4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18" presetSubtype="6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18" dur="4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10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3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21600000">
                                      <p:cBhvr>
                                        <p:cTn id="323" dur="3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24" nodeType="withEffect" fill="hold" presetClass="exit" presetID="53">
                                  <p:stCondLst>
                                    <p:cond delay="1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5" dur="3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3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27" dur="3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path" presetID="0">
                                  <p:stCondLst>
                                    <p:cond delay="1100"/>
                                  </p:stCondLst>
                                  <p:childTnLst>
                                    <p:animMotion origin="layout" path="M 5.55556E-007 1.11111E-006 L -0.14167 0.06297 E">
                                      <p:cBhvr>
                                        <p:cTn id="330" dur="300" fill="hold"/>
                                        <p:tgtEl>
                                          <p:spTgt spid="1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10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xit" presetID="10">
                                  <p:stCondLst>
                                    <p:cond delay="11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5" dur="2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7" nodeType="withEffect" fill="hold" presetClass="exit" presetID="10">
                                  <p:stCondLst>
                                    <p:cond delay="11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8" dur="2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0" nodeType="withEffect" fill="remove" presetClass="emph" presetID="6">
                                  <p:stCondLst>
                                    <p:cond delay="1400"/>
                                  </p:stCondLst>
                                  <p:childTnLst>
                                    <p:animScale>
                                      <p:cBhvr>
                                        <p:cTn id="341" dur="200" fill="hold"/>
                                        <p:tgtEl>
                                          <p:spTgt spid="10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10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mph" presetID="6">
                                  <p:stCondLst>
                                    <p:cond delay="1400"/>
                                  </p:stCondLst>
                                  <p:childTnLst>
                                    <p:animScale>
                                      <p:cBhvr>
                                        <p:cTn id="346" dur="200" fill="hold"/>
                                        <p:tgtEl>
                                          <p:spTgt spid="105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10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2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xit" presetID="10">
                                  <p:stCondLst>
                                    <p:cond delay="14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1" dur="2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0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2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7" dur="3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" nodeType="with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0" dur="3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2" nodeType="with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3" dur="3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10">
                                  <p:stCondLst>
                                    <p:cond delay="280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3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mph" presetID="8">
                                  <p:stCondLst>
                                    <p:cond delay="2900"/>
                                  </p:stCondLst>
                                  <p:childTnLst>
                                    <p:animRot by="21600000">
                                      <p:cBhvr>
                                        <p:cTn id="369" dur="3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70" nodeType="withEffect" fill="hold" presetClass="exit" presetID="53">
                                  <p:stCondLst>
                                    <p:cond delay="29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1" dur="3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3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3" dur="3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10">
                                  <p:stCondLst>
                                    <p:cond delay="290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0" descr="레드판"/>
          <p:cNvPicPr/>
          <p:nvPr/>
        </p:nvPicPr>
        <p:blipFill>
          <a:blip r:embed="rId1"/>
          <a:srcRect l="0" t="22177" r="0" b="22378"/>
          <a:stretch/>
        </p:blipFill>
        <p:spPr>
          <a:xfrm>
            <a:off x="-1189080" y="804960"/>
            <a:ext cx="20239200" cy="42084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44" descr="종이"/>
          <p:cNvPicPr/>
          <p:nvPr/>
        </p:nvPicPr>
        <p:blipFill>
          <a:blip r:embed="rId2"/>
          <a:srcRect l="22433" t="26898" r="52921" b="39722"/>
          <a:stretch/>
        </p:blipFill>
        <p:spPr>
          <a:xfrm>
            <a:off x="-2768760" y="1557360"/>
            <a:ext cx="933480" cy="9478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45" descr="종이"/>
          <p:cNvPicPr/>
          <p:nvPr/>
        </p:nvPicPr>
        <p:blipFill>
          <a:blip r:embed="rId3"/>
          <a:srcRect l="57087" t="30441" r="20071" b="39491"/>
          <a:stretch/>
        </p:blipFill>
        <p:spPr>
          <a:xfrm rot="18588000">
            <a:off x="-2335680" y="2929680"/>
            <a:ext cx="865080" cy="8539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46" descr="종이"/>
          <p:cNvPicPr/>
          <p:nvPr/>
        </p:nvPicPr>
        <p:blipFill>
          <a:blip r:embed="rId4"/>
          <a:srcRect l="22434" t="39738" r="52927" b="26904"/>
          <a:stretch/>
        </p:blipFill>
        <p:spPr>
          <a:xfrm>
            <a:off x="-2336760" y="981000"/>
            <a:ext cx="631800" cy="6429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47" descr="종이"/>
          <p:cNvPicPr/>
          <p:nvPr/>
        </p:nvPicPr>
        <p:blipFill>
          <a:blip r:embed="rId5"/>
          <a:srcRect l="57085" t="30446" r="20069" b="39488"/>
          <a:stretch/>
        </p:blipFill>
        <p:spPr>
          <a:xfrm flipH="1" rot="7789800">
            <a:off x="-2052360" y="2137680"/>
            <a:ext cx="550800" cy="5418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48" descr="종이"/>
          <p:cNvPicPr/>
          <p:nvPr/>
        </p:nvPicPr>
        <p:blipFill>
          <a:blip r:embed="rId6"/>
          <a:srcRect l="22434" t="39738" r="52927" b="26904"/>
          <a:stretch/>
        </p:blipFill>
        <p:spPr>
          <a:xfrm>
            <a:off x="-2552760" y="2301840"/>
            <a:ext cx="631800" cy="6429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49" descr="종이"/>
          <p:cNvPicPr/>
          <p:nvPr/>
        </p:nvPicPr>
        <p:blipFill>
          <a:blip r:embed="rId7"/>
          <a:srcRect l="57085" t="30446" r="20069" b="39488"/>
          <a:stretch/>
        </p:blipFill>
        <p:spPr>
          <a:xfrm flipH="1" rot="7789800">
            <a:off x="-2268720" y="3459240"/>
            <a:ext cx="550800" cy="5414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0" descr="종이"/>
          <p:cNvPicPr/>
          <p:nvPr/>
        </p:nvPicPr>
        <p:blipFill>
          <a:blip r:embed="rId8"/>
          <a:srcRect l="22432" t="39721" r="52923" b="26898"/>
          <a:stretch/>
        </p:blipFill>
        <p:spPr>
          <a:xfrm>
            <a:off x="-2263680" y="1197000"/>
            <a:ext cx="662040" cy="6732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1" descr="종이"/>
          <p:cNvPicPr/>
          <p:nvPr/>
        </p:nvPicPr>
        <p:blipFill>
          <a:blip r:embed="rId9"/>
          <a:srcRect l="57101" t="30446" r="20069" b="39499"/>
          <a:stretch/>
        </p:blipFill>
        <p:spPr>
          <a:xfrm flipH="1" rot="7789200">
            <a:off x="-2163960" y="3659040"/>
            <a:ext cx="479160" cy="4716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0" descr="종이"/>
          <p:cNvPicPr/>
          <p:nvPr/>
        </p:nvPicPr>
        <p:blipFill>
          <a:blip r:embed="rId10"/>
          <a:srcRect l="57101" t="30446" r="20069" b="39499"/>
          <a:stretch/>
        </p:blipFill>
        <p:spPr>
          <a:xfrm flipH="1" rot="13189200">
            <a:off x="4932360" y="1915920"/>
            <a:ext cx="479520" cy="4712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66" descr="뛰는"/>
          <p:cNvPicPr/>
          <p:nvPr/>
        </p:nvPicPr>
        <p:blipFill>
          <a:blip r:embed="rId11"/>
          <a:srcRect l="5122" t="0" r="57886" b="0"/>
          <a:stretch/>
        </p:blipFill>
        <p:spPr>
          <a:xfrm>
            <a:off x="-2509920" y="1992240"/>
            <a:ext cx="2271960" cy="46054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7" descr="vkf"/>
          <p:cNvPicPr/>
          <p:nvPr/>
        </p:nvPicPr>
        <p:blipFill>
          <a:blip r:embed="rId12"/>
          <a:srcRect l="0" t="20604" r="21252" b="50005"/>
          <a:stretch/>
        </p:blipFill>
        <p:spPr>
          <a:xfrm rot="20097600">
            <a:off x="-3133800" y="2852280"/>
            <a:ext cx="4105440" cy="11494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79" descr="칸"/>
          <p:cNvPicPr/>
          <p:nvPr/>
        </p:nvPicPr>
        <p:blipFill>
          <a:blip r:embed="rId13"/>
          <a:srcRect l="15262" t="36552" r="33724" b="41119"/>
          <a:stretch/>
        </p:blipFill>
        <p:spPr>
          <a:xfrm rot="4120800">
            <a:off x="5744520" y="1557000"/>
            <a:ext cx="7213680" cy="19400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80" descr="칸"/>
          <p:cNvPicPr/>
          <p:nvPr/>
        </p:nvPicPr>
        <p:blipFill>
          <a:blip r:embed="rId14"/>
          <a:srcRect l="5236" t="36552" r="4846" b="41119"/>
          <a:stretch/>
        </p:blipFill>
        <p:spPr>
          <a:xfrm>
            <a:off x="-541440" y="4437000"/>
            <a:ext cx="11522160" cy="19400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81" descr="칸"/>
          <p:cNvPicPr/>
          <p:nvPr/>
        </p:nvPicPr>
        <p:blipFill>
          <a:blip r:embed="rId15"/>
          <a:srcRect l="2024" t="36552" r="9577" b="41119"/>
          <a:stretch/>
        </p:blipFill>
        <p:spPr>
          <a:xfrm rot="20961000">
            <a:off x="-3404880" y="-1145880"/>
            <a:ext cx="13908240" cy="28749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82" descr="칸"/>
          <p:cNvPicPr/>
          <p:nvPr/>
        </p:nvPicPr>
        <p:blipFill>
          <a:blip r:embed="rId16"/>
          <a:srcRect l="27707" t="36552" r="31250" b="41119"/>
          <a:stretch/>
        </p:blipFill>
        <p:spPr>
          <a:xfrm rot="15397800">
            <a:off x="-4251960" y="2683080"/>
            <a:ext cx="8607240" cy="24019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72" descr="옐로우"/>
          <p:cNvPicPr/>
          <p:nvPr/>
        </p:nvPicPr>
        <p:blipFill>
          <a:blip r:embed="rId17"/>
          <a:srcRect l="0" t="20315" r="0" b="21512"/>
          <a:stretch/>
        </p:blipFill>
        <p:spPr>
          <a:xfrm>
            <a:off x="-1258920" y="216000"/>
            <a:ext cx="11160000" cy="48686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5" descr="칸막이"/>
          <p:cNvPicPr/>
          <p:nvPr/>
        </p:nvPicPr>
        <p:blipFill>
          <a:blip r:embed="rId1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35" descr="칸막이"/>
          <p:cNvPicPr/>
          <p:nvPr/>
        </p:nvPicPr>
        <p:blipFill>
          <a:blip r:embed="rId1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2" descr="표현"/>
          <p:cNvPicPr/>
          <p:nvPr/>
        </p:nvPicPr>
        <p:blipFill>
          <a:blip r:embed="rId20"/>
          <a:srcRect l="32673" t="46856" r="25591" b="34262"/>
          <a:stretch/>
        </p:blipFill>
        <p:spPr>
          <a:xfrm>
            <a:off x="4716360" y="2924280"/>
            <a:ext cx="3816360" cy="12952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4" descr="정보"/>
          <p:cNvPicPr/>
          <p:nvPr/>
        </p:nvPicPr>
        <p:blipFill>
          <a:blip r:embed="rId21"/>
          <a:srcRect l="32276" t="38845" r="31492" b="43291"/>
          <a:stretch/>
        </p:blipFill>
        <p:spPr>
          <a:xfrm>
            <a:off x="2627280" y="1916280"/>
            <a:ext cx="3313080" cy="1225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0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4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400"/>
                            </p:stCondLst>
                            <p:childTnLst>
                              <p:par>
                                <p:cTn id="386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87" dur="200" fill="hold"/>
                                        <p:tgtEl>
                                          <p:spTgt spid="113"/>
                                        </p:tgtEl>
                                      </p:cBhvr>
                                      <p:to x="90000" y="90000"/>
                                    </p:animScale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4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4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4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4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2986 -0.08402 L 0 -4.81481E-006 E">
                                      <p:cBhvr>
                                        <p:cTn id="401" dur="4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0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0.12616 L 1.11111E-006 -4.81481E-006 E">
                                      <p:cBhvr>
                                        <p:cTn id="403" dur="4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0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1823 0.03125 L 5.55556E-007 -1.48148E-006 E">
                                      <p:cBhvr>
                                        <p:cTn id="405" dur="400" fill="hold"/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0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4.81481E-006 L 0.01944 0.09907 E">
                                      <p:cBhvr>
                                        <p:cTn id="407" dur="400" fill="hold"/>
                                        <p:tgtEl>
                                          <p:spTgt spid="1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800"/>
                            </p:stCondLst>
                            <p:childTnLst>
                              <p:par>
                                <p:cTn id="40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9601 2.96296E-006 L 3.33333E-006 2.96296E-006 E">
                                      <p:cBhvr>
                                        <p:cTn id="410" dur="10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35 -0.00046 C 0.06285 -0.05 0.12552 -0.09954 0.20868 -0.08379 C 0.29201 -0.06805 0.38437 0.08102 0.50035 0.09398 C 0.61632 0.10695 0.78854 -0.02268 0.90451 -0.00602 C 1.02049 0.01065 1.06076 0.11528 1.19618 0.19398 C 1.3316 0.27269 1.52431 0.36945 1.71701 0.46621 E">
                                      <p:cBhvr>
                                        <p:cTn id="412" dur="1500" fill="hold"/>
                                        <p:tgtEl>
                                          <p:spTgt spid="1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1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18" dur="1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19" nodeType="withEffect" fill="hold" presetClass="path" presetID="0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-2.77778E-007 9.25926E-006 C 0.08334 0.06806 0.16684 0.13612 0.24584 0.15556 C 0.325 0.17501 0.40834 0.09167 0.475 0.11667 C 0.54167 0.14167 0.54792 0.31297 0.64584 0.30556 C 0.74375 0.29815 0.94653 0.18519 1.0625 0.07223 C 1.17848 -0.04074 1.26007 -0.20648 1.34167 -0.37222 E">
                                      <p:cBhvr>
                                        <p:cTn id="420" dur="1500" fill="hold"/>
                                        <p:tgtEl>
                                          <p:spTgt spid="1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19" presetSubtype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1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5" nodeType="withEffect" fill="hold" presetClass="emph" presetID="8">
                                  <p:stCondLst>
                                    <p:cond delay="100"/>
                                  </p:stCondLst>
                                  <p:childTnLst>
                                    <p:animRot by="21600000">
                                      <p:cBhvr>
                                        <p:cTn id="426" dur="1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27" nodeType="withEffect" fill="hold" presetClass="path" presetID="0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-0.01007 -0.00417 C 0.05243 -0.05371 0.1151 -0.10324 0.19826 -0.0875 C 0.2816 -0.07176 0.37396 0.07731 0.48993 0.09028 C 0.6059 0.10324 0.77812 -0.02639 0.8941 -0.00972 C 1.01007 0.00694 1.19427 0.04699 1.18576 0.19028 C 1.17726 0.33356 0.91424 0.71319 0.84271 0.85069 E">
                                      <p:cBhvr>
                                        <p:cTn id="428" dur="1500" fill="hold"/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19" presetSubtype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1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3" nodeType="withEffect" fill="hold" presetClass="emph" presetID="8">
                                  <p:stCondLst>
                                    <p:cond delay="100"/>
                                  </p:stCondLst>
                                  <p:childTnLst>
                                    <p:animRot by="21600000">
                                      <p:cBhvr>
                                        <p:cTn id="434" dur="1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35" nodeType="withEffect" fill="hold" presetClass="path" presetID="0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-2.22222E-006 -4.81481E-006 C 0.08334 0.06806 0.16702 0.13588 0.24566 0.15556 C 0.325 0.175 0.39775 0.12246 0.475 0.11667 C 0.55226 0.11088 0.62448 0.09098 0.70903 0.1213 C 0.79358 0.15163 0.82813 0.26389 0.98195 0.29908 C 1.13577 0.33426 1.49653 0.32547 1.63195 0.33241 E">
                                      <p:cBhvr>
                                        <p:cTn id="436" dur="1500" fill="hold"/>
                                        <p:tgtEl>
                                          <p:spTgt spid="1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9" presetSubtype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1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1" nodeType="withEffect" fill="hold" presetClass="emph" presetID="8">
                                  <p:stCondLst>
                                    <p:cond delay="200"/>
                                  </p:stCondLst>
                                  <p:childTnLst>
                                    <p:animRot by="21600000">
                                      <p:cBhvr>
                                        <p:cTn id="442" dur="1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43" nodeType="withEffect" fill="hold" presetClass="path" presetID="0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0.00034 -0.00046 C 0.06996 -0.02708 0.3401 -0.14907 0.4184 -0.16042 C 0.4967 -0.17176 0.53437 -0.14468 0.47048 -0.06875 C 0.40659 0.00718000000000001 0.12587 0.21921 0.03507 0.29514 E">
                                      <p:cBhvr>
                                        <p:cTn id="444" dur="1500" fill="hold"/>
                                        <p:tgtEl>
                                          <p:spTgt spid="1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19" presetSubtype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1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9" nodeType="withEffect" fill="hold" presetClass="emph" presetID="8">
                                  <p:stCondLst>
                                    <p:cond delay="200"/>
                                  </p:stCondLst>
                                  <p:childTnLst>
                                    <p:animRot by="21600000">
                                      <p:cBhvr>
                                        <p:cTn id="450" dur="1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5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0.00023 C 0.08333 0.06805 0.17951 0.16365 0.24566 0.15555 C 0.31181 0.14745 0.43264 0.04514 0.39722 -0.04931 C 0.36181 -0.14329 0.10868 -0.33496 0.03264 -0.41019 E">
                                      <p:cBhvr>
                                        <p:cTn id="452" dur="1500" fill="hold"/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1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58" dur="1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1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64" dur="1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6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4.81481E-006 C 0.08334 0.06806 0.16702 0.13588 0.24566 0.15556 C 0.325 0.175 0.39775 0.12246 0.475 0.11667 C 0.55226 0.11088 0.63212 0.14746 0.70903 0.1213 C 0.78594 0.09514 0.86563 0.06389 0.93611 -0.03981 C 1.0066 -0.14351 1.09115 -0.40486 1.13195 -0.50092 E">
                                      <p:cBhvr>
                                        <p:cTn id="466" dur="1500" fill="hold"/>
                                        <p:tgtEl>
                                          <p:spTgt spid="1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6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35 -0.00047 C 0.06997 -0.02709 0.34011 -0.14908 0.41841 -0.16042 C 0.4967 -0.17176 0.51198 -0.17431 0.47049 -0.06875 C 0.429 0.0368 0.23195 0.36064 0.16945 0.47361 E">
                                      <p:cBhvr>
                                        <p:cTn id="468" dur="1500" fill="hold"/>
                                        <p:tgtEl>
                                          <p:spTgt spid="1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1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74" dur="1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1.85185E-006 C -0.01805 0.11181 -0.04722 0.23195 -0.06458 0.24167 C -0.08194 0.25139 -0.09236 0.07616 -0.10382 0.05857 C -0.11528 0.04097 -0.10625 -0.01412 -0.13298 0.13634 C -0.15972 0.28681 -0.2368 0.78959 -0.26423 0.96134 E">
                                      <p:cBhvr>
                                        <p:cTn id="481" dur="2000" fill="hold"/>
                                        <p:tgtEl>
                                          <p:spTgt spid="1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-2.96296E-006 L 1.63785 -0.01713 E">
                                      <p:cBhvr>
                                        <p:cTn id="483" dur="2000" fill="hold"/>
                                        <p:tgtEl>
                                          <p:spTgt spid="1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2.22222E-006 L 1.61423 -0.01644 E">
                                      <p:cBhvr>
                                        <p:cTn id="485" dur="2000" fill="hold"/>
                                        <p:tgtEl>
                                          <p:spTgt spid="1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899880">
                                      <p:cBhvr>
                                        <p:cTn id="487" dur="2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8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600000">
                                      <p:cBhvr>
                                        <p:cTn id="489" dur="2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90" nodeType="withEffect" fill="hold" presetClass="emph" presetID="8">
                                  <p:stCondLst>
                                    <p:cond delay="200"/>
                                  </p:stCondLst>
                                  <p:childTnLst>
                                    <p:animRot by="2400000">
                                      <p:cBhvr>
                                        <p:cTn id="491" dur="2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92" nodeType="withEffect" fill="hold" presetClass="emph" presetID="8">
                                  <p:stCondLst>
                                    <p:cond delay="200"/>
                                  </p:stCondLst>
                                  <p:childTnLst>
                                    <p:animRot by="-299880">
                                      <p:cBhvr>
                                        <p:cTn id="493" dur="2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94" nodeType="withEffect" fill="hold" presetClass="emph" presetID="8">
                                  <p:stCondLst>
                                    <p:cond delay="400"/>
                                  </p:stCondLst>
                                  <p:childTnLst>
                                    <p:animRot by="-5399880">
                                      <p:cBhvr>
                                        <p:cTn id="495" dur="2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96" nodeType="withEffect" fill="hold" presetClass="emph" presetID="8">
                                  <p:stCondLst>
                                    <p:cond delay="400"/>
                                  </p:stCondLst>
                                  <p:childTnLst>
                                    <p:animRot by="600000">
                                      <p:cBhvr>
                                        <p:cTn id="497" dur="2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98" nodeType="withEffect" fill="hold" presetClass="emph" presetID="8">
                                  <p:stCondLst>
                                    <p:cond delay="600"/>
                                  </p:stCondLst>
                                  <p:childTnLst>
                                    <p:animRot by="5400000">
                                      <p:cBhvr>
                                        <p:cTn id="499" dur="2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00" nodeType="withEffect" fill="hold" presetClass="emph" presetID="8">
                                  <p:stCondLst>
                                    <p:cond delay="600"/>
                                  </p:stCondLst>
                                  <p:childTnLst>
                                    <p:animRot by="-299880">
                                      <p:cBhvr>
                                        <p:cTn id="501" dur="2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02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399880">
                                      <p:cBhvr>
                                        <p:cTn id="503" dur="2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04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300000">
                                      <p:cBhvr>
                                        <p:cTn id="505" dur="2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06" nodeType="with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5400000">
                                      <p:cBhvr>
                                        <p:cTn id="507" dur="2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08" nodeType="with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-299880">
                                      <p:cBhvr>
                                        <p:cTn id="509" dur="2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10" nodeType="withEffect" fill="hold" presetClass="emph" presetID="8">
                                  <p:stCondLst>
                                    <p:cond delay="1200"/>
                                  </p:stCondLst>
                                  <p:childTnLst>
                                    <p:animRot by="-5399880">
                                      <p:cBhvr>
                                        <p:cTn id="511" dur="2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4" dur="3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5" nodeType="withEffect" fill="hold" presetClass="exit" presetID="10">
                                  <p:stCondLst>
                                    <p:cond delay="1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6" dur="4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10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0" dur="8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3" dur="3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4" nodeType="withEffect" fill="hold" presetClass="exit" presetID="10">
                                  <p:stCondLst>
                                    <p:cond delay="2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5" dur="3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4" descr="옐로우"/>
          <p:cNvPicPr/>
          <p:nvPr/>
        </p:nvPicPr>
        <p:blipFill>
          <a:blip r:embed="rId1"/>
          <a:srcRect l="0" t="20315" r="0" b="21512"/>
          <a:stretch/>
        </p:blipFill>
        <p:spPr>
          <a:xfrm>
            <a:off x="-1258920" y="216000"/>
            <a:ext cx="11160000" cy="48686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25" descr="칸"/>
          <p:cNvPicPr/>
          <p:nvPr/>
        </p:nvPicPr>
        <p:blipFill>
          <a:blip r:embed="rId2"/>
          <a:srcRect l="15262" t="36552" r="33724" b="41119"/>
          <a:stretch/>
        </p:blipFill>
        <p:spPr>
          <a:xfrm rot="3910200">
            <a:off x="6437880" y="667440"/>
            <a:ext cx="7213680" cy="34560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26" descr="칸"/>
          <p:cNvPicPr/>
          <p:nvPr/>
        </p:nvPicPr>
        <p:blipFill>
          <a:blip r:embed="rId3"/>
          <a:srcRect l="5236" t="36552" r="4846" b="41119"/>
          <a:stretch/>
        </p:blipFill>
        <p:spPr>
          <a:xfrm rot="318000">
            <a:off x="-487080" y="4071960"/>
            <a:ext cx="11522160" cy="55450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27" descr="칸"/>
          <p:cNvPicPr/>
          <p:nvPr/>
        </p:nvPicPr>
        <p:blipFill>
          <a:blip r:embed="rId4"/>
          <a:srcRect l="2024" t="36552" r="9577" b="41119"/>
          <a:stretch/>
        </p:blipFill>
        <p:spPr>
          <a:xfrm rot="207000">
            <a:off x="-1115640" y="-2593440"/>
            <a:ext cx="12006360" cy="51861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28" descr="칸"/>
          <p:cNvPicPr/>
          <p:nvPr/>
        </p:nvPicPr>
        <p:blipFill>
          <a:blip r:embed="rId5"/>
          <a:srcRect l="27707" t="36552" r="31250" b="41119"/>
          <a:stretch/>
        </p:blipFill>
        <p:spPr>
          <a:xfrm rot="17374800">
            <a:off x="-2986920" y="-1751760"/>
            <a:ext cx="8607600" cy="86122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35" descr="칸막이"/>
          <p:cNvPicPr/>
          <p:nvPr/>
        </p:nvPicPr>
        <p:blipFill>
          <a:blip r:embed="rId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32" descr="뛰는"/>
          <p:cNvPicPr/>
          <p:nvPr/>
        </p:nvPicPr>
        <p:blipFill>
          <a:blip r:embed="rId7"/>
          <a:srcRect l="57886" t="0" r="5122" b="0"/>
          <a:stretch/>
        </p:blipFill>
        <p:spPr>
          <a:xfrm>
            <a:off x="9139320" y="1916280"/>
            <a:ext cx="2128680" cy="46051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33" descr="vkf"/>
          <p:cNvPicPr/>
          <p:nvPr/>
        </p:nvPicPr>
        <p:blipFill>
          <a:blip r:embed="rId8"/>
          <a:srcRect l="0" t="20604" r="21252" b="50005"/>
          <a:stretch/>
        </p:blipFill>
        <p:spPr>
          <a:xfrm flipH="1" rot="4639800">
            <a:off x="8491320" y="2707920"/>
            <a:ext cx="3168720" cy="11494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1" descr="글"/>
          <p:cNvPicPr/>
          <p:nvPr/>
        </p:nvPicPr>
        <p:blipFill>
          <a:blip r:embed="rId9"/>
          <a:srcRect l="8264" t="21643" r="50783" b="67853"/>
          <a:stretch/>
        </p:blipFill>
        <p:spPr>
          <a:xfrm>
            <a:off x="4427640" y="4005360"/>
            <a:ext cx="3744720" cy="72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fill="hold">
                      <p:stCondLst>
                        <p:cond delay="0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4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4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4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4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1.85185E-006 L -0.5283 0.03889 E">
                                      <p:cBhvr>
                                        <p:cTn id="544" dur="300" fill="hold"/>
                                        <p:tgtEl>
                                          <p:spTgt spid="1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4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-2.22222E-006 L 0.00937 -0.05787 E">
                                      <p:cBhvr>
                                        <p:cTn id="546" dur="300" fill="hold"/>
                                        <p:tgtEl>
                                          <p:spTgt spid="1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4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599880">
                                      <p:cBhvr>
                                        <p:cTn id="548" dur="3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4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0 L -0.03038 0.09468 E">
                                      <p:cBhvr>
                                        <p:cTn id="550" dur="300" fill="hold"/>
                                        <p:tgtEl>
                                          <p:spTgt spid="1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5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800000">
                                      <p:cBhvr>
                                        <p:cTn id="552" dur="3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53" nodeType="with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0 0 L -1.22848 0 E">
                                      <p:cBhvr>
                                        <p:cTn id="554" dur="1500" fill="hold"/>
                                        <p:tgtEl>
                                          <p:spTgt spid="1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55" nodeType="with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0 0 L -1.22848 0 E">
                                      <p:cBhvr>
                                        <p:cTn id="556" dur="1500" fill="hold"/>
                                        <p:tgtEl>
                                          <p:spTgt spid="1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57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-5399880">
                                      <p:cBhvr>
                                        <p:cTn id="558" dur="2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59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-299880">
                                      <p:cBhvr>
                                        <p:cTn id="560" dur="2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61" nodeType="withEffect" fill="hold" presetClass="emph" presetID="8">
                                  <p:stCondLst>
                                    <p:cond delay="700"/>
                                  </p:stCondLst>
                                  <p:childTnLst>
                                    <p:animRot by="9000000">
                                      <p:cBhvr>
                                        <p:cTn id="562" dur="2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63" nodeType="withEffect" fill="hold" presetClass="emph" presetID="8">
                                  <p:stCondLst>
                                    <p:cond delay="700"/>
                                  </p:stCondLst>
                                  <p:childTnLst>
                                    <p:animRot by="300000">
                                      <p:cBhvr>
                                        <p:cTn id="564" dur="2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65" nodeType="withEffect" fill="hold" presetClass="emph" presetID="8">
                                  <p:stCondLst>
                                    <p:cond delay="900"/>
                                  </p:stCondLst>
                                  <p:childTnLst>
                                    <p:animRot by="-5399880">
                                      <p:cBhvr>
                                        <p:cTn id="566" dur="2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67" nodeType="withEffect" fill="hold" presetClass="emph" presetID="8">
                                  <p:stCondLst>
                                    <p:cond delay="900"/>
                                  </p:stCondLst>
                                  <p:childTnLst>
                                    <p:animRot by="-299880">
                                      <p:cBhvr>
                                        <p:cTn id="568" dur="2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69" nodeType="withEffect" fill="hold" presetClass="emph" presetID="8">
                                  <p:stCondLst>
                                    <p:cond delay="1100"/>
                                  </p:stCondLst>
                                  <p:childTnLst>
                                    <p:animRot by="5400000">
                                      <p:cBhvr>
                                        <p:cTn id="570" dur="2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71" nodeType="withEffect" fill="hold" presetClass="emph" presetID="8">
                                  <p:stCondLst>
                                    <p:cond delay="1100"/>
                                  </p:stCondLst>
                                  <p:childTnLst>
                                    <p:animRot by="300000">
                                      <p:cBhvr>
                                        <p:cTn id="572" dur="2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73" nodeType="withEffect" fill="hold" presetClass="emph" presetID="8">
                                  <p:stCondLst>
                                    <p:cond delay="1300"/>
                                  </p:stCondLst>
                                  <p:childTnLst>
                                    <p:animRot by="-5399880">
                                      <p:cBhvr>
                                        <p:cTn id="574" dur="2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75" nodeType="withEffect" fill="hold" presetClass="emph" presetID="8">
                                  <p:stCondLst>
                                    <p:cond delay="1300"/>
                                  </p:stCondLst>
                                  <p:childTnLst>
                                    <p:animRot by="-299880">
                                      <p:cBhvr>
                                        <p:cTn id="576" dur="2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77" nodeType="withEffect" fill="hold" presetClass="emph" presetID="8">
                                  <p:stCondLst>
                                    <p:cond delay="1500"/>
                                  </p:stCondLst>
                                  <p:childTnLst>
                                    <p:animRot by="5400000">
                                      <p:cBhvr>
                                        <p:cTn id="578" dur="2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79" nodeType="withEffect" fill="hold" presetClass="emph" presetID="8">
                                  <p:stCondLst>
                                    <p:cond delay="1500"/>
                                  </p:stCondLst>
                                  <p:childTnLst>
                                    <p:animRot by="300000">
                                      <p:cBhvr>
                                        <p:cTn id="580" dur="2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81" nodeType="withEffect" fill="hold" presetClass="emph" presetID="8">
                                  <p:stCondLst>
                                    <p:cond delay="1700"/>
                                  </p:stCondLst>
                                  <p:childTnLst>
                                    <p:animRot by="-5399880">
                                      <p:cBhvr>
                                        <p:cTn id="582" dur="2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83" nodeType="withEffect" fill="hold" presetClass="path" presetID="0">
                                  <p:stCondLst>
                                    <p:cond delay="1900"/>
                                  </p:stCondLst>
                                  <p:childTnLst>
                                    <p:animMotion origin="layout" path="M -8.61111E-006 0 L 0.00798 0.13241 E">
                                      <p:cBhvr>
                                        <p:cTn id="584" dur="300" fill="hold"/>
                                        <p:tgtEl>
                                          <p:spTgt spid="1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85" nodeType="withEffect" fill="hold" presetClass="path" presetID="0">
                                  <p:stCondLst>
                                    <p:cond delay="1900"/>
                                  </p:stCondLst>
                                  <p:childTnLst>
                                    <p:animMotion origin="layout" path="M -0.03039 0.09467 L -0.02952 -0.08843 E">
                                      <p:cBhvr>
                                        <p:cTn id="586" dur="300" fill="hold"/>
                                        <p:tgtEl>
                                          <p:spTgt spid="1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87" nodeType="withEffect" fill="hold" presetClass="path" presetID="0">
                                  <p:stCondLst>
                                    <p:cond delay="1900"/>
                                  </p:stCondLst>
                                  <p:childTnLst>
                                    <p:animMotion origin="layout" path="M -0.5283 0.03889 L 0.32604 0.03889 E">
                                      <p:cBhvr>
                                        <p:cTn id="588" dur="300" fill="hold"/>
                                        <p:tgtEl>
                                          <p:spTgt spid="1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89" nodeType="withEffect" fill="hold" presetClass="path" presetID="0">
                                  <p:stCondLst>
                                    <p:cond delay="1900"/>
                                  </p:stCondLst>
                                  <p:childTnLst>
                                    <p:animMotion origin="layout" path="M 8.33333E-007 4.44444E-006 L -0.14948 0.01065 E">
                                      <p:cBhvr>
                                        <p:cTn id="590" dur="300" fill="hold"/>
                                        <p:tgtEl>
                                          <p:spTgt spid="1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3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4" nodeType="withEffect" fill="hold" presetClass="exit" presetID="10">
                                  <p:stCondLst>
                                    <p:cond delay="1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5" dur="4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11" descr="옐로우"/>
          <p:cNvPicPr/>
          <p:nvPr/>
        </p:nvPicPr>
        <p:blipFill>
          <a:blip r:embed="rId1"/>
          <a:srcRect l="0" t="20315" r="0" b="21512"/>
          <a:stretch/>
        </p:blipFill>
        <p:spPr>
          <a:xfrm>
            <a:off x="-36360" y="981000"/>
            <a:ext cx="11160000" cy="48690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3" descr="칸"/>
          <p:cNvPicPr/>
          <p:nvPr/>
        </p:nvPicPr>
        <p:blipFill>
          <a:blip r:embed="rId2"/>
          <a:srcRect l="5236" t="36552" r="4846" b="41119"/>
          <a:stretch/>
        </p:blipFill>
        <p:spPr>
          <a:xfrm rot="1635600">
            <a:off x="-11066400" y="110880"/>
            <a:ext cx="25663320" cy="75261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4" descr="칸"/>
          <p:cNvPicPr/>
          <p:nvPr/>
        </p:nvPicPr>
        <p:blipFill>
          <a:blip r:embed="rId3"/>
          <a:srcRect l="2024" t="36552" r="9577" b="41119"/>
          <a:stretch/>
        </p:blipFill>
        <p:spPr>
          <a:xfrm>
            <a:off x="-541440" y="0"/>
            <a:ext cx="12006360" cy="45813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22" descr="칸"/>
          <p:cNvPicPr/>
          <p:nvPr/>
        </p:nvPicPr>
        <p:blipFill>
          <a:blip r:embed="rId4"/>
          <a:srcRect l="5236" t="38852" r="102" b="41119"/>
          <a:stretch/>
        </p:blipFill>
        <p:spPr>
          <a:xfrm>
            <a:off x="-11269800" y="-892080"/>
            <a:ext cx="20837520" cy="69120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7" descr="라인들"/>
          <p:cNvPicPr/>
          <p:nvPr/>
        </p:nvPicPr>
        <p:blipFill>
          <a:blip r:embed="rId5"/>
          <a:srcRect l="54016" t="912" r="39873" b="-67589"/>
          <a:stretch/>
        </p:blipFill>
        <p:spPr>
          <a:xfrm>
            <a:off x="-1116000" y="-15436800"/>
            <a:ext cx="960480" cy="349232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9" descr="라인들"/>
          <p:cNvPicPr/>
          <p:nvPr/>
        </p:nvPicPr>
        <p:blipFill>
          <a:blip r:embed="rId6"/>
          <a:srcRect l="41763" t="262" r="49484" b="-65623"/>
          <a:stretch/>
        </p:blipFill>
        <p:spPr>
          <a:xfrm>
            <a:off x="-612720" y="-15365520"/>
            <a:ext cx="684000" cy="3460428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6" descr="라인들"/>
          <p:cNvPicPr/>
          <p:nvPr/>
        </p:nvPicPr>
        <p:blipFill>
          <a:blip r:embed="rId7"/>
          <a:srcRect l="41763" t="262" r="43018" b="-109475"/>
          <a:stretch/>
        </p:blipFill>
        <p:spPr>
          <a:xfrm>
            <a:off x="-1730520" y="-19973880"/>
            <a:ext cx="1189080" cy="437799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35" descr="칸막이"/>
          <p:cNvPicPr/>
          <p:nvPr/>
        </p:nvPicPr>
        <p:blipFill>
          <a:blip r:embed="rId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21" descr="맨"/>
          <p:cNvPicPr/>
          <p:nvPr/>
        </p:nvPicPr>
        <p:blipFill>
          <a:blip r:embed="rId9"/>
          <a:srcRect l="40699" t="32388" r="34377" b="14239"/>
          <a:stretch/>
        </p:blipFill>
        <p:spPr>
          <a:xfrm>
            <a:off x="5651640" y="2700360"/>
            <a:ext cx="2246040" cy="36082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6" descr="라인들"/>
          <p:cNvPicPr/>
          <p:nvPr/>
        </p:nvPicPr>
        <p:blipFill>
          <a:blip r:embed="rId10"/>
          <a:srcRect l="41763" t="262" r="49484" b="-65623"/>
          <a:stretch/>
        </p:blipFill>
        <p:spPr>
          <a:xfrm>
            <a:off x="-971640" y="-15509880"/>
            <a:ext cx="1374840" cy="346122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3" descr="글"/>
          <p:cNvPicPr/>
          <p:nvPr/>
        </p:nvPicPr>
        <p:blipFill>
          <a:blip r:embed="rId11"/>
          <a:srcRect l="8264" t="70992" r="41339" b="18530"/>
          <a:stretch/>
        </p:blipFill>
        <p:spPr>
          <a:xfrm>
            <a:off x="2556000" y="2565360"/>
            <a:ext cx="4608360" cy="719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fill="hold">
                      <p:stCondLst>
                        <p:cond delay="0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withEffect" fill="hold" presetClass="emph" presetID="8">
                                  <p:stCondLst>
                                    <p:cond delay="100"/>
                                  </p:stCondLst>
                                  <p:childTnLst>
                                    <p:animRot by="10800000">
                                      <p:cBhvr>
                                        <p:cTn id="60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03" nodeType="withEffect" fill="hold" presetClass="emph" presetID="8">
                                  <p:stCondLst>
                                    <p:cond delay="200"/>
                                  </p:stCondLst>
                                  <p:childTnLst>
                                    <p:animRot by="10800000">
                                      <p:cBhvr>
                                        <p:cTn id="60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05" nodeType="withEffect" fill="hold" presetClass="emph" presetID="8">
                                  <p:stCondLst>
                                    <p:cond delay="200"/>
                                  </p:stCondLst>
                                  <p:childTnLst>
                                    <p:animRot by="7200000">
                                      <p:cBhvr>
                                        <p:cTn id="60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07" nodeType="withEffect" fill="hold" presetClass="emph" presetID="8">
                                  <p:stCondLst>
                                    <p:cond delay="200"/>
                                  </p:stCondLst>
                                  <p:childTnLst>
                                    <p:animRot by="5400000">
                                      <p:cBhvr>
                                        <p:cTn id="60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09" nodeType="withEffect" fill="hold" presetClass="exit" presetID="10">
                                  <p:stCondLst>
                                    <p:cond delay="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2" nodeType="withEffect" fill="hold" presetClass="path" presetID="0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-2.22222E-006 2.22222E-006 L -0.01163 -0.31713 E">
                                      <p:cBhvr>
                                        <p:cTn id="613" dur="5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4" nodeType="withEffect" fill="hold" presetClass="path" presetID="0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3.88889E-006 -2.59259E-006 L -0.08073 0.43449 E">
                                      <p:cBhvr>
                                        <p:cTn id="615" dur="500" fill="hold"/>
                                        <p:tgtEl>
                                          <p:spTgt spid="1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6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8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fill="hold">
                            <p:stCondLst>
                              <p:cond delay="700"/>
                            </p:stCondLst>
                            <p:childTnLst>
                              <p:par>
                                <p:cTn id="620" nodeType="after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5400000">
                                      <p:cBhvr>
                                        <p:cTn id="62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21" presetSubtype="1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62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5" nodeType="withEffect" fill="hold" presetClass="emph" presetID="8">
                                  <p:stCondLst>
                                    <p:cond delay="700"/>
                                  </p:stCondLst>
                                  <p:childTnLst>
                                    <p:animRot by="5400000">
                                      <p:cBhvr>
                                        <p:cTn id="62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8" descr="백이미지"/>
          <p:cNvPicPr/>
          <p:nvPr/>
        </p:nvPicPr>
        <p:blipFill>
          <a:blip r:embed="rId1"/>
          <a:stretch/>
        </p:blipFill>
        <p:spPr>
          <a:xfrm>
            <a:off x="-9144000" y="1557360"/>
            <a:ext cx="18288000" cy="36576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6" descr="칸막이"/>
          <p:cNvPicPr/>
          <p:nvPr/>
        </p:nvPicPr>
        <p:blipFill>
          <a:blip r:embed="rId2"/>
          <a:stretch/>
        </p:blipFill>
        <p:spPr>
          <a:xfrm>
            <a:off x="-4572000" y="1341360"/>
            <a:ext cx="18289440" cy="395928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9" descr="뛰는"/>
          <p:cNvPicPr/>
          <p:nvPr/>
        </p:nvPicPr>
        <p:blipFill>
          <a:blip r:embed="rId3"/>
          <a:srcRect l="5120" t="0" r="57896" b="0"/>
          <a:stretch/>
        </p:blipFill>
        <p:spPr>
          <a:xfrm>
            <a:off x="-1092240" y="3773520"/>
            <a:ext cx="860400" cy="174312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0" descr="vkf"/>
          <p:cNvPicPr/>
          <p:nvPr/>
        </p:nvPicPr>
        <p:blipFill>
          <a:blip r:embed="rId4"/>
          <a:srcRect l="0" t="20621" r="21246" b="50014"/>
          <a:stretch/>
        </p:blipFill>
        <p:spPr>
          <a:xfrm rot="20097600">
            <a:off x="-1280880" y="4076640"/>
            <a:ext cx="1389240" cy="38916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1" descr="백이미지2"/>
          <p:cNvPicPr/>
          <p:nvPr/>
        </p:nvPicPr>
        <p:blipFill>
          <a:blip r:embed="rId5"/>
          <a:stretch/>
        </p:blipFill>
        <p:spPr>
          <a:xfrm>
            <a:off x="-9144000" y="1571760"/>
            <a:ext cx="18288000" cy="3657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35" descr="칸막이"/>
          <p:cNvPicPr/>
          <p:nvPr/>
        </p:nvPicPr>
        <p:blipFill>
          <a:blip r:embed="rId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0" descr="전파"/>
          <p:cNvPicPr/>
          <p:nvPr/>
        </p:nvPicPr>
        <p:blipFill>
          <a:blip r:embed="rId7"/>
          <a:srcRect l="6685" t="56325" r="4323" b="25832"/>
          <a:stretch/>
        </p:blipFill>
        <p:spPr>
          <a:xfrm>
            <a:off x="611280" y="4005360"/>
            <a:ext cx="8137440" cy="12240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1" descr="전파"/>
          <p:cNvPicPr/>
          <p:nvPr/>
        </p:nvPicPr>
        <p:blipFill>
          <a:blip r:embed="rId8"/>
          <a:srcRect l="9843" t="37407" r="34256" b="52110"/>
          <a:stretch/>
        </p:blipFill>
        <p:spPr>
          <a:xfrm>
            <a:off x="2052720" y="4222800"/>
            <a:ext cx="5111640" cy="71892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3" descr="제대로"/>
          <p:cNvPicPr/>
          <p:nvPr/>
        </p:nvPicPr>
        <p:blipFill>
          <a:blip r:embed="rId9"/>
          <a:srcRect l="7484" t="22063" r="44480" b="58010"/>
          <a:stretch/>
        </p:blipFill>
        <p:spPr>
          <a:xfrm>
            <a:off x="1547640" y="1989000"/>
            <a:ext cx="4392720" cy="136692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828720" y="76500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9999"/>
                </a:solidFill>
                <a:uFillTx/>
                <a:latin typeface="Gulim"/>
                <a:hlinkClick r:id="rId10"/>
              </a:rPr>
              <a:t>ppt模版免费下载</a:t>
            </a:r>
            <a:r>
              <a:rPr b="1" lang="en-US" sz="1600" spc="-1" strike="noStrike">
                <a:solidFill>
                  <a:srgbClr val="ffffff"/>
                </a:solidFill>
                <a:latin typeface="Gulim"/>
              </a:rPr>
              <a:t>http://www.eeppt.com</a:t>
            </a:r>
            <a:endParaRPr b="1" lang="en-US" sz="16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fill="hold">
                      <p:stCondLst>
                        <p:cond delay="0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32" dur="100" fill="hold"/>
                                        <p:tgtEl>
                                          <p:spTgt spid="154"/>
                                        </p:tgtEl>
                                      </p:cBhvr>
                                      <p:to x="200000" y="200000"/>
                                    </p:animScale>
                                  </p:childTnLst>
                                </p:cTn>
                              </p:par>
                              <p:par>
                                <p:cTn id="63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34" dur="100" fill="hold"/>
                                        <p:tgtEl>
                                          <p:spTgt spid="155"/>
                                        </p:tgtEl>
                                      </p:cBhvr>
                                      <p:to x="200000" y="200000"/>
                                    </p:animScale>
                                  </p:childTnLst>
                                </p:cTn>
                              </p:par>
                              <p:par>
                                <p:cTn id="63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36" dur="1000" fill="hold"/>
                                        <p:tgtEl>
                                          <p:spTgt spid="154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63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38" dur="1000" fill="hold"/>
                                        <p:tgtEl>
                                          <p:spTgt spid="155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9" fill="hold">
                            <p:stCondLst>
                              <p:cond delay="1000"/>
                            </p:stCondLst>
                            <p:childTnLst>
                              <p:par>
                                <p:cTn id="6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3.33333E-006 L 0.49028 -3.33333E-006 E">
                                      <p:cBhvr>
                                        <p:cTn id="641" dur="2000" fill="hold"/>
                                        <p:tgtEl>
                                          <p:spTgt spid="1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98038 0 E">
                                      <p:cBhvr>
                                        <p:cTn id="643" dur="2000" fill="hold"/>
                                        <p:tgtEl>
                                          <p:spTgt spid="1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-2.96296E-006 L 1.63785 -0.01713 E">
                                      <p:cBhvr>
                                        <p:cTn id="645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2.22222E-006 L 1.61423 -0.01644 E">
                                      <p:cBhvr>
                                        <p:cTn id="647" dur="2000" fill="hold"/>
                                        <p:tgtEl>
                                          <p:spTgt spid="1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1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599879">
                                      <p:cBhvr>
                                        <p:cTn id="652" dur="3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5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4" dur="3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6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8" dur="3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899880">
                                      <p:cBhvr>
                                        <p:cTn id="660" dur="2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6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600000">
                                      <p:cBhvr>
                                        <p:cTn id="662" dur="2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63" nodeType="withEffect" fill="hold" presetClass="emph" presetID="8">
                                  <p:stCondLst>
                                    <p:cond delay="200"/>
                                  </p:stCondLst>
                                  <p:childTnLst>
                                    <p:animRot by="2400000">
                                      <p:cBhvr>
                                        <p:cTn id="664" dur="2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65" nodeType="withEffect" fill="hold" presetClass="emph" presetID="8">
                                  <p:stCondLst>
                                    <p:cond delay="200"/>
                                  </p:stCondLst>
                                  <p:childTnLst>
                                    <p:animRot by="-299880">
                                      <p:cBhvr>
                                        <p:cTn id="666" dur="2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67" nodeType="withEffect" fill="hold" presetClass="emph" presetID="8">
                                  <p:stCondLst>
                                    <p:cond delay="400"/>
                                  </p:stCondLst>
                                  <p:childTnLst>
                                    <p:animRot by="-5399880">
                                      <p:cBhvr>
                                        <p:cTn id="668" dur="2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69" nodeType="withEffect" fill="hold" presetClass="emph" presetID="8">
                                  <p:stCondLst>
                                    <p:cond delay="400"/>
                                  </p:stCondLst>
                                  <p:childTnLst>
                                    <p:animRot by="600000">
                                      <p:cBhvr>
                                        <p:cTn id="670" dur="2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71" nodeType="withEffect" fill="hold" presetClass="emph" presetID="8">
                                  <p:stCondLst>
                                    <p:cond delay="600"/>
                                  </p:stCondLst>
                                  <p:childTnLst>
                                    <p:animRot by="5400000">
                                      <p:cBhvr>
                                        <p:cTn id="672" dur="2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73" nodeType="withEffect" fill="hold" presetClass="emph" presetID="8">
                                  <p:stCondLst>
                                    <p:cond delay="600"/>
                                  </p:stCondLst>
                                  <p:childTnLst>
                                    <p:animRot by="-299880">
                                      <p:cBhvr>
                                        <p:cTn id="674" dur="2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75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399880">
                                      <p:cBhvr>
                                        <p:cTn id="676" dur="2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77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300000">
                                      <p:cBhvr>
                                        <p:cTn id="678" dur="2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79" nodeType="with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5400000">
                                      <p:cBhvr>
                                        <p:cTn id="680" dur="2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81" nodeType="with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-299880">
                                      <p:cBhvr>
                                        <p:cTn id="682" dur="2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83" nodeType="withEffect" fill="hold" presetClass="emph" presetID="8">
                                  <p:stCondLst>
                                    <p:cond delay="1200"/>
                                  </p:stCondLst>
                                  <p:childTnLst>
                                    <p:animRot by="-5399880">
                                      <p:cBhvr>
                                        <p:cTn id="684" dur="2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85" nodeType="withEffect" fill="hold" presetClass="emph" presetID="6">
                                  <p:stCondLst>
                                    <p:cond delay="1200"/>
                                  </p:stCondLst>
                                  <p:childTnLst>
                                    <p:animScale>
                                      <p:cBhvr>
                                        <p:cTn id="686" dur="500" fill="hold"/>
                                        <p:tgtEl>
                                          <p:spTgt spid="154"/>
                                        </p:tgtEl>
                                      </p:cBhvr>
                                      <p:to x="300000" y="300000"/>
                                    </p:animScale>
                                  </p:childTnLst>
                                </p:cTn>
                              </p:par>
                              <p:par>
                                <p:cTn id="687" nodeType="withEffect" fill="hold" presetClass="emph" presetID="6">
                                  <p:stCondLst>
                                    <p:cond delay="1200"/>
                                  </p:stCondLst>
                                  <p:childTnLst>
                                    <p:animScale>
                                      <p:cBhvr>
                                        <p:cTn id="688" dur="500" fill="hold"/>
                                        <p:tgtEl>
                                          <p:spTgt spid="155"/>
                                        </p:tgtEl>
                                      </p:cBhvr>
                                      <p:to x="300000" y="300000"/>
                                    </p:animScale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1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2" nodeType="with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mph" presetID="6">
                                  <p:stCondLst>
                                    <p:cond delay="1500"/>
                                  </p:stCondLst>
                                  <p:childTnLst>
                                    <p:animScale>
                                      <p:cBhvr>
                                        <p:cTn id="696" dur="100" fill="hold"/>
                                        <p:tgtEl>
                                          <p:spTgt spid="158"/>
                                        </p:tgtEl>
                                      </p:cBhvr>
                                      <p:to x="200000" y="200000"/>
                                    </p:animScale>
                                  </p:childTnLst>
                                </p:cTn>
                              </p:par>
                              <p:par>
                                <p:cTn id="697" nodeType="withEffect" fill="hold" presetClass="emph" presetID="6">
                                  <p:stCondLst>
                                    <p:cond delay="1500"/>
                                  </p:stCondLst>
                                  <p:childTnLst>
                                    <p:animScale>
                                      <p:cBhvr>
                                        <p:cTn id="698" dur="2000" fill="hold"/>
                                        <p:tgtEl>
                                          <p:spTgt spid="158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fill="hold">
                            <p:stCondLst>
                              <p:cond delay="4500"/>
                            </p:stCondLst>
                            <p:childTnLst>
                              <p:par>
                                <p:cTn id="70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4.81481E-006 L 1 -4.81481E-006 E">
                                      <p:cBhvr>
                                        <p:cTn id="701" dur="1000" fill="hold"/>
                                        <p:tgtEl>
                                          <p:spTgt spid="1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0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03" dur="1000" fill="hold"/>
                                        <p:tgtEl>
                                          <p:spTgt spid="15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5500"/>
                            </p:stCondLst>
                            <p:childTnLst>
                              <p:par>
                                <p:cTn id="70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06" dur="2000" fill="hold"/>
                                        <p:tgtEl>
                                          <p:spTgt spid="15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7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9" dur="2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0" nodeType="withEffect" fill="hold" presetClass="exit" presetID="10">
                                  <p:stCondLst>
                                    <p:cond delay="1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11" dur="3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11" descr="백이미지2"/>
          <p:cNvPicPr/>
          <p:nvPr/>
        </p:nvPicPr>
        <p:blipFill>
          <a:blip r:embed="rId1"/>
          <a:srcRect l="27717" t="18770" r="50008" b="15463"/>
          <a:stretch/>
        </p:blipFill>
        <p:spPr>
          <a:xfrm>
            <a:off x="0" y="836640"/>
            <a:ext cx="9144000" cy="54007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8" descr="오렌지2"/>
          <p:cNvPicPr/>
          <p:nvPr/>
        </p:nvPicPr>
        <p:blipFill>
          <a:blip r:embed="rId2"/>
          <a:srcRect l="0" t="21806" r="35004" b="20971"/>
          <a:stretch/>
        </p:blipFill>
        <p:spPr>
          <a:xfrm>
            <a:off x="0" y="1495440"/>
            <a:ext cx="5943600" cy="392436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1" descr="오렌지"/>
          <p:cNvPicPr/>
          <p:nvPr/>
        </p:nvPicPr>
        <p:blipFill>
          <a:blip r:embed="rId3"/>
          <a:srcRect l="62504" t="21391" r="0" b="21113"/>
          <a:stretch/>
        </p:blipFill>
        <p:spPr>
          <a:xfrm>
            <a:off x="5715000" y="1467000"/>
            <a:ext cx="3429000" cy="394308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7" descr="칸"/>
          <p:cNvPicPr/>
          <p:nvPr/>
        </p:nvPicPr>
        <p:blipFill>
          <a:blip r:embed="rId4"/>
          <a:srcRect l="0" t="47686" r="0" b="49405"/>
          <a:stretch/>
        </p:blipFill>
        <p:spPr>
          <a:xfrm>
            <a:off x="-4960800" y="6114960"/>
            <a:ext cx="18749880" cy="40968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8" descr="칸"/>
          <p:cNvPicPr/>
          <p:nvPr/>
        </p:nvPicPr>
        <p:blipFill>
          <a:blip r:embed="rId5"/>
          <a:srcRect l="0" t="47686" r="0" b="49405"/>
          <a:stretch/>
        </p:blipFill>
        <p:spPr>
          <a:xfrm>
            <a:off x="-4097160" y="5013360"/>
            <a:ext cx="21630960" cy="47304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28" descr="오렌지3"/>
          <p:cNvPicPr/>
          <p:nvPr/>
        </p:nvPicPr>
        <p:blipFill>
          <a:blip r:embed="rId6"/>
          <a:srcRect l="9047" t="11160" r="9047" b="17454"/>
          <a:stretch/>
        </p:blipFill>
        <p:spPr>
          <a:xfrm>
            <a:off x="0" y="695160"/>
            <a:ext cx="7597800" cy="496584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9" descr="칸"/>
          <p:cNvPicPr/>
          <p:nvPr/>
        </p:nvPicPr>
        <p:blipFill>
          <a:blip r:embed="rId7"/>
          <a:srcRect l="0" t="47686" r="-236" b="48736"/>
          <a:stretch/>
        </p:blipFill>
        <p:spPr>
          <a:xfrm>
            <a:off x="-4645080" y="476280"/>
            <a:ext cx="24410880" cy="50328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31" descr="흔1"/>
          <p:cNvPicPr/>
          <p:nvPr/>
        </p:nvPicPr>
        <p:blipFill>
          <a:blip r:embed="rId8"/>
          <a:stretch/>
        </p:blipFill>
        <p:spPr>
          <a:xfrm>
            <a:off x="-82692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34" descr="흔3"/>
          <p:cNvPicPr/>
          <p:nvPr/>
        </p:nvPicPr>
        <p:blipFill>
          <a:blip r:embed="rId9"/>
          <a:stretch/>
        </p:blipFill>
        <p:spPr>
          <a:xfrm>
            <a:off x="-81432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38" descr="흔4"/>
          <p:cNvPicPr/>
          <p:nvPr/>
        </p:nvPicPr>
        <p:blipFill>
          <a:blip r:embed="rId10"/>
          <a:stretch/>
        </p:blipFill>
        <p:spPr>
          <a:xfrm>
            <a:off x="-97164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36" descr="흔완"/>
          <p:cNvPicPr/>
          <p:nvPr/>
        </p:nvPicPr>
        <p:blipFill>
          <a:blip r:embed="rId11"/>
          <a:stretch/>
        </p:blipFill>
        <p:spPr>
          <a:xfrm>
            <a:off x="-826920" y="-4428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20" descr="칸"/>
          <p:cNvPicPr/>
          <p:nvPr/>
        </p:nvPicPr>
        <p:blipFill>
          <a:blip r:embed="rId12"/>
          <a:srcRect l="0" t="47686" r="-236" b="48736"/>
          <a:stretch/>
        </p:blipFill>
        <p:spPr>
          <a:xfrm>
            <a:off x="-11126880" y="981000"/>
            <a:ext cx="24411240" cy="50328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21" descr="칸"/>
          <p:cNvPicPr/>
          <p:nvPr/>
        </p:nvPicPr>
        <p:blipFill>
          <a:blip r:embed="rId13"/>
          <a:srcRect l="0" t="47686" r="-236" b="48736"/>
          <a:stretch/>
        </p:blipFill>
        <p:spPr>
          <a:xfrm>
            <a:off x="-6013440" y="836640"/>
            <a:ext cx="24410880" cy="50328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22" descr="칸"/>
          <p:cNvPicPr/>
          <p:nvPr/>
        </p:nvPicPr>
        <p:blipFill>
          <a:blip r:embed="rId14"/>
          <a:srcRect l="0" t="47686" r="-236" b="48736"/>
          <a:stretch/>
        </p:blipFill>
        <p:spPr>
          <a:xfrm>
            <a:off x="-9974160" y="838080"/>
            <a:ext cx="24410880" cy="50328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35" descr="칸막이"/>
          <p:cNvPicPr/>
          <p:nvPr/>
        </p:nvPicPr>
        <p:blipFill>
          <a:blip r:embed="rId15"/>
          <a:srcRect l="0" t="0" r="0" b="77228"/>
          <a:stretch/>
        </p:blipFill>
        <p:spPr>
          <a:xfrm rot="4290000">
            <a:off x="6026040" y="1591920"/>
            <a:ext cx="4686120" cy="26640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35" descr="칸막이"/>
          <p:cNvPicPr/>
          <p:nvPr/>
        </p:nvPicPr>
        <p:blipFill>
          <a:blip r:embed="rId16"/>
          <a:srcRect l="0" t="0" r="0" b="77228"/>
          <a:stretch/>
        </p:blipFill>
        <p:spPr>
          <a:xfrm rot="4197000">
            <a:off x="-1859760" y="2226600"/>
            <a:ext cx="4754520" cy="2663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35" descr="칸막이"/>
          <p:cNvPicPr/>
          <p:nvPr/>
        </p:nvPicPr>
        <p:blipFill>
          <a:blip r:embed="rId17"/>
          <a:srcRect l="0" t="0" r="0" b="77228"/>
          <a:stretch/>
        </p:blipFill>
        <p:spPr>
          <a:xfrm rot="8077800">
            <a:off x="6009840" y="4074840"/>
            <a:ext cx="4686120" cy="2664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35" descr="칸막이"/>
          <p:cNvPicPr/>
          <p:nvPr/>
        </p:nvPicPr>
        <p:blipFill>
          <a:blip r:embed="rId18"/>
          <a:srcRect l="0" t="0" r="0" b="77228"/>
          <a:stretch/>
        </p:blipFill>
        <p:spPr>
          <a:xfrm rot="1870800">
            <a:off x="3794040" y="347760"/>
            <a:ext cx="4902120" cy="266364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35" descr="칸막이"/>
          <p:cNvPicPr/>
          <p:nvPr/>
        </p:nvPicPr>
        <p:blipFill>
          <a:blip r:embed="rId1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35" descr="칸막이"/>
          <p:cNvPicPr/>
          <p:nvPr/>
        </p:nvPicPr>
        <p:blipFill>
          <a:blip r:embed="rId20"/>
          <a:srcRect l="0" t="0" r="0" b="77228"/>
          <a:stretch/>
        </p:blipFill>
        <p:spPr>
          <a:xfrm rot="20183400">
            <a:off x="-1960560" y="-5281200"/>
            <a:ext cx="6500880" cy="626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13" dur="indefinite" restart="never" nodeType="tmRoot">
          <p:childTnLst>
            <p:seq>
              <p:cTn id="714" dur="indefinite" nodeType="mainSeq">
                <p:childTnLst>
                  <p:par>
                    <p:cTn id="715" fill="hold">
                      <p:stCondLst>
                        <p:cond delay="0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3599880">
                                      <p:cBhvr>
                                        <p:cTn id="71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1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700000">
                                      <p:cBhvr>
                                        <p:cTn id="72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2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6600000">
                                      <p:cBhvr>
                                        <p:cTn id="72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23" nodeType="withEffect" fill="hold" presetClass="entr" presetID="18" presetSubtype="1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25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6" nodeType="withEffect" fill="hold" presetClass="entr" presetID="18" presetSubtype="3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2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9" fill="hold">
                            <p:stCondLst>
                              <p:cond delay="600"/>
                            </p:stCondLst>
                            <p:childTnLst>
                              <p:par>
                                <p:cTn id="730" nodeType="after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5400000">
                                      <p:cBhvr>
                                        <p:cTn id="73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32" nodeType="with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5400000">
                                      <p:cBhvr>
                                        <p:cTn id="73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34" nodeType="with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5400000">
                                      <p:cBhvr>
                                        <p:cTn id="73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36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37" dur="3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9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40" dur="3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2" nodeType="with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4200000">
                                      <p:cBhvr>
                                        <p:cTn id="74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44" nodeType="with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4200000">
                                      <p:cBhvr>
                                        <p:cTn id="74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46" nodeType="with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1800000">
                                      <p:cBhvr>
                                        <p:cTn id="74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48" nodeType="withEffect" fill="hold" presetClass="entr" presetID="10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0" dur="2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0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3" dur="2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4" nodeType="withEffect" fill="hold" presetClass="entr" presetID="10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2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7" nodeType="withEffect" fill="hold" presetClass="entr" presetID="10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9" dur="2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0" nodeType="withEffect" fill="hold" presetClass="entr" presetID="10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2" dur="2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3" nodeType="withEffect" fill="hold" presetClass="emph" presetID="6">
                                  <p:stCondLst>
                                    <p:cond delay="1400"/>
                                  </p:stCondLst>
                                  <p:childTnLst>
                                    <p:animScale>
                                      <p:cBhvr>
                                        <p:cTn id="764" dur="200" fill="hold"/>
                                        <p:tgtEl>
                                          <p:spTgt spid="169"/>
                                        </p:tgtEl>
                                      </p:cBhvr>
                                      <p:to x="200000" y="200000"/>
                                    </p:animScale>
                                  </p:childTnLst>
                                </p:cTn>
                              </p:par>
                              <p:par>
                                <p:cTn id="765" nodeType="withEffect" fill="hold" presetClass="emph" presetID="6">
                                  <p:stCondLst>
                                    <p:cond delay="1500"/>
                                  </p:stCondLst>
                                  <p:childTnLst>
                                    <p:animScale>
                                      <p:cBhvr>
                                        <p:cTn id="766" dur="500" fill="hold"/>
                                        <p:tgtEl>
                                          <p:spTgt spid="169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0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9" dur="2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0" nodeType="withEffect" fill="hold" presetClass="path" presetID="0">
                                  <p:stCondLst>
                                    <p:cond delay="1900"/>
                                  </p:stCondLst>
                                  <p:childTnLst>
                                    <p:animMotion origin="layout" path="M 1.94444E-006 -4.44444E-006 C -0.00139 -0.00277 -0.00417 -0.00509 -0.00417 -0.00833 C -0.00417 -0.01875 -0.00122 -0.04907 1.94444E-006 -0.03888 C 0.0026 -0.01782 1.94444E-006 0.00371 1.94444E-006 0.025 L 0.01041 -0.03333 E">
                                      <p:cBhvr>
                                        <p:cTn id="771" dur="200" fill="hold"/>
                                        <p:tgtEl>
                                          <p:spTgt spid="1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72" nodeType="withEffect" fill="hold" presetClass="entr" presetID="10">
                                  <p:stCondLst>
                                    <p:cond delay="210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4" dur="2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5" nodeType="withEffect" fill="hold" presetClass="path" presetID="0">
                                  <p:stCondLst>
                                    <p:cond delay="2100"/>
                                  </p:stCondLst>
                                  <p:childTnLst>
                                    <p:animMotion origin="layout" path="M -5.83333E-006 3.33333E-006 C -5.83333E-006 -0.01297 -5.83333E-006 -0.02593 -5.83333E-006 -0.03889 L 0.00208 0.025 L 0.00833 -0.06667 L 0.01249 -0.00556 E">
                                      <p:cBhvr>
                                        <p:cTn id="776" dur="200" fill="hold"/>
                                        <p:tgtEl>
                                          <p:spTgt spid="1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77" nodeType="withEffect" fill="hold" presetClass="entr" presetID="10">
                                  <p:stCondLst>
                                    <p:cond delay="210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9" dur="2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0" nodeType="withEffect" fill="hold" presetClass="path" presetID="0" repeatCount="3000">
                                  <p:stCondLst>
                                    <p:cond delay="2300"/>
                                  </p:stCondLst>
                                  <p:childTnLst>
                                    <p:animMotion origin="layout" path="M 8.33333E-007 -3.33333E-006 C 0.00729 -0.01944 0.01389 -0.10856 0.00416 -0.06944 C 0.00486 -0.06296 0.00468 -0.05625 0.00625 -0.05 C 0.00746 -0.0449 0.01093 -0.0412 0.0125 -0.03611 C 0.01389 -0.03171 0.01371 -0.02685 0.01458 -0.02222 C 0.0158 -0.01666 0.01875 -0.00555 0.01875 -0.00555 C 0.01805 -0.00185 0.01823 0.00232 0.01666 0.00556 C 0.00677 0.02523 0.01215 -0.00277 0.00625 -0.00277 C 0.00277 -0.00277 0.00764 0.00648 0.00833 0.01111 C 0.01128 -0.00439 0.01319 -3.33333E-006 8.33333E-007 -3.33333E-006 Z">
                                      <p:cBhvr>
                                        <p:cTn id="781" dur="200" fill="hold"/>
                                        <p:tgtEl>
                                          <p:spTgt spid="1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82" nodeType="withEffect" fill="hold" presetClass="entr" presetID="10">
                                  <p:stCondLst>
                                    <p:cond delay="280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4" dur="1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5" nodeType="withEffect" fill="hold" presetClass="emph" presetID="6">
                                  <p:stCondLst>
                                    <p:cond delay="2800"/>
                                  </p:stCondLst>
                                  <p:childTnLst>
                                    <p:animScale>
                                      <p:cBhvr>
                                        <p:cTn id="786" dur="1000" fill="hold"/>
                                        <p:tgtEl>
                                          <p:spTgt spid="17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787" nodeType="withEffect" fill="hold" presetClass="entr" presetID="10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9" dur="2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0" nodeType="withEffect" fill="hold" presetClass="path" presetID="0">
                                  <p:stCondLst>
                                    <p:cond delay="2800"/>
                                  </p:stCondLst>
                                  <p:childTnLst>
                                    <p:animMotion origin="layout" path="M 1.11111E-006 5.55556E-006 L 0.32292 0.80857 E">
                                      <p:cBhvr>
                                        <p:cTn id="791" dur="1500" fill="hold"/>
                                        <p:tgtEl>
                                          <p:spTgt spid="1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Gulim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Gulim"/>
              </a:rPr>
              <a:t>站点介绍</a:t>
            </a:r>
            <a:r>
              <a:rPr b="1" lang="ko-KR" sz="1500" spc="-1" strike="noStrike">
                <a:solidFill>
                  <a:srgbClr val="ededed"/>
                </a:solidFill>
                <a:latin typeface="Gulim"/>
              </a:rPr>
              <a:t>：</a:t>
            </a:r>
            <a:endParaRPr b="0" lang="en-US" sz="15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PPT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Gulim"/>
              </a:rPr>
              <a:t>www.eeppt.com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为您提供免费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ppt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模板下载，有好看的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ppt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模板，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ppt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背景图片，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ppt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素材，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ppt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图表，动态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ppt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模板大全，幻灯片模板，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Powe</a:t>
            </a:r>
            <a:r>
              <a:rPr b="1" lang="ko-KR" sz="1400" spc="-1" strike="noStrike">
                <a:solidFill>
                  <a:srgbClr val="e8eff7"/>
                </a:solidFill>
                <a:latin typeface="Gulim"/>
              </a:rPr>
              <a:t>rPoint</a:t>
            </a:r>
            <a:r>
              <a:rPr b="1" lang="ko-KR" sz="1400" spc="-1" strike="noStrike">
                <a:solidFill>
                  <a:srgbClr val="e8eff7"/>
                </a:solidFill>
                <a:latin typeface="Gulim"/>
              </a:rPr>
              <a:t>模板等各类</a:t>
            </a:r>
            <a:r>
              <a:rPr b="1" lang="ko-KR" sz="1400" spc="-1" strike="noStrike">
                <a:solidFill>
                  <a:srgbClr val="e8eff7"/>
                </a:solidFill>
                <a:latin typeface="Gulim"/>
              </a:rPr>
              <a:t>ppt</a:t>
            </a:r>
            <a:r>
              <a:rPr b="1" lang="ko-KR" sz="1400" spc="-1" strike="noStrike">
                <a:solidFill>
                  <a:srgbClr val="e8eff7"/>
                </a:solidFill>
                <a:latin typeface="Gulim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Gulim"/>
              </a:rPr>
              <a:t>助</a:t>
            </a:r>
            <a:r>
              <a:rPr b="1" lang="ko-KR" sz="1400" spc="-1" strike="noStrike">
                <a:solidFill>
                  <a:srgbClr val="e8eff7"/>
                </a:solidFill>
                <a:latin typeface="Gulim"/>
              </a:rPr>
              <a:t>您轻松制作出精美</a:t>
            </a:r>
            <a:r>
              <a:rPr b="1" lang="ko-KR" sz="1400" spc="-1" strike="noStrike">
                <a:solidFill>
                  <a:srgbClr val="e8eff7"/>
                </a:solidFill>
                <a:latin typeface="Gulim"/>
              </a:rPr>
              <a:t>PPT</a:t>
            </a:r>
            <a:r>
              <a:rPr b="1" lang="ko-KR" sz="1400" spc="-1" strike="noStrike">
                <a:solidFill>
                  <a:srgbClr val="e8eff7"/>
                </a:solidFill>
                <a:latin typeface="Gulim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" spc="-1" strike="noStrike">
                <a:solidFill>
                  <a:srgbClr val="ededed"/>
                </a:solidFill>
                <a:latin typeface="Gulim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Gulim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Gulim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Gulim"/>
              </a:rPr>
              <a:t>模板收集于网络，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Gulim"/>
              </a:rPr>
              <a:t>栏目推荐</a:t>
            </a:r>
            <a:r>
              <a:rPr b="1" lang="ko-KR" sz="1500" spc="-1" strike="noStrike">
                <a:solidFill>
                  <a:srgbClr val="ededed"/>
                </a:solidFill>
                <a:latin typeface="Gulim"/>
              </a:rPr>
              <a:t>：</a:t>
            </a:r>
            <a:endParaRPr b="0" lang="en-US" sz="15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8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Gulim"/>
              </a:rPr>
              <a:t>www.eeppt.com</a:t>
            </a:r>
            <a:endParaRPr b="1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A8F8F-1835-4AAA-9FDA-4DC7F745E2EF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5" descr="엔딩2"/>
          <p:cNvPicPr/>
          <p:nvPr/>
        </p:nvPicPr>
        <p:blipFill>
          <a:blip r:embed="rId1"/>
          <a:stretch/>
        </p:blipFill>
        <p:spPr>
          <a:xfrm rot="21400800">
            <a:off x="-2782800" y="-2417400"/>
            <a:ext cx="15120720" cy="1133964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4" descr="엔딩"/>
          <p:cNvPicPr/>
          <p:nvPr/>
        </p:nvPicPr>
        <p:blipFill>
          <a:blip r:embed="rId2"/>
          <a:srcRect l="20869" t="30039" r="23228" b="25875"/>
          <a:stretch/>
        </p:blipFill>
        <p:spPr>
          <a:xfrm>
            <a:off x="1908000" y="2060640"/>
            <a:ext cx="5112000" cy="302400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6" descr="로고2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7" descr="로고"/>
          <p:cNvPicPr/>
          <p:nvPr/>
        </p:nvPicPr>
        <p:blipFill>
          <a:blip r:embed="rId4"/>
          <a:srcRect l="27953" t="22709" r="24012" b="22709"/>
          <a:stretch/>
        </p:blipFill>
        <p:spPr>
          <a:xfrm>
            <a:off x="2411280" y="1557360"/>
            <a:ext cx="4392720" cy="374328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35" descr="칸막이"/>
          <p:cNvPicPr/>
          <p:nvPr/>
        </p:nvPicPr>
        <p:blipFill>
          <a:blip r:embed="rId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92" dur="indefinite" restart="never" nodeType="tmRoot">
          <p:childTnLst>
            <p:seq>
              <p:cTn id="793" dur="indefinite" nodeType="mainSeq">
                <p:childTnLst>
                  <p:par>
                    <p:cTn id="794" fill="hold">
                      <p:stCondLst>
                        <p:cond delay="0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8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9" nodeType="withEffect" fill="hold" presetClass="emph" presetID="8">
                                  <p:stCondLst>
                                    <p:cond delay="200"/>
                                  </p:stCondLst>
                                  <p:childTnLst>
                                    <p:animRot by="-43199879">
                                      <p:cBhvr>
                                        <p:cTn id="80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01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802" dur="500" fill="hold"/>
                                        <p:tgtEl>
                                          <p:spTgt spid="187"/>
                                        </p:tgtEl>
                                      </p:cBhvr>
                                      <p:to x="70000" y="70000"/>
                                    </p:animScale>
                                  </p:childTnLst>
                                </p:cTn>
                              </p:par>
                              <p:par>
                                <p:cTn id="803" nodeType="withEffect" fill="hold" presetClass="exit" presetID="10">
                                  <p:stCondLst>
                                    <p:cond delay="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0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6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8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9" nodeType="withEffect" fill="hold" presetClass="path" presetID="0">
                                  <p:stCondLst>
                                    <p:cond delay="800"/>
                                  </p:stCondLst>
                                  <p:childTnLst>
                                    <p:animMotion origin="layout" path="M 9.44444E-006 -1.11111E-006 C -0.00225 0.00903 -0.0085 0.01575 -0.01249 0.02362 C -0.0151 0.01667 -0.01458 0.01598 -0.01145 0.00973 C -0.01111 0.00787 -0.0118 0.00417 -0.01041 0.00417 C -0.00885 0.00417 -0.00902 0.00787 -0.00833 0.00973 C -0.00572 0.01598 -0.00277 0.0213 0.00105 0.02639 C 0.00417 0.01366 0.00122 0.01667 -0.00729 0.01806 C -0.00347 0.01644 0.00417 0.01389 0.00417 0.01389 C 0.00157 0.02778 0.00487 0.01366 0.00209 0.0125 C 0.0007 0.01181 0.00105 0.01667 9.44444E-006 0.01806 C -0.00069 0.01899 -0.00208 0.01899 -0.00312 0.01945 C -0.00659 0.01482 -0.01249 0.00417 -0.01249 0.00417 C -0.01215 0.00556 -0.01163 0.00695 -0.01145 0.00834 C -0.00972 0.03102 -0.01111 0.04792 -0.00937 0.00417 C -0.00486 0.00463 -0.00034 0.00556 0.00417 0.00556 C 0.00556 0.00556 0.00139 0.00348 9.44444E-006 0.00417 C -0.0019 0.0051 -0.00295 0.00764 -0.00416 0.00973 C -0.00677 0.01389 -0.00815 0.01922 -0.01041 0.02362 C -0.01145 0.00834 -0.00885 0.00672 -0.0177 0.00278 C -0.01944 0.00325 -0.02204 0.00209 -0.02291 0.00417 C -0.02395 0.00625 -0.0184 0.0132 -0.0177 0.01389 C -0.01197 0.01968 -0.00486 0.0213 0.00105 0.02639 C 0.00139 0.02315 0.00122 0.01968 0.00209 0.01667 C 0.00296 0.01366 0.00626 0.00834 0.00626 0.00834 C -0.00104 0.00602 -0.00833 0.00463 -0.01562 0.00278 C -0.01458 0.00232 -0.01354 0.00209 -0.01249 0.00139 C -0.01145 0.0007 -0.01059 -0.00185 -0.00937 -0.00138 C -0.00833 -0.00092 -0.00885 0.00139 -0.00833 0.00278 C -0.00781 0.00417 -0.00677 0.00556 -0.00624 0.00695 C -0.00538 0.00926 -0.00486 0.01158 -0.00416 0.01389 C -0.00642 0.01991 -0.00833 0.02269 -0.01249 0.02639 C -0.01458 0.02593 -0.01718 0.02709 -0.01874 0.025 C -0.01961 0.02385 -0.01666 0.02315 -0.01562 0.02223 C -0.00885 0.01528 -0.00607 0.01366 9.44444E-006 0.00834 C 0.00209 0.01922 0.00382 0.01343 0.00626 0.00695 C 0.00591 0.00973 0.00382 0.01991 0.00209 0.02223 C 0.00174 0.02269 0.00139 0.0213 0.00105 0.02084 E">
                                      <p:cBhvr>
                                        <p:cTn id="810" dur="1500" fill="hold"/>
                                        <p:tgtEl>
                                          <p:spTgt spid="1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11" nodeType="withEffect" fill="hold" presetClass="exit" presetID="53">
                                  <p:stCondLst>
                                    <p:cond delay="2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12" dur="5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5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1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6" nodeType="withEffect" fill="hold" presetClass="emph" presetID="8">
                                  <p:stCondLst>
                                    <p:cond delay="2300"/>
                                  </p:stCondLst>
                                  <p:childTnLst>
                                    <p:animRot by="-21599879">
                                      <p:cBhvr>
                                        <p:cTn id="81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18" nodeType="withEffect" fill="hold" presetClass="entr" presetID="10">
                                  <p:stCondLst>
                                    <p:cond delay="270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0" dur="3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1" nodeType="withEffect" fill="hold" presetClass="emph" presetID="8">
                                  <p:stCondLst>
                                    <p:cond delay="2900"/>
                                  </p:stCondLst>
                                  <p:childTnLst>
                                    <p:animRot by="21600000">
                                      <p:cBhvr>
                                        <p:cTn id="822" dur="3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23" nodeType="withEffect" fill="hold" presetClass="exit" presetID="53">
                                  <p:stCondLst>
                                    <p:cond delay="29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24" dur="30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30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26" dur="3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8" nodeType="with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0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4T09:24:12Z</dcterms:created>
  <dc:creator/>
  <dc:description/>
  <dc:language>en-US</dc:language>
  <cp:lastModifiedBy/>
  <dcterms:modified xsi:type="dcterms:W3CDTF">2015-08-03T12:35:35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