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989-4BCD-48CE-AF69-5EF51174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9B8-BD5E-4532-B3B4-AA652ED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9FE-7FF9-44FB-926C-11D56565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4FD-A582-4795-9BCA-5907CC9B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633-F0FF-4AF1-8EAE-1802889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D40-4B01-463F-8F50-51445949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1F3-06D7-481A-A59C-63DECBD7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32F-B84F-4509-A3CB-58B6ED3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C00-CE30-4D51-A5C3-6D7376CC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ECB-EAFA-4BA2-B075-086E178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19E-0BDD-49B5-9291-0722477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634-A328-49E9-BAB1-1063AC0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10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113f71"/>
              </a:gs>
              <a:gs pos="100000">
                <a:srgbClr val="a4b6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" name="Freeform 609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e7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2" name="Freeform 608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6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95280" y="6585120"/>
            <a:ext cx="28288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1164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344400" y="6551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691D-0235-4B9C-8D9E-6195641E53FE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604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48b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aab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28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a4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6" name="Text Box 29"/>
          <p:cNvSpPr/>
          <p:nvPr/>
        </p:nvSpPr>
        <p:spPr>
          <a:xfrm>
            <a:off x="406728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7" name="Freeform 729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2a4f5e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48b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aab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34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韩国水墨笔触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打包下载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381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893960" y="198900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abcc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roduction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908000" y="273672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2. Strategy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893960" y="351648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966b3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3. Challenges Forward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893960" y="424980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d1d3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4. Conclusion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500720" y="223200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500720" y="295272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80000" y="3745080"/>
            <a:ext cx="180036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452840" y="4489560"/>
            <a:ext cx="288000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2987640" y="1204920"/>
            <a:ext cx="3960720" cy="94140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8fb5da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5722920" y="234792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971640" y="227484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2 Part Concep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419640" y="2490840"/>
            <a:ext cx="927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4" name="Freeform 8"/>
          <p:cNvSpPr/>
          <p:nvPr/>
        </p:nvSpPr>
        <p:spPr>
          <a:xfrm>
            <a:off x="3419640" y="249408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6cee7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5" name="AutoShape 10"/>
          <p:cNvSpPr/>
          <p:nvPr/>
        </p:nvSpPr>
        <p:spPr>
          <a:xfrm flipH="1">
            <a:off x="4941720" y="2490840"/>
            <a:ext cx="9273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6" name="Freeform 11"/>
          <p:cNvSpPr/>
          <p:nvPr/>
        </p:nvSpPr>
        <p:spPr>
          <a:xfrm flipH="1">
            <a:off x="4948200" y="249408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4ef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3635280" y="1197000"/>
            <a:ext cx="2257560" cy="1012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Part Concept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9" name="Freeform 75"/>
          <p:cNvSpPr/>
          <p:nvPr/>
        </p:nvSpPr>
        <p:spPr>
          <a:xfrm>
            <a:off x="6227640" y="1917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7c7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0" name="Freeform 74"/>
          <p:cNvSpPr/>
          <p:nvPr/>
        </p:nvSpPr>
        <p:spPr>
          <a:xfrm>
            <a:off x="349236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93aeaf"/>
              </a:gs>
              <a:gs pos="100000">
                <a:srgbClr val="648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1" name="Freeform 73"/>
          <p:cNvSpPr/>
          <p:nvPr/>
        </p:nvSpPr>
        <p:spPr>
          <a:xfrm>
            <a:off x="75564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a4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2" name="AutoShape 67"/>
          <p:cNvSpPr/>
          <p:nvPr/>
        </p:nvSpPr>
        <p:spPr>
          <a:xfrm>
            <a:off x="291636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665880" y="27082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5" name="Text Box 59"/>
          <p:cNvSpPr/>
          <p:nvPr/>
        </p:nvSpPr>
        <p:spPr>
          <a:xfrm>
            <a:off x="1000440" y="2709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6" name="Text Box 66"/>
          <p:cNvSpPr/>
          <p:nvPr/>
        </p:nvSpPr>
        <p:spPr>
          <a:xfrm>
            <a:off x="6401160" y="2774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7" name="AutoShape 69"/>
          <p:cNvSpPr/>
          <p:nvPr/>
        </p:nvSpPr>
        <p:spPr>
          <a:xfrm>
            <a:off x="565164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8" name="AutoShape 70"/>
          <p:cNvSpPr/>
          <p:nvPr/>
        </p:nvSpPr>
        <p:spPr>
          <a:xfrm>
            <a:off x="8269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9" name="AutoShape 71"/>
          <p:cNvSpPr/>
          <p:nvPr/>
        </p:nvSpPr>
        <p:spPr>
          <a:xfrm>
            <a:off x="3564000" y="4508640"/>
            <a:ext cx="201600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20" name="AutoShape 72"/>
          <p:cNvSpPr/>
          <p:nvPr/>
        </p:nvSpPr>
        <p:spPr>
          <a:xfrm>
            <a:off x="63007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aabcc"/>
                </a:solidFill>
                <a:uFillTx/>
                <a:latin typeface="Times New Roman"/>
                <a:hlinkClick r:id="rId1"/>
              </a:rPr>
              <a:t>ppt模板网站</a:t>
            </a:r>
            <a:r>
              <a:rPr b="1" lang="en-US" sz="1600" spc="-1" strike="noStrike">
                <a:solidFill>
                  <a:srgbClr val="113f71"/>
                </a:solidFill>
                <a:latin typeface="Times New Roman"/>
              </a:rPr>
              <a:t>http://www.eeppt.com/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773360"/>
          <a:ext cx="7853400" cy="3417840"/>
        </p:xfrm>
        <a:graphic>
          <a:graphicData uri="http://schemas.openxmlformats.org/drawingml/2006/table">
            <a:tbl>
              <a:tblPr/>
              <a:tblGrid>
                <a:gridCol w="1774800"/>
                <a:gridCol w="1230480"/>
                <a:gridCol w="1195200"/>
                <a:gridCol w="1219320"/>
                <a:gridCol w="1220760"/>
                <a:gridCol w="121284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6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6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3f71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2DC-71A2-450D-A040-7553AEBA44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1476360" y="270828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66b3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66b3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6:54:14Z</dcterms:created>
  <dc:creator>keke</dc:creator>
  <dc:description/>
  <dc:language>en-US</dc:language>
  <cp:lastModifiedBy>jccook</cp:lastModifiedBy>
  <dcterms:modified xsi:type="dcterms:W3CDTF">2015-08-03T12:35:46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