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539-E372-432A-BF52-70DC7BD1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7D5-1CCB-4065-A455-9C1382B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3AB-CE01-44BE-9BF6-4CB39362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79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79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BF7-5F7E-4A6C-B65C-DF0ECE4E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7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7520" y="-360"/>
            <a:ext cx="822960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7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EC7-3BCD-4F5A-9B61-591B65FB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79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79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C41-41A4-462D-9DE0-DCB4CAC3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7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B0EF-73B0-47CD-B8B6-81BBC2B2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8703-73EC-4F85-953F-BE1A5AB2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133C-2186-46E7-B551-1CCFBCC9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C034-6719-493B-83B8-9BE042C7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70C-B346-4ADE-A710-E3F63EC9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520" y="-360"/>
            <a:ext cx="822960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1F3D-42ED-4520-8AD4-03DDFD01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BDFD-6FFD-440B-84F2-1424118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8573-3B6B-48B3-8526-11363B9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6E00-DF74-4484-91FD-1474217D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6DFA-F310-449C-9305-54331E03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777A-5B4E-41D2-9386-2D828217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79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79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0A93-EB9F-4E84-AB86-94C6791C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5B4-5ACA-460F-A1EB-925E6EC4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D3F-F7A7-4D87-A6A4-BDF7E722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520" y="-360"/>
            <a:ext cx="822960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610-EE2B-4E6A-833E-340EB597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0DF-B861-4B86-B70D-C1116EC2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5B0-FE26-4F91-999F-7B3350C0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79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DD3-25C9-4FE4-B7B3-1BA6A578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57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456840" y="6453000"/>
            <a:ext cx="213372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Malgun Gothic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46B-5086-48C6-A178-F2191BDB963A}" type="datetime">
              <a:rPr b="1" lang="zh-CN" sz="1000" spc="-1" strike="noStrike">
                <a:solidFill>
                  <a:srgbClr val="000000"/>
                </a:solidFill>
                <a:latin typeface="Malgun Gothic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30640" y="6453000"/>
            <a:ext cx="213372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algun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457200" y="157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4"/>
          </p:nvPr>
        </p:nvSpPr>
        <p:spPr>
          <a:xfrm>
            <a:off x="3124080" y="6453000"/>
            <a:ext cx="28958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453000"/>
            <a:ext cx="213372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Malgun Gothic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DED7-916D-4FCD-9CF5-42D0B984B898}" type="datetime">
              <a:rPr b="1" lang="zh-CN" sz="1000" spc="-1" strike="noStrike">
                <a:solidFill>
                  <a:srgbClr val="000000"/>
                </a:solidFill>
                <a:latin typeface="Malgun Gothic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830640" y="6453000"/>
            <a:ext cx="213372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Malgun Gothi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8C46-12AE-46D3-9EDC-5E8F10015D03}" type="slidenum">
              <a:rPr b="1" lang="zh-CN" sz="1000" spc="-1" strike="noStrike">
                <a:solidFill>
                  <a:srgbClr val="000000"/>
                </a:solidFill>
                <a:latin typeface="Malgun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title"/>
          </p:nvPr>
        </p:nvSpPr>
        <p:spPr>
          <a:xfrm>
            <a:off x="47520" y="-36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algun Gothic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2090160" y="22384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韩国商务</a:t>
            </a: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zh-CN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algun Gothic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Malgun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BBA8-9176-453C-B09C-30C5106A58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85880" y="2808000"/>
            <a:ext cx="7429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Malgun Gothic"/>
              </a:rPr>
              <a:t>감사합니다</a:t>
            </a:r>
            <a:r>
              <a:rPr b="1" lang="en-US" sz="6000" spc="-1" strike="noStrike">
                <a:solidFill>
                  <a:srgbClr val="ffffff"/>
                </a:solidFill>
                <a:latin typeface="Malgun Goth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7:34:00Z</dcterms:created>
  <dc:creator/>
  <dc:description/>
  <dc:language>en-US</dc:language>
  <cp:lastModifiedBy/>
  <dcterms:modified xsi:type="dcterms:W3CDTF">2015-08-03T12:35:3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