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9BA-5DA0-4913-A6E1-3163D63A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372-1D35-4554-9F01-87168459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4AD-B1E7-4D94-A310-452F40D2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6C7-180E-4B2B-9D19-8E35A211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A70-D3B5-4505-BB4E-B02DB51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7690-A046-48E7-9909-3EF21A6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5F1-E9EF-4640-877C-E3EB2D82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B27E-AC9A-400E-AAB8-D63E734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61F-2EEA-435D-9DCE-28FE825F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928-1741-4089-BFD9-06999A2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E093-BACF-4D38-8311-96668EB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C75-F8F8-4B3A-AEF3-21521CC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CC1-03FD-48D0-B1AE-5F665FE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9BED-908E-4EE5-8936-F6CFC3BB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76F-0BDF-4C36-ACE4-E3B0F1D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A28-4181-412F-8926-B3D5C6DA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90FE-152F-4FC0-853D-98DEC04B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9C1-DD79-4E7A-8363-5DCCAB1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B5C-834A-492F-B217-0C9C76A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829-50AA-4F5E-9422-282C0BF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DE6-C22E-46FB-8DF0-5DE8CDB8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80F-37EE-4D2D-B2DF-2BFD4CC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6A2-9D2B-4838-B971-BE83072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07-BFE6-4C37-A77B-60EC8E30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E4FC-E9E3-492F-A4E8-A0ADEB8AEE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F8D-A5FD-4A37-BECC-BB750EA175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11280" y="3213000"/>
            <a:ext cx="8748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一般会议礼仪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展览会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、 新闻发布会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、舞会、音乐会、沙龙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60" y="6453360"/>
            <a:ext cx="5078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63040" y="1989000"/>
            <a:ext cx="4763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礼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四、舞会、音乐会、沙龙礼仪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一）舞会礼仪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织舞会礼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参加舞会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二）音乐会礼仪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服装礼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音乐会进场礼仪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音乐会鼓掌与倾听礼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音乐会约束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13431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三）沙龙礼仪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沙龙：法语中“</a:t>
            </a:r>
            <a:r>
              <a:rPr b="0" lang="zh-CN" sz="3000" spc="-1" strike="noStrike">
                <a:solidFill>
                  <a:srgbClr val="ff99ff"/>
                </a:solidFill>
                <a:latin typeface="Arial"/>
                <a:ea typeface="华文行楷"/>
              </a:rPr>
              <a:t>会客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的音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沙龙的分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交际型沙龙礼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休闲型沙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E07-F57F-4332-BB13-EC137D411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330066"/>
                </a:solidFill>
                <a:latin typeface="Arial"/>
              </a:rPr>
              <a:t>思考与练习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议通知包括哪些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席台的座位安排应遵循哪些礼仪规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览会按不同的标准划分为哪些类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展商参加展览会应遵循哪些礼仪规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沙龙分为哪些类型？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会议、展览会、新闻发布会及沙龙的不同类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熟悉会议、展览会、新闻发布会以及舞会的举办程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参加会议、展览会、新闻发布会、舞会、音乐会的礼仪规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教学重点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楷体"/>
              </a:rPr>
              <a:t>会议、展览会、新闻发布会及沙龙的类型、程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教学难点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参加会议、展览会、新闻发布会、舞会、音乐会的礼仪规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教学方法</a:t>
            </a:r>
            <a:r>
              <a:rPr b="1" lang="zh-CN" sz="2600" spc="-1" strike="noStrike">
                <a:solidFill>
                  <a:srgbClr val="cccc00"/>
                </a:solidFill>
                <a:latin typeface="Arial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彩云"/>
              </a:rPr>
              <a:t>讲授法、提问法、图片展示、案例分析、情景模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教学学时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学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一、一般会议礼仪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734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会前准备礼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定会议主题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拟发会议通知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场的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会场座位格局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与会者座位排列的礼仪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主席台的座位安排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会议服务礼仪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前服务礼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间服务礼仪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2031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与会者礼仪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身份 举止得体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严守时间 遵守秩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集中精力 凝神聆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会议结束礼仪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会议决议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处理会议文件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做好送站工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二、展览会礼仪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）举办展览会的目的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拓新市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显示自身实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征询意见不断完善自我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（二）展览会的分类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展览会的目的划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展览品的种类划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展览会的规模划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餐展者的区域划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展览会的场地划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展览会的时间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三）展览会的组织与实施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展览会的主题目的与类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参展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览内容的宣传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位的分配与展台的布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全保卫事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的服务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四）展览会的参加礼仪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努力维护企业整体形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时时注意礼貌待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善于运用解说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三、 新闻发布会礼仪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会议筹备礼仪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新闻发布会的主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定新闻发布会举行的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新闻发布会的举行地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邀请对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新闻发布会的主持人和发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备会议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3431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二） 新闻发布会的程序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三） 发布会的善后工作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了解新闻界的反应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整理保存会议资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及时采取补救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793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（四） 举办新闻发布会的注意事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持人应充分发挥其主持者和组织者的作用，言谈庄重而幽默，能把握会议议题，掌握会议时间，活跃会议气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言人讲话应简明扼要，重点突出，清晰流畅，对记者提问要回答诚恳而巧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布的消息必须准确无误，发现错误应立即更正。对于不便发表和透露的内容，应委婉地作出解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位发言人在重大问题上要统一口径，切勿说法不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要随意打断记者的发言和提问，对各方记者要一视同仁，尊重他们的劳动，以礼相待，不能厚此薄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注意仪表修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4:33:18Z</dcterms:created>
  <dc:creator>Administrator</dc:creator>
  <dc:description/>
  <dc:language>en-US</dc:language>
  <cp:lastModifiedBy>微软用户</cp:lastModifiedBy>
  <dcterms:modified xsi:type="dcterms:W3CDTF">2015-08-03T12:30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