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B17-C065-4C9D-BD7F-5AB99BC6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560-2E82-4AE0-91EC-6B874280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9D1-539B-4F40-8ADF-5E05F639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321-C19D-437E-A48F-5BB0C58D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70B-D90A-456E-81D7-AE36D739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398-32F8-4FDF-A52B-CEEC0ECE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09E-ED99-44CD-9912-AE7225B3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ED1-FDC3-490F-90B0-69950D17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1DA-5C0D-423D-877A-34A41224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311-C713-48A9-9035-9EBC214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290-585B-4493-80A2-E537EF45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E72-2DD7-4468-9023-1D823F8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E9DE-129E-4C33-BC64-AE5257A34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941720"/>
            <a:ext cx="52545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ffffff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445000"/>
            <a:ext cx="52545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</a:rPr>
              <a:t>Your 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165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8520" y="620640"/>
            <a:ext cx="636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会议室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31C-9475-4E1E-B830-6D672D1F34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3431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5-08-03T12:30:51Z</dcterms:modified>
  <cp:revision>73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