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35CBF-0FC7-460D-9423-25734B67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ECD9C-4FAD-4962-80B5-DBC50EA5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517FD-8D37-4F4C-B0A9-B1813BF0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84B66-8C50-4279-9C43-7030CFC2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C1C08-4A91-4BC8-BA6D-6A880936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B3434-A0C3-4080-87B1-2E9E031F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F21B1-F004-4D93-AF73-8FC56FD2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7B7C0-394F-47D5-B811-FDA925E43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2EC87-F558-44B7-871D-12BFB7A7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A63B6-8D70-442E-B218-52DDFB8F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38F4C-719A-45B6-AE1D-D23B5E8B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0183B-4EF7-46D2-B321-89C25FDD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3EDA8-B50C-407F-86D4-5D3B0D69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5138A-BD11-43ED-AD0B-9D46F4B9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58F02-6E8B-4BC0-BC59-7F77C94A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7DEF3-39FF-4B79-82A9-A7472471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1AA09-5536-488F-B50E-38C69443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308AB-9282-42A9-88E5-46CC8576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98594-2F66-498D-BAB1-A38F9756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6442A-29D1-449D-91CD-E823C1C2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9DF0E-ACFB-496F-893F-801E2F04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8B79B-2667-4901-A951-88F27D24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379ED-AEBF-44D9-A3B6-299532F0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B6BA5-26FF-415F-BD6A-16F713A8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1123A-2468-4EFB-A214-6E94AFD8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8B0F6-69F3-40D1-ACA9-C50DA138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AD5D1-D9DE-4D2F-AB5C-DFE03D87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F60E4-4BB5-4B50-B421-C0748003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56E97-2028-42F5-8CE0-C4CAED5F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80BED-386C-4874-8256-15CDD3ED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E9B1-94FA-4505-BE4C-4BDECDDB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85B26-E0E3-4986-8346-81B5C612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CF90B-FF29-4B19-BD8F-9C8F1DDF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E7C68-E1AA-4F54-B0BE-BE6692F0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9E370-551A-4331-B3A2-55247408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38855-5CC3-430F-B2C0-5C83CD16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139AB-7A66-4154-9DEB-BA05E748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F2C7C-BCE4-41BA-A991-F2C20937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9C7B4-1E18-49C7-B6C2-1121862D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F6E66-8B92-446D-A809-E02D5B97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0D4CF-457E-4870-BADB-0B5294C9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67B-CD24-42F3-86C0-7BE279AB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D25A6-E3B7-464D-B2F9-131D0A52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5BAD2-A2B6-4DC6-9B2A-6A8CCB53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29BC4-665E-402B-BA7D-3EBF10BB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04392-773F-4685-BBF3-57F2DEFE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24415-4DCE-4206-9DA9-902CB27E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135F-9F19-45B5-8EA4-8E076BE9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B0BB-EDBF-4122-A666-A702DBAD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4793-101B-42E1-8820-9A227534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0932-D3A0-41C4-BD21-6C7DADF1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DB4E-1D5F-4C8B-B58C-88CA8014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77BE-914D-47DC-85F6-79A794B9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62D1-C7F4-4393-8FCE-EEEF7649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38A7-C912-4A94-9649-39D3F946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3436-F795-465D-B598-A02DB342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EB9-7668-4F7A-A114-25803596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FAD1-BB17-4382-B263-E6886660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7763-8DB3-4FB6-9D7E-9EDD5D25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0863-508E-471F-9720-BEA09684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AD85-6E38-4114-9713-EF0D66B0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24A4-1848-4861-B33B-E762C6EB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6748-0A0E-46DC-B720-E18B4C30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6F82-81B5-4CEA-AAFF-C7459053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5BA7-B854-49E2-8738-0FB19CED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23DB-F52E-4445-9AB5-1322D3DA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4031-3DC9-4C05-A076-496CFBCE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C40B-B24D-4A7C-AE76-CFB4C911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C8AB-7A53-4A71-8A30-544CE29C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146B3-AF7D-4867-AA48-2A72ECFF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BDEFF-CDB0-4F05-A2D0-8DF01D27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68124-AAC0-4168-A62B-CC53C7A9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95D8E-2FED-4C06-966B-0C852715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2BBDA-31A5-4F8C-BBA7-5E53C881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774BA-6E95-4391-9405-D7D3404A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76D9E-D05F-4DC2-8323-53DFE795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ED7B8-7186-4954-B9BD-80242345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F52EC-635D-4E44-83AF-3A71109D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79EC2-3B43-464C-B63E-A5518B8B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0E5BA-7B29-4B5F-AD96-6D5B240C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57CA1-69FF-44AC-9FB9-C87F92E6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BA091-39FC-437F-AE1F-55BFC121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658A3-E550-425C-BA2E-CE47391B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4ACF8-8C6D-4731-B020-FB86FE50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48A69-4448-45DA-98F1-4247C8DF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CEEA0-47BF-4492-9338-DE3946ED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AF4D1-949A-4370-8D85-A4314B31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DE6CC-6AF7-4F45-8B92-DB62BB15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CF5D7-9F06-4801-B2ED-CE93AC06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34026-DFCA-4E83-ACBE-CD83540E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11593-2A0C-49C2-82EB-E022AD08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B1692-2326-47D3-8D3D-34D16101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5E270-1222-466C-9AD0-9A7D3033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DCB6E-DC4C-423D-8EE9-5D91BCA1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9417D-6081-4A71-A1A3-588E7D99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F6927-81B6-4E58-8BB4-F9DB6387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F6A95-B810-48C2-B18E-3F93A28D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D3E0E-1DD4-4EB6-96B3-C66C24B6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A29B6-63C8-47B4-B36B-F9DF91B5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EAAFC-288A-4F9E-B42F-61B76928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E45E3-CF5E-45C5-984F-43687516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E8BD7-E5E3-42DA-9285-A865A0A6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D972C-1EFA-43BA-A540-2A76C9D3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5C7F5-426A-427B-A0E2-2AE6D0AD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F5377-C3BC-4D95-8A6A-0B98D0D9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0E95D-7532-469B-85B4-DEDACE87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C9105-6F29-4A3B-A2F1-DB096FD2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2BBAD-A7F8-4715-83F9-113EFFB3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E5357-AF49-4672-8391-4DF517AC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5D1A3-31CD-45E6-B375-1004DEF3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6B781-DA92-4FA5-BD68-FBAD6E85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25628-8833-487B-9937-26B9A494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2E2C4-BF94-4262-85F5-46239D41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7BADE-5A18-4AD7-B470-62400D69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EA842-6CC7-4596-8E39-F96211DA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B6A32-E216-4BA7-9F5B-124A2EDA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0B7C7-55AE-4E4A-8D8E-FAA9BA5A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6A867-B58C-4CAD-8BDA-306EC3C8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272BE-B723-439D-87E8-8E6B7700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F8C8E-4AEA-4FE0-9478-B092B928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8C1F3-A8C3-461C-93FE-58F0E892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C2585-397E-40AB-B333-EB275864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AD088-023A-47E7-99D3-E56E3C1C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12019-1DFC-4F9F-96E3-E86D8B07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A8803-68C5-4823-AE7B-D23506D3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BDD57-2066-414C-BC62-E5466436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6F56A-A959-4F8F-A60F-25A6C898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8ACBC-F196-4681-A71A-338EEEC2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BA807-7461-450B-9CEF-8509A0E5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0089D-6E81-4213-AF95-BC005726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9BA4D-883B-4D97-9E94-CCE06C41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8251C-93E5-4D73-BEAF-2C1B4173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6"/>
          <p:cNvSpPr/>
          <p:nvPr/>
        </p:nvSpPr>
        <p:spPr>
          <a:xfrm>
            <a:off x="0" y="6742080"/>
            <a:ext cx="84232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直接连接符 7"/>
          <p:cNvSpPr/>
          <p:nvPr/>
        </p:nvSpPr>
        <p:spPr>
          <a:xfrm flipV="1">
            <a:off x="8448840" y="630864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直接连接符 9"/>
          <p:cNvSpPr/>
          <p:nvPr/>
        </p:nvSpPr>
        <p:spPr>
          <a:xfrm flipV="1">
            <a:off x="8532720" y="645120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直接连接符 10"/>
          <p:cNvSpPr/>
          <p:nvPr/>
        </p:nvSpPr>
        <p:spPr>
          <a:xfrm flipV="1">
            <a:off x="611280" y="-25920"/>
            <a:ext cx="0" cy="43020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直接连接符 6"/>
          <p:cNvSpPr/>
          <p:nvPr/>
        </p:nvSpPr>
        <p:spPr>
          <a:xfrm>
            <a:off x="0" y="6742080"/>
            <a:ext cx="84232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直接连接符 7"/>
          <p:cNvSpPr/>
          <p:nvPr/>
        </p:nvSpPr>
        <p:spPr>
          <a:xfrm flipV="1">
            <a:off x="8448840" y="630864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9"/>
          <p:cNvSpPr/>
          <p:nvPr/>
        </p:nvSpPr>
        <p:spPr>
          <a:xfrm flipV="1">
            <a:off x="8532720" y="645120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10"/>
          <p:cNvSpPr/>
          <p:nvPr/>
        </p:nvSpPr>
        <p:spPr>
          <a:xfrm flipV="1">
            <a:off x="611280" y="-25920"/>
            <a:ext cx="0" cy="43020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EAB1-B8BE-4079-9CFF-43C408F9AC29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直接连接符 6"/>
          <p:cNvSpPr/>
          <p:nvPr/>
        </p:nvSpPr>
        <p:spPr>
          <a:xfrm>
            <a:off x="0" y="6742080"/>
            <a:ext cx="84232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7"/>
          <p:cNvSpPr/>
          <p:nvPr/>
        </p:nvSpPr>
        <p:spPr>
          <a:xfrm flipV="1">
            <a:off x="8448840" y="630864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直接连接符 9"/>
          <p:cNvSpPr/>
          <p:nvPr/>
        </p:nvSpPr>
        <p:spPr>
          <a:xfrm flipV="1">
            <a:off x="8532720" y="645120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直接连接符 10"/>
          <p:cNvSpPr/>
          <p:nvPr/>
        </p:nvSpPr>
        <p:spPr>
          <a:xfrm flipV="1">
            <a:off x="611280" y="-25920"/>
            <a:ext cx="0" cy="43020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3C1D-ADC1-41AA-A0A9-F9A368F1BBCB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直接连接符 6"/>
          <p:cNvSpPr/>
          <p:nvPr/>
        </p:nvSpPr>
        <p:spPr>
          <a:xfrm>
            <a:off x="0" y="6742080"/>
            <a:ext cx="84232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直接连接符 7"/>
          <p:cNvSpPr/>
          <p:nvPr/>
        </p:nvSpPr>
        <p:spPr>
          <a:xfrm flipV="1">
            <a:off x="8448840" y="630864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直接连接符 9"/>
          <p:cNvSpPr/>
          <p:nvPr/>
        </p:nvSpPr>
        <p:spPr>
          <a:xfrm flipV="1">
            <a:off x="8532720" y="645120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直接连接符 10"/>
          <p:cNvSpPr/>
          <p:nvPr/>
        </p:nvSpPr>
        <p:spPr>
          <a:xfrm flipV="1">
            <a:off x="611280" y="-25920"/>
            <a:ext cx="0" cy="43020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994F-DEA2-4CDF-8F09-00F9F582E2AB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直接连接符 6"/>
          <p:cNvSpPr/>
          <p:nvPr/>
        </p:nvSpPr>
        <p:spPr>
          <a:xfrm>
            <a:off x="0" y="6742080"/>
            <a:ext cx="84232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7"/>
          <p:cNvSpPr/>
          <p:nvPr/>
        </p:nvSpPr>
        <p:spPr>
          <a:xfrm flipV="1">
            <a:off x="8448840" y="630864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9"/>
          <p:cNvSpPr/>
          <p:nvPr/>
        </p:nvSpPr>
        <p:spPr>
          <a:xfrm flipV="1">
            <a:off x="8532720" y="645120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0"/>
          <p:cNvSpPr/>
          <p:nvPr/>
        </p:nvSpPr>
        <p:spPr>
          <a:xfrm flipV="1">
            <a:off x="611280" y="-25920"/>
            <a:ext cx="0" cy="43020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9CF2-83C5-44F8-8CC7-3873BF47D13F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直接连接符 6"/>
          <p:cNvSpPr/>
          <p:nvPr/>
        </p:nvSpPr>
        <p:spPr>
          <a:xfrm>
            <a:off x="0" y="6742080"/>
            <a:ext cx="84232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7"/>
          <p:cNvSpPr/>
          <p:nvPr/>
        </p:nvSpPr>
        <p:spPr>
          <a:xfrm flipV="1">
            <a:off x="8448840" y="630864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9"/>
          <p:cNvSpPr/>
          <p:nvPr/>
        </p:nvSpPr>
        <p:spPr>
          <a:xfrm flipV="1">
            <a:off x="8532720" y="645120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0"/>
          <p:cNvSpPr/>
          <p:nvPr/>
        </p:nvSpPr>
        <p:spPr>
          <a:xfrm flipV="1">
            <a:off x="611280" y="-25920"/>
            <a:ext cx="0" cy="43020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630B-E63F-461C-B0EE-511D6C12FB97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直接连接符 6"/>
          <p:cNvSpPr/>
          <p:nvPr/>
        </p:nvSpPr>
        <p:spPr>
          <a:xfrm>
            <a:off x="0" y="6742080"/>
            <a:ext cx="84232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7"/>
          <p:cNvSpPr/>
          <p:nvPr/>
        </p:nvSpPr>
        <p:spPr>
          <a:xfrm flipV="1">
            <a:off x="8448840" y="630864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9"/>
          <p:cNvSpPr/>
          <p:nvPr/>
        </p:nvSpPr>
        <p:spPr>
          <a:xfrm flipV="1">
            <a:off x="8532720" y="645120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0"/>
          <p:cNvSpPr/>
          <p:nvPr/>
        </p:nvSpPr>
        <p:spPr>
          <a:xfrm flipV="1">
            <a:off x="611280" y="-25920"/>
            <a:ext cx="0" cy="43020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B671-7C00-4196-B86A-81CE1CE1C5D5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直接连接符 6"/>
          <p:cNvSpPr/>
          <p:nvPr/>
        </p:nvSpPr>
        <p:spPr>
          <a:xfrm>
            <a:off x="0" y="6742080"/>
            <a:ext cx="84232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7"/>
          <p:cNvSpPr/>
          <p:nvPr/>
        </p:nvSpPr>
        <p:spPr>
          <a:xfrm flipV="1">
            <a:off x="8448840" y="630864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9"/>
          <p:cNvSpPr/>
          <p:nvPr/>
        </p:nvSpPr>
        <p:spPr>
          <a:xfrm flipV="1">
            <a:off x="8532720" y="645120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10"/>
          <p:cNvSpPr/>
          <p:nvPr/>
        </p:nvSpPr>
        <p:spPr>
          <a:xfrm flipV="1">
            <a:off x="611280" y="-25920"/>
            <a:ext cx="0" cy="43020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8765-F0AE-495B-9D7C-37A0CA877D95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直接连接符 6"/>
          <p:cNvSpPr/>
          <p:nvPr/>
        </p:nvSpPr>
        <p:spPr>
          <a:xfrm>
            <a:off x="0" y="6742080"/>
            <a:ext cx="84232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7"/>
          <p:cNvSpPr/>
          <p:nvPr/>
        </p:nvSpPr>
        <p:spPr>
          <a:xfrm flipV="1">
            <a:off x="8448840" y="630864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9"/>
          <p:cNvSpPr/>
          <p:nvPr/>
        </p:nvSpPr>
        <p:spPr>
          <a:xfrm flipV="1">
            <a:off x="8532720" y="645120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10"/>
          <p:cNvSpPr/>
          <p:nvPr/>
        </p:nvSpPr>
        <p:spPr>
          <a:xfrm flipV="1">
            <a:off x="611280" y="-25920"/>
            <a:ext cx="0" cy="43020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6691-F691-4318-A62C-F3F127C8F43B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直接连接符 6"/>
          <p:cNvSpPr/>
          <p:nvPr/>
        </p:nvSpPr>
        <p:spPr>
          <a:xfrm>
            <a:off x="0" y="6742080"/>
            <a:ext cx="84232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7"/>
          <p:cNvSpPr/>
          <p:nvPr/>
        </p:nvSpPr>
        <p:spPr>
          <a:xfrm flipV="1">
            <a:off x="8448840" y="630864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9"/>
          <p:cNvSpPr/>
          <p:nvPr/>
        </p:nvSpPr>
        <p:spPr>
          <a:xfrm flipV="1">
            <a:off x="8532720" y="645120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10"/>
          <p:cNvSpPr/>
          <p:nvPr/>
        </p:nvSpPr>
        <p:spPr>
          <a:xfrm flipV="1">
            <a:off x="611280" y="-25920"/>
            <a:ext cx="0" cy="43020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8DD7-9184-4D05-BFB9-5B46B018B020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直接连接符 6"/>
          <p:cNvSpPr/>
          <p:nvPr/>
        </p:nvSpPr>
        <p:spPr>
          <a:xfrm>
            <a:off x="0" y="6742080"/>
            <a:ext cx="84232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7"/>
          <p:cNvSpPr/>
          <p:nvPr/>
        </p:nvSpPr>
        <p:spPr>
          <a:xfrm flipV="1">
            <a:off x="8448840" y="630864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9"/>
          <p:cNvSpPr/>
          <p:nvPr/>
        </p:nvSpPr>
        <p:spPr>
          <a:xfrm flipV="1">
            <a:off x="8532720" y="645120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10"/>
          <p:cNvSpPr/>
          <p:nvPr/>
        </p:nvSpPr>
        <p:spPr>
          <a:xfrm flipV="1">
            <a:off x="611280" y="-25920"/>
            <a:ext cx="0" cy="43020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1F54-CA0B-4C93-BDFB-85AF76F96085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直接连接符 6"/>
          <p:cNvSpPr/>
          <p:nvPr/>
        </p:nvSpPr>
        <p:spPr>
          <a:xfrm>
            <a:off x="0" y="6742080"/>
            <a:ext cx="84232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7"/>
          <p:cNvSpPr/>
          <p:nvPr/>
        </p:nvSpPr>
        <p:spPr>
          <a:xfrm flipV="1">
            <a:off x="8448840" y="630864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9"/>
          <p:cNvSpPr/>
          <p:nvPr/>
        </p:nvSpPr>
        <p:spPr>
          <a:xfrm flipV="1">
            <a:off x="8532720" y="645120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10"/>
          <p:cNvSpPr/>
          <p:nvPr/>
        </p:nvSpPr>
        <p:spPr>
          <a:xfrm flipV="1">
            <a:off x="611280" y="-25920"/>
            <a:ext cx="0" cy="43020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49CD-1507-4D14-943F-15B86EAD8943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11280" y="2492280"/>
            <a:ext cx="7921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简洁化工专业开题报告</a:t>
            </a:r>
            <a:r>
              <a:rPr b="1" lang="en-US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直接连接符 4"/>
          <p:cNvSpPr/>
          <p:nvPr/>
        </p:nvSpPr>
        <p:spPr>
          <a:xfrm>
            <a:off x="0" y="1919160"/>
            <a:ext cx="457200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直接连接符 5"/>
          <p:cNvSpPr/>
          <p:nvPr/>
        </p:nvSpPr>
        <p:spPr>
          <a:xfrm flipV="1">
            <a:off x="4572000" y="148428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直接连接符 7"/>
          <p:cNvSpPr/>
          <p:nvPr/>
        </p:nvSpPr>
        <p:spPr>
          <a:xfrm flipV="1">
            <a:off x="4656240" y="1628280"/>
            <a:ext cx="0" cy="2876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2124000" y="3933720"/>
            <a:ext cx="489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告人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-11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http://photocdn.sohu.com/20070613/Img250544030.jpg"/>
          <p:cNvPicPr/>
          <p:nvPr/>
        </p:nvPicPr>
        <p:blipFill>
          <a:blip r:embed="rId1"/>
          <a:stretch/>
        </p:blipFill>
        <p:spPr>
          <a:xfrm>
            <a:off x="324000" y="-744480"/>
            <a:ext cx="3028680" cy="38844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24FD-5152-4C06-B941-C1566CFAD1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直接连接符 3"/>
          <p:cNvSpPr/>
          <p:nvPr/>
        </p:nvSpPr>
        <p:spPr>
          <a:xfrm>
            <a:off x="0" y="3460680"/>
            <a:ext cx="457200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"/>
          <p:cNvSpPr/>
          <p:nvPr/>
        </p:nvSpPr>
        <p:spPr>
          <a:xfrm flipV="1">
            <a:off x="4572000" y="3039840"/>
            <a:ext cx="0" cy="43164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直接连接符 6"/>
          <p:cNvSpPr/>
          <p:nvPr/>
        </p:nvSpPr>
        <p:spPr>
          <a:xfrm flipV="1">
            <a:off x="4656240" y="3184560"/>
            <a:ext cx="0" cy="2872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8"/>
          <p:cNvSpPr/>
          <p:nvPr/>
        </p:nvSpPr>
        <p:spPr>
          <a:xfrm>
            <a:off x="4859280" y="3203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zhou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9"/>
          <p:cNvSpPr/>
          <p:nvPr/>
        </p:nvSpPr>
        <p:spPr>
          <a:xfrm>
            <a:off x="250920" y="2421000"/>
            <a:ext cx="43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ank you</a:t>
            </a: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780000" y="1571400"/>
            <a:ext cx="273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自我介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矩形 4"/>
          <p:cNvSpPr/>
          <p:nvPr/>
        </p:nvSpPr>
        <p:spPr>
          <a:xfrm>
            <a:off x="3851280" y="2692440"/>
            <a:ext cx="511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姓       名：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本科院校：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就职单位：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4" descr="http://photocdn.sohu.com/20070613/Img250544030.jpg"/>
          <p:cNvPicPr/>
          <p:nvPr/>
        </p:nvPicPr>
        <p:blipFill>
          <a:blip r:embed="rId1"/>
          <a:stretch/>
        </p:blipFill>
        <p:spPr>
          <a:xfrm>
            <a:off x="431640" y="1558800"/>
            <a:ext cx="3029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直接连接符 3"/>
          <p:cNvSpPr/>
          <p:nvPr/>
        </p:nvSpPr>
        <p:spPr>
          <a:xfrm>
            <a:off x="0" y="1919160"/>
            <a:ext cx="457200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直接连接符 4"/>
          <p:cNvSpPr/>
          <p:nvPr/>
        </p:nvSpPr>
        <p:spPr>
          <a:xfrm flipV="1">
            <a:off x="4572000" y="148428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直接连接符 5"/>
          <p:cNvSpPr/>
          <p:nvPr/>
        </p:nvSpPr>
        <p:spPr>
          <a:xfrm flipV="1">
            <a:off x="4656240" y="1628280"/>
            <a:ext cx="0" cy="2876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6"/>
          <p:cNvSpPr/>
          <p:nvPr/>
        </p:nvSpPr>
        <p:spPr>
          <a:xfrm>
            <a:off x="4716360" y="161928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zhou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7"/>
          <p:cNvSpPr/>
          <p:nvPr/>
        </p:nvSpPr>
        <p:spPr>
          <a:xfrm>
            <a:off x="3506040" y="32446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此处键入论文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040" y="28080"/>
            <a:ext cx="351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16"/>
          <p:cNvSpPr/>
          <p:nvPr/>
        </p:nvSpPr>
        <p:spPr>
          <a:xfrm>
            <a:off x="3524400" y="1482840"/>
            <a:ext cx="349236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选题的意义及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椭圆 17"/>
          <p:cNvSpPr/>
          <p:nvPr/>
        </p:nvSpPr>
        <p:spPr>
          <a:xfrm>
            <a:off x="3211560" y="1590840"/>
            <a:ext cx="62532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8"/>
          <p:cNvSpPr/>
          <p:nvPr/>
        </p:nvSpPr>
        <p:spPr>
          <a:xfrm>
            <a:off x="3524400" y="2635200"/>
            <a:ext cx="349236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研究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椭圆 19"/>
          <p:cNvSpPr/>
          <p:nvPr/>
        </p:nvSpPr>
        <p:spPr>
          <a:xfrm>
            <a:off x="3211560" y="2743200"/>
            <a:ext cx="62532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20"/>
          <p:cNvSpPr/>
          <p:nvPr/>
        </p:nvSpPr>
        <p:spPr>
          <a:xfrm>
            <a:off x="3516480" y="3714840"/>
            <a:ext cx="349236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论文进度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椭圆 21"/>
          <p:cNvSpPr/>
          <p:nvPr/>
        </p:nvSpPr>
        <p:spPr>
          <a:xfrm>
            <a:off x="3203640" y="3822840"/>
            <a:ext cx="62532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22"/>
          <p:cNvSpPr/>
          <p:nvPr/>
        </p:nvSpPr>
        <p:spPr>
          <a:xfrm>
            <a:off x="3516480" y="4795920"/>
            <a:ext cx="349236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参考文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椭圆 23"/>
          <p:cNvSpPr/>
          <p:nvPr/>
        </p:nvSpPr>
        <p:spPr>
          <a:xfrm>
            <a:off x="3203640" y="4903920"/>
            <a:ext cx="62532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24"/>
          <p:cNvSpPr/>
          <p:nvPr/>
        </p:nvSpPr>
        <p:spPr>
          <a:xfrm>
            <a:off x="1842120" y="4777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libri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3" descr="C:\Users\hanwei\Downloads\chemistry.png"/>
          <p:cNvPicPr/>
          <p:nvPr/>
        </p:nvPicPr>
        <p:blipFill>
          <a:blip r:embed="rId1"/>
          <a:stretch/>
        </p:blipFill>
        <p:spPr>
          <a:xfrm>
            <a:off x="142920" y="2000160"/>
            <a:ext cx="30099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选题的意义及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圆角矩形 13"/>
          <p:cNvSpPr/>
          <p:nvPr/>
        </p:nvSpPr>
        <p:spPr>
          <a:xfrm>
            <a:off x="826920" y="1413000"/>
            <a:ext cx="7561440" cy="3960720"/>
          </a:xfrm>
          <a:prstGeom prst="roundRect">
            <a:avLst>
              <a:gd name="adj" fmla="val 1273"/>
            </a:avLst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此处输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4"/>
          <p:cNvSpPr/>
          <p:nvPr/>
        </p:nvSpPr>
        <p:spPr>
          <a:xfrm>
            <a:off x="1258920" y="1154160"/>
            <a:ext cx="2241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1.1</a:t>
            </a: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课题来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选题的意义及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研究方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论文工作进度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684360" y="2060640"/>
          <a:ext cx="7848360" cy="2663640"/>
        </p:xfrm>
        <a:graphic>
          <a:graphicData uri="http://schemas.openxmlformats.org/drawingml/2006/table">
            <a:tbl>
              <a:tblPr/>
              <a:tblGrid>
                <a:gridCol w="2206440"/>
                <a:gridCol w="1774800"/>
                <a:gridCol w="1869840"/>
                <a:gridCol w="1997280"/>
              </a:tblGrid>
              <a:tr h="66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起止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阶段目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起止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阶段目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665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11.10~20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完成开题报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12.2~20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室研究与评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66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11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文献调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1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完成研究报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65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1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理论研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12.6~201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论文答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4.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主要参考文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"/>
          <p:cNvSpPr/>
          <p:nvPr/>
        </p:nvSpPr>
        <p:spPr>
          <a:xfrm>
            <a:off x="500040" y="3317760"/>
            <a:ext cx="8464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4:55:45Z</dcterms:created>
  <dc:creator>www.pptbz.com</dc:creator>
  <dc:description/>
  <dc:language>en-US</dc:language>
  <cp:lastModifiedBy>微软用户</cp:lastModifiedBy>
  <dcterms:modified xsi:type="dcterms:W3CDTF">2015-08-03T12:33:54Z</dcterms:modified>
  <cp:revision>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