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33.png" ContentType="image/png"/>
  <Override PartName="/ppt/media/image9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2B93-EA9D-4013-9BA1-6FA5BDB81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590E-636A-4406-A568-89759F51C0D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17C5B-36CC-42CC-9CD0-6F87CB91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AE2C7-F38F-445E-8FED-7F2E01B3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BB7C7-7E6B-4790-AE03-ABA7A0DF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61496-5375-48DD-8B69-03AD70E3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2A473-BFDB-431F-B2F7-7400BBC1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355B2-C3F5-4562-9164-C86545F6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7C604-5530-4202-B141-81518CD4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DC318-0F73-4D33-8757-975A86D3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FB3EB-F135-428F-9104-220C9930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B1A017-62C3-4346-B962-82CC0297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9C3F-941A-41AE-8881-53AEA23EA99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B8EF2-4860-4E79-A582-405768E6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E5444-C8D7-4C36-B20B-17D3972D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D20A6-CFEA-45F3-A4C5-EEDF4126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A2CCB-B3E1-41BF-A4F7-ED8DDEEB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70546-C9E3-4BFA-BA2D-A35430B9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D1968-D6EF-4611-A1E7-1A3FB9E2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3B5F70-4B0A-47DE-89E9-EA1B131E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3F6A5-6839-4502-88C1-EF0B5A6E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7442E-D905-4A74-9F33-5F09883E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6AF32-7CCD-4771-BAB1-F7E3371B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6754-41AC-41E4-88C8-10D54AFACAA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A912ED-14EA-4D78-A849-A991471E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7402A6-E2D2-4372-8D8E-6C73E4AA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0993E-9387-4C55-8D99-87C006FE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B7E1EC-3F62-4F5E-A45F-3A81ACE3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BF53E4-567B-43AD-888B-00888B7D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54140-6B1B-4ADF-AD82-E7B7A3FC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57A7C3-74E9-405C-87E2-BE47AC9E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A4146-BB33-44F1-AB6B-D8DB8F3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387D0-BE10-4214-9766-3A0CD350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F0678-993B-479D-9E3C-64D88F83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378C7-8B93-43D0-A262-77D43F37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3BFE2-C4C6-425C-8495-34E277C5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2BF7AC-9DAA-45FB-882F-3223BC31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581052-2821-4040-AFEE-AF01C2F1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5F0D3E-36B7-4817-AE5D-F5F5E57B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707D08-90B8-44EA-8FD8-482BF338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9DE91A-4F95-4C51-8317-E9C1B445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A1D6B-8E5E-45A7-9760-09EEF5CC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0E4818-F559-44AC-A45A-F5815202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C42EDF-0ECA-4A5E-8BB8-8CF16927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883238-B605-466D-A661-65614094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7A4959-F876-4121-8ACC-E948755A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251014-53E3-4D13-8D54-A4879A2F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94AB51-FA1A-4ECB-93E6-71A6B25B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B66183-B24B-47F0-AD6E-A113FC6F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0F3439-550B-4CC6-B300-58520481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C37290-3283-4B7B-83D1-C41E6BFC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B1C9A4-41AB-453D-B9E5-E7367321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93CD90-779E-4E29-9C62-B4EE96F3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B9B65F-0A9F-4A13-9940-CDB7936E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EB0DD4-221D-4872-B401-EDADD164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D380AF-789E-4B55-9CD7-81BD4834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D58AAD-DCCF-4E4B-8E4D-990FDD78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D1D65A-836D-45B7-98AF-5AFDE566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E695F5-3372-4ECC-8ACB-A1E2638C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72D615-FB88-4428-9704-A915D474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ED707-05F8-4039-B731-EFC93C04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17DB68-C9E4-4FEB-B4DA-99766373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B14296-9DC9-41A3-B9E7-42FD992B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8EAE8C-2254-450A-A37B-C248F97E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2DDEEA-4FD4-4A53-B254-FB162184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DA19C9-BE4F-4149-AEA6-941D4581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BC2E36-A66F-4072-B354-D2DF0E5E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F305E8-BF38-49F5-A884-15DAEBA4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3C5351-2427-426A-9EE1-7BE67019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066FF7-567B-4D71-9DFD-EE5EAA19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390E1F-AB18-4A37-A040-FF85F823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1D64FF-1C98-43CE-A90C-88CA1B38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D69F53-5F29-44D5-9559-620B0BB7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2E9B8E-719B-4434-A3FA-605A14B5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0E13C8-BB9C-4840-B7B9-948B0694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B4684A-6013-4079-9906-C022CF7A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7B71D8-6E3B-4D21-AAC6-A3E0F82B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53615B-8185-4158-B728-90991298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00722E-1989-4892-865B-E8C8E9F0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0EE152-9756-4404-8518-97463E81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0A67-24C5-4B19-97B7-97CF70EEE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0606E0-6FD3-4588-A58B-2655D235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9FD20C-FCE9-4CB0-B8E2-A2D9B43B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6A58D1-4D37-4000-8796-EFE1155D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1DD5E5-AE5B-4E80-B7ED-3CB02510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C82EF9-74E1-4043-8552-FC39109B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A5D1EE-0411-40AE-85AE-5DF18B66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14776D-880E-4A6A-A5C3-24E23E39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2F0294-A763-4126-B184-52F26D7A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83BE49-DD63-4097-B383-8D554034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2E49CB-870A-4BC3-ACC9-6745D52A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2E70D5-B3A8-4CAB-AA40-592566E5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982EE2-7DEA-4359-9D1C-E6EC09D9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5DEB5A-744A-4164-A3F2-6242CB82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62F635-1B70-4599-9C8E-E6B36AA3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160037-0389-4D6C-949B-13670BD2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CB0365-3350-404C-82C1-B3650AE6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35C874-1C3F-4A08-98B0-6DD1DCA6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A9FB81-DD41-4ABD-9B8D-B46D7115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FFE9A7-1888-4C14-BB13-5F2CCC02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C890C5-0A83-4083-A486-830B421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643B0A-7807-4D11-A935-07A4FC0D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71671A-F755-428A-AE46-31669506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4CE894-2224-4E78-B4DD-97484905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886F76-0D5B-4D68-A258-91958862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5C1ACD-0F8A-4490-951C-B790227A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9D87D2-E10E-4AA7-A9AF-2B04E9D0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D79934-D09C-4FA5-B664-8DF148FF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5487D7-38CD-4B70-9679-BABDC06B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CE500A-F007-4234-AE7E-2B55C5C8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476BCB-BF7A-40F0-8DF8-2125F599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8883C4-333E-40B6-BF2A-834D84A0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ED921A-8E03-4A83-A8B1-CFBF9B0D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B97AA0-657C-4E0D-BA18-30D1F2DD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BA4A13-3410-40AD-A284-5AD1509F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FDE9BB-C97F-45E6-8547-8870C524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963528-A596-48A0-80B2-93441CFB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71FE82-10A3-4718-AF12-CCAF8DAD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7F9EA4-CCCF-431F-A8EF-98D2CBB3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0E5362-20EB-4F1D-BBE4-84770AAC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5D5857-74B0-46B1-BBEE-9D26D9FF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A55398-B8FE-4D70-A1B1-93BCEB23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88AD-1ED8-4357-98AD-3403202D0D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985E8-92A1-4B9A-BDAF-B0005347BF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97892-3296-47F3-B4FF-ACDC3C2D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10834-412B-49F4-BF17-500AFF6177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7629D-D8E9-44C8-B801-524E5155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265D6-A18A-4C23-BA8D-9191BA75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8B1B2-2C59-4BC6-8E47-6693B884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0CF3C-F953-48CB-8D66-189E19F7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A28C7-1C8F-4E7E-95C3-A7C247F1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83812-E2A8-4E23-99BE-E58CAC4D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5A386-0087-4633-B7B5-90E91FCA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39F65-A3CE-4507-B1BE-CBBFBC6A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DC1E8-AF74-4B6F-B5EE-9D0B6B34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17E1D-9BF9-41EB-BCFA-A968E9BA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BEEE-059B-49B8-873C-85285E170FE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3F66C-AAA5-456A-BD22-64709530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93AB3-3E10-431D-A265-7FEE11D1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A434C-72D8-4EFE-BFD6-D5A04BE0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EFEEC-C24A-417F-A587-ECA50952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870C4-5564-4FF3-875A-66DAE8C0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C1B97-2F2C-48E7-BE57-3D496F7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03528-2427-47C2-9677-2BD06822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AD5EA-6C5D-4DED-97C1-5A0AD198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B42D1-5255-4F0F-85D9-9A023DE2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970FB-A5A0-49B4-81BA-56A5530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0783-6712-4D76-97E7-843B1F67F13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2767A-1643-41C0-AF6F-2057BE0A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75231-1754-4C2B-B05C-562EFBEB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36B49-13FE-47D6-B2C3-2EF2EDAC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FFFB8-FECA-4BE4-AFD5-3B25DF44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87119-EF51-4FA1-9D07-2ADEDDDF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100EA-2132-4262-8A94-5F79AB97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48805-7BC5-4703-B66E-4BC2E3A6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3D43A-CB6F-4BA7-ABD4-2AB2CD9F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22433-3B11-4F57-8CB0-E0249DDB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D3A87-07D2-4511-A86E-200F9CCA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5D3E1-E590-45CC-8A0F-5E4976AD116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F2F8E-E5AE-4942-B98A-A0B5E9D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E8AF8-F30C-4C62-860B-4E31EC60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B9C68-E327-4977-9261-D409E10D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997C28-E809-4E0E-959F-7443B507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38DDA1-B4AD-4F8E-A202-7A6FA380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250D-5EE9-4FEE-827C-B2D3C2095F9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43440"/>
            <a:ext cx="40158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43440"/>
            <a:ext cx="26496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17CA7-50E1-4AF1-8C0C-8526D6E6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96521-CDC6-4F93-92F2-60C525C3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5D64F-9BEA-41D8-A945-31B191B7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197000"/>
            <a:ext cx="8207280" cy="5256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36C8-0279-4D28-B4AE-C25C3BD85FA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68360" y="981000"/>
            <a:ext cx="6264360" cy="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361" name="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2600" y="711360"/>
              <a:ext cx="6769440" cy="3002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2600" y="733680"/>
              <a:ext cx="6701400" cy="207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99320" y="73368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93560" y="749520"/>
              <a:ext cx="1275480" cy="6108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79160" y="692280"/>
              <a:ext cx="2326680" cy="19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12600" y="3275280"/>
              <a:ext cx="9092880" cy="1936080"/>
              <a:chOff x="12600" y="3275280"/>
              <a:chExt cx="9092880" cy="193608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12600" y="449712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15480" y="3851280"/>
                <a:ext cx="90900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15480" y="3275280"/>
                <a:ext cx="90900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flipH="1">
              <a:off x="12240" y="278316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12240" y="23101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2240" y="1876680"/>
              <a:ext cx="909324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53640" y="153216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2600" y="82728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2240" y="76536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ftr" idx="16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7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1C59-4B4F-4A26-B53B-A71C781D6F0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412" name="未知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33e"/>
                </a:gs>
                <a:gs pos="100000">
                  <a:srgbClr val="3684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 flipH="1">
              <a:off x="12960" y="0"/>
              <a:ext cx="913104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3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4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5338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18"/>
          </p:nvPr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19"/>
          </p:nvPr>
        </p:nvSpPr>
        <p:spPr>
          <a:xfrm>
            <a:off x="59432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0"/>
          </p:nvPr>
        </p:nvSpPr>
        <p:spPr>
          <a:xfrm>
            <a:off x="3657240" y="6386040"/>
            <a:ext cx="2133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512B-7BBD-4BFB-9D18-646F72E0A272}" type="slidenum"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LOG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19DC-34B5-4B9E-B260-9CFB9C665B2C}" type="slidenum"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38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LOG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34880" y="269244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E12A-40D4-4601-AD0F-DEAC65F3AF46}" type="slidenum">
              <a:rPr b="0" lang="en-US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CD62-7A13-43DD-959B-4111C969069F}" type="slidenum">
              <a:rPr b="0" lang="en-US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AF99-0F70-4412-8D58-85DA37364D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668C-9FA5-4D9E-8823-156D977B42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D54F-501A-4A60-82B4-27F32AD758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黑体"/>
            </a:endParaRPr>
          </a:p>
          <a:p>
            <a:pPr lvl="2" marL="914400" indent="343080" algn="ctr">
              <a:lnSpc>
                <a:spcPct val="150000"/>
              </a:lnSpc>
              <a:spcBef>
                <a:spcPts val="400"/>
              </a:spcBef>
              <a:buClr>
                <a:srgbClr val="666699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1371600" indent="241200" algn="ctr">
              <a:lnSpc>
                <a:spcPct val="150000"/>
              </a:lnSpc>
              <a:spcBef>
                <a:spcPts val="400"/>
              </a:spcBef>
              <a:buClr>
                <a:srgbClr val="1c1c1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1828800" indent="139680" algn="ctr">
              <a:lnSpc>
                <a:spcPct val="150000"/>
              </a:lnSpc>
              <a:spcBef>
                <a:spcPts val="400"/>
              </a:spcBef>
              <a:buClr>
                <a:srgbClr val="1c1c1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1828800" indent="139680">
              <a:spcBef>
                <a:spcPts val="4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1828800" indent="139680">
              <a:spcBef>
                <a:spcPts val="400"/>
              </a:spcBef>
              <a:buClr>
                <a:srgbClr val="6666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2FAD-84FC-47CB-8F92-D07A350232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4cc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84cc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1984cc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3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4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6252-394A-49C3-8EFC-285C41F28AD9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B5E5-5A73-4F30-8807-E5A024C25E39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flipV="1">
            <a:off x="469800" y="1479240"/>
            <a:ext cx="8229600" cy="20520"/>
          </a:xfrm>
          <a:prstGeom prst="line">
            <a:avLst/>
          </a:prstGeom>
          <a:ln cap="rnd" w="3492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99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Num" idx="10"/>
          </p:nvPr>
        </p:nvSpPr>
        <p:spPr>
          <a:xfrm>
            <a:off x="64274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15DC-9E2F-49AD-B880-4BC4AB4A99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99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41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414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2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3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14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C1B1-3872-4B50-8AE9-7D6F02A5F3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82160" cy="6878520"/>
          </a:xfrm>
          <a:prstGeom prst="rect">
            <a:avLst/>
          </a:prstGeom>
          <a:ln w="0">
            <a:noFill/>
          </a:ln>
        </p:spPr>
      </p:pic>
      <p:pic>
        <p:nvPicPr>
          <p:cNvPr id="859" name="至上励合 - 咬耳朵" descr=""/>
          <p:cNvPicPr/>
          <p:nvPr/>
        </p:nvPicPr>
        <p:blipFill>
          <a:blip r:embed="rId3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9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66669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090160" y="1628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6699"/>
                </a:solidFill>
                <a:latin typeface="Arial"/>
              </a:rPr>
              <a:t>简历策划幻灯片在线下载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3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3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3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9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2BCE2E-C324-4E21-A7BD-669A801527A1}" type="slidenum">
              <a:t>10</a:t>
            </a:fld>
          </a:p>
        </p:txBody>
      </p:sp>
    </p:spTree>
  </p:cSld>
  <p:transition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96720" y="299700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Verdana"/>
              </a:rPr>
              <a:t>                    </a:t>
            </a:r>
            <a:r>
              <a:rPr b="0" lang="zh-CN" sz="7200" spc="-1" strike="noStrike">
                <a:solidFill>
                  <a:srgbClr val="003300"/>
                </a:solidFill>
                <a:latin typeface="Verdana"/>
              </a:rPr>
              <a:t>谢谢观看！</a:t>
            </a:r>
            <a:endParaRPr b="0" lang="en-US" sz="7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8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8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个人概况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96720" y="909360"/>
            <a:ext cx="41529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姓    名：胡亚梅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性    别：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出生年月：</a:t>
            </a: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1992.2.13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政治面貌：党员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学    历：大学专课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专    业：计算机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毕业学校：徐州工业职业技术             学院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联系电话：</a:t>
            </a: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1509434345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电子邮箱：</a:t>
            </a: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792585643@qq.com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家庭地址：东台市东台填垛团村八组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4" name="文本占位符 2" descr=""/>
          <p:cNvPicPr/>
          <p:nvPr/>
        </p:nvPicPr>
        <p:blipFill>
          <a:blip r:embed="rId2"/>
          <a:stretch/>
        </p:blipFill>
        <p:spPr>
          <a:xfrm>
            <a:off x="3997440" y="155736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865" name="文本占位符 2" descr=""/>
          <p:cNvPicPr/>
          <p:nvPr/>
        </p:nvPicPr>
        <p:blipFill>
          <a:blip r:embed="rId3"/>
          <a:stretch/>
        </p:blipFill>
        <p:spPr>
          <a:xfrm>
            <a:off x="6492960" y="3068640"/>
            <a:ext cx="2111400" cy="15858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4"/>
          <a:stretch/>
        </p:blipFill>
        <p:spPr>
          <a:xfrm>
            <a:off x="5580000" y="5229360"/>
            <a:ext cx="1873440" cy="14047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3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4" dur="3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9" dur="3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4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3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0" dur="3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984cc"/>
                </a:solidFill>
                <a:latin typeface="微软雅黑"/>
              </a:rPr>
              <a:t>       </a:t>
            </a:r>
            <a:r>
              <a:rPr b="0" lang="zh-CN" sz="3200" spc="-1" strike="noStrike">
                <a:solidFill>
                  <a:srgbClr val="1984cc"/>
                </a:solidFill>
                <a:latin typeface="微软雅黑"/>
              </a:rPr>
              <a:t>专业介绍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96360" y="1270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虚拟仿真技术，或称为模拟技术，就是用一个系统模仿另一个真实系统的技术。从狭义上讲，是指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20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世纪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40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年代伴随着计算机技术的发展而逐步形成的一类试验研究的新技术；从广义上来说，仿真则是在人类认识自然界客观规律的历程中一直被有效地使用着。由于计算机技术的发展，仿真技术逐步自成体系，成为继数学推理、科学实验之后人类认识自然界客观规律的第三类基本方法，而且正在发展成为人类认识、改造和创造客观世界的一项通用性、战略性技术。</a:t>
            </a:r>
            <a:endParaRPr b="0" lang="en-US" sz="2000" spc="-1" strike="noStrike">
              <a:solidFill>
                <a:srgbClr val="4d4d4d"/>
              </a:solidFill>
              <a:latin typeface="微软雅黑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716000" y="1054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虚拟现实技术，简称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VR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，是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20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世纪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80</a:t>
            </a:r>
            <a:r>
              <a:rPr b="0" lang="zh-CN" sz="2000" spc="-1" strike="noStrike">
                <a:solidFill>
                  <a:srgbClr val="4d4d4d"/>
                </a:solidFill>
                <a:latin typeface="微软雅黑"/>
              </a:rPr>
              <a:t>年代新崛起的一种综合集成技术，涉及计算机图形学、人机交互技术、传感技术、人工智能等。它由计算机硬件、软件以及各种传感器构成的三维信息的人工环境——虚拟环境，可以逼真地模拟现实世界（甚至是不存在的）的事物和环境，人投入到这种环境中，立即有“亲临其境”的感觉，并可亲自操作，自然地与虚拟环境进行交互。虚拟仿真技术具有以下四个基本特性：沉浸性、交互性、虚幻性、逼真性。</a:t>
            </a:r>
            <a:endParaRPr b="0" lang="en-US" sz="20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transition advTm="5000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2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2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3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0" dur="3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2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0" dur="3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3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2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2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2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2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3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</a:rPr>
              <a:t>主修课程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6360" y="1701720"/>
            <a:ext cx="7786800" cy="48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计算机辅助工程制图（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CA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）、计算机网络及应、高等数学、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ASP.NE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开发应用 、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语言程序设计 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Excel VBA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程序设计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Flash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动画设计与制作 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JAVA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程序设计  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统计分析系统  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Visual Basi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程序设计 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信息系统设计基础 、互联网概论  、计算机基础与应用 、计算机网络  、计算机网络实践、平面图像处理、手机编程与手机游戏设计 、数据库编程技术、数字图像处理与特效、计算机应用基础、多煤体技术、计算机应用基础、网页设计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 spd="slow" advTm="5000">
    <p:wipe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48" dur="2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53" dur="3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30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30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30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2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3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3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5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5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02" dur="5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c414f"/>
                </a:solidFill>
                <a:latin typeface="Arial"/>
              </a:rPr>
              <a:t>自我介绍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本人性格热情开朗，待人友好，为人诚实谦虚。工作勤奋，认真负责，能吃苦耐劳，尽职尽责，有耐心。具有亲和力，平易近人，善于与人沟通。活泼开朗、乐观向上、兴趣广泛、适应力强、勤奋好学、脚踏实地、认真负责、坚毅不拔、吃苦耐劳、勇于迎接新挑战 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学习刻苦认真，成绩优秀，品学兼优，此外，还积极参加课外文体活动，以增加自己的阅历，提高自己的能力。在工作中体会办事方式，锻炼口才和人际交往能力。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大学生涯，使我具备良好的心理素质，让我在竞争中拥有更大的优势，让我在人生事业中走得更高更远。获得了“优秀大学生”和“优秀毕业生”的称号。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30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3000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43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3" dur="2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8" dur="20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3" dur="2000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3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30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3000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80" dur="5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85" dur="50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90" dur="5000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能力与特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8070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专业能力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：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掌握了工业工程的基本知识，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如网页制作、动画制作等等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计算机能力：熟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Office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等应用办公软件、计算机网络及多媒体知识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语言能力：有良好的沟通技能，交际能力较强、英语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级 ，听说读写能力较强、粤话、普通话标准、流利，且具备较好的理解能力、书面与口头交流能力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727160" y="1347840"/>
            <a:ext cx="38070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5338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综合能力：  ◇责任心强，有独立工作能力强，吃苦耐劳，有团队精神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具有良好的策划、组织、协调、管理能力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做事细心和有条理，尤其胜任财务、秘书、资料整理等方面工作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</a:rPr>
              <a:t>数学运算能力较好，思考、逻辑能力较强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育经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96720" y="155736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2002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9-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2005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垛团小学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小学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2005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9-200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8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明德外国语学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      初中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20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08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9-20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11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第二职业高中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     高中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20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11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9-20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14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徐州工业职业技术学院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专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</a:rPr>
              <a:t>科      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79" name=""/>
          <p:cNvSpPr/>
          <p:nvPr/>
        </p:nvSpPr>
        <p:spPr>
          <a:xfrm>
            <a:off x="755640" y="1123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6b1e6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4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4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3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2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2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00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2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2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300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200" fill="hold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200" fill="hold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0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200" fill="hold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200" fill="hold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300"/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200" fill="hold"/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200" fill="hold"/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1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1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1000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1000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000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1000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1000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000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1000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1000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000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1000"/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1000"/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000"/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技能证书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9080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英语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级                            ◆ 计算机一级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计算机冈位证书               ◆ 计算机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random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2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7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8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3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2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2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2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2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荣誉证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340000" y="1412640"/>
            <a:ext cx="65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00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9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垛团小学的“优秀学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9-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评为明德外国语学校的“优秀学员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度在明德外国语学样被称为“优秀干事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度在明德外国语学校称为优秀团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在徐州工业职业技术学院中的“”演讲比赛中得第二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23:22:00Z</dcterms:created>
  <dc:creator>admin</dc:creator>
  <dc:description/>
  <dc:language>en-US</dc:language>
  <cp:lastModifiedBy/>
  <dcterms:modified xsi:type="dcterms:W3CDTF">2015-08-03T12:33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