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51F-8C6B-4CA3-ABFC-8A6A8BB8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6BD-AD08-4A43-9F4F-8533748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426-675F-4357-8901-55D964F5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44C-67CD-4AC7-A8B0-0961D7F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E25-A844-4FC8-B374-9E593C20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2F3-4138-4B1D-8ED9-7F234ADF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FEF-DDC7-4600-BF50-FBB672A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DC9-435F-434B-B6A2-65B26B3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2CE-F2D6-4712-8C04-76C0656B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FD8-1B53-428B-9FF3-6A4092C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D12-A91D-4540-9963-9B9D2A11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732-9190-421D-A7B1-2EBE831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4B54-8AF1-457B-AEE8-00E8BA2025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959-F939-42C7-AEC2-7DE6F1D638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media1.mp3" TargetMode="External"/><Relationship Id="rId3" Type="http://schemas.microsoft.com/office/2007/relationships/media" Target="file:///tmp/home/.config/libreoffice/4/user/gallery/media1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53"/>
          <p:cNvGrpSpPr/>
          <p:nvPr/>
        </p:nvGrpSpPr>
        <p:grpSpPr>
          <a:xfrm>
            <a:off x="5099040" y="0"/>
            <a:ext cx="7093080" cy="7706880"/>
            <a:chOff x="5099040" y="0"/>
            <a:chExt cx="7093080" cy="7706880"/>
          </a:xfrm>
        </p:grpSpPr>
        <p:grpSp>
          <p:nvGrpSpPr>
            <p:cNvPr id="42" name="组合 4"/>
            <p:cNvGrpSpPr/>
            <p:nvPr/>
          </p:nvGrpSpPr>
          <p:grpSpPr>
            <a:xfrm>
              <a:off x="5241960" y="0"/>
              <a:ext cx="6950160" cy="6858000"/>
              <a:chOff x="5241960" y="0"/>
              <a:chExt cx="6950160" cy="6858000"/>
            </a:xfrm>
          </p:grpSpPr>
          <p:sp>
            <p:nvSpPr>
              <p:cNvPr id="43" name="任意多边形 8"/>
              <p:cNvSpPr/>
              <p:nvPr/>
            </p:nvSpPr>
            <p:spPr>
              <a:xfrm>
                <a:off x="5241960" y="0"/>
                <a:ext cx="6950160" cy="6858000"/>
              </a:xfrm>
              <a:prstGeom prst="pie">
                <a:avLst/>
              </a:prstGeom>
              <a:solidFill>
                <a:srgbClr val="876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任意多边形 13"/>
              <p:cNvSpPr/>
              <p:nvPr/>
            </p:nvSpPr>
            <p:spPr>
              <a:xfrm>
                <a:off x="5241960" y="0"/>
                <a:ext cx="1759680" cy="6858000"/>
              </a:xfrm>
              <a:prstGeom prst="pie">
                <a:avLst/>
              </a:prstGeom>
              <a:solidFill>
                <a:srgbClr val="b39b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六边形 2"/>
              <p:cNvSpPr/>
              <p:nvPr/>
            </p:nvSpPr>
            <p:spPr>
              <a:xfrm rot="16200000">
                <a:off x="6239520" y="18828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六边形 15"/>
              <p:cNvSpPr/>
              <p:nvPr/>
            </p:nvSpPr>
            <p:spPr>
              <a:xfrm>
                <a:off x="5340240" y="235152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六边形 16"/>
              <p:cNvSpPr/>
              <p:nvPr/>
            </p:nvSpPr>
            <p:spPr>
              <a:xfrm rot="16200000">
                <a:off x="6599520" y="458100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六边形 17"/>
              <p:cNvSpPr/>
              <p:nvPr/>
            </p:nvSpPr>
            <p:spPr>
              <a:xfrm>
                <a:off x="6560280" y="535608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六边形 19"/>
              <p:cNvSpPr/>
              <p:nvPr/>
            </p:nvSpPr>
            <p:spPr>
              <a:xfrm>
                <a:off x="5925240" y="9633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六边形 20"/>
              <p:cNvSpPr/>
              <p:nvPr/>
            </p:nvSpPr>
            <p:spPr>
              <a:xfrm rot="16200000">
                <a:off x="5638680" y="162468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六边形 21"/>
              <p:cNvSpPr/>
              <p:nvPr/>
            </p:nvSpPr>
            <p:spPr>
              <a:xfrm rot="16200000">
                <a:off x="5718240" y="311328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六边形 22"/>
              <p:cNvSpPr/>
              <p:nvPr/>
            </p:nvSpPr>
            <p:spPr>
              <a:xfrm>
                <a:off x="6158520" y="386100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六边形 23"/>
              <p:cNvSpPr/>
              <p:nvPr/>
            </p:nvSpPr>
            <p:spPr>
              <a:xfrm rot="16200000">
                <a:off x="6225840" y="60213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六边形 24"/>
              <p:cNvSpPr/>
              <p:nvPr/>
            </p:nvSpPr>
            <p:spPr>
              <a:xfrm>
                <a:off x="5879160" y="66693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文本框 52"/>
            <p:cNvSpPr/>
            <p:nvPr/>
          </p:nvSpPr>
          <p:spPr>
            <a:xfrm>
              <a:off x="5099040" y="3955320"/>
              <a:ext cx="48366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历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      </a:t>
              </a:r>
              <a:r>
                <a:rPr b="1" lang="en-US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UME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49"/>
          <p:cNvGrpSpPr/>
          <p:nvPr/>
        </p:nvGrpSpPr>
        <p:grpSpPr>
          <a:xfrm>
            <a:off x="-4680" y="0"/>
            <a:ext cx="6735600" cy="7746840"/>
            <a:chOff x="-4680" y="0"/>
            <a:chExt cx="6735600" cy="7746840"/>
          </a:xfrm>
        </p:grpSpPr>
        <p:grpSp>
          <p:nvGrpSpPr>
            <p:cNvPr id="57" name="组合 37"/>
            <p:cNvGrpSpPr/>
            <p:nvPr/>
          </p:nvGrpSpPr>
          <p:grpSpPr>
            <a:xfrm>
              <a:off x="-4680" y="0"/>
              <a:ext cx="6735600" cy="6867360"/>
              <a:chOff x="-4680" y="0"/>
              <a:chExt cx="6735600" cy="6867360"/>
            </a:xfrm>
          </p:grpSpPr>
          <p:sp>
            <p:nvSpPr>
              <p:cNvPr id="58" name="任意多边形 7"/>
              <p:cNvSpPr/>
              <p:nvPr/>
            </p:nvSpPr>
            <p:spPr>
              <a:xfrm>
                <a:off x="-4680" y="0"/>
                <a:ext cx="6735600" cy="6867360"/>
              </a:xfrm>
              <a:prstGeom prst="pie">
                <a:avLst/>
              </a:prstGeom>
              <a:solidFill>
                <a:srgbClr val="876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25"/>
              <p:cNvSpPr/>
              <p:nvPr/>
            </p:nvSpPr>
            <p:spPr>
              <a:xfrm>
                <a:off x="4963320" y="0"/>
                <a:ext cx="1759320" cy="6858360"/>
              </a:xfrm>
              <a:prstGeom prst="pie">
                <a:avLst/>
              </a:prstGeom>
              <a:solidFill>
                <a:srgbClr val="b39b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六边形 26"/>
              <p:cNvSpPr/>
              <p:nvPr/>
            </p:nvSpPr>
            <p:spPr>
              <a:xfrm rot="16200000">
                <a:off x="5865480" y="44784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六边形 27"/>
              <p:cNvSpPr/>
              <p:nvPr/>
            </p:nvSpPr>
            <p:spPr>
              <a:xfrm>
                <a:off x="5103000" y="261108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六边形 28"/>
              <p:cNvSpPr/>
              <p:nvPr/>
            </p:nvSpPr>
            <p:spPr>
              <a:xfrm rot="16200000">
                <a:off x="6457680" y="48405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六边形 29"/>
              <p:cNvSpPr/>
              <p:nvPr/>
            </p:nvSpPr>
            <p:spPr>
              <a:xfrm>
                <a:off x="6158880" y="561564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六边形 30"/>
              <p:cNvSpPr/>
              <p:nvPr/>
            </p:nvSpPr>
            <p:spPr>
              <a:xfrm>
                <a:off x="5537520" y="12225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六边形 31"/>
              <p:cNvSpPr/>
              <p:nvPr/>
            </p:nvSpPr>
            <p:spPr>
              <a:xfrm rot="16200000">
                <a:off x="5264640" y="188424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六边形 32"/>
              <p:cNvSpPr/>
              <p:nvPr/>
            </p:nvSpPr>
            <p:spPr>
              <a:xfrm rot="16200000">
                <a:off x="5576400" y="337284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六边形 33"/>
              <p:cNvSpPr/>
              <p:nvPr/>
            </p:nvSpPr>
            <p:spPr>
              <a:xfrm>
                <a:off x="6030360" y="412056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六边形 34"/>
              <p:cNvSpPr/>
              <p:nvPr/>
            </p:nvSpPr>
            <p:spPr>
              <a:xfrm rot="16200000">
                <a:off x="5797440" y="6280920"/>
                <a:ext cx="161280" cy="144000"/>
              </a:xfrm>
              <a:prstGeom prst="hexagon">
                <a:avLst>
                  <a:gd name="adj" fmla="val 24951"/>
                  <a:gd name="vf" fmla="val 115470"/>
                </a:avLst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44"/>
            <p:cNvSpPr/>
            <p:nvPr/>
          </p:nvSpPr>
          <p:spPr>
            <a:xfrm>
              <a:off x="2563920" y="3995280"/>
              <a:ext cx="39250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简    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RES     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任意多边形 39"/>
          <p:cNvSpPr/>
          <p:nvPr/>
        </p:nvSpPr>
        <p:spPr>
          <a:xfrm>
            <a:off x="5241960" y="4460760"/>
            <a:ext cx="1033560" cy="1033560"/>
          </a:xfrm>
          <a:prstGeom prst="pie">
            <a:avLst/>
          </a:prstGeom>
          <a:solidFill>
            <a:srgbClr val="b39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0"/>
          <p:cNvSpPr/>
          <p:nvPr/>
        </p:nvSpPr>
        <p:spPr>
          <a:xfrm>
            <a:off x="5711760" y="1971720"/>
            <a:ext cx="1067040" cy="1066680"/>
          </a:xfrm>
          <a:prstGeom prst="pie">
            <a:avLst/>
          </a:prstGeom>
          <a:solidFill>
            <a:srgbClr val="b39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0"/>
          <p:cNvSpPr/>
          <p:nvPr/>
        </p:nvSpPr>
        <p:spPr>
          <a:xfrm flipH="1">
            <a:off x="6035040" y="-1611360"/>
            <a:ext cx="44280" cy="4049640"/>
          </a:xfrm>
          <a:prstGeom prst="rect">
            <a:avLst/>
          </a:prstGeom>
          <a:solidFill>
            <a:srgbClr val="b39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43"/>
          <p:cNvGrpSpPr/>
          <p:nvPr/>
        </p:nvGrpSpPr>
        <p:grpSpPr>
          <a:xfrm>
            <a:off x="5087880" y="2232000"/>
            <a:ext cx="1944720" cy="1081080"/>
            <a:chOff x="5087880" y="2232000"/>
            <a:chExt cx="1944720" cy="1081080"/>
          </a:xfrm>
        </p:grpSpPr>
        <p:sp>
          <p:nvSpPr>
            <p:cNvPr id="74" name="矩形 41"/>
            <p:cNvSpPr/>
            <p:nvPr/>
          </p:nvSpPr>
          <p:spPr>
            <a:xfrm>
              <a:off x="5087880" y="2232000"/>
              <a:ext cx="1944720" cy="1081080"/>
            </a:xfrm>
            <a:prstGeom prst="rect">
              <a:avLst/>
            </a:prstGeom>
            <a:solidFill>
              <a:srgbClr val="b39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6d7ac"/>
                  </a:solidFill>
                  <a:latin typeface="微软雅黑"/>
                  <a:ea typeface="微软雅黑"/>
                </a:rPr>
                <a:t>迪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42"/>
            <p:cNvSpPr/>
            <p:nvPr/>
          </p:nvSpPr>
          <p:spPr>
            <a:xfrm>
              <a:off x="6022800" y="2365920"/>
              <a:ext cx="74520" cy="74520"/>
            </a:xfrm>
            <a:prstGeom prst="ellipse">
              <a:avLst/>
            </a:prstGeom>
            <a:solidFill>
              <a:srgbClr val="e6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457320" y="1268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1920" y="90972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科技感顺滑弹性创意动画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8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8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8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8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8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C79-A3BA-4F33-96C1-E84C803596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文本框 1"/>
          <p:cNvSpPr/>
          <p:nvPr/>
        </p:nvSpPr>
        <p:spPr>
          <a:xfrm>
            <a:off x="4618800" y="6237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感谢您给我这次展示的机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2"/>
          <p:cNvSpPr/>
          <p:nvPr/>
        </p:nvSpPr>
        <p:spPr>
          <a:xfrm>
            <a:off x="2022480" y="2565360"/>
            <a:ext cx="10080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3"/>
          <p:cNvSpPr/>
          <p:nvPr/>
        </p:nvSpPr>
        <p:spPr>
          <a:xfrm>
            <a:off x="3025800" y="2565360"/>
            <a:ext cx="10098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"/>
          <p:cNvSpPr/>
          <p:nvPr/>
        </p:nvSpPr>
        <p:spPr>
          <a:xfrm>
            <a:off x="4030560" y="2565360"/>
            <a:ext cx="10080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5"/>
          <p:cNvSpPr/>
          <p:nvPr/>
        </p:nvSpPr>
        <p:spPr>
          <a:xfrm>
            <a:off x="5033880" y="2565360"/>
            <a:ext cx="10080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6"/>
          <p:cNvSpPr/>
          <p:nvPr/>
        </p:nvSpPr>
        <p:spPr>
          <a:xfrm>
            <a:off x="6037200" y="2565360"/>
            <a:ext cx="10080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7"/>
          <p:cNvSpPr/>
          <p:nvPr/>
        </p:nvSpPr>
        <p:spPr>
          <a:xfrm>
            <a:off x="7040520" y="2565360"/>
            <a:ext cx="100800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8"/>
          <p:cNvSpPr/>
          <p:nvPr/>
        </p:nvSpPr>
        <p:spPr>
          <a:xfrm>
            <a:off x="8045280" y="2565360"/>
            <a:ext cx="100836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9"/>
          <p:cNvSpPr/>
          <p:nvPr/>
        </p:nvSpPr>
        <p:spPr>
          <a:xfrm>
            <a:off x="9048600" y="2565360"/>
            <a:ext cx="1008360" cy="1008000"/>
          </a:xfrm>
          <a:prstGeom prst="ellipse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1017" dur="250" fill="hold"/>
                                        <p:tgtEl>
                                          <p:spTgt spid="5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8" dur="indefinite" autoRev="1" nodeType="withEffect" fill="hold" presetClass="emph" presetID="6">
                                  <p:stCondLst>
                                    <p:cond delay="3750"/>
                                  </p:stCondLst>
                                  <p:childTnLst>
                                    <p:animScale>
                                      <p:cBhvr>
                                        <p:cTn id="1019" dur="250" fill="hold"/>
                                        <p:tgtEl>
                                          <p:spTgt spid="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0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021" dur="250" fill="hold"/>
                                        <p:tgtEl>
                                          <p:spTgt spid="5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2" dur="indefinite" autoRev="1" nodeType="withEffect" fill="hold" presetClass="emph" presetID="6">
                                  <p:stCondLst>
                                    <p:cond delay="4250"/>
                                  </p:stCondLst>
                                  <p:childTnLst>
                                    <p:animScale>
                                      <p:cBhvr>
                                        <p:cTn id="1023" dur="250" fill="hold"/>
                                        <p:tgtEl>
                                          <p:spTgt spid="5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4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025" dur="250" fill="hold"/>
                                        <p:tgtEl>
                                          <p:spTgt spid="5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6" dur="indefinite" autoRev="1" nodeType="withEffect" fill="hold" presetClass="emph" presetID="6">
                                  <p:stCondLst>
                                    <p:cond delay="4750"/>
                                  </p:stCondLst>
                                  <p:childTnLst>
                                    <p:animScale>
                                      <p:cBhvr>
                                        <p:cTn id="1027" dur="250" fill="hold"/>
                                        <p:tgtEl>
                                          <p:spTgt spid="5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8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029" dur="250" fill="hold"/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0" dur="indefinite" autoRev="1" nodeType="withEffect" fill="hold" presetClass="emph" presetID="6">
                                  <p:stCondLst>
                                    <p:cond delay="5250"/>
                                  </p:stCondLst>
                                  <p:childTnLst>
                                    <p:animScale>
                                      <p:cBhvr>
                                        <p:cTn id="1031" dur="25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2" presetSubtype="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22"/>
          <p:cNvSpPr/>
          <p:nvPr/>
        </p:nvSpPr>
        <p:spPr>
          <a:xfrm>
            <a:off x="958680" y="884160"/>
            <a:ext cx="64944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1751040" y="880920"/>
            <a:ext cx="64944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8"/>
          <p:cNvSpPr/>
          <p:nvPr/>
        </p:nvSpPr>
        <p:spPr>
          <a:xfrm>
            <a:off x="2543040" y="884160"/>
            <a:ext cx="64800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3"/>
          <p:cNvSpPr/>
          <p:nvPr/>
        </p:nvSpPr>
        <p:spPr>
          <a:xfrm>
            <a:off x="3335400" y="884160"/>
            <a:ext cx="64908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93456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5"/>
          <p:cNvSpPr/>
          <p:nvPr/>
        </p:nvSpPr>
        <p:spPr>
          <a:xfrm>
            <a:off x="94716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1726920" y="6904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7"/>
          <p:cNvSpPr/>
          <p:nvPr/>
        </p:nvSpPr>
        <p:spPr>
          <a:xfrm>
            <a:off x="1739520" y="6904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1"/>
          <p:cNvSpPr/>
          <p:nvPr/>
        </p:nvSpPr>
        <p:spPr>
          <a:xfrm>
            <a:off x="251892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2"/>
          <p:cNvSpPr/>
          <p:nvPr/>
        </p:nvSpPr>
        <p:spPr>
          <a:xfrm>
            <a:off x="253152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31056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3323880" y="692280"/>
            <a:ext cx="6609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6d7ac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0"/>
          <p:cNvSpPr/>
          <p:nvPr/>
        </p:nvSpPr>
        <p:spPr>
          <a:xfrm>
            <a:off x="938160" y="933480"/>
            <a:ext cx="0" cy="86508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1"/>
          <p:cNvSpPr/>
          <p:nvPr/>
        </p:nvSpPr>
        <p:spPr>
          <a:xfrm>
            <a:off x="1620720" y="927000"/>
            <a:ext cx="1800" cy="86364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"/>
          <p:cNvSpPr/>
          <p:nvPr/>
        </p:nvSpPr>
        <p:spPr>
          <a:xfrm>
            <a:off x="825480" y="763560"/>
            <a:ext cx="3271680" cy="11905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4"/>
          <p:cNvSpPr/>
          <p:nvPr/>
        </p:nvSpPr>
        <p:spPr>
          <a:xfrm>
            <a:off x="1730520" y="932040"/>
            <a:ext cx="0" cy="86328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5"/>
          <p:cNvSpPr/>
          <p:nvPr/>
        </p:nvSpPr>
        <p:spPr>
          <a:xfrm>
            <a:off x="2413080" y="923760"/>
            <a:ext cx="0" cy="86544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9"/>
          <p:cNvSpPr/>
          <p:nvPr/>
        </p:nvSpPr>
        <p:spPr>
          <a:xfrm>
            <a:off x="2521080" y="933480"/>
            <a:ext cx="1440" cy="86508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30"/>
          <p:cNvSpPr/>
          <p:nvPr/>
        </p:nvSpPr>
        <p:spPr>
          <a:xfrm>
            <a:off x="3205080" y="927000"/>
            <a:ext cx="1800" cy="86364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34"/>
          <p:cNvSpPr/>
          <p:nvPr/>
        </p:nvSpPr>
        <p:spPr>
          <a:xfrm>
            <a:off x="3314880" y="933480"/>
            <a:ext cx="0" cy="86508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35"/>
          <p:cNvSpPr/>
          <p:nvPr/>
        </p:nvSpPr>
        <p:spPr>
          <a:xfrm>
            <a:off x="3997440" y="927000"/>
            <a:ext cx="0" cy="863640"/>
          </a:xfrm>
          <a:prstGeom prst="line">
            <a:avLst/>
          </a:prstGeom>
          <a:ln cap="rnd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40"/>
          <p:cNvSpPr/>
          <p:nvPr/>
        </p:nvSpPr>
        <p:spPr>
          <a:xfrm>
            <a:off x="-95400" y="0"/>
            <a:ext cx="12287520" cy="6858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6653160" y="3962520"/>
            <a:ext cx="1241640" cy="10792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4216320" y="2000160"/>
            <a:ext cx="2536920" cy="15210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6343560" y="2990880"/>
            <a:ext cx="1736640" cy="11811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5"/>
          <p:cNvSpPr/>
          <p:nvPr/>
        </p:nvSpPr>
        <p:spPr>
          <a:xfrm>
            <a:off x="5732640" y="3220920"/>
            <a:ext cx="1660320" cy="9921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6"/>
          <p:cNvSpPr/>
          <p:nvPr/>
        </p:nvSpPr>
        <p:spPr>
          <a:xfrm>
            <a:off x="6296040" y="4627440"/>
            <a:ext cx="1174680" cy="10591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7"/>
          <p:cNvSpPr/>
          <p:nvPr/>
        </p:nvSpPr>
        <p:spPr>
          <a:xfrm>
            <a:off x="7210440" y="5189400"/>
            <a:ext cx="905040" cy="5652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8"/>
          <p:cNvSpPr/>
          <p:nvPr/>
        </p:nvSpPr>
        <p:spPr>
          <a:xfrm>
            <a:off x="7143840" y="4697280"/>
            <a:ext cx="812880" cy="6192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9"/>
          <p:cNvSpPr/>
          <p:nvPr/>
        </p:nvSpPr>
        <p:spPr>
          <a:xfrm>
            <a:off x="4400640" y="3349800"/>
            <a:ext cx="2330280" cy="14349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0"/>
          <p:cNvSpPr/>
          <p:nvPr/>
        </p:nvSpPr>
        <p:spPr>
          <a:xfrm>
            <a:off x="9039240" y="1635120"/>
            <a:ext cx="1305000" cy="13492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50"/>
          <p:cNvSpPr/>
          <p:nvPr/>
        </p:nvSpPr>
        <p:spPr>
          <a:xfrm>
            <a:off x="6869160" y="1643040"/>
            <a:ext cx="2697120" cy="188424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3"/>
          <p:cNvSpPr/>
          <p:nvPr/>
        </p:nvSpPr>
        <p:spPr>
          <a:xfrm>
            <a:off x="7651800" y="5945040"/>
            <a:ext cx="314280" cy="2206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4"/>
          <p:cNvSpPr/>
          <p:nvPr/>
        </p:nvSpPr>
        <p:spPr>
          <a:xfrm>
            <a:off x="7818480" y="5295960"/>
            <a:ext cx="961920" cy="5968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5"/>
          <p:cNvSpPr/>
          <p:nvPr/>
        </p:nvSpPr>
        <p:spPr>
          <a:xfrm>
            <a:off x="7826400" y="4432320"/>
            <a:ext cx="650880" cy="9334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6"/>
          <p:cNvSpPr/>
          <p:nvPr/>
        </p:nvSpPr>
        <p:spPr>
          <a:xfrm>
            <a:off x="8616960" y="5175360"/>
            <a:ext cx="466560" cy="40644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7"/>
          <p:cNvSpPr/>
          <p:nvPr/>
        </p:nvSpPr>
        <p:spPr>
          <a:xfrm>
            <a:off x="7818480" y="3978360"/>
            <a:ext cx="927000" cy="8604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8"/>
          <p:cNvSpPr/>
          <p:nvPr/>
        </p:nvSpPr>
        <p:spPr>
          <a:xfrm>
            <a:off x="8621640" y="4000680"/>
            <a:ext cx="444600" cy="10029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9"/>
          <p:cNvSpPr/>
          <p:nvPr/>
        </p:nvSpPr>
        <p:spPr>
          <a:xfrm>
            <a:off x="9239400" y="4467240"/>
            <a:ext cx="155520" cy="1270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0"/>
          <p:cNvSpPr/>
          <p:nvPr/>
        </p:nvSpPr>
        <p:spPr>
          <a:xfrm>
            <a:off x="8821800" y="4514760"/>
            <a:ext cx="631800" cy="8287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1"/>
          <p:cNvSpPr/>
          <p:nvPr/>
        </p:nvSpPr>
        <p:spPr>
          <a:xfrm>
            <a:off x="8840880" y="3956040"/>
            <a:ext cx="514080" cy="6127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2"/>
          <p:cNvSpPr/>
          <p:nvPr/>
        </p:nvSpPr>
        <p:spPr>
          <a:xfrm>
            <a:off x="8159760" y="3745080"/>
            <a:ext cx="692280" cy="6174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3"/>
          <p:cNvSpPr/>
          <p:nvPr/>
        </p:nvSpPr>
        <p:spPr>
          <a:xfrm>
            <a:off x="7642080" y="3376440"/>
            <a:ext cx="835200" cy="9144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8161200" y="3357720"/>
            <a:ext cx="603360" cy="4665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8701200" y="3622680"/>
            <a:ext cx="761760" cy="4222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6"/>
          <p:cNvSpPr/>
          <p:nvPr/>
        </p:nvSpPr>
        <p:spPr>
          <a:xfrm>
            <a:off x="8933040" y="3370320"/>
            <a:ext cx="145800" cy="1872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7"/>
          <p:cNvSpPr/>
          <p:nvPr/>
        </p:nvSpPr>
        <p:spPr>
          <a:xfrm>
            <a:off x="8558280" y="3019320"/>
            <a:ext cx="669960" cy="8002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8"/>
          <p:cNvSpPr/>
          <p:nvPr/>
        </p:nvSpPr>
        <p:spPr>
          <a:xfrm>
            <a:off x="9178920" y="3022560"/>
            <a:ext cx="463680" cy="44784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9"/>
          <p:cNvSpPr/>
          <p:nvPr/>
        </p:nvSpPr>
        <p:spPr>
          <a:xfrm>
            <a:off x="9325080" y="2627280"/>
            <a:ext cx="637920" cy="72720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0"/>
          <p:cNvSpPr/>
          <p:nvPr/>
        </p:nvSpPr>
        <p:spPr>
          <a:xfrm>
            <a:off x="7658280" y="3247920"/>
            <a:ext cx="380880" cy="4795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1"/>
          <p:cNvSpPr/>
          <p:nvPr/>
        </p:nvSpPr>
        <p:spPr>
          <a:xfrm>
            <a:off x="8356680" y="4748040"/>
            <a:ext cx="527040" cy="69408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2"/>
          <p:cNvSpPr/>
          <p:nvPr/>
        </p:nvSpPr>
        <p:spPr>
          <a:xfrm>
            <a:off x="8886960" y="3301920"/>
            <a:ext cx="133200" cy="13356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4"/>
          <p:cNvSpPr/>
          <p:nvPr/>
        </p:nvSpPr>
        <p:spPr>
          <a:xfrm>
            <a:off x="9091440" y="5495760"/>
            <a:ext cx="152640" cy="35892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67"/>
          <p:cNvSpPr/>
          <p:nvPr/>
        </p:nvSpPr>
        <p:spPr>
          <a:xfrm>
            <a:off x="1873080" y="3325680"/>
            <a:ext cx="1941840" cy="23227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7342d"/>
                </a:solidFill>
                <a:latin typeface="微软雅黑"/>
                <a:ea typeface="微软雅黑"/>
              </a:rPr>
              <a:t>河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4559400" y="6237360"/>
            <a:ext cx="30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1992</a:t>
            </a: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年，我出生在河北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25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5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5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42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5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4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25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5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42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"/>
                            </p:stCondLst>
                            <p:childTnLst>
                              <p:par>
                                <p:cTn id="9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950"/>
                            </p:stCondLst>
                            <p:childTnLst>
                              <p:par>
                                <p:cTn id="2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1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352 -0.15348 L 2.5E-006 4.07407E-006 E">
                                      <p:cBhvr>
                                        <p:cTn id="291" dur="125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200"/>
                            </p:stCondLst>
                            <p:childTnLst>
                              <p:par>
                                <p:cTn id="29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25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"/>
          <p:cNvSpPr/>
          <p:nvPr/>
        </p:nvSpPr>
        <p:spPr>
          <a:xfrm>
            <a:off x="4368240" y="623736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在河北省度过了我的小学和中学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0"/>
          <p:cNvGrpSpPr/>
          <p:nvPr/>
        </p:nvGrpSpPr>
        <p:grpSpPr>
          <a:xfrm>
            <a:off x="3763800" y="3718080"/>
            <a:ext cx="3119760" cy="1800000"/>
            <a:chOff x="3763800" y="3718080"/>
            <a:chExt cx="3119760" cy="1800000"/>
          </a:xfrm>
        </p:grpSpPr>
        <p:sp>
          <p:nvSpPr>
            <p:cNvPr id="136" name="矩形 2"/>
            <p:cNvSpPr/>
            <p:nvPr/>
          </p:nvSpPr>
          <p:spPr>
            <a:xfrm>
              <a:off x="3763800" y="3718080"/>
              <a:ext cx="3119760" cy="1800000"/>
            </a:xfrm>
            <a:prstGeom prst="pie">
              <a:avLst/>
            </a:prstGeom>
            <a:solidFill>
              <a:srgbClr val="e6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3"/>
            <p:cNvSpPr/>
            <p:nvPr/>
          </p:nvSpPr>
          <p:spPr>
            <a:xfrm>
              <a:off x="3992040" y="4350240"/>
              <a:ext cx="549000" cy="115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组合 19"/>
            <p:cNvGrpSpPr/>
            <p:nvPr/>
          </p:nvGrpSpPr>
          <p:grpSpPr>
            <a:xfrm>
              <a:off x="4738680" y="4346280"/>
              <a:ext cx="865440" cy="631080"/>
              <a:chOff x="4738680" y="4346280"/>
              <a:chExt cx="865440" cy="631080"/>
            </a:xfrm>
          </p:grpSpPr>
          <p:sp>
            <p:nvSpPr>
              <p:cNvPr id="139" name="矩形 14"/>
              <p:cNvSpPr/>
              <p:nvPr/>
            </p:nvSpPr>
            <p:spPr>
              <a:xfrm>
                <a:off x="4739760" y="4349880"/>
                <a:ext cx="864360" cy="627480"/>
              </a:xfrm>
              <a:prstGeom prst="rect">
                <a:avLst/>
              </a:prstGeom>
              <a:solidFill>
                <a:srgbClr val="5b7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16"/>
              <p:cNvSpPr/>
              <p:nvPr/>
            </p:nvSpPr>
            <p:spPr>
              <a:xfrm>
                <a:off x="4738680" y="4346280"/>
                <a:ext cx="864360" cy="627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18"/>
            <p:cNvGrpSpPr/>
            <p:nvPr/>
          </p:nvGrpSpPr>
          <p:grpSpPr>
            <a:xfrm>
              <a:off x="5803560" y="4350240"/>
              <a:ext cx="867600" cy="627480"/>
              <a:chOff x="5803560" y="4350240"/>
              <a:chExt cx="867600" cy="627480"/>
            </a:xfrm>
          </p:grpSpPr>
          <p:sp>
            <p:nvSpPr>
              <p:cNvPr id="142" name="矩形 15"/>
              <p:cNvSpPr/>
              <p:nvPr/>
            </p:nvSpPr>
            <p:spPr>
              <a:xfrm>
                <a:off x="5803560" y="4350240"/>
                <a:ext cx="864000" cy="627480"/>
              </a:xfrm>
              <a:prstGeom prst="rect">
                <a:avLst/>
              </a:prstGeom>
              <a:solidFill>
                <a:srgbClr val="5b7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矩形 17"/>
              <p:cNvSpPr/>
              <p:nvPr/>
            </p:nvSpPr>
            <p:spPr>
              <a:xfrm>
                <a:off x="5807160" y="4350240"/>
                <a:ext cx="864000" cy="627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组合 21"/>
          <p:cNvGrpSpPr/>
          <p:nvPr/>
        </p:nvGrpSpPr>
        <p:grpSpPr>
          <a:xfrm>
            <a:off x="3003480" y="2128680"/>
            <a:ext cx="4608720" cy="1919520"/>
            <a:chOff x="3003480" y="2128680"/>
            <a:chExt cx="4608720" cy="1919520"/>
          </a:xfrm>
        </p:grpSpPr>
        <p:sp>
          <p:nvSpPr>
            <p:cNvPr id="145" name="椭圆 3"/>
            <p:cNvSpPr/>
            <p:nvPr/>
          </p:nvSpPr>
          <p:spPr>
            <a:xfrm>
              <a:off x="3003480" y="2136600"/>
              <a:ext cx="4608720" cy="1911600"/>
            </a:xfrm>
            <a:prstGeom prst="pie">
              <a:avLst/>
            </a:prstGeom>
            <a:solidFill>
              <a:srgbClr val="5b7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11"/>
            <p:cNvSpPr/>
            <p:nvPr/>
          </p:nvSpPr>
          <p:spPr>
            <a:xfrm>
              <a:off x="3003480" y="2128680"/>
              <a:ext cx="4608720" cy="1911600"/>
            </a:xfrm>
            <a:prstGeom prst="pie">
              <a:avLst/>
            </a:prstGeom>
            <a:solidFill>
              <a:srgbClr val="87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3"/>
          <p:cNvGrpSpPr/>
          <p:nvPr/>
        </p:nvGrpSpPr>
        <p:grpSpPr>
          <a:xfrm>
            <a:off x="8232840" y="4568760"/>
            <a:ext cx="1463760" cy="879480"/>
            <a:chOff x="8232840" y="4568760"/>
            <a:chExt cx="1463760" cy="879480"/>
          </a:xfrm>
        </p:grpSpPr>
        <p:grpSp>
          <p:nvGrpSpPr>
            <p:cNvPr id="148" name="组合 31"/>
            <p:cNvGrpSpPr/>
            <p:nvPr/>
          </p:nvGrpSpPr>
          <p:grpSpPr>
            <a:xfrm>
              <a:off x="8232840" y="4568760"/>
              <a:ext cx="1460520" cy="879480"/>
              <a:chOff x="8232840" y="4568760"/>
              <a:chExt cx="1460520" cy="879480"/>
            </a:xfrm>
          </p:grpSpPr>
          <p:sp>
            <p:nvSpPr>
              <p:cNvPr id="149" name="矩形 25"/>
              <p:cNvSpPr/>
              <p:nvPr/>
            </p:nvSpPr>
            <p:spPr>
              <a:xfrm>
                <a:off x="8232840" y="4568760"/>
                <a:ext cx="1460520" cy="87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五角星 26"/>
              <p:cNvSpPr/>
              <p:nvPr/>
            </p:nvSpPr>
            <p:spPr>
              <a:xfrm>
                <a:off x="8296200" y="4640400"/>
                <a:ext cx="216000" cy="21564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五角星 27"/>
              <p:cNvSpPr/>
              <p:nvPr/>
            </p:nvSpPr>
            <p:spPr>
              <a:xfrm>
                <a:off x="8580960" y="4642560"/>
                <a:ext cx="120240" cy="106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五角星 28"/>
              <p:cNvSpPr/>
              <p:nvPr/>
            </p:nvSpPr>
            <p:spPr>
              <a:xfrm>
                <a:off x="8571240" y="4787280"/>
                <a:ext cx="120240" cy="106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五角星 29"/>
              <p:cNvSpPr/>
              <p:nvPr/>
            </p:nvSpPr>
            <p:spPr>
              <a:xfrm>
                <a:off x="8460360" y="4893480"/>
                <a:ext cx="120240" cy="106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五角星 30"/>
              <p:cNvSpPr/>
              <p:nvPr/>
            </p:nvSpPr>
            <p:spPr>
              <a:xfrm>
                <a:off x="8300880" y="4928040"/>
                <a:ext cx="120240" cy="106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32"/>
            <p:cNvSpPr/>
            <p:nvPr/>
          </p:nvSpPr>
          <p:spPr>
            <a:xfrm>
              <a:off x="8232840" y="4568760"/>
              <a:ext cx="1463760" cy="87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24"/>
          <p:cNvGrpSpPr/>
          <p:nvPr/>
        </p:nvGrpSpPr>
        <p:grpSpPr>
          <a:xfrm>
            <a:off x="8129520" y="1471680"/>
            <a:ext cx="154080" cy="4044960"/>
            <a:chOff x="8129520" y="1471680"/>
            <a:chExt cx="154080" cy="4044960"/>
          </a:xfrm>
        </p:grpSpPr>
        <p:sp>
          <p:nvSpPr>
            <p:cNvPr id="157" name="矩形 22"/>
            <p:cNvSpPr/>
            <p:nvPr/>
          </p:nvSpPr>
          <p:spPr>
            <a:xfrm>
              <a:off x="8170200" y="1543680"/>
              <a:ext cx="72360" cy="3972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3"/>
            <p:cNvSpPr/>
            <p:nvPr/>
          </p:nvSpPr>
          <p:spPr>
            <a:xfrm>
              <a:off x="8129520" y="1471680"/>
              <a:ext cx="154080" cy="14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梯形 5"/>
          <p:cNvSpPr/>
          <p:nvPr/>
        </p:nvSpPr>
        <p:spPr>
          <a:xfrm flipV="1">
            <a:off x="2692440" y="1834560"/>
            <a:ext cx="338040" cy="3668760"/>
          </a:xfrm>
          <a:custGeom>
            <a:avLst/>
            <a:gdLst>
              <a:gd name="textAreaLeft" fmla="*/ 74160 w 338040"/>
              <a:gd name="textAreaRight" fmla="*/ 263880 w 338040"/>
              <a:gd name="textAreaTop" fmla="*/ 806760 h 3668760"/>
              <a:gd name="textAreaBottom" fmla="*/ 2862000 h 366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7634c"/>
          </a:solidFill>
          <a:ln w="25560">
            <a:solidFill>
              <a:srgbClr val="876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39"/>
          <p:cNvSpPr/>
          <p:nvPr/>
        </p:nvSpPr>
        <p:spPr>
          <a:xfrm>
            <a:off x="1123920" y="119160"/>
            <a:ext cx="3473640" cy="3500280"/>
          </a:xfrm>
          <a:prstGeom prst="pie">
            <a:avLst/>
          </a:prstGeom>
          <a:solidFill>
            <a:srgbClr val="e6d7ac"/>
          </a:solidFill>
          <a:ln w="25560">
            <a:solidFill>
              <a:srgbClr val="e6d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3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3.54167E-006 -2.59259E-006 L -0.00313 -0.43055 E">
                                      <p:cBhvr>
                                        <p:cTn id="35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29"/>
          <p:cNvGrpSpPr/>
          <p:nvPr/>
        </p:nvGrpSpPr>
        <p:grpSpPr>
          <a:xfrm>
            <a:off x="1733400" y="189000"/>
            <a:ext cx="8724960" cy="5729040"/>
            <a:chOff x="1733400" y="189000"/>
            <a:chExt cx="8724960" cy="5729040"/>
          </a:xfrm>
        </p:grpSpPr>
        <p:grpSp>
          <p:nvGrpSpPr>
            <p:cNvPr id="162" name="组合 28"/>
            <p:cNvGrpSpPr/>
            <p:nvPr/>
          </p:nvGrpSpPr>
          <p:grpSpPr>
            <a:xfrm>
              <a:off x="1733400" y="189000"/>
              <a:ext cx="8724960" cy="5729040"/>
              <a:chOff x="1733400" y="189000"/>
              <a:chExt cx="8724960" cy="5729040"/>
            </a:xfrm>
          </p:grpSpPr>
          <p:sp>
            <p:nvSpPr>
              <p:cNvPr id="163" name="矩形 2"/>
              <p:cNvSpPr/>
              <p:nvPr/>
            </p:nvSpPr>
            <p:spPr>
              <a:xfrm>
                <a:off x="1733400" y="189000"/>
                <a:ext cx="8724960" cy="5729040"/>
              </a:xfrm>
              <a:prstGeom prst="pie">
                <a:avLst/>
              </a:prstGeom>
              <a:solidFill>
                <a:srgbClr val="e6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文本框 21"/>
              <p:cNvSpPr/>
              <p:nvPr/>
            </p:nvSpPr>
            <p:spPr>
              <a:xfrm>
                <a:off x="5244480" y="2895120"/>
                <a:ext cx="1857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000000"/>
                    </a:solidFill>
                    <a:latin typeface="宋体"/>
                  </a:rPr>
                  <a:t>录取通知书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文本框 22"/>
              <p:cNvSpPr/>
              <p:nvPr/>
            </p:nvSpPr>
            <p:spPr>
              <a:xfrm>
                <a:off x="3467160" y="39762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迪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23"/>
              <p:cNvSpPr/>
              <p:nvPr/>
            </p:nvSpPr>
            <p:spPr>
              <a:xfrm>
                <a:off x="4158000" y="39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同学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24"/>
              <p:cNvSpPr/>
              <p:nvPr/>
            </p:nvSpPr>
            <p:spPr>
              <a:xfrm>
                <a:off x="4298760" y="4467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录取你入我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文本框 26"/>
              <p:cNvSpPr/>
              <p:nvPr/>
            </p:nvSpPr>
            <p:spPr>
              <a:xfrm>
                <a:off x="4863600" y="1235880"/>
                <a:ext cx="2619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000000"/>
                    </a:solidFill>
                    <a:latin typeface="华文行楷"/>
                    <a:ea typeface="华文行楷"/>
                  </a:rPr>
                  <a:t>野鸡大学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27"/>
              <p:cNvSpPr/>
              <p:nvPr/>
            </p:nvSpPr>
            <p:spPr>
              <a:xfrm>
                <a:off x="5111280" y="2389320"/>
                <a:ext cx="196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YeJi Universit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文本框 25"/>
            <p:cNvSpPr/>
            <p:nvPr/>
          </p:nvSpPr>
          <p:spPr>
            <a:xfrm>
              <a:off x="6643080" y="44733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胡编乱造系瞎摸瞪眼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"/>
          <p:cNvSpPr/>
          <p:nvPr/>
        </p:nvSpPr>
        <p:spPr>
          <a:xfrm>
            <a:off x="3514680" y="623736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之后通过努力和天赋考取了野鸡大学瞎摸瞪眼专业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0"/>
          <p:cNvGrpSpPr/>
          <p:nvPr/>
        </p:nvGrpSpPr>
        <p:grpSpPr>
          <a:xfrm>
            <a:off x="1273320" y="4797360"/>
            <a:ext cx="9297360" cy="1295640"/>
            <a:chOff x="1273320" y="4797360"/>
            <a:chExt cx="9297360" cy="1295640"/>
          </a:xfrm>
        </p:grpSpPr>
        <p:sp>
          <p:nvSpPr>
            <p:cNvPr id="173" name="任意多边形 9"/>
            <p:cNvSpPr/>
            <p:nvPr/>
          </p:nvSpPr>
          <p:spPr>
            <a:xfrm>
              <a:off x="1273320" y="4797360"/>
              <a:ext cx="9006120" cy="1295640"/>
            </a:xfrm>
            <a:prstGeom prst="pie">
              <a:avLst/>
            </a:prstGeom>
            <a:solidFill>
              <a:srgbClr val="87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9"/>
            <p:cNvSpPr/>
            <p:nvPr/>
          </p:nvSpPr>
          <p:spPr>
            <a:xfrm>
              <a:off x="10058040" y="4803480"/>
              <a:ext cx="512640" cy="1283040"/>
            </a:xfrm>
            <a:prstGeom prst="pie">
              <a:avLst/>
            </a:prstGeom>
            <a:solidFill>
              <a:srgbClr val="e6d7a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2"/>
            <p:cNvSpPr/>
            <p:nvPr/>
          </p:nvSpPr>
          <p:spPr>
            <a:xfrm flipH="1">
              <a:off x="10069200" y="5810760"/>
              <a:ext cx="501480" cy="0"/>
            </a:xfrm>
            <a:prstGeom prst="line">
              <a:avLst/>
            </a:prstGeom>
            <a:ln w="2844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3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32"/>
          <p:cNvGrpSpPr/>
          <p:nvPr/>
        </p:nvGrpSpPr>
        <p:grpSpPr>
          <a:xfrm>
            <a:off x="839880" y="3965400"/>
            <a:ext cx="2452680" cy="1438560"/>
            <a:chOff x="839880" y="3965400"/>
            <a:chExt cx="2452680" cy="1438560"/>
          </a:xfrm>
        </p:grpSpPr>
        <p:sp>
          <p:nvSpPr>
            <p:cNvPr id="177" name="平行四边形 2"/>
            <p:cNvSpPr/>
            <p:nvPr/>
          </p:nvSpPr>
          <p:spPr>
            <a:xfrm>
              <a:off x="916560" y="4395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"/>
            <p:cNvSpPr/>
            <p:nvPr/>
          </p:nvSpPr>
          <p:spPr>
            <a:xfrm>
              <a:off x="839880" y="4966920"/>
              <a:ext cx="144000" cy="432360"/>
            </a:xfrm>
            <a:prstGeom prst="ellipse">
              <a:avLst/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1"/>
            <p:cNvSpPr/>
            <p:nvPr/>
          </p:nvSpPr>
          <p:spPr>
            <a:xfrm>
              <a:off x="884880" y="499752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平行四边形 12"/>
            <p:cNvSpPr/>
            <p:nvPr/>
          </p:nvSpPr>
          <p:spPr>
            <a:xfrm>
              <a:off x="892800" y="396540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0"/>
            <p:cNvSpPr/>
            <p:nvPr/>
          </p:nvSpPr>
          <p:spPr>
            <a:xfrm>
              <a:off x="2679840" y="398808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平行四边形 5"/>
            <p:cNvSpPr/>
            <p:nvPr/>
          </p:nvSpPr>
          <p:spPr>
            <a:xfrm>
              <a:off x="911880" y="396540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31"/>
            <p:cNvSpPr/>
            <p:nvPr/>
          </p:nvSpPr>
          <p:spPr>
            <a:xfrm>
              <a:off x="1796040" y="396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社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89"/>
          <p:cNvGrpSpPr/>
          <p:nvPr/>
        </p:nvGrpSpPr>
        <p:grpSpPr>
          <a:xfrm>
            <a:off x="1271520" y="3502080"/>
            <a:ext cx="2452680" cy="1436760"/>
            <a:chOff x="1271520" y="3502080"/>
            <a:chExt cx="2452680" cy="1436760"/>
          </a:xfrm>
        </p:grpSpPr>
        <p:sp>
          <p:nvSpPr>
            <p:cNvPr id="185" name="平行四边形 90"/>
            <p:cNvSpPr/>
            <p:nvPr/>
          </p:nvSpPr>
          <p:spPr>
            <a:xfrm>
              <a:off x="1348200" y="393120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91"/>
            <p:cNvSpPr/>
            <p:nvPr/>
          </p:nvSpPr>
          <p:spPr>
            <a:xfrm>
              <a:off x="1271520" y="4502520"/>
              <a:ext cx="144000" cy="431640"/>
            </a:xfrm>
            <a:prstGeom prst="ellipse">
              <a:avLst/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92"/>
            <p:cNvSpPr/>
            <p:nvPr/>
          </p:nvSpPr>
          <p:spPr>
            <a:xfrm>
              <a:off x="1316520" y="4532760"/>
              <a:ext cx="1867320" cy="345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平行四边形 93"/>
            <p:cNvSpPr/>
            <p:nvPr/>
          </p:nvSpPr>
          <p:spPr>
            <a:xfrm>
              <a:off x="1324440" y="35020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94"/>
            <p:cNvSpPr/>
            <p:nvPr/>
          </p:nvSpPr>
          <p:spPr>
            <a:xfrm>
              <a:off x="3111480" y="3524760"/>
              <a:ext cx="551880" cy="13550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平行四边形 95"/>
            <p:cNvSpPr/>
            <p:nvPr/>
          </p:nvSpPr>
          <p:spPr>
            <a:xfrm>
              <a:off x="1343520" y="35020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96"/>
            <p:cNvSpPr/>
            <p:nvPr/>
          </p:nvSpPr>
          <p:spPr>
            <a:xfrm>
              <a:off x="2227680" y="3503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营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97"/>
          <p:cNvGrpSpPr/>
          <p:nvPr/>
        </p:nvGrpSpPr>
        <p:grpSpPr>
          <a:xfrm>
            <a:off x="6451560" y="3965400"/>
            <a:ext cx="2452680" cy="1438560"/>
            <a:chOff x="6451560" y="3965400"/>
            <a:chExt cx="2452680" cy="1438560"/>
          </a:xfrm>
        </p:grpSpPr>
        <p:sp>
          <p:nvSpPr>
            <p:cNvPr id="193" name="平行四边形 98"/>
            <p:cNvSpPr/>
            <p:nvPr/>
          </p:nvSpPr>
          <p:spPr>
            <a:xfrm>
              <a:off x="6528240" y="4395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99"/>
            <p:cNvSpPr/>
            <p:nvPr/>
          </p:nvSpPr>
          <p:spPr>
            <a:xfrm>
              <a:off x="6451560" y="4966920"/>
              <a:ext cx="144000" cy="432360"/>
            </a:xfrm>
            <a:prstGeom prst="ellipse">
              <a:avLst/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00"/>
            <p:cNvSpPr/>
            <p:nvPr/>
          </p:nvSpPr>
          <p:spPr>
            <a:xfrm>
              <a:off x="6496560" y="499752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平行四边形 101"/>
            <p:cNvSpPr/>
            <p:nvPr/>
          </p:nvSpPr>
          <p:spPr>
            <a:xfrm>
              <a:off x="6504480" y="396540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02"/>
            <p:cNvSpPr/>
            <p:nvPr/>
          </p:nvSpPr>
          <p:spPr>
            <a:xfrm>
              <a:off x="8291520" y="398808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平行四边形 103"/>
            <p:cNvSpPr/>
            <p:nvPr/>
          </p:nvSpPr>
          <p:spPr>
            <a:xfrm>
              <a:off x="6523560" y="396540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04"/>
            <p:cNvSpPr/>
            <p:nvPr/>
          </p:nvSpPr>
          <p:spPr>
            <a:xfrm>
              <a:off x="7407720" y="396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ff"/>
                  </a:solidFill>
                  <a:latin typeface="宋体"/>
                </a:rPr>
                <a:t>概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05"/>
          <p:cNvGrpSpPr/>
          <p:nvPr/>
        </p:nvGrpSpPr>
        <p:grpSpPr>
          <a:xfrm>
            <a:off x="6019920" y="3502080"/>
            <a:ext cx="2452680" cy="1436760"/>
            <a:chOff x="6019920" y="3502080"/>
            <a:chExt cx="2452680" cy="1436760"/>
          </a:xfrm>
        </p:grpSpPr>
        <p:sp>
          <p:nvSpPr>
            <p:cNvPr id="201" name="平行四边形 106"/>
            <p:cNvSpPr/>
            <p:nvPr/>
          </p:nvSpPr>
          <p:spPr>
            <a:xfrm>
              <a:off x="6096600" y="393120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7"/>
            <p:cNvSpPr/>
            <p:nvPr/>
          </p:nvSpPr>
          <p:spPr>
            <a:xfrm>
              <a:off x="6019920" y="4502520"/>
              <a:ext cx="144000" cy="431640"/>
            </a:xfrm>
            <a:prstGeom prst="ellipse">
              <a:avLst/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08"/>
            <p:cNvSpPr/>
            <p:nvPr/>
          </p:nvSpPr>
          <p:spPr>
            <a:xfrm>
              <a:off x="6064920" y="4532760"/>
              <a:ext cx="1867320" cy="345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09"/>
            <p:cNvSpPr/>
            <p:nvPr/>
          </p:nvSpPr>
          <p:spPr>
            <a:xfrm>
              <a:off x="6072840" y="35020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10"/>
            <p:cNvSpPr/>
            <p:nvPr/>
          </p:nvSpPr>
          <p:spPr>
            <a:xfrm>
              <a:off x="7859880" y="3524760"/>
              <a:ext cx="551880" cy="13550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平行四边形 111"/>
            <p:cNvSpPr/>
            <p:nvPr/>
          </p:nvSpPr>
          <p:spPr>
            <a:xfrm>
              <a:off x="6091920" y="35020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12"/>
            <p:cNvSpPr/>
            <p:nvPr/>
          </p:nvSpPr>
          <p:spPr>
            <a:xfrm>
              <a:off x="6976080" y="3503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法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113"/>
          <p:cNvGrpSpPr/>
          <p:nvPr/>
        </p:nvGrpSpPr>
        <p:grpSpPr>
          <a:xfrm>
            <a:off x="1727280" y="3027240"/>
            <a:ext cx="2452680" cy="1438560"/>
            <a:chOff x="1727280" y="3027240"/>
            <a:chExt cx="2452680" cy="1438560"/>
          </a:xfrm>
        </p:grpSpPr>
        <p:sp>
          <p:nvSpPr>
            <p:cNvPr id="209" name="平行四边形 114"/>
            <p:cNvSpPr/>
            <p:nvPr/>
          </p:nvSpPr>
          <p:spPr>
            <a:xfrm>
              <a:off x="1803960" y="345708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15"/>
            <p:cNvSpPr/>
            <p:nvPr/>
          </p:nvSpPr>
          <p:spPr>
            <a:xfrm>
              <a:off x="1727280" y="4028760"/>
              <a:ext cx="144000" cy="432360"/>
            </a:xfrm>
            <a:prstGeom prst="ellipse">
              <a:avLst/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16"/>
            <p:cNvSpPr/>
            <p:nvPr/>
          </p:nvSpPr>
          <p:spPr>
            <a:xfrm>
              <a:off x="1772280" y="405936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平行四边形 117"/>
            <p:cNvSpPr/>
            <p:nvPr/>
          </p:nvSpPr>
          <p:spPr>
            <a:xfrm>
              <a:off x="1780200" y="3027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18"/>
            <p:cNvSpPr/>
            <p:nvPr/>
          </p:nvSpPr>
          <p:spPr>
            <a:xfrm>
              <a:off x="3567240" y="304992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平行四边形 119"/>
            <p:cNvSpPr/>
            <p:nvPr/>
          </p:nvSpPr>
          <p:spPr>
            <a:xfrm>
              <a:off x="1799280" y="3027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20"/>
            <p:cNvSpPr/>
            <p:nvPr/>
          </p:nvSpPr>
          <p:spPr>
            <a:xfrm>
              <a:off x="2500200" y="302832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</a:rPr>
                <a:t>C+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21"/>
          <p:cNvGrpSpPr/>
          <p:nvPr/>
        </p:nvGrpSpPr>
        <p:grpSpPr>
          <a:xfrm>
            <a:off x="3624120" y="3027240"/>
            <a:ext cx="2471760" cy="1438560"/>
            <a:chOff x="3624120" y="3027240"/>
            <a:chExt cx="2471760" cy="1438560"/>
          </a:xfrm>
        </p:grpSpPr>
        <p:sp>
          <p:nvSpPr>
            <p:cNvPr id="217" name="平行四边形 122"/>
            <p:cNvSpPr/>
            <p:nvPr/>
          </p:nvSpPr>
          <p:spPr>
            <a:xfrm>
              <a:off x="3700800" y="345708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123"/>
            <p:cNvSpPr/>
            <p:nvPr/>
          </p:nvSpPr>
          <p:spPr>
            <a:xfrm>
              <a:off x="3624120" y="4028760"/>
              <a:ext cx="144000" cy="432360"/>
            </a:xfrm>
            <a:prstGeom prst="ellipse">
              <a:avLst/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24"/>
            <p:cNvSpPr/>
            <p:nvPr/>
          </p:nvSpPr>
          <p:spPr>
            <a:xfrm>
              <a:off x="3669120" y="405936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平行四边形 125"/>
            <p:cNvSpPr/>
            <p:nvPr/>
          </p:nvSpPr>
          <p:spPr>
            <a:xfrm>
              <a:off x="3677040" y="3027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26"/>
            <p:cNvSpPr/>
            <p:nvPr/>
          </p:nvSpPr>
          <p:spPr>
            <a:xfrm>
              <a:off x="5464440" y="304992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平行四边形 127"/>
            <p:cNvSpPr/>
            <p:nvPr/>
          </p:nvSpPr>
          <p:spPr>
            <a:xfrm>
              <a:off x="3719880" y="30272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28"/>
            <p:cNvSpPr/>
            <p:nvPr/>
          </p:nvSpPr>
          <p:spPr>
            <a:xfrm>
              <a:off x="4580280" y="3028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ff"/>
                  </a:solidFill>
                  <a:latin typeface="宋体"/>
                </a:rPr>
                <a:t>管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29"/>
          <p:cNvGrpSpPr/>
          <p:nvPr/>
        </p:nvGrpSpPr>
        <p:grpSpPr>
          <a:xfrm>
            <a:off x="5540400" y="3027240"/>
            <a:ext cx="2454120" cy="1438560"/>
            <a:chOff x="5540400" y="3027240"/>
            <a:chExt cx="2454120" cy="1438560"/>
          </a:xfrm>
        </p:grpSpPr>
        <p:sp>
          <p:nvSpPr>
            <p:cNvPr id="225" name="平行四边形 130"/>
            <p:cNvSpPr/>
            <p:nvPr/>
          </p:nvSpPr>
          <p:spPr>
            <a:xfrm>
              <a:off x="5617080" y="3457080"/>
              <a:ext cx="2377440" cy="1008720"/>
            </a:xfrm>
            <a:prstGeom prst="parallelogram">
              <a:avLst>
                <a:gd name="adj" fmla="val 52441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31"/>
            <p:cNvSpPr/>
            <p:nvPr/>
          </p:nvSpPr>
          <p:spPr>
            <a:xfrm>
              <a:off x="5540400" y="4028760"/>
              <a:ext cx="144000" cy="432360"/>
            </a:xfrm>
            <a:prstGeom prst="ellipse">
              <a:avLst/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132"/>
            <p:cNvSpPr/>
            <p:nvPr/>
          </p:nvSpPr>
          <p:spPr>
            <a:xfrm>
              <a:off x="5585400" y="4059360"/>
              <a:ext cx="186840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平行四边形 133"/>
            <p:cNvSpPr/>
            <p:nvPr/>
          </p:nvSpPr>
          <p:spPr>
            <a:xfrm>
              <a:off x="5593320" y="3027240"/>
              <a:ext cx="2377440" cy="1008720"/>
            </a:xfrm>
            <a:prstGeom prst="parallelogram">
              <a:avLst>
                <a:gd name="adj" fmla="val 52441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34"/>
            <p:cNvSpPr/>
            <p:nvPr/>
          </p:nvSpPr>
          <p:spPr>
            <a:xfrm>
              <a:off x="7381440" y="3049920"/>
              <a:ext cx="55224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平行四边形 135"/>
            <p:cNvSpPr/>
            <p:nvPr/>
          </p:nvSpPr>
          <p:spPr>
            <a:xfrm>
              <a:off x="5612400" y="3027240"/>
              <a:ext cx="2377440" cy="1008720"/>
            </a:xfrm>
            <a:prstGeom prst="parallelogram">
              <a:avLst>
                <a:gd name="adj" fmla="val 52441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136"/>
            <p:cNvSpPr/>
            <p:nvPr/>
          </p:nvSpPr>
          <p:spPr>
            <a:xfrm>
              <a:off x="6497280" y="3028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微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37"/>
          <p:cNvGrpSpPr/>
          <p:nvPr/>
        </p:nvGrpSpPr>
        <p:grpSpPr>
          <a:xfrm>
            <a:off x="2276640" y="2556000"/>
            <a:ext cx="2452680" cy="1436400"/>
            <a:chOff x="2276640" y="2556000"/>
            <a:chExt cx="2452680" cy="1436400"/>
          </a:xfrm>
        </p:grpSpPr>
        <p:sp>
          <p:nvSpPr>
            <p:cNvPr id="233" name="平行四边形 138"/>
            <p:cNvSpPr/>
            <p:nvPr/>
          </p:nvSpPr>
          <p:spPr>
            <a:xfrm>
              <a:off x="2353320" y="2985120"/>
              <a:ext cx="2376000" cy="1007280"/>
            </a:xfrm>
            <a:prstGeom prst="parallelogram">
              <a:avLst>
                <a:gd name="adj" fmla="val 52484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39"/>
            <p:cNvSpPr/>
            <p:nvPr/>
          </p:nvSpPr>
          <p:spPr>
            <a:xfrm>
              <a:off x="2276640" y="3556080"/>
              <a:ext cx="144000" cy="431640"/>
            </a:xfrm>
            <a:prstGeom prst="ellipse">
              <a:avLst/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140"/>
            <p:cNvSpPr/>
            <p:nvPr/>
          </p:nvSpPr>
          <p:spPr>
            <a:xfrm>
              <a:off x="2321640" y="3586320"/>
              <a:ext cx="1867320" cy="345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平行四边形 141"/>
            <p:cNvSpPr/>
            <p:nvPr/>
          </p:nvSpPr>
          <p:spPr>
            <a:xfrm>
              <a:off x="2329560" y="2556000"/>
              <a:ext cx="2376000" cy="1007280"/>
            </a:xfrm>
            <a:prstGeom prst="parallelogram">
              <a:avLst>
                <a:gd name="adj" fmla="val 52484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142"/>
            <p:cNvSpPr/>
            <p:nvPr/>
          </p:nvSpPr>
          <p:spPr>
            <a:xfrm>
              <a:off x="4116600" y="2578680"/>
              <a:ext cx="551880" cy="13546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平行四边形 143"/>
            <p:cNvSpPr/>
            <p:nvPr/>
          </p:nvSpPr>
          <p:spPr>
            <a:xfrm>
              <a:off x="2352240" y="2570400"/>
              <a:ext cx="2376000" cy="1007280"/>
            </a:xfrm>
            <a:prstGeom prst="parallelogram">
              <a:avLst>
                <a:gd name="adj" fmla="val 52484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44"/>
            <p:cNvSpPr/>
            <p:nvPr/>
          </p:nvSpPr>
          <p:spPr>
            <a:xfrm>
              <a:off x="3232800" y="2557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物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45"/>
          <p:cNvGrpSpPr/>
          <p:nvPr/>
        </p:nvGrpSpPr>
        <p:grpSpPr>
          <a:xfrm>
            <a:off x="5091120" y="2570040"/>
            <a:ext cx="2452680" cy="1438560"/>
            <a:chOff x="5091120" y="2570040"/>
            <a:chExt cx="2452680" cy="1438560"/>
          </a:xfrm>
        </p:grpSpPr>
        <p:sp>
          <p:nvSpPr>
            <p:cNvPr id="241" name="平行四边形 146"/>
            <p:cNvSpPr/>
            <p:nvPr/>
          </p:nvSpPr>
          <p:spPr>
            <a:xfrm>
              <a:off x="5167800" y="299988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47"/>
            <p:cNvSpPr/>
            <p:nvPr/>
          </p:nvSpPr>
          <p:spPr>
            <a:xfrm>
              <a:off x="5091120" y="3571560"/>
              <a:ext cx="144000" cy="432360"/>
            </a:xfrm>
            <a:prstGeom prst="ellipse">
              <a:avLst/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148"/>
            <p:cNvSpPr/>
            <p:nvPr/>
          </p:nvSpPr>
          <p:spPr>
            <a:xfrm>
              <a:off x="5136120" y="360216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平行四边形 149"/>
            <p:cNvSpPr/>
            <p:nvPr/>
          </p:nvSpPr>
          <p:spPr>
            <a:xfrm>
              <a:off x="5144040" y="25700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150"/>
            <p:cNvSpPr/>
            <p:nvPr/>
          </p:nvSpPr>
          <p:spPr>
            <a:xfrm>
              <a:off x="6931080" y="259272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1"/>
            <p:cNvSpPr/>
            <p:nvPr/>
          </p:nvSpPr>
          <p:spPr>
            <a:xfrm>
              <a:off x="5163120" y="257004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52"/>
            <p:cNvSpPr/>
            <p:nvPr/>
          </p:nvSpPr>
          <p:spPr>
            <a:xfrm>
              <a:off x="6047280" y="2571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统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53"/>
          <p:cNvGrpSpPr/>
          <p:nvPr/>
        </p:nvGrpSpPr>
        <p:grpSpPr>
          <a:xfrm>
            <a:off x="2732040" y="2114640"/>
            <a:ext cx="2452680" cy="1438200"/>
            <a:chOff x="2732040" y="2114640"/>
            <a:chExt cx="2452680" cy="1438200"/>
          </a:xfrm>
        </p:grpSpPr>
        <p:sp>
          <p:nvSpPr>
            <p:cNvPr id="249" name="平行四边形 154"/>
            <p:cNvSpPr/>
            <p:nvPr/>
          </p:nvSpPr>
          <p:spPr>
            <a:xfrm>
              <a:off x="2808720" y="254448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55"/>
            <p:cNvSpPr/>
            <p:nvPr/>
          </p:nvSpPr>
          <p:spPr>
            <a:xfrm>
              <a:off x="2732040" y="3115800"/>
              <a:ext cx="144000" cy="432000"/>
            </a:xfrm>
            <a:prstGeom prst="ellipse">
              <a:avLst/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156"/>
            <p:cNvSpPr/>
            <p:nvPr/>
          </p:nvSpPr>
          <p:spPr>
            <a:xfrm>
              <a:off x="2777040" y="314640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平行四边形 157"/>
            <p:cNvSpPr/>
            <p:nvPr/>
          </p:nvSpPr>
          <p:spPr>
            <a:xfrm>
              <a:off x="2784960" y="211464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158"/>
            <p:cNvSpPr/>
            <p:nvPr/>
          </p:nvSpPr>
          <p:spPr>
            <a:xfrm>
              <a:off x="4572000" y="2137320"/>
              <a:ext cx="551880" cy="1356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平行四边形 159"/>
            <p:cNvSpPr/>
            <p:nvPr/>
          </p:nvSpPr>
          <p:spPr>
            <a:xfrm>
              <a:off x="2804040" y="211464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60"/>
            <p:cNvSpPr/>
            <p:nvPr/>
          </p:nvSpPr>
          <p:spPr>
            <a:xfrm>
              <a:off x="3688200" y="2115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国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161"/>
          <p:cNvGrpSpPr/>
          <p:nvPr/>
        </p:nvGrpSpPr>
        <p:grpSpPr>
          <a:xfrm>
            <a:off x="4633920" y="2117880"/>
            <a:ext cx="2452680" cy="1438200"/>
            <a:chOff x="4633920" y="2117880"/>
            <a:chExt cx="2452680" cy="1438200"/>
          </a:xfrm>
        </p:grpSpPr>
        <p:sp>
          <p:nvSpPr>
            <p:cNvPr id="257" name="平行四边形 162"/>
            <p:cNvSpPr/>
            <p:nvPr/>
          </p:nvSpPr>
          <p:spPr>
            <a:xfrm>
              <a:off x="4710600" y="254772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63"/>
            <p:cNvSpPr/>
            <p:nvPr/>
          </p:nvSpPr>
          <p:spPr>
            <a:xfrm>
              <a:off x="4633920" y="3119040"/>
              <a:ext cx="144000" cy="432000"/>
            </a:xfrm>
            <a:prstGeom prst="ellipse">
              <a:avLst/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164"/>
            <p:cNvSpPr/>
            <p:nvPr/>
          </p:nvSpPr>
          <p:spPr>
            <a:xfrm>
              <a:off x="4678920" y="314964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65"/>
            <p:cNvSpPr/>
            <p:nvPr/>
          </p:nvSpPr>
          <p:spPr>
            <a:xfrm>
              <a:off x="4686840" y="211788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166"/>
            <p:cNvSpPr/>
            <p:nvPr/>
          </p:nvSpPr>
          <p:spPr>
            <a:xfrm>
              <a:off x="6473880" y="2140560"/>
              <a:ext cx="551880" cy="1356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平行四边形 167"/>
            <p:cNvSpPr/>
            <p:nvPr/>
          </p:nvSpPr>
          <p:spPr>
            <a:xfrm>
              <a:off x="4705920" y="211788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68"/>
            <p:cNvSpPr/>
            <p:nvPr/>
          </p:nvSpPr>
          <p:spPr>
            <a:xfrm>
              <a:off x="5590080" y="2118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ff"/>
                  </a:solidFill>
                  <a:latin typeface="宋体"/>
                </a:rPr>
                <a:t>制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69"/>
          <p:cNvGrpSpPr/>
          <p:nvPr/>
        </p:nvGrpSpPr>
        <p:grpSpPr>
          <a:xfrm>
            <a:off x="3629160" y="1644480"/>
            <a:ext cx="2452680" cy="1436760"/>
            <a:chOff x="3629160" y="1644480"/>
            <a:chExt cx="2452680" cy="1436760"/>
          </a:xfrm>
        </p:grpSpPr>
        <p:sp>
          <p:nvSpPr>
            <p:cNvPr id="265" name="平行四边形 170"/>
            <p:cNvSpPr/>
            <p:nvPr/>
          </p:nvSpPr>
          <p:spPr>
            <a:xfrm>
              <a:off x="3705840" y="207360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71"/>
            <p:cNvSpPr/>
            <p:nvPr/>
          </p:nvSpPr>
          <p:spPr>
            <a:xfrm>
              <a:off x="3629160" y="2644920"/>
              <a:ext cx="144000" cy="431640"/>
            </a:xfrm>
            <a:prstGeom prst="ellipse">
              <a:avLst/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172"/>
            <p:cNvSpPr/>
            <p:nvPr/>
          </p:nvSpPr>
          <p:spPr>
            <a:xfrm>
              <a:off x="3674160" y="2675160"/>
              <a:ext cx="1867320" cy="345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平行四边形 173"/>
            <p:cNvSpPr/>
            <p:nvPr/>
          </p:nvSpPr>
          <p:spPr>
            <a:xfrm>
              <a:off x="3682080" y="16444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74"/>
            <p:cNvSpPr/>
            <p:nvPr/>
          </p:nvSpPr>
          <p:spPr>
            <a:xfrm>
              <a:off x="5469120" y="1667160"/>
              <a:ext cx="551880" cy="13550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平行四边形 175"/>
            <p:cNvSpPr/>
            <p:nvPr/>
          </p:nvSpPr>
          <p:spPr>
            <a:xfrm>
              <a:off x="3701160" y="1644480"/>
              <a:ext cx="2376000" cy="1007640"/>
            </a:xfrm>
            <a:prstGeom prst="parallelogram">
              <a:avLst>
                <a:gd name="adj" fmla="val 52465"/>
              </a:avLst>
            </a:prstGeom>
            <a:solidFill>
              <a:srgbClr val="e6d7ac"/>
            </a:solidFill>
            <a:ln w="25560">
              <a:solidFill>
                <a:srgbClr val="e6d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76"/>
            <p:cNvSpPr/>
            <p:nvPr/>
          </p:nvSpPr>
          <p:spPr>
            <a:xfrm>
              <a:off x="4585320" y="1645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英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93"/>
          <p:cNvGrpSpPr/>
          <p:nvPr/>
        </p:nvGrpSpPr>
        <p:grpSpPr>
          <a:xfrm>
            <a:off x="8142120" y="1825560"/>
            <a:ext cx="2452680" cy="1438200"/>
            <a:chOff x="8142120" y="1825560"/>
            <a:chExt cx="2452680" cy="1438200"/>
          </a:xfrm>
        </p:grpSpPr>
        <p:sp>
          <p:nvSpPr>
            <p:cNvPr id="273" name="平行四边形 194"/>
            <p:cNvSpPr/>
            <p:nvPr/>
          </p:nvSpPr>
          <p:spPr>
            <a:xfrm>
              <a:off x="8218800" y="225540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95"/>
            <p:cNvSpPr/>
            <p:nvPr/>
          </p:nvSpPr>
          <p:spPr>
            <a:xfrm>
              <a:off x="8142120" y="2826720"/>
              <a:ext cx="144000" cy="432000"/>
            </a:xfrm>
            <a:prstGeom prst="ellipse">
              <a:avLst/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任意多边形 196"/>
            <p:cNvSpPr/>
            <p:nvPr/>
          </p:nvSpPr>
          <p:spPr>
            <a:xfrm>
              <a:off x="8187120" y="285732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平行四边形 197"/>
            <p:cNvSpPr/>
            <p:nvPr/>
          </p:nvSpPr>
          <p:spPr>
            <a:xfrm>
              <a:off x="8195040" y="182556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98"/>
            <p:cNvSpPr/>
            <p:nvPr/>
          </p:nvSpPr>
          <p:spPr>
            <a:xfrm>
              <a:off x="9982080" y="1848240"/>
              <a:ext cx="551880" cy="1356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平行四边形 199"/>
            <p:cNvSpPr/>
            <p:nvPr/>
          </p:nvSpPr>
          <p:spPr>
            <a:xfrm>
              <a:off x="8214120" y="182556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47342d"/>
            </a:solidFill>
            <a:ln w="25560">
              <a:solidFill>
                <a:srgbClr val="473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200"/>
            <p:cNvSpPr/>
            <p:nvPr/>
          </p:nvSpPr>
          <p:spPr>
            <a:xfrm>
              <a:off x="9098280" y="182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ff"/>
                  </a:solidFill>
                  <a:latin typeface="宋体"/>
                </a:rPr>
                <a:t>现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01"/>
          <p:cNvGrpSpPr/>
          <p:nvPr/>
        </p:nvGrpSpPr>
        <p:grpSpPr>
          <a:xfrm>
            <a:off x="7209000" y="1366920"/>
            <a:ext cx="2452680" cy="1438200"/>
            <a:chOff x="7209000" y="1366920"/>
            <a:chExt cx="2452680" cy="1438200"/>
          </a:xfrm>
        </p:grpSpPr>
        <p:sp>
          <p:nvSpPr>
            <p:cNvPr id="281" name="平行四边形 202"/>
            <p:cNvSpPr/>
            <p:nvPr/>
          </p:nvSpPr>
          <p:spPr>
            <a:xfrm>
              <a:off x="7285680" y="179676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203"/>
            <p:cNvSpPr/>
            <p:nvPr/>
          </p:nvSpPr>
          <p:spPr>
            <a:xfrm>
              <a:off x="7209000" y="2368080"/>
              <a:ext cx="144000" cy="432000"/>
            </a:xfrm>
            <a:prstGeom prst="ellipse">
              <a:avLst/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04"/>
            <p:cNvSpPr/>
            <p:nvPr/>
          </p:nvSpPr>
          <p:spPr>
            <a:xfrm>
              <a:off x="7254000" y="239868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平行四边形 205"/>
            <p:cNvSpPr/>
            <p:nvPr/>
          </p:nvSpPr>
          <p:spPr>
            <a:xfrm>
              <a:off x="7261920" y="136692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206"/>
            <p:cNvSpPr/>
            <p:nvPr/>
          </p:nvSpPr>
          <p:spPr>
            <a:xfrm>
              <a:off x="9048960" y="1389600"/>
              <a:ext cx="551880" cy="1356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平行四边形 207"/>
            <p:cNvSpPr/>
            <p:nvPr/>
          </p:nvSpPr>
          <p:spPr>
            <a:xfrm>
              <a:off x="7281000" y="136692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5b738f"/>
            </a:solidFill>
            <a:ln w="2556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208"/>
            <p:cNvSpPr/>
            <p:nvPr/>
          </p:nvSpPr>
          <p:spPr>
            <a:xfrm>
              <a:off x="8165160" y="1368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思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09"/>
          <p:cNvGrpSpPr/>
          <p:nvPr/>
        </p:nvGrpSpPr>
        <p:grpSpPr>
          <a:xfrm>
            <a:off x="9120240" y="1363680"/>
            <a:ext cx="2452680" cy="1438200"/>
            <a:chOff x="9120240" y="1363680"/>
            <a:chExt cx="2452680" cy="1438200"/>
          </a:xfrm>
        </p:grpSpPr>
        <p:sp>
          <p:nvSpPr>
            <p:cNvPr id="289" name="平行四边形 210"/>
            <p:cNvSpPr/>
            <p:nvPr/>
          </p:nvSpPr>
          <p:spPr>
            <a:xfrm>
              <a:off x="9196920" y="179352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211"/>
            <p:cNvSpPr/>
            <p:nvPr/>
          </p:nvSpPr>
          <p:spPr>
            <a:xfrm>
              <a:off x="9120240" y="2364840"/>
              <a:ext cx="144000" cy="432000"/>
            </a:xfrm>
            <a:prstGeom prst="ellipse">
              <a:avLst/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212"/>
            <p:cNvSpPr/>
            <p:nvPr/>
          </p:nvSpPr>
          <p:spPr>
            <a:xfrm>
              <a:off x="9165240" y="239544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平行四边形 213"/>
            <p:cNvSpPr/>
            <p:nvPr/>
          </p:nvSpPr>
          <p:spPr>
            <a:xfrm>
              <a:off x="9173160" y="136368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214"/>
            <p:cNvSpPr/>
            <p:nvPr/>
          </p:nvSpPr>
          <p:spPr>
            <a:xfrm>
              <a:off x="10960200" y="1386360"/>
              <a:ext cx="551880" cy="1356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平行四边形 215"/>
            <p:cNvSpPr/>
            <p:nvPr/>
          </p:nvSpPr>
          <p:spPr>
            <a:xfrm>
              <a:off x="9192240" y="1363680"/>
              <a:ext cx="2376000" cy="1008360"/>
            </a:xfrm>
            <a:prstGeom prst="parallelogram">
              <a:avLst>
                <a:gd name="adj" fmla="val 52428"/>
              </a:avLst>
            </a:prstGeom>
            <a:solidFill>
              <a:srgbClr val="87634c"/>
            </a:solidFill>
            <a:ln w="2556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216"/>
            <p:cNvSpPr/>
            <p:nvPr/>
          </p:nvSpPr>
          <p:spPr>
            <a:xfrm>
              <a:off x="10076400" y="1364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高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85"/>
          <p:cNvGrpSpPr/>
          <p:nvPr/>
        </p:nvGrpSpPr>
        <p:grpSpPr>
          <a:xfrm>
            <a:off x="8091360" y="907920"/>
            <a:ext cx="2452680" cy="1438560"/>
            <a:chOff x="8091360" y="907920"/>
            <a:chExt cx="2452680" cy="1438560"/>
          </a:xfrm>
        </p:grpSpPr>
        <p:sp>
          <p:nvSpPr>
            <p:cNvPr id="297" name="平行四边形 186"/>
            <p:cNvSpPr/>
            <p:nvPr/>
          </p:nvSpPr>
          <p:spPr>
            <a:xfrm>
              <a:off x="8168040" y="133776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187"/>
            <p:cNvSpPr/>
            <p:nvPr/>
          </p:nvSpPr>
          <p:spPr>
            <a:xfrm>
              <a:off x="8091360" y="1909440"/>
              <a:ext cx="144000" cy="432360"/>
            </a:xfrm>
            <a:prstGeom prst="ellipse">
              <a:avLst/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88"/>
            <p:cNvSpPr/>
            <p:nvPr/>
          </p:nvSpPr>
          <p:spPr>
            <a:xfrm>
              <a:off x="8136360" y="1940040"/>
              <a:ext cx="1867320" cy="346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189"/>
            <p:cNvSpPr/>
            <p:nvPr/>
          </p:nvSpPr>
          <p:spPr>
            <a:xfrm>
              <a:off x="8144280" y="90792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90"/>
            <p:cNvSpPr/>
            <p:nvPr/>
          </p:nvSpPr>
          <p:spPr>
            <a:xfrm>
              <a:off x="9931320" y="930600"/>
              <a:ext cx="551880" cy="135684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平行四边形 191"/>
            <p:cNvSpPr/>
            <p:nvPr/>
          </p:nvSpPr>
          <p:spPr>
            <a:xfrm>
              <a:off x="8163360" y="907920"/>
              <a:ext cx="2376000" cy="1008720"/>
            </a:xfrm>
            <a:prstGeom prst="parallelogram">
              <a:avLst>
                <a:gd name="adj" fmla="val 52409"/>
              </a:avLst>
            </a:prstGeom>
            <a:solidFill>
              <a:srgbClr val="d5e8f2"/>
            </a:solidFill>
            <a:ln w="25560">
              <a:solidFill>
                <a:srgbClr val="d5e8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192"/>
            <p:cNvSpPr/>
            <p:nvPr/>
          </p:nvSpPr>
          <p:spPr>
            <a:xfrm>
              <a:off x="9047520" y="909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宋体"/>
                </a:rPr>
                <a:t>高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177"/>
          <p:cNvSpPr/>
          <p:nvPr/>
        </p:nvSpPr>
        <p:spPr>
          <a:xfrm>
            <a:off x="611280" y="1955880"/>
            <a:ext cx="8082000" cy="345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179"/>
          <p:cNvSpPr/>
          <p:nvPr/>
        </p:nvSpPr>
        <p:spPr>
          <a:xfrm>
            <a:off x="7562880" y="1568520"/>
            <a:ext cx="3201840" cy="192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"/>
          <p:cNvSpPr/>
          <p:nvPr/>
        </p:nvSpPr>
        <p:spPr>
          <a:xfrm>
            <a:off x="4466160" y="623736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大学四年，我认真完成了学业 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3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4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4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4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476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7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8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9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0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486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87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8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89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0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750"/>
                            </p:stCondLst>
                            <p:childTnLst>
                              <p:par>
                                <p:cTn id="496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50" autoRev="1" fill="remov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498" dur="250" autoRev="1" fill="remov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499" dur="250" autoRev="1" fill="remov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50" autoRev="1" fill="remov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502" dur="250" autoRev="1" fill="remov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503" dur="250" autoRev="1" fill="remov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1"/>
          <p:cNvSpPr/>
          <p:nvPr/>
        </p:nvSpPr>
        <p:spPr>
          <a:xfrm>
            <a:off x="5475600" y="623736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并取得了诸多证书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10"/>
          <p:cNvGrpSpPr/>
          <p:nvPr/>
        </p:nvGrpSpPr>
        <p:grpSpPr>
          <a:xfrm>
            <a:off x="991800" y="333360"/>
            <a:ext cx="4032720" cy="2563920"/>
            <a:chOff x="991800" y="333360"/>
            <a:chExt cx="4032720" cy="2563920"/>
          </a:xfrm>
        </p:grpSpPr>
        <p:sp>
          <p:nvSpPr>
            <p:cNvPr id="309" name="矩形 2"/>
            <p:cNvSpPr/>
            <p:nvPr/>
          </p:nvSpPr>
          <p:spPr>
            <a:xfrm>
              <a:off x="992160" y="333360"/>
              <a:ext cx="4032360" cy="2563920"/>
            </a:xfrm>
            <a:prstGeom prst="rect">
              <a:avLst/>
            </a:prstGeom>
            <a:solidFill>
              <a:srgbClr val="d5e8f2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rot="10800000">
              <a:off x="991800" y="333000"/>
              <a:ext cx="4032360" cy="452160"/>
            </a:xfrm>
            <a:prstGeom prst="triangle">
              <a:avLst>
                <a:gd name="adj" fmla="val 50000"/>
              </a:avLst>
            </a:prstGeom>
            <a:solidFill>
              <a:srgbClr val="87634c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6"/>
          <p:cNvGrpSpPr/>
          <p:nvPr/>
        </p:nvGrpSpPr>
        <p:grpSpPr>
          <a:xfrm>
            <a:off x="4017600" y="1012320"/>
            <a:ext cx="4032720" cy="2566080"/>
            <a:chOff x="4017600" y="1012320"/>
            <a:chExt cx="4032720" cy="2566080"/>
          </a:xfrm>
        </p:grpSpPr>
        <p:sp>
          <p:nvSpPr>
            <p:cNvPr id="312" name="矩形 27"/>
            <p:cNvSpPr/>
            <p:nvPr/>
          </p:nvSpPr>
          <p:spPr>
            <a:xfrm>
              <a:off x="4017960" y="1012680"/>
              <a:ext cx="4032360" cy="2565720"/>
            </a:xfrm>
            <a:prstGeom prst="rect">
              <a:avLst/>
            </a:prstGeom>
            <a:solidFill>
              <a:srgbClr val="d5e8f2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28"/>
            <p:cNvSpPr/>
            <p:nvPr/>
          </p:nvSpPr>
          <p:spPr>
            <a:xfrm rot="10800000">
              <a:off x="4017600" y="1011960"/>
              <a:ext cx="4032360" cy="452520"/>
            </a:xfrm>
            <a:prstGeom prst="triangle">
              <a:avLst>
                <a:gd name="adj" fmla="val 50000"/>
              </a:avLst>
            </a:prstGeom>
            <a:solidFill>
              <a:srgbClr val="87634c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29"/>
          <p:cNvGrpSpPr/>
          <p:nvPr/>
        </p:nvGrpSpPr>
        <p:grpSpPr>
          <a:xfrm>
            <a:off x="7391520" y="1843200"/>
            <a:ext cx="4032000" cy="2563560"/>
            <a:chOff x="7391520" y="1843200"/>
            <a:chExt cx="4032000" cy="2563560"/>
          </a:xfrm>
        </p:grpSpPr>
        <p:sp>
          <p:nvSpPr>
            <p:cNvPr id="315" name="矩形 30"/>
            <p:cNvSpPr/>
            <p:nvPr/>
          </p:nvSpPr>
          <p:spPr>
            <a:xfrm>
              <a:off x="7391520" y="1843200"/>
              <a:ext cx="4032000" cy="2563560"/>
            </a:xfrm>
            <a:prstGeom prst="rect">
              <a:avLst/>
            </a:prstGeom>
            <a:solidFill>
              <a:srgbClr val="d5e8f2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等腰三角形 31"/>
            <p:cNvSpPr/>
            <p:nvPr/>
          </p:nvSpPr>
          <p:spPr>
            <a:xfrm rot="10800000">
              <a:off x="7391520" y="1842840"/>
              <a:ext cx="4032000" cy="452160"/>
            </a:xfrm>
            <a:prstGeom prst="triangle">
              <a:avLst>
                <a:gd name="adj" fmla="val 50000"/>
              </a:avLst>
            </a:prstGeom>
            <a:solidFill>
              <a:srgbClr val="87634c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35"/>
          <p:cNvGrpSpPr/>
          <p:nvPr/>
        </p:nvGrpSpPr>
        <p:grpSpPr>
          <a:xfrm>
            <a:off x="4341960" y="2628720"/>
            <a:ext cx="4032000" cy="2565720"/>
            <a:chOff x="4341960" y="2628720"/>
            <a:chExt cx="4032000" cy="2565720"/>
          </a:xfrm>
        </p:grpSpPr>
        <p:sp>
          <p:nvSpPr>
            <p:cNvPr id="318" name="矩形 36"/>
            <p:cNvSpPr/>
            <p:nvPr/>
          </p:nvSpPr>
          <p:spPr>
            <a:xfrm>
              <a:off x="4341960" y="2629080"/>
              <a:ext cx="4032000" cy="2565360"/>
            </a:xfrm>
            <a:prstGeom prst="rect">
              <a:avLst/>
            </a:prstGeom>
            <a:solidFill>
              <a:srgbClr val="d5e8f2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等腰三角形 37"/>
            <p:cNvSpPr/>
            <p:nvPr/>
          </p:nvSpPr>
          <p:spPr>
            <a:xfrm rot="10800000">
              <a:off x="4341960" y="2628360"/>
              <a:ext cx="4032000" cy="452520"/>
            </a:xfrm>
            <a:prstGeom prst="triangle">
              <a:avLst>
                <a:gd name="adj" fmla="val 50000"/>
              </a:avLst>
            </a:prstGeom>
            <a:solidFill>
              <a:srgbClr val="87634c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8"/>
          <p:cNvGrpSpPr/>
          <p:nvPr/>
        </p:nvGrpSpPr>
        <p:grpSpPr>
          <a:xfrm>
            <a:off x="966960" y="3519360"/>
            <a:ext cx="4032000" cy="2563920"/>
            <a:chOff x="966960" y="3519360"/>
            <a:chExt cx="4032000" cy="2563920"/>
          </a:xfrm>
        </p:grpSpPr>
        <p:sp>
          <p:nvSpPr>
            <p:cNvPr id="321" name="矩形 39"/>
            <p:cNvSpPr/>
            <p:nvPr/>
          </p:nvSpPr>
          <p:spPr>
            <a:xfrm>
              <a:off x="966960" y="3519360"/>
              <a:ext cx="4032000" cy="2563920"/>
            </a:xfrm>
            <a:prstGeom prst="rect">
              <a:avLst/>
            </a:prstGeom>
            <a:solidFill>
              <a:srgbClr val="d5e8f2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40"/>
            <p:cNvSpPr/>
            <p:nvPr/>
          </p:nvSpPr>
          <p:spPr>
            <a:xfrm rot="10800000">
              <a:off x="966960" y="3519360"/>
              <a:ext cx="4032000" cy="452160"/>
            </a:xfrm>
            <a:prstGeom prst="triangle">
              <a:avLst>
                <a:gd name="adj" fmla="val 50000"/>
              </a:avLst>
            </a:prstGeom>
            <a:solidFill>
              <a:srgbClr val="87634c"/>
            </a:solidFill>
            <a:ln w="76320">
              <a:solidFill>
                <a:srgbClr val="876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椭圆 4"/>
          <p:cNvSpPr/>
          <p:nvPr/>
        </p:nvSpPr>
        <p:spPr>
          <a:xfrm>
            <a:off x="-2616120" y="-2114640"/>
            <a:ext cx="12103200" cy="7813800"/>
          </a:xfrm>
          <a:prstGeom prst="ellipse">
            <a:avLst/>
          </a:prstGeom>
          <a:noFill/>
          <a:ln w="609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"/>
          <p:cNvSpPr/>
          <p:nvPr/>
        </p:nvSpPr>
        <p:spPr>
          <a:xfrm>
            <a:off x="433440" y="-1660680"/>
            <a:ext cx="12104640" cy="7813800"/>
          </a:xfrm>
          <a:prstGeom prst="ellipse">
            <a:avLst/>
          </a:prstGeom>
          <a:noFill/>
          <a:ln w="609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6"/>
          <p:cNvSpPr/>
          <p:nvPr/>
        </p:nvSpPr>
        <p:spPr>
          <a:xfrm>
            <a:off x="3808440" y="-604800"/>
            <a:ext cx="12104640" cy="7815240"/>
          </a:xfrm>
          <a:prstGeom prst="ellipse">
            <a:avLst/>
          </a:prstGeom>
          <a:noFill/>
          <a:ln w="609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7"/>
          <p:cNvSpPr/>
          <p:nvPr/>
        </p:nvSpPr>
        <p:spPr>
          <a:xfrm>
            <a:off x="757080" y="181080"/>
            <a:ext cx="12105000" cy="7815240"/>
          </a:xfrm>
          <a:prstGeom prst="ellipse">
            <a:avLst/>
          </a:prstGeom>
          <a:noFill/>
          <a:ln w="609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8"/>
          <p:cNvSpPr/>
          <p:nvPr/>
        </p:nvSpPr>
        <p:spPr>
          <a:xfrm>
            <a:off x="-2590920" y="1071720"/>
            <a:ext cx="12104640" cy="7815240"/>
          </a:xfrm>
          <a:prstGeom prst="ellipse">
            <a:avLst/>
          </a:prstGeom>
          <a:noFill/>
          <a:ln w="609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37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8000" y="8000"/>
                                    </p:animScale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542" dur="500" fill="hold"/>
                                        <p:tgtEl>
                                          <p:spTgt spid="324"/>
                                        </p:tgtEl>
                                      </p:cBhvr>
                                      <p:to x="8000" y="8000"/>
                                    </p:animScale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547" dur="500" fill="hold"/>
                                        <p:tgtEl>
                                          <p:spTgt spid="325"/>
                                        </p:tgtEl>
                                      </p:cBhvr>
                                      <p:to x="8000" y="8000"/>
                                    </p:animScale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52" dur="500" fill="hold"/>
                                        <p:tgtEl>
                                          <p:spTgt spid="326"/>
                                        </p:tgtEl>
                                      </p:cBhvr>
                                      <p:to x="8000" y="8000"/>
                                    </p:animScale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57" dur="500" fill="hold"/>
                                        <p:tgtEl>
                                          <p:spTgt spid="327"/>
                                        </p:tgtEl>
                                      </p:cBhvr>
                                      <p:to x="8000" y="8000"/>
                                    </p:animScale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11783880" y="404640"/>
            <a:ext cx="5050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11277720" y="404640"/>
            <a:ext cx="5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0"/>
          <p:cNvSpPr/>
          <p:nvPr/>
        </p:nvSpPr>
        <p:spPr>
          <a:xfrm>
            <a:off x="10772640" y="404640"/>
            <a:ext cx="5050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2"/>
          <p:cNvSpPr/>
          <p:nvPr/>
        </p:nvSpPr>
        <p:spPr>
          <a:xfrm>
            <a:off x="11783880" y="907920"/>
            <a:ext cx="5050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3"/>
          <p:cNvSpPr/>
          <p:nvPr/>
        </p:nvSpPr>
        <p:spPr>
          <a:xfrm>
            <a:off x="11277720" y="907920"/>
            <a:ext cx="503280" cy="5050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4"/>
          <p:cNvSpPr/>
          <p:nvPr/>
        </p:nvSpPr>
        <p:spPr>
          <a:xfrm>
            <a:off x="10772640" y="907920"/>
            <a:ext cx="5050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11783880" y="-98280"/>
            <a:ext cx="5050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11277720" y="-98280"/>
            <a:ext cx="503280" cy="5029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7"/>
          <p:cNvSpPr/>
          <p:nvPr/>
        </p:nvSpPr>
        <p:spPr>
          <a:xfrm>
            <a:off x="10772640" y="-98280"/>
            <a:ext cx="5050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8"/>
          <p:cNvSpPr/>
          <p:nvPr/>
        </p:nvSpPr>
        <p:spPr>
          <a:xfrm>
            <a:off x="11783880" y="1413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9"/>
          <p:cNvSpPr/>
          <p:nvPr/>
        </p:nvSpPr>
        <p:spPr>
          <a:xfrm>
            <a:off x="11277720" y="141300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0"/>
          <p:cNvSpPr/>
          <p:nvPr/>
        </p:nvSpPr>
        <p:spPr>
          <a:xfrm>
            <a:off x="10772640" y="1413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1"/>
          <p:cNvSpPr/>
          <p:nvPr/>
        </p:nvSpPr>
        <p:spPr>
          <a:xfrm>
            <a:off x="11783880" y="2421000"/>
            <a:ext cx="5050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2"/>
          <p:cNvSpPr/>
          <p:nvPr/>
        </p:nvSpPr>
        <p:spPr>
          <a:xfrm>
            <a:off x="11277720" y="2421000"/>
            <a:ext cx="5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3"/>
          <p:cNvSpPr/>
          <p:nvPr/>
        </p:nvSpPr>
        <p:spPr>
          <a:xfrm>
            <a:off x="10772640" y="2421000"/>
            <a:ext cx="5050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4"/>
          <p:cNvSpPr/>
          <p:nvPr/>
        </p:nvSpPr>
        <p:spPr>
          <a:xfrm>
            <a:off x="11783880" y="2924280"/>
            <a:ext cx="505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5"/>
          <p:cNvSpPr/>
          <p:nvPr/>
        </p:nvSpPr>
        <p:spPr>
          <a:xfrm>
            <a:off x="11277720" y="2924280"/>
            <a:ext cx="5032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6"/>
          <p:cNvSpPr/>
          <p:nvPr/>
        </p:nvSpPr>
        <p:spPr>
          <a:xfrm>
            <a:off x="10772640" y="2924280"/>
            <a:ext cx="505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7"/>
          <p:cNvSpPr/>
          <p:nvPr/>
        </p:nvSpPr>
        <p:spPr>
          <a:xfrm>
            <a:off x="11783880" y="1917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8"/>
          <p:cNvSpPr/>
          <p:nvPr/>
        </p:nvSpPr>
        <p:spPr>
          <a:xfrm>
            <a:off x="11277720" y="1917720"/>
            <a:ext cx="5032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9"/>
          <p:cNvSpPr/>
          <p:nvPr/>
        </p:nvSpPr>
        <p:spPr>
          <a:xfrm>
            <a:off x="10772640" y="1917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0"/>
          <p:cNvSpPr/>
          <p:nvPr/>
        </p:nvSpPr>
        <p:spPr>
          <a:xfrm>
            <a:off x="11783880" y="3429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1"/>
          <p:cNvSpPr/>
          <p:nvPr/>
        </p:nvSpPr>
        <p:spPr>
          <a:xfrm>
            <a:off x="11277720" y="342900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2"/>
          <p:cNvSpPr/>
          <p:nvPr/>
        </p:nvSpPr>
        <p:spPr>
          <a:xfrm>
            <a:off x="10772640" y="3429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45"/>
          <p:cNvSpPr/>
          <p:nvPr/>
        </p:nvSpPr>
        <p:spPr>
          <a:xfrm>
            <a:off x="11783880" y="4437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6"/>
          <p:cNvSpPr/>
          <p:nvPr/>
        </p:nvSpPr>
        <p:spPr>
          <a:xfrm>
            <a:off x="11277720" y="443700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47"/>
          <p:cNvSpPr/>
          <p:nvPr/>
        </p:nvSpPr>
        <p:spPr>
          <a:xfrm>
            <a:off x="10772640" y="443700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48"/>
          <p:cNvSpPr/>
          <p:nvPr/>
        </p:nvSpPr>
        <p:spPr>
          <a:xfrm>
            <a:off x="11783880" y="4941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49"/>
          <p:cNvSpPr/>
          <p:nvPr/>
        </p:nvSpPr>
        <p:spPr>
          <a:xfrm>
            <a:off x="11277720" y="4941720"/>
            <a:ext cx="5032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0"/>
          <p:cNvSpPr/>
          <p:nvPr/>
        </p:nvSpPr>
        <p:spPr>
          <a:xfrm>
            <a:off x="10772640" y="4941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51"/>
          <p:cNvSpPr/>
          <p:nvPr/>
        </p:nvSpPr>
        <p:spPr>
          <a:xfrm>
            <a:off x="11783880" y="3933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52"/>
          <p:cNvSpPr/>
          <p:nvPr/>
        </p:nvSpPr>
        <p:spPr>
          <a:xfrm>
            <a:off x="11277720" y="3933720"/>
            <a:ext cx="5032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53"/>
          <p:cNvSpPr/>
          <p:nvPr/>
        </p:nvSpPr>
        <p:spPr>
          <a:xfrm>
            <a:off x="10772640" y="393372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4"/>
          <p:cNvSpPr/>
          <p:nvPr/>
        </p:nvSpPr>
        <p:spPr>
          <a:xfrm>
            <a:off x="11783880" y="5445000"/>
            <a:ext cx="505080" cy="5050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5"/>
          <p:cNvSpPr/>
          <p:nvPr/>
        </p:nvSpPr>
        <p:spPr>
          <a:xfrm>
            <a:off x="11277720" y="5445000"/>
            <a:ext cx="5032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56"/>
          <p:cNvSpPr/>
          <p:nvPr/>
        </p:nvSpPr>
        <p:spPr>
          <a:xfrm>
            <a:off x="10772640" y="5445000"/>
            <a:ext cx="505080" cy="5050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7"/>
          <p:cNvSpPr/>
          <p:nvPr/>
        </p:nvSpPr>
        <p:spPr>
          <a:xfrm>
            <a:off x="11783880" y="645336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8"/>
          <p:cNvSpPr/>
          <p:nvPr/>
        </p:nvSpPr>
        <p:spPr>
          <a:xfrm>
            <a:off x="11277720" y="6453360"/>
            <a:ext cx="50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9"/>
          <p:cNvSpPr/>
          <p:nvPr/>
        </p:nvSpPr>
        <p:spPr>
          <a:xfrm>
            <a:off x="10772640" y="6453360"/>
            <a:ext cx="505080" cy="50472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63"/>
          <p:cNvSpPr/>
          <p:nvPr/>
        </p:nvSpPr>
        <p:spPr>
          <a:xfrm>
            <a:off x="11783880" y="595008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64"/>
          <p:cNvSpPr/>
          <p:nvPr/>
        </p:nvSpPr>
        <p:spPr>
          <a:xfrm>
            <a:off x="11277720" y="5950080"/>
            <a:ext cx="503280" cy="5032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65"/>
          <p:cNvSpPr/>
          <p:nvPr/>
        </p:nvSpPr>
        <p:spPr>
          <a:xfrm>
            <a:off x="10772640" y="5950080"/>
            <a:ext cx="5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2"/>
          <p:cNvSpPr/>
          <p:nvPr/>
        </p:nvSpPr>
        <p:spPr>
          <a:xfrm>
            <a:off x="4794840" y="623736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还积极参加了多种活动</a:t>
            </a:r>
            <a:r>
              <a:rPr b="1" lang="en-US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5"/>
          <p:cNvSpPr/>
          <p:nvPr/>
        </p:nvSpPr>
        <p:spPr>
          <a:xfrm flipV="1">
            <a:off x="-1536840" y="907920"/>
            <a:ext cx="1281240" cy="432000"/>
          </a:xfrm>
          <a:prstGeom prst="pie">
            <a:avLst/>
          </a:prstGeom>
          <a:solidFill>
            <a:srgbClr val="d5e8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任意多边形 6"/>
          <p:cNvSpPr/>
          <p:nvPr/>
        </p:nvSpPr>
        <p:spPr>
          <a:xfrm flipV="1">
            <a:off x="-1536840" y="2121840"/>
            <a:ext cx="1281240" cy="43164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7"/>
          <p:cNvSpPr/>
          <p:nvPr/>
        </p:nvSpPr>
        <p:spPr>
          <a:xfrm flipV="1">
            <a:off x="-1536840" y="3334680"/>
            <a:ext cx="1281240" cy="4316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8"/>
          <p:cNvSpPr/>
          <p:nvPr/>
        </p:nvSpPr>
        <p:spPr>
          <a:xfrm flipV="1">
            <a:off x="-1536840" y="4547520"/>
            <a:ext cx="1281240" cy="431640"/>
          </a:xfrm>
          <a:prstGeom prst="pie">
            <a:avLst/>
          </a:prstGeom>
          <a:solidFill>
            <a:srgbClr val="5b7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十字星 4"/>
          <p:cNvSpPr/>
          <p:nvPr/>
        </p:nvSpPr>
        <p:spPr>
          <a:xfrm>
            <a:off x="184320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e6d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十字星 69"/>
          <p:cNvSpPr/>
          <p:nvPr/>
        </p:nvSpPr>
        <p:spPr>
          <a:xfrm>
            <a:off x="925992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d5e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十字星 70"/>
          <p:cNvSpPr/>
          <p:nvPr/>
        </p:nvSpPr>
        <p:spPr>
          <a:xfrm>
            <a:off x="833292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473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十字星 71"/>
          <p:cNvSpPr/>
          <p:nvPr/>
        </p:nvSpPr>
        <p:spPr>
          <a:xfrm>
            <a:off x="277020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6d7ac"/>
          </a:solidFill>
          <a:ln w="25560">
            <a:solidFill>
              <a:srgbClr val="d5e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十字星 72"/>
          <p:cNvSpPr/>
          <p:nvPr/>
        </p:nvSpPr>
        <p:spPr>
          <a:xfrm>
            <a:off x="7405560" y="-536400"/>
            <a:ext cx="287640" cy="360360"/>
          </a:xfrm>
          <a:custGeom>
            <a:avLst/>
            <a:gdLst>
              <a:gd name="textAreaLeft" fmla="*/ 118440 w 287640"/>
              <a:gd name="textAreaRight" fmla="*/ 169200 w 287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十字星 73"/>
          <p:cNvSpPr/>
          <p:nvPr/>
        </p:nvSpPr>
        <p:spPr>
          <a:xfrm>
            <a:off x="555156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e6d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十字星 74"/>
          <p:cNvSpPr/>
          <p:nvPr/>
        </p:nvSpPr>
        <p:spPr>
          <a:xfrm>
            <a:off x="915840" y="-536400"/>
            <a:ext cx="287640" cy="360360"/>
          </a:xfrm>
          <a:custGeom>
            <a:avLst/>
            <a:gdLst>
              <a:gd name="textAreaLeft" fmla="*/ 118440 w 287640"/>
              <a:gd name="textAreaRight" fmla="*/ 169200 w 287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d5e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十字星 75"/>
          <p:cNvSpPr/>
          <p:nvPr/>
        </p:nvSpPr>
        <p:spPr>
          <a:xfrm>
            <a:off x="369720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473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十字星 76"/>
          <p:cNvSpPr/>
          <p:nvPr/>
        </p:nvSpPr>
        <p:spPr>
          <a:xfrm>
            <a:off x="462456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876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十字星 77"/>
          <p:cNvSpPr/>
          <p:nvPr/>
        </p:nvSpPr>
        <p:spPr>
          <a:xfrm>
            <a:off x="6478560" y="-53640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738f"/>
          </a:solidFill>
          <a:ln w="25560">
            <a:solidFill>
              <a:srgbClr val="d5e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79"/>
          <p:cNvSpPr/>
          <p:nvPr/>
        </p:nvSpPr>
        <p:spPr>
          <a:xfrm>
            <a:off x="4320360" y="1989000"/>
            <a:ext cx="2887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80"/>
          <p:cNvSpPr/>
          <p:nvPr/>
        </p:nvSpPr>
        <p:spPr>
          <a:xfrm rot="166800">
            <a:off x="3272040" y="3179520"/>
            <a:ext cx="6366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NER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1.11111E-006 L -2.29167E-006 0.00023 C 0.02188 0.00092 0.04375 0.00023 0.06563 0.00278 C 0.06784 0.00301 0.06966 0.00648 0.07188 0.00833 C 0.07331 0.00926 0.075 0.00995 0.07656 0.01111 C 0.07865 0.01273 0.0806 0.01505 0.08281 0.01667 C 0.08581 0.01875 0.0892 0.01944 0.09219 0.02222 C 0.09662 0.02616 0.10222 0.03079 0.10625 0.03611 C 0.10795 0.03842 0.10912 0.04213 0.11094 0.04444 C 0.11276 0.04676 0.11511 0.04768 0.11719 0.05 C 0.1306 0.06412 0.12175 0.0581 0.13125 0.06389 C 0.14154 0.08217 0.13034 0.06481 0.14063 0.075 C 0.14388 0.07824 0.14688 0.08241 0.15 0.08611 C 0.15156 0.08796 0.15287 0.09051 0.15469 0.09167 C 0.15625 0.09259 0.15781 0.09305 0.15938 0.09444 C 0.16094 0.09583 0.16224 0.09861 0.16406 0.1 C 0.16602 0.10139 0.16823 0.10185 0.17031 0.10278 C 0.17904 0.11319 0.17318 0.10717 0.18906 0.11667 L 0.19375 0.11944 C 0.19531 0.12037 0.19675 0.12153 0.19831 0.12222 C 0.20156 0.12315 0.20456 0.12407 0.20781 0.125 C 0.21185 0.12592 0.21615 0.12639 0.22031 0.12778 C 0.23347 0.13148 0.21862 0.13009 0.23581 0.13333 C 0.2431 0.13449 0.25052 0.13518 0.25781 0.13611 C 0.27344 0.13518 0.28906 0.13565 0.30469 0.13333 C 0.30742 0.13287 0.30977 0.12893 0.3125 0.12778 C 0.33633 0.11713 0.30847 0.13842 0.34531 0.11667 C 0.34688 0.11574 0.34831 0.11458 0.35 0.11389 C 0.35196 0.11273 0.35417 0.11227 0.35625 0.11111 C 0.35886 0.10949 0.3612 0.10694 0.36406 0.10555 C 0.36992 0.10185 0.37318 0.10231 0.37969 0.1 C 0.39831 0.09282 0.41706 0.08426 0.43594 0.07778 C 0.44102 0.07592 0.44623 0.07616 0.45156 0.075 C 0.45781 0.07338 0.46393 0.07083 0.47018 0.06944 C 0.47396 0.06852 0.47761 0.06782 0.48125 0.06667 C 0.48334 0.06597 0.48529 0.06458 0.4875 0.06389 C 0.49362 0.0618 0.50625 0.05833 0.50625 0.05856 C 0.53021 0.05926 0.55417 0.05856 0.57813 0.06111 C 0.57917 0.06111 0.59766 0.06944 0.6 0.07222 C 0.60156 0.07407 0.60287 0.07616 0.60469 0.07778 C 0.61081 0.08264 0.61732 0.08611 0.62344 0.09167 C 0.64193 0.1081 0.62487 0.09907 0.63906 0.10555 C 0.65052 0.11921 0.64466 0.11528 0.65625 0.11944 C 0.65834 0.1213 0.66029 0.12338 0.6625 0.125 C 0.67045 0.13055 0.67084 0.12963 0.67813 0.13333 C 0.68177 0.13495 0.68542 0.1368 0.68906 0.13889 C 0.69414 0.14143 0.69414 0.14236 0.7 0.14444 C 0.70352 0.1456 0.70729 0.1463 0.71094 0.14722 C 0.71563 0.15 0.72005 0.15417 0.725 0.15555 C 0.73906 0.15903 0.73229 0.15717 0.74531 0.16111 L 0.81875 0.15833 C 0.82084 0.1581 0.82279 0.15625 0.825 0.15555 C 0.82748 0.1544 0.83021 0.1537 0.83281 0.15278 C 0.83698 0.15092 0.84531 0.14722 0.84531 0.14745 C 0.85729 0.13287 0.84089 0.15069 0.85781 0.13889 C 0.86055 0.1368 0.86289 0.13287 0.86563 0.13055 C 0.8681 0.12824 0.87084 0.12685 0.87344 0.125 C 0.87552 0.12315 0.87748 0.12106 0.87969 0.11944 C 0.88099 0.11829 0.88281 0.11782 0.88438 0.11667 C 0.88594 0.11505 0.88737 0.11273 0.88906 0.11111 C 0.89518 0.1044 0.9013 0.09745 0.90781 0.09167 C 0.9112 0.08819 0.91511 0.08611 0.91875 0.08333 C 0.92292 0.07963 0.92696 0.07546 0.93125 0.07222 C 0.93425 0.06991 0.9375 0.06898 0.9405 0.06667 C 0.94336 0.06435 0.94571 0.06065 0.94844 0.05833 C 0.94987 0.05694 0.95156 0.05648 0.95313 0.05555 C 0.97396 0.04143 0.94961 0.05648 0.96719 0.04722 C 0.97031 0.04537 0.97331 0.04282 0.97656 0.04167 C 0.9806 0.04005 0.9849 0.04005 0.98906 0.03889 C 0.99115 0.03819 0.9931 0.03657 0.99531 0.03611 C 0.99935 0.03472 1.00365 0.03426 1.00781 0.03333 C 1.01094 0.03241 1.01393 0.03055 1.01719 0.03055 C 1.03946 0.02963 1.06198 0.03055 1.08438 0.03055 L 1.1625 0.08889 L 1.1625 0.08912 E">
                                      <p:cBhvr>
                                        <p:cTn id="571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9167E-006 -4.07407E-006 L -2.29167E-006 0.00024 C 0.00378 -0.00555 0.00729 -0.0118 0.01133 -0.01666 C 0.02969 -0.03865 0.00169 0.00278 0.0211 -0.025 C 0.02292 -0.02754 0.02396 -0.03125 0.02591 -0.03333 C 0.02735 -0.03518 0.0293 -0.03518 0.03073 -0.03611 C 0.05052 -0.05092 0.02591 -0.03333 0.04206 -0.04722 C 0.04531 -0.05023 0.05183 -0.05185 0.05495 -0.05277 C 0.06706 -0.06689 0.05156 -0.05046 0.06615 -0.06111 C 0.06797 -0.0625 0.06914 -0.06551 0.0711 -0.06666 C 0.07709 -0.07152 0.08047 -0.06759 0.08711 -0.075 C 0.09076 -0.07963 0.09375 -0.08333 0.09831 -0.08611 C 0.10196 -0.08842 0.10586 -0.08981 0.10964 -0.09166 C 0.1112 -0.09259 0.11276 -0.09375 0.11446 -0.09444 C 0.11654 -0.0956 0.11875 -0.09629 0.12097 -0.09722 C 0.12253 -0.09814 0.12396 -0.0993 0.12578 -0.1 C 0.12839 -0.10115 0.13112 -0.10185 0.13386 -0.10277 C 0.13815 -0.10463 0.14232 -0.10694 0.14675 -0.10833 C 0.14948 -0.10926 0.15209 -0.11018 0.15482 -0.11111 C 0.17409 -0.11851 0.14492 -0.10856 0.17097 -0.11666 C 0.17357 -0.11759 0.17617 -0.11898 0.17904 -0.11944 C 0.18373 -0.12083 0.18867 -0.12129 0.19349 -0.12222 C 0.19571 -0.12314 0.19779 -0.12407 0.2 -0.125 C 0.20156 -0.12592 0.20313 -0.12754 0.20482 -0.12777 C 0.21276 -0.12939 0.22097 -0.12939 0.22904 -0.13055 C 0.23334 -0.13125 0.2375 -0.13287 0.24193 -0.13333 C 0.25313 -0.13472 0.26446 -0.13518 0.27578 -0.13611 C 0.29037 -0.14074 0.30521 -0.14213 0.3194 -0.15 C 0.32878 -0.15555 0.31966 -0.15069 0.33386 -0.15555 C 0.33607 -0.15648 0.33802 -0.15787 0.34037 -0.15833 C 0.35808 -0.16365 0.34766 -0.15879 0.36289 -0.16388 C 0.36511 -0.16481 0.36706 -0.1662 0.3694 -0.16666 C 0.38086 -0.17013 0.39349 -0.17083 0.40482 -0.17222 L 0.41459 -0.175 C 0.41719 -0.17592 0.41979 -0.17731 0.42266 -0.17777 C 0.42943 -0.17916 0.43659 -0.17963 0.44362 -0.18055 C 0.44844 -0.18194 0.46003 -0.18541 0.46459 -0.18611 C 0.47253 -0.1875 0.48073 -0.18796 0.4888 -0.18888 C 0.5069 -0.19513 0.48464 -0.18796 0.51302 -0.19444 C 0.51563 -0.19513 0.51823 -0.19652 0.52097 -0.19722 C 0.52839 -0.1993 0.53607 -0.20023 0.54362 -0.20277 C 0.54636 -0.2037 0.54896 -0.20463 0.5517 -0.20555 C 0.55378 -0.20648 0.55586 -0.20763 0.55808 -0.20833 C 0.5612 -0.20949 0.56459 -0.21018 0.56784 -0.21111 C 0.56992 -0.21203 0.57201 -0.21342 0.57422 -0.21388 C 0.57839 -0.21527 0.58281 -0.21574 0.58711 -0.21666 L 0.6017 -0.225 L 0.60651 -0.22777 C 0.60821 -0.2287 0.60964 -0.23009 0.61133 -0.23055 L 0.62917 -0.23611 C 0.63177 -0.23703 0.63451 -0.23773 0.63724 -0.23888 C 0.6388 -0.23981 0.64024 -0.24097 0.64206 -0.24166 C 0.64401 -0.24282 0.64636 -0.24351 0.64844 -0.24444 C 0.66472 -0.25301 0.65196 -0.24629 0.66459 -0.25555 C 0.66615 -0.25671 0.66771 -0.25763 0.6694 -0.25833 C 0.67305 -0.26041 0.67696 -0.2618 0.68073 -0.26388 C 0.68451 -0.26643 0.68815 -0.26967 0.69206 -0.27222 C 0.69349 -0.27338 0.69531 -0.27384 0.69688 -0.275 C 0.69896 -0.27662 0.70104 -0.27893 0.70339 -0.28055 C 0.70651 -0.2831 0.7112 -0.28472 0.71459 -0.28611 C 0.71732 -0.28888 0.71966 -0.29259 0.72266 -0.29444 C 0.74297 -0.3081 0.73737 -0.30208 0.75013 -0.30833 C 0.7517 -0.30926 0.75326 -0.31064 0.75495 -0.31111 C 0.75808 -0.3125 0.76146 -0.31296 0.76459 -0.31388 C 0.7668 -0.31481 0.76888 -0.31574 0.7711 -0.31666 C 0.77435 -0.31851 0.77722 -0.32152 0.78073 -0.32222 C 0.80026 -0.32708 0.78477 -0.32268 0.79857 -0.32777 C 0.80104 -0.32893 0.80391 -0.32939 0.80651 -0.33055 C 0.80821 -0.33125 0.80964 -0.33263 0.81146 -0.33333 C 0.81393 -0.33449 0.8168 -0.33495 0.81953 -0.33611 C 0.82266 -0.33773 0.82578 -0.34074 0.82917 -0.34166 C 0.83242 -0.34259 0.83568 -0.34328 0.8388 -0.34444 C 0.8405 -0.34513 0.84193 -0.34652 0.84362 -0.34722 C 0.84571 -0.34838 0.84792 -0.34907 0.85013 -0.35 C 0.8517 -0.35092 0.85326 -0.35231 0.85495 -0.35277 C 0.8586 -0.35416 0.8625 -0.35463 0.86628 -0.35555 C 0.88308 -0.36041 0.86628 -0.35625 0.88073 -0.36111 C 0.88386 -0.36226 0.88724 -0.36273 0.8905 -0.36388 C 0.89206 -0.36458 0.89375 -0.36574 0.89531 -0.36666 C 0.9017 -0.37106 0.91172 -0.37893 0.91784 -0.38055 C 0.9211 -0.38148 0.92435 -0.38194 0.92761 -0.38333 C 0.93086 -0.38495 0.93386 -0.38796 0.93724 -0.38888 C 0.9405 -0.38981 0.94375 -0.39051 0.94688 -0.39166 C 0.94857 -0.39236 0.95 -0.39398 0.95183 -0.39444 C 0.95482 -0.39583 0.95821 -0.39606 0.96146 -0.39722 C 0.97084 -0.40092 0.96133 -0.39976 0.97279 -0.40277 C 0.97748 -0.40416 0.98242 -0.40463 0.98724 -0.40555 C 0.9905 -0.40648 0.99375 -0.4074 0.99701 -0.40833 C 0.99909 -0.40926 1.00117 -0.41088 1.00339 -0.41111 C 1.01185 -0.41273 1.02058 -0.41296 1.02917 -0.41388 C 1.04011 -0.42013 1.0293 -0.41481 1.05013 -0.41944 C 1.05287 -0.42013 1.05547 -0.42152 1.05821 -0.42222 C 1.06133 -0.42338 1.06459 -0.4243 1.06797 -0.425 C 1.07318 -0.42615 1.07865 -0.42685 1.08412 -0.42777 C 1.10261 -0.43865 1.08451 -0.42963 1.11146 -0.43611 C 1.11315 -0.43657 1.11459 -0.43842 1.11628 -0.43888 C 1.12097 -0.44027 1.12591 -0.44097 1.13086 -0.44166 C 1.14974 -0.44513 1.14362 -0.44444 1.15834 -0.44444 E">
                                      <p:cBhvr>
                                        <p:cTn id="573" dur="5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2.22222E-006 L -2.29167E-006 0.00023 C 0.00209 0.00741 0.00378 0.01505 0.00625 0.02222 C 0.00755 0.02547 0.00951 0.02755 0.01094 0.03056 C 0.01276 0.03403 0.01393 0.0382 0.01563 0.04167 C 0.01862 0.04746 0.02266 0.05162 0.025 0.05834 C 0.02813 0.06644 0.02839 0.06829 0.03281 0.075 C 0.03438 0.07709 0.03594 0.07871 0.03789 0.08056 C 0.04636 0.10417 0.03177 0.06759 0.05013 0.1 C 0.0543 0.10741 0.05599 0.11065 0.06094 0.11667 C 0.06289 0.11875 0.06524 0.12014 0.06719 0.12222 C 0.06875 0.12384 0.07005 0.12639 0.07188 0.12778 C 0.07852 0.13287 0.08112 0.13287 0.0875 0.13611 C 0.08906 0.13681 0.0905 0.13797 0.09219 0.13889 C 0.09414 0.13982 0.09636 0.14028 0.09844 0.14167 C 0.10104 0.14306 0.10352 0.14537 0.10625 0.14722 C 0.10925 0.14908 0.1125 0.15093 0.11563 0.15278 L 0.125 0.15834 L 0.12969 0.16111 C 0.13125 0.16204 0.13268 0.1632 0.13438 0.16389 C 0.1375 0.16482 0.14063 0.16528 0.14375 0.16667 C 0.14531 0.16713 0.14675 0.16875 0.14844 0.16945 C 0.15143 0.1706 0.15469 0.17084 0.15781 0.17222 C 0.15938 0.17269 0.16081 0.17431 0.1625 0.175 C 0.17175 0.17847 0.18099 0.17894 0.19063 0.18056 C 0.19623 0.18287 0.20013 0.18496 0.20625 0.18611 C 0.21446 0.18727 0.22292 0.18797 0.23125 0.18889 C 0.25117 0.19584 0.23464 0.19074 0.275 0.19445 L 0.30156 0.19722 L 0.47344 0.19445 C 0.47591 0.19422 0.48451 0.18982 0.4875 0.18889 C 0.4974 0.18496 0.49701 0.18565 0.50938 0.18334 C 0.51354 0.18148 0.51771 0.18009 0.52188 0.17778 C 0.525 0.17593 0.528 0.17361 0.53125 0.17222 C 0.53334 0.1713 0.53529 0.17014 0.5375 0.16945 C 0.53998 0.16829 0.54271 0.16759 0.54531 0.16667 C 0.54688 0.16574 0.54831 0.16459 0.55 0.16389 C 0.55703 0.16065 0.56263 0.15996 0.57031 0.15834 C 0.58242 0.15093 0.56615 0.15996 0.59219 0.15278 C 0.59636 0.15139 0.60039 0.14769 0.60469 0.14722 L 0.62813 0.14445 L 0.70781 0.14722 C 0.70938 0.14722 0.71081 0.14908 0.7125 0.15 C 0.71654 0.15185 0.72084 0.15301 0.725 0.15556 C 0.72656 0.15648 0.72813 0.15695 0.72969 0.15834 C 0.73125 0.15972 0.73255 0.16273 0.73438 0.16389 C 0.74831 0.17292 0.74336 0.16459 0.75313 0.175 C 0.75625 0.17824 0.75886 0.18426 0.7625 0.18611 L 0.77344 0.19167 C 0.77539 0.19259 0.77761 0.19306 0.77969 0.19445 C 0.78177 0.19584 0.78373 0.19815 0.78594 0.2 C 0.78737 0.20093 0.78906 0.20139 0.79063 0.20278 C 0.79219 0.20417 0.79349 0.20695 0.79531 0.20834 C 0.79792 0.21019 0.80703 0.21273 0.80938 0.21389 C 0.83399 0.22639 0.8125 0.2206 0.84219 0.225 C 0.8474 0.22685 0.85248 0.22963 0.85781 0.23056 C 0.86979 0.23241 0.88164 0.23519 0.89375 0.23611 L 0.97656 0.24167 C 0.97969 0.24074 0.98268 0.23935 0.98594 0.23889 C 0.99154 0.2375 0.9974 0.2375 1.00313 0.23611 C 1.00469 0.23565 1.00612 0.23403 1.00781 0.23334 C 1.01029 0.23218 1.01302 0.23148 1.01563 0.23056 C 1.01719 0.22963 1.01862 0.22824 1.02031 0.22778 C 1.02487 0.22639 1.02969 0.22593 1.03438 0.225 C 1.0375 0.22408 1.04063 0.22315 1.04375 0.22222 C 1.04584 0.2213 1.04779 0.21991 1.05 0.21945 C 1.05456 0.21806 1.05938 0.21759 1.06406 0.21667 C 1.06615 0.21574 1.0681 0.21459 1.07031 0.21389 C 1.07279 0.21273 1.07552 0.21227 1.07813 0.21111 C 1.08073 0.20949 1.08321 0.20695 1.08594 0.20556 C 1.08789 0.20417 1.09011 0.20394 1.09219 0.20278 C 1.09427 0.20116 1.09623 0.19884 1.09844 0.19722 C 1.10091 0.19514 1.10365 0.19352 1.10625 0.19167 C 1.11667 0.18334 1.12709 0.175 1.1375 0.16667 C 1.13959 0.16482 1.14154 0.1625 1.14375 0.16111 C 1.14571 0.15972 1.14792 0.15926 1.15 0.15834 C 1.15156 0.15741 1.153 0.15625 1.15469 0.15556 C 1.15664 0.1544 1.15899 0.1544 1.16094 0.15278 C 1.16224 0.15139 1.16302 0.14908 1.16406 0.14722 E">
                                      <p:cBhvr>
                                        <p:cTn id="575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9167E-006 4.07407E-006 L -2.29167E-006 0.00023 L 0.01276 0.00833 C 0.01589 0.01018 0.01953 0.01041 0.02227 0.01388 C 0.02383 0.01574 0.02539 0.01782 0.02696 0.01944 C 0.02865 0.0206 0.03034 0.02083 0.03177 0.02222 C 0.03347 0.02361 0.0349 0.02615 0.03659 0.02777 C 0.03815 0.02893 0.03985 0.02916 0.04128 0.03055 C 0.04297 0.03194 0.0444 0.03449 0.04623 0.03611 C 0.04766 0.03726 0.04935 0.0375 0.05078 0.03888 C 0.05847 0.0456 0.05248 0.04351 0.06016 0.04722 C 0.06276 0.04814 0.06563 0.04884 0.06823 0.05 C 0.06979 0.05069 0.07123 0.05208 0.07292 0.05277 C 0.078 0.05486 0.0836 0.05532 0.08854 0.05833 C 0.10013 0.06481 0.08581 0.05671 0.09987 0.06388 C 0.10143 0.06458 0.10287 0.06597 0.10443 0.06666 C 0.1086 0.06782 0.11302 0.06828 0.11719 0.06944 C 0.12409 0.07106 0.13099 0.07268 0.13789 0.075 C 0.13998 0.07546 0.14193 0.07708 0.14414 0.07777 C 0.14779 0.07893 0.15156 0.07939 0.15534 0.08055 C 0.15795 0.08125 0.16042 0.08263 0.16302 0.08333 C 0.18985 0.08935 0.25052 0.0912 0.25808 0.09166 L 0.35013 0.09444 C 0.3655 0.10092 0.35339 0.09652 0.38347 0.1 C 0.43959 0.10625 0.37136 0.10138 0.48503 0.10555 L 0.56901 0.10277 C 0.57331 0.10231 0.57735 0.10069 0.58177 0.1 C 0.58737 0.09884 0.59323 0.09814 0.59922 0.09722 C 0.60183 0.09629 0.6043 0.09513 0.60703 0.09444 C 0.61589 0.09189 0.62201 0.09166 0.63073 0.08888 C 0.63295 0.08819 0.6349 0.0868 0.63724 0.08611 C 0.64024 0.08495 0.64336 0.08402 0.64675 0.08333 L 0.66888 0.07777 C 0.68581 0.06782 0.66745 0.07754 0.71003 0.07222 C 0.71224 0.07176 0.7142 0.06967 0.71641 0.06944 C 0.73112 0.06782 0.7461 0.06759 0.76081 0.06666 L 0.79245 0.06388 C 0.80156 0.06296 0.81042 0.06157 0.8194 0.06111 C 0.8405 0.05972 0.86159 0.05926 0.88295 0.05833 C 0.89323 0.05879 0.93828 0.06041 0.95586 0.06388 C 0.95742 0.06412 0.95886 0.06597 0.96055 0.06666 C 0.96472 0.06782 0.96888 0.06851 0.97331 0.06944 C 0.9763 0.07129 0.9793 0.07407 0.98281 0.075 C 1.00391 0.08009 0.98477 0.075 1.0017 0.08055 C 1.00482 0.08148 1.00821 0.08194 1.0112 0.08333 C 1.03464 0.09351 1.00261 0.08611 1.03985 0.09166 C 1.04193 0.09259 1.04401 0.09398 1.0461 0.09444 C 1.06875 0.09676 1.11433 0.1 1.11433 0.10023 C 1.13321 0.10532 1.12058 0.10277 1.15235 0.10277 E">
                                      <p:cBhvr>
                                        <p:cTn id="577" dur="5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path" presetID="0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 0 C -0.00039 0.00648 -0.00065 0.01273 -0.00117 0.01921 C -0.00157 0.02268 -0.00235 0.02615 -0.00235 0.02963 C -0.00235 0.04675 -0.00222 0.06342 -0.00117 0.08032 C -0.00091 0.08472 0.00052 0.08865 0.00117 0.09305 C 0.00156 0.0956 0.00273 0.10486 0.00351 0.10787 C 0.00416 0.11018 0.00521 0.11203 0.00599 0.11412 C 0.00677 0.11689 0.00742 0.1199 0.00833 0.12268 C 0.00898 0.12476 0.01002 0.12662 0.01067 0.12893 C 0.01731 0.15277 0.00429 0.11296 0.01432 0.14375 C 0.01966 0.16064 0.01315 0.13888 0.02018 0.15648 C 0.02122 0.15902 0.02174 0.16226 0.02265 0.16504 C 0.0233 0.16713 0.02422 0.16921 0.025 0.17129 C 0.02539 0.17338 0.02565 0.17569 0.02617 0.17754 C 0.02682 0.17986 0.02799 0.18171 0.02851 0.18402 C 0.03424 0.20671 0.02786 0.18865 0.03333 0.203 C 0.03372 0.20509 0.03398 0.2074 0.0345 0.20949 C 0.03515 0.21157 0.03633 0.21342 0.03685 0.21574 C 0.03763 0.21921 0.0375 0.22291 0.03802 0.22638 C 0.03802 0.22638 0.04101 0.24213 0.04166 0.24537 C 0.04205 0.24745 0.04258 0.24953 0.04284 0.25162 C 0.04375 0.26088 0.04414 0.2662 0.04518 0.275 C 0.04557 0.27777 0.04596 0.28055 0.04635 0.28356 C 0.04596 0.30185 0.04583 0.32013 0.04518 0.33842 C 0.04505 0.34213 0.04427 0.3456 0.04401 0.34907 C 0.04205 0.37129 0.04401 0.35949 0.04166 0.37222 C 0.03893 0.41041 0.04192 0.3743 0.03932 0.39768 C 0.03698 0.41828 0.03919 0.40277 0.03685 0.42523 C 0.03659 0.428 0.03606 0.43078 0.03567 0.43379 C 0.03606 0.45625 0.0362 0.47893 0.03685 0.50138 C 0.03698 0.50648 0.03776 0.51134 0.03802 0.5162 C 0.03854 0.52407 0.03867 0.53171 0.03932 0.53958 C 0.03945 0.54166 0.04023 0.54375 0.04049 0.54583 C 0.04362 0.57152 0.03919 0.5456 0.04401 0.57129 C 0.0444 0.57338 0.04453 0.57569 0.04518 0.57754 L 0.05 0.59027 C 0.05221 0.60185 0.04987 0.59143 0.05351 0.603 C 0.05442 0.60578 0.05495 0.60879 0.05599 0.61134 C 0.0569 0.61388 0.05833 0.61574 0.0595 0.61782 C 0.06028 0.6206 0.0612 0.62338 0.06185 0.62615 C 0.06237 0.62824 0.0625 0.63055 0.06302 0.63263 C 0.06653 0.6449 0.06627 0.64097 0.07018 0.65162 C 0.07148 0.65509 0.07252 0.65879 0.07383 0.66226 C 0.07604 0.66805 0.07877 0.67338 0.08099 0.67916 C 0.08255 0.68333 0.08398 0.68773 0.08567 0.69189 C 0.08724 0.6956 0.09023 0.70231 0.09166 0.70671 C 0.09336 0.71226 0.0944 0.71828 0.09635 0.72361 C 0.09713 0.72569 0.09817 0.72777 0.09883 0.72986 C 0.10364 0.74745 0.09557 0.72453 0.10234 0.74259 L 0.10599 0.7618 C 0.10638 0.76388 0.10677 0.76597 0.10716 0.76805 C 0.11002 0.78865 0.10651 0.76296 0.1095 0.78703 C 0.10989 0.79004 0.11028 0.79282 0.11067 0.7956 C 0.11106 0.79907 0.11146 0.80254 0.11185 0.80625 C 0.11224 0.80902 0.11276 0.8118 0.11302 0.81458 C 0.11354 0.81875 0.1138 0.82314 0.11432 0.82731 C 0.1138 0.84699 0.1138 0.86689 0.11302 0.88657 C 0.11289 0.89004 0.11224 0.89351 0.11185 0.89722 C 0.11146 0.90138 0.1112 0.90555 0.11067 0.90972 C 0.11041 0.91273 0.10976 0.9155 0.1095 0.91828 C 0.10898 0.92314 0.10885 0.92824 0.10833 0.9331 C 0.10742 0.94213 0.10716 0.94004 0.10599 0.94791 C 0.10547 0.95069 0.10521 0.9537 0.10468 0.95648 C 0.10442 0.95856 0.1039 0.96064 0.10351 0.96273 C 0.10299 0.9662 0.10286 0.9699 0.10234 0.97338 C 0.10208 0.97546 0.10143 0.97754 0.10117 0.97963 C 0.10065 0.9831 0.10052 0.9868 0.1 0.99027 C 0.09961 0.99236 0.09909 0.99444 0.09883 0.99652 C 0.0983 0.9993 0.0983 1.00254 0.09765 1.00509 C 0.09635 1.00972 0.09284 1.01782 0.09284 1.01782 C 0.09101 1.03055 0.09218 1.02338 0.08932 1.03888 C 0.0888 1.04097 0.08867 1.04328 0.08802 1.04537 C 0.08724 1.04814 0.08659 1.05092 0.08567 1.0537 C 0.08502 1.05601 0.08398 1.05787 0.08333 1.06018 C 0.0819 1.06527 0.08203 1.06944 0.08099 1.075 C 0.07773 1.08981 0.07955 1.07731 0.07617 1.08981 C 0.07565 1.09166 0.07565 1.09421 0.075 1.09606 C 0.07409 1.09861 0.07252 1.1 0.07135 1.10231 C 0.07044 1.10439 0.06979 1.10671 0.06901 1.10879 C 0.06862 1.11157 0.06862 1.11458 0.06784 1.11713 C 0.06705 1.1199 0.06536 1.12129 0.06432 1.12361 C 0.05924 1.13425 0.06484 1.12638 0.05833 1.13425 C 0.05755 1.13634 0.0569 1.13865 0.05599 1.1405 C 0.05013 1.15069 0.0539 1.13935 0.05117 1.14907 E">
                                      <p:cBhvr>
                                        <p:cTn id="579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path" presetID="0">
                                  <p:stCondLst>
                                    <p:cond delay="4750"/>
                                  </p:stCondLst>
                                  <p:childTnLst>
                                    <p:animMotion origin="layout" path="M 3.75E-006 -2.59259E-006 C -0.00495 0.03958 0.00052 0.00671 -0.00469 0.02546 C -0.00534 0.02755 -0.00534 0.02986 -0.00586 0.03195 C -0.00729 0.03634 -0.01068 0.04468 -0.01068 0.04468 C -0.01185 0.05093 -0.01172 0.05185 -0.0142 0.05695 C -0.01537 0.05926 -0.0168 0.06111 -0.01784 0.06343 C -0.01953 0.06736 -0.02058 0.07245 -0.02253 0.07616 C -0.03295 0.09468 -0.02019 0.07107 -0.02852 0.08889 C -0.02956 0.09097 -0.03099 0.09282 -0.03203 0.09514 C -0.03334 0.09792 -0.03425 0.10116 -0.03568 0.1037 C -0.03672 0.10532 -0.03815 0.10625 -0.0392 0.10787 C -0.04089 0.11042 -0.04271 0.1132 -0.04401 0.1162 C -0.04506 0.11875 -0.04519 0.12245 -0.04636 0.12477 C -0.04805 0.12778 -0.05039 0.12894 -0.05235 0.13102 C -0.05821 0.14699 -0.05065 0.12755 -0.05834 0.14375 C -0.06328 0.1544 -0.05769 0.14653 -0.0642 0.1544 C -0.06589 0.15857 -0.06667 0.16435 -0.06901 0.16713 C -0.07019 0.16852 -0.07162 0.16945 -0.07253 0.1713 C -0.07644 0.17894 -0.08112 0.19213 -0.08451 0.20093 C -0.08529 0.20301 -0.0862 0.20509 -0.08685 0.20741 C -0.08763 0.21019 -0.08841 0.21296 -0.0892 0.21574 C -0.08998 0.21806 -0.09102 0.21991 -0.09167 0.22222 C -0.09258 0.22616 -0.09323 0.23056 -0.09401 0.23472 C -0.0944 0.23704 -0.09492 0.23912 -0.09519 0.2412 C -0.09597 0.24676 -0.09649 0.25255 -0.09753 0.2581 C -0.09883 0.26482 -0.10039 0.27222 -0.10117 0.27917 C -0.1017 0.28426 -0.10183 0.28912 -0.10235 0.29398 C -0.103 0.30116 -0.10469 0.31528 -0.10469 0.31528 C -0.10508 0.32801 -0.10547 0.34074 -0.10586 0.35324 C -0.10625 0.36111 -0.10703 0.36875 -0.10703 0.37662 C -0.10703 0.40278 -0.10664 0.42894 -0.10586 0.45486 C -0.10586 0.45718 -0.10495 0.45903 -0.10469 0.46134 C -0.10313 0.47384 -0.10287 0.48009 -0.10117 0.49097 C -0.10078 0.49306 -0.10039 0.49514 -0.1 0.49722 C -0.09922 0.50023 -0.09831 0.50278 -0.09753 0.50579 C -0.09714 0.50787 -0.09688 0.50995 -0.09636 0.51204 C -0.09571 0.51505 -0.09466 0.51759 -0.09401 0.5206 C -0.09349 0.52269 -0.09336 0.525 -0.09284 0.52685 C -0.09141 0.53125 -0.08894 0.53472 -0.08802 0.53958 C -0.08763 0.54167 -0.08737 0.54398 -0.08685 0.54607 C -0.08542 0.55185 -0.08347 0.55833 -0.08086 0.56296 C -0.07995 0.56458 -0.07852 0.56574 -0.07735 0.56713 C -0.07565 0.57153 -0.07331 0.57824 -0.07136 0.58195 C -0.06914 0.58634 -0.06667 0.59051 -0.0642 0.59468 L -0.06068 0.60093 L -0.05703 0.60741 C -0.05586 0.60949 -0.05495 0.61204 -0.05352 0.61366 C -0.05235 0.61505 -0.05104 0.6162 -0.05 0.61782 C -0.04831 0.6206 -0.04688 0.62384 -0.04519 0.62639 C -0.04414 0.62801 -0.04284 0.62917 -0.04167 0.63056 C -0.03998 0.63264 -0.03841 0.63495 -0.03685 0.63704 C -0.03568 0.63843 -0.03438 0.63958 -0.03334 0.6412 C -0.03164 0.64375 -0.03034 0.64722 -0.02852 0.64977 C -0.02709 0.65162 -0.02526 0.65208 -0.0237 0.65394 C -0.02006 0.65857 -0.01693 0.66458 -0.01302 0.66875 C -0.01107 0.67083 -0.00899 0.67269 -0.00703 0.675 C 0.00156 0.68681 -0.00964 0.67708 0.00247 0.68565 C 0.00403 0.68843 0.00534 0.6919 0.00716 0.69421 C 0.0082 0.69537 0.00963 0.69514 0.0108 0.6963 C 0.01484 0.70023 0.01875 0.70463 0.02265 0.70903 C 0.02578 0.7125 0.02903 0.71574 0.03216 0.71945 C 0.03333 0.72083 0.0345 0.72269 0.0358 0.72384 C 0.03685 0.72477 0.03815 0.725 0.03932 0.72593 C 0.04258 0.72847 0.04596 0.73079 0.04883 0.73426 C 0.05 0.73565 0.05117 0.7375 0.05247 0.73866 C 0.05351 0.73958 0.05494 0.73958 0.05599 0.74074 C 0.05846 0.74306 0.06041 0.74745 0.06315 0.74907 C 0.06718 0.75162 0.06731 0.75139 0.07148 0.75556 C 0.07265 0.75671 0.07383 0.75857 0.075 0.75972 C 0.07617 0.76065 0.07747 0.76088 0.07864 0.76181 C 0.08073 0.76366 0.08255 0.76597 0.08463 0.76829 C 0.0858 0.76945 0.08698 0.77083 0.08815 0.77245 C 0.08945 0.77431 0.09036 0.77708 0.09166 0.7787 C 0.09271 0.78009 0.09414 0.78009 0.09531 0.78102 C 0.09648 0.78241 0.09778 0.78357 0.09883 0.78519 C 0.10013 0.78704 0.10104 0.78982 0.10247 0.79144 C 0.1039 0.79329 0.1056 0.79421 0.10716 0.79583 C 0.11002 0.79861 0.11302 0.80301 0.11549 0.80625 C 0.1194 0.81134 0.11927 0.81065 0.12383 0.81482 C 0.12578 0.81991 0.12695 0.82384 0.12981 0.82755 C 0.13125 0.8294 0.13294 0.83032 0.13463 0.83171 L 0.14166 0.84445 C 0.14297 0.84653 0.14388 0.84907 0.14531 0.8507 L 0.14883 0.85509 C 0.14961 0.85718 0.15026 0.85949 0.1513 0.86134 C 0.15351 0.86574 0.15651 0.86898 0.15833 0.87407 C 0.16185 0.88333 0.15963 0.87894 0.16549 0.88681 C 0.17096 0.90579 0.16406 0.88287 0.175 0.91204 L 0.18216 0.93125 L 0.18698 0.94398 C 0.18737 0.94607 0.18763 0.94815 0.18815 0.95023 C 0.18997 0.95764 0.19049 0.95857 0.19297 0.96505 C 0.19336 0.96713 0.19349 0.96945 0.19414 0.9713 C 0.19479 0.97361 0.19596 0.97546 0.19648 0.97778 C 0.19765 0.9831 0.19778 0.98912 0.19883 0.99468 L 0.2 1.00093 C 0.20247 1.02685 0.19948 1.00255 0.20364 1.02222 C 0.20416 1.025 0.20429 1.02778 0.20481 1.03056 C 0.20521 1.03287 0.2056 1.03495 0.20599 1.03704 C 0.20638 1.04537 0.20664 1.05394 0.20716 1.0625 C 0.20742 1.06528 0.2082 1.06806 0.20833 1.07083 C 0.20898 1.08218 0.20963 1.10463 0.20963 1.10463 E">
                                      <p:cBhvr>
                                        <p:cTn id="581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6.25E-007 7.40741E-007 C 0.00196 0.00578 0.00417 0.01111 0.00586 0.01713 C 0.01328 0.0412 -0.00013 0.00416 0.00951 0.02963 C 0.01276 0.04722 0.00729 0.01967 0.01537 0.04884 C 0.01862 0.06018 0.01667 0.05463 0.02136 0.06551 C 0.02357 0.07708 0.02123 0.06666 0.02487 0.07824 C 0.02578 0.08102 0.02657 0.08379 0.02735 0.08657 C 0.02774 0.08865 0.02787 0.09097 0.02852 0.09305 C 0.02917 0.09537 0.03008 0.09722 0.03086 0.0993 C 0.03203 0.10278 0.03321 0.10648 0.03438 0.10995 C 0.03477 0.11273 0.03503 0.11574 0.03568 0.11828 C 0.0362 0.12083 0.03737 0.12245 0.03802 0.12477 C 0.03854 0.12685 0.03867 0.12916 0.0392 0.13102 C 0.04024 0.13472 0.04167 0.13796 0.04271 0.14166 C 0.04336 0.14375 0.04349 0.14606 0.04388 0.14791 C 0.04545 0.1537 0.04753 0.15903 0.0487 0.16504 C 0.05039 0.17361 0.04922 0.16944 0.05222 0.17754 C 0.05261 0.18055 0.05274 0.18356 0.05352 0.18611 C 0.05443 0.19004 0.05782 0.19884 0.05938 0.20301 C 0.06042 0.20995 0.06094 0.21551 0.06302 0.22199 C 0.06394 0.22523 0.06537 0.22778 0.06654 0.23055 C 0.06771 0.23865 0.06784 0.24166 0.07006 0.24953 C 0.07071 0.25185 0.07175 0.25393 0.07253 0.25602 C 0.07644 0.27731 0.07045 0.24421 0.07487 0.27083 C 0.07552 0.275 0.07644 0.27916 0.07722 0.28356 C 0.07761 0.28565 0.07813 0.28773 0.07839 0.28981 C 0.07878 0.29259 0.07917 0.2956 0.07956 0.29838 C 0.08034 0.30254 0.08203 0.31088 0.08203 0.31088 C 0.08242 0.31805 0.08256 0.32523 0.08321 0.33217 C 0.08607 0.36342 0.08516 0.33518 0.08672 0.36389 C 0.08724 0.37384 0.0875 0.38356 0.08789 0.39352 C 0.08828 0.4 0.08867 0.40625 0.0892 0.4125 C 0.08867 0.4324 0.08854 0.45208 0.08789 0.47176 C 0.08776 0.47615 0.08698 0.48032 0.08672 0.48449 C 0.0862 0.49305 0.0862 0.50139 0.08555 0.50995 C 0.08542 0.51203 0.08464 0.51412 0.08438 0.5162 C 0.08386 0.52037 0.0836 0.52477 0.08321 0.52893 C 0.08282 0.5324 0.08242 0.53611 0.08203 0.53958 C 0.08164 0.54236 0.08112 0.54514 0.08086 0.54791 C 0.08034 0.55231 0.08008 0.55648 0.07956 0.56065 C 0.07487 0.60023 0.07904 0.56435 0.07604 0.58403 C 0.07513 0.58958 0.07448 0.59537 0.0737 0.60092 C 0.07331 0.6037 0.07279 0.60648 0.07253 0.60949 C 0.07214 0.61227 0.07084 0.625 0.07006 0.62847 C 0.06693 0.64328 0.06875 0.63102 0.06537 0.64328 C 0.06446 0.64676 0.06367 0.65023 0.06302 0.65393 C 0.0625 0.65602 0.06237 0.65833 0.06172 0.66018 C 0.06042 0.66458 0.05834 0.66828 0.05703 0.67291 C 0.04987 0.69838 0.05899 0.66666 0.05222 0.68773 C 0.04492 0.71041 0.05677 0.67778 0.04519 0.70879 C 0.0444 0.71088 0.04323 0.71273 0.04271 0.71528 C 0.03985 0.73078 0.04219 0.72477 0.03685 0.73426 C 0.03542 0.74143 0.03555 0.74166 0.03321 0.74907 C 0.03256 0.75139 0.03151 0.75324 0.03086 0.75532 C 0.02995 0.7581 0.02943 0.76111 0.02852 0.76389 C 0.02696 0.76828 0.0237 0.77662 0.0237 0.77662 C 0.01992 0.79699 0.02604 0.76528 0.02019 0.79143 C 0.01589 0.81018 0.01992 0.79815 0.01537 0.81041 C 0.01498 0.8125 0.01485 0.81481 0.0142 0.8169 C 0.01354 0.81898 0.01237 0.82083 0.01185 0.82315 C 0.01068 0.8287 0.01055 0.83449 0.00951 0.84004 L 0.00703 0.85278 L 0.00469 0.86551 L 0.00352 0.87176 C 0.00313 0.87963 0.00287 0.88727 0.00235 0.89514 C -0.00065 0.93472 0.00313 0.86088 -6.25E-007 0.9162 C -0.00104 0.9324 -0.00195 0.94861 -0.00247 0.96504 C -0.00455 1.05023 -0.00364 0.99606 -0.00364 1.12778 E">
                                      <p:cBhvr>
                                        <p:cTn id="583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path" presetID="0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3.125E-006 7.40741E-007 C -0.00117 0.00578 -0.00208 0.01157 -0.00364 0.01713 C -0.00364 0.01713 -0.0095 0.03287 -0.01068 0.03611 L -0.01315 0.04236 L -0.01549 0.04884 C -0.01758 0.05972 -0.01601 0.05324 -0.02148 0.06759 L -0.02383 0.07407 C -0.02682 0.08981 -0.02279 0.07014 -0.02734 0.08657 C -0.0319 0.10278 -0.02357 0.08102 -0.03216 0.10139 C -0.03255 0.1037 -0.03281 0.10578 -0.03333 0.10787 C -0.03476 0.11227 -0.03815 0.1206 -0.03815 0.1206 C -0.03854 0.12338 -0.0388 0.12615 -0.03932 0.12893 C -0.03971 0.13125 -0.04023 0.1331 -0.04049 0.13541 C -0.04219 0.14861 -0.04284 0.15671 -0.04401 0.16921 C -0.04362 0.20092 -0.04362 0.23264 -0.04284 0.26435 C -0.04284 0.26875 -0.04206 0.27291 -0.04167 0.27708 C -0.04128 0.28356 -0.04101 0.28981 -0.04049 0.29629 C -0.03997 0.30208 -0.03789 0.3125 -0.03698 0.31736 L -0.0345 0.33009 C -0.03411 0.33217 -0.03372 0.33426 -0.03333 0.33634 C -0.02969 0.36296 -0.03437 0.33009 -0.03099 0.35115 C -0.03047 0.35393 -0.03021 0.35694 -0.02982 0.35972 C -0.02904 0.36389 -0.02799 0.36805 -0.02734 0.37245 C -0.02682 0.37662 -0.02604 0.38287 -0.025 0.38727 C -0.01875 0.41319 -0.0263 0.38078 -0.02031 0.40208 C -0.01927 0.40532 -0.01862 0.40903 -0.01784 0.41273 C -0.01745 0.4162 -0.01732 0.41967 -0.01667 0.42315 C -0.01588 0.42801 -0.01341 0.43773 -0.01198 0.44236 C -0.0112 0.44444 -0.01029 0.44653 -0.0095 0.44861 C -0.00677 0.46365 -0.00859 0.45764 -0.00482 0.46759 C -0.00443 0.46967 -0.00417 0.47199 -0.00364 0.47407 C 0.00234 0.49537 -0.00508 0.46273 0.00117 0.48889 C 0.00169 0.49097 0.00169 0.49328 0.00234 0.49514 C 0.00378 0.49953 0.00716 0.50787 0.00716 0.50787 C 0.00794 0.51203 0.00807 0.5169 0.00951 0.5206 C 0.01771 0.54259 0.00521 0.50856 0.01432 0.53541 C 0.01576 0.53981 0.01745 0.54375 0.01901 0.54815 C 0.01979 0.55023 0.02096 0.55208 0.02136 0.5544 C 0.02214 0.55856 0.02201 0.56389 0.02383 0.56713 C 0.02708 0.57291 0.02747 0.57291 0.02969 0.57986 C 0.0306 0.58264 0.03138 0.58541 0.03216 0.58819 C 0.03255 0.59028 0.03281 0.59259 0.03333 0.59467 C 0.03399 0.59699 0.0349 0.59884 0.03568 0.60092 C 0.03607 0.60301 0.03633 0.60532 0.03685 0.6074 C 0.03828 0.6118 0.04076 0.61528 0.04167 0.62014 C 0.04375 0.63125 0.04219 0.62453 0.04766 0.63912 L 0.05 0.64537 L 0.05234 0.65185 C 0.05365 0.65903 0.05352 0.65926 0.05599 0.66666 C 0.05729 0.67083 0.06029 0.67778 0.06185 0.68148 C 0.06263 0.68565 0.06289 0.69051 0.06432 0.69421 C 0.06511 0.69629 0.06576 0.69861 0.06667 0.70046 C 0.07435 0.71666 0.06667 0.69745 0.07266 0.71319 C 0.07305 0.71528 0.07318 0.71759 0.07383 0.71944 C 0.07513 0.72407 0.07852 0.73217 0.07852 0.73217 C 0.08112 0.74583 0.07774 0.73102 0.08333 0.7449 C 0.08438 0.74745 0.08477 0.75069 0.08568 0.75347 C 0.08711 0.75764 0.08919 0.76157 0.0905 0.7662 C 0.09349 0.77685 0.0918 0.77199 0.09518 0.78102 C 0.09779 0.79444 0.0944 0.77963 0.1 0.79352 C 0.10104 0.79606 0.10143 0.7993 0.10234 0.80208 C 0.10378 0.80648 0.1056 0.81065 0.10716 0.81481 L 0.11432 0.83379 C 0.11511 0.83588 0.11615 0.83773 0.11667 0.84028 C 0.11706 0.84236 0.11719 0.84467 0.11784 0.84653 C 0.11927 0.85092 0.12057 0.85555 0.12266 0.85926 C 0.12721 0.86736 0.12526 0.86319 0.12852 0.87199 C 0.13177 0.88935 0.12617 0.8625 0.13685 0.89097 C 0.14258 0.90625 0.13958 0.9 0.14518 0.90995 C 0.14883 0.92315 0.14662 0.91597 0.15234 0.93125 L 0.15716 0.94398 L 0.16068 0.95023 C 0.16146 0.9544 0.16172 0.95926 0.16302 0.96296 C 0.16471 0.96713 0.16693 0.97083 0.16784 0.97569 C 0.16823 0.97778 0.16836 0.98009 0.16901 0.98194 C 0.17044 0.98634 0.17383 0.99467 0.17383 0.99467 C 0.17422 0.99676 0.17435 0.99907 0.175 1.00092 C 0.17643 1.00555 0.17891 1.00879 0.17969 1.01365 C 0.18346 1.03333 0.18034 1.01805 0.19284 1.05602 C 0.1931 1.0581 0.1944 1.06828 0.19518 1.07083 C 0.19662 1.07523 0.19909 1.0787 0.2 1.08356 C 0.20078 1.08773 0.20091 1.09259 0.20234 1.09629 C 0.20495 1.10324 0.20469 1.1 0.20469 1.10463 E">
                                      <p:cBhvr>
                                        <p:cTn id="585" dur="5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path" presetID="0">
                                  <p:stCondLst>
                                    <p:cond delay="4750"/>
                                  </p:stCondLst>
                                  <p:childTnLst>
                                    <p:animMotion origin="layout" path="M 0.00013 -7.40741E-007 C -0.00195 0.00509 -0.00365 0.01042 -0.00586 0.01481 C -0.0069 0.0169 -0.00833 0.01759 -0.0095 0.01921 C -0.01862 0.03264 -0.00768 0.01921 -0.01654 0.02963 C -0.01771 0.03287 -0.02135 0.04259 -0.02253 0.04444 C -0.02474 0.04792 -0.02969 0.05278 -0.02969 0.05278 C -0.03047 0.05486 -0.03112 0.05741 -0.03203 0.05903 C -0.03307 0.06088 -0.0345 0.0618 -0.03568 0.06342 C -0.03698 0.06528 -0.03789 0.06782 -0.03919 0.06967 C -0.04036 0.0713 -0.04167 0.07245 -0.04284 0.07384 C -0.0444 0.07592 -0.04609 0.07801 -0.04753 0.08032 C -0.05325 0.08889 -0.04857 0.08518 -0.05469 0.08866 C -0.06354 0.10463 -0.05234 0.08518 -0.06302 0.10139 C -0.07161 0.11458 -0.06094 0.10092 -0.07135 0.11412 C -0.07253 0.11574 -0.0737 0.1169 -0.07487 0.11829 C -0.07656 0.12037 -0.07812 0.12268 -0.07969 0.12477 C -0.08086 0.12616 -0.08216 0.12731 -0.0832 0.12893 C -0.08581 0.13287 -0.08802 0.1375 -0.09036 0.14167 C -0.09193 0.14444 -0.09323 0.14792 -0.09518 0.15023 C -0.10013 0.15602 -0.09766 0.15255 -0.10234 0.16065 C -0.10443 0.17176 -0.10195 0.16319 -0.10703 0.1713 C -0.10964 0.17523 -0.11185 0.17986 -0.11419 0.18403 C -0.11523 0.18588 -0.11562 0.18866 -0.11654 0.19028 C -0.11836 0.19352 -0.12057 0.19606 -0.12253 0.19884 C -0.12292 0.20092 -0.12318 0.20324 -0.1237 0.20509 C -0.12539 0.21111 -0.12708 0.21319 -0.12969 0.21782 C -0.13008 0.21991 -0.13021 0.22222 -0.13086 0.2243 C -0.13229 0.2287 -0.13568 0.2368 -0.13568 0.2368 C -0.13607 0.23912 -0.13646 0.2412 -0.13685 0.24329 C -0.13763 0.24861 -0.13802 0.25301 -0.13919 0.2581 C -0.13984 0.26088 -0.14075 0.26366 -0.14154 0.26643 C -0.14193 0.26944 -0.14323 0.28217 -0.14401 0.28565 C -0.14453 0.28866 -0.1457 0.2912 -0.14635 0.29398 C -0.14727 0.29815 -0.14792 0.30255 -0.1487 0.30671 L -0.15234 0.32569 C -0.15273 0.32801 -0.15312 0.33009 -0.15352 0.33217 C -0.15391 0.33495 -0.15404 0.33796 -0.15469 0.34051 C -0.15859 0.35903 -0.15573 0.33819 -0.15937 0.35972 C -0.16042 0.36528 -0.16081 0.37106 -0.16185 0.37662 L -0.16419 0.38935 C -0.16458 0.39143 -0.1651 0.39352 -0.16536 0.3956 C -0.16914 0.42222 -0.16432 0.38912 -0.16771 0.41042 C -0.16823 0.41319 -0.16849 0.4162 -0.16901 0.41898 C -0.16966 0.42315 -0.1707 0.42731 -0.17135 0.43171 C -0.175 0.4581 -0.17031 0.42523 -0.1737 0.44653 C -0.17422 0.4493 -0.17448 0.45208 -0.17487 0.45486 C -0.17565 0.45926 -0.17643 0.46342 -0.17734 0.46759 C -0.17773 0.46967 -0.17825 0.47176 -0.17852 0.47384 C -0.17917 0.48009 -0.17943 0.48518 -0.18086 0.49097 C -0.18151 0.49375 -0.18255 0.4963 -0.1832 0.4993 C -0.18437 0.50486 -0.18411 0.50903 -0.18568 0.51412 C -0.1862 0.51643 -0.18724 0.51829 -0.18802 0.5206 C -0.1888 0.52477 -0.18893 0.5294 -0.19036 0.5331 C -0.19115 0.53542 -0.19206 0.53727 -0.19271 0.53958 C -0.19375 0.54305 -0.1944 0.54653 -0.19518 0.55023 C -0.19557 0.55231 -0.1957 0.5544 -0.19635 0.55648 C -0.197 0.5588 -0.19792 0.56065 -0.1987 0.56273 C -0.19974 0.56805 -0.20039 0.57315 -0.20234 0.57755 C -0.20325 0.58009 -0.20469 0.58194 -0.20586 0.58403 C -0.20794 0.59514 -0.20638 0.58842 -0.21185 0.60301 L -0.21419 0.60949 C -0.21667 0.62292 -0.21328 0.60833 -0.22018 0.62199 C -0.23021 0.64236 -0.22018 0.6294 -0.22852 0.63912 C -0.23099 0.65255 -0.22747 0.63796 -0.23437 0.65162 C -0.23633 0.65555 -0.23763 0.66018 -0.23919 0.66435 C -0.24206 0.67199 -0.24375 0.67778 -0.2487 0.68356 C -0.26146 0.69861 -0.24206 0.675 -0.25586 0.69398 C -0.25807 0.69722 -0.26055 0.69977 -0.26302 0.70255 C -0.26419 0.70393 -0.26549 0.70486 -0.26654 0.70671 C -0.26771 0.7088 -0.26875 0.71134 -0.27018 0.71319 C -0.27018 0.71319 -0.27904 0.72361 -0.28086 0.72569 L -0.28802 0.73426 C -0.28919 0.73565 -0.29036 0.73704 -0.29154 0.73842 C -0.2931 0.74051 -0.29466 0.74305 -0.29635 0.74491 C -0.29779 0.74653 -0.29948 0.74745 -0.30104 0.74907 C -0.30234 0.75046 -0.30352 0.75162 -0.30469 0.75324 C -0.30599 0.75532 -0.30677 0.7581 -0.3082 0.75972 C -0.31003 0.76157 -0.31224 0.76227 -0.31419 0.76389 C -0.31979 0.76829 -0.32461 0.77407 -0.32969 0.78079 C -0.34753 0.80463 -0.32305 0.77153 -0.33802 0.79352 C -0.33906 0.79514 -0.34049 0.79606 -0.34154 0.79768 C -0.34323 0.80046 -0.34466 0.8037 -0.34635 0.80625 C -0.34987 0.81157 -0.35052 0.81018 -0.35469 0.81458 C -0.35638 0.81667 -0.35781 0.81898 -0.35937 0.82106 C -0.36055 0.82245 -0.36185 0.82361 -0.36302 0.82523 C -0.36471 0.82778 -0.36589 0.83148 -0.36771 0.8338 C -0.3707 0.83727 -0.37409 0.83935 -0.37721 0.84213 L -0.38672 0.85069 C -0.38841 0.85208 -0.38984 0.85393 -0.39154 0.85486 L -0.39492 0.85694 C -0.39622 0.85833 -0.39727 0.86018 -0.39857 0.86134 C -0.40078 0.86296 -0.40573 0.86551 -0.40573 0.86551 C -0.4069 0.8669 -0.40794 0.86852 -0.40924 0.86967 C -0.41042 0.87083 -0.41159 0.8713 -0.41289 0.87176 C -0.41849 0.87407 -0.41784 0.87384 -0.42122 0.87384 E">
                                      <p:cBhvr>
                                        <p:cTn id="587" dur="5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path" presetID="0">
                                  <p:stCondLst>
                                    <p:cond delay="5750"/>
                                  </p:stCondLst>
                                  <p:childTnLst>
                                    <p:animMotion origin="layout" path="M -1.25E-006 -2.59259E-006 C -0.00156 0.02407 -0.00169 0.01435 -1.25E-006 0.0382 C 0.00026 0.04306 0.00039 0.04815 0.00117 0.05301 C 0.00156 0.05532 0.00286 0.05695 0.00351 0.05926 C 0.00404 0.06111 0.0043 0.06343 0.00469 0.06551 C 0.00547 0.06898 0.00638 0.07245 0.00716 0.07616 C 0.00755 0.07824 0.00781 0.08032 0.00833 0.08241 C 0.00976 0.0882 0.01198 0.09329 0.01302 0.09931 C 0.01575 0.11366 0.01237 0.09607 0.01667 0.1162 C 0.01706 0.11829 0.01719 0.1206 0.01784 0.12269 C 0.01849 0.125 0.01953 0.12685 0.02018 0.12894 C 0.02109 0.13171 0.02148 0.13495 0.02252 0.1375 C 0.02357 0.13982 0.025 0.14167 0.02617 0.14375 C 0.02812 0.15463 0.0263 0.14676 0.03086 0.15857 C 0.03333 0.16482 0.03568 0.1713 0.03802 0.17778 C 0.0388 0.17986 0.03997 0.18171 0.04036 0.18403 C 0.04453 0.2037 0.04167 0.19676 0.04752 0.20741 C 0.04792 0.20949 0.04818 0.21157 0.0487 0.21366 C 0.05026 0.21945 0.05234 0.22454 0.05351 0.23056 C 0.05534 0.24028 0.0539 0.23519 0.05833 0.24537 C 0.06146 0.26227 0.05664 0.24005 0.06302 0.2581 C 0.06419 0.26134 0.06445 0.26528 0.06536 0.26875 C 0.06706 0.27431 0.07083 0.28102 0.07252 0.28565 C 0.07357 0.2882 0.07383 0.29167 0.075 0.29398 C 0.08242 0.31065 0.08073 0.30116 0.08568 0.31528 C 0.08659 0.31782 0.08711 0.32107 0.08802 0.32361 C 0.0888 0.32593 0.08958 0.32801 0.09036 0.33009 C 0.0931 0.33657 0.09674 0.3419 0.0987 0.34907 C 0.10273 0.36343 0.09935 0.35255 0.10586 0.36806 C 0.10677 0.37014 0.10755 0.37222 0.10833 0.37454 C 0.10911 0.37732 0.10963 0.38032 0.11068 0.38287 C 0.11159 0.38542 0.11315 0.38704 0.11419 0.38935 C 0.1168 0.39468 0.11901 0.4007 0.12135 0.40625 C 0.12252 0.40903 0.12396 0.41157 0.125 0.41482 C 0.12708 0.42083 0.12864 0.42593 0.13086 0.43171 C 0.13203 0.43449 0.13333 0.43727 0.1345 0.44005 C 0.13529 0.44213 0.13594 0.44445 0.13685 0.44653 C 0.13789 0.44884 0.13932 0.45046 0.14036 0.45278 C 0.14219 0.45648 0.14792 0.47107 0.1487 0.47407 C 0.14961 0.47685 0.15013 0.47986 0.15117 0.48241 C 0.15208 0.48495 0.15364 0.48634 0.15469 0.48889 C 0.16289 0.50764 0.1556 0.4963 0.16419 0.50787 C 0.16458 0.50995 0.16471 0.5125 0.16536 0.51412 C 0.16745 0.51898 0.17018 0.52269 0.17252 0.52685 C 0.17409 0.52963 0.17604 0.53195 0.17734 0.53542 C 0.17917 0.54028 0.18229 0.54884 0.1845 0.55232 C 0.18542 0.5537 0.18685 0.5537 0.18802 0.5544 C 0.19127 0.57176 0.18646 0.54884 0.2 0.57986 C 0.20273 0.58611 0.20508 0.59306 0.20833 0.59884 C 0.2095 0.60093 0.21081 0.60278 0.21185 0.60509 C 0.21276 0.60718 0.21328 0.60972 0.21419 0.61157 C 0.21419 0.61157 0.22318 0.62732 0.225 0.63056 C 0.22617 0.63264 0.2276 0.63449 0.22851 0.63704 C 0.23307 0.64907 0.22825 0.6382 0.2345 0.64745 C 0.24883 0.66945 0.23021 0.64398 0.24401 0.66227 C 0.24818 0.67361 0.24531 0.6669 0.25351 0.68148 C 0.25469 0.68426 0.25573 0.68727 0.25703 0.68982 L 0.26784 0.7088 L 0.27135 0.71528 C 0.27252 0.71736 0.27357 0.71991 0.275 0.72153 L 0.27851 0.72593 C 0.2793 0.72801 0.27982 0.73032 0.28086 0.73218 C 0.2819 0.73403 0.28346 0.73449 0.2845 0.73634 C 0.29414 0.75625 0.28476 0.74375 0.29284 0.75324 C 0.29362 0.75625 0.29401 0.75926 0.29518 0.76181 C 0.30182 0.77593 0.30221 0.7757 0.30833 0.78287 C 0.31706 0.8088 0.30716 0.7831 0.31536 0.79769 C 0.3164 0.79954 0.31693 0.80208 0.31784 0.80417 C 0.31888 0.80695 0.31992 0.81019 0.32135 0.8125 C 0.32239 0.81435 0.3237 0.81551 0.32487 0.8169 C 0.32721 0.82894 0.32448 0.81759 0.32969 0.82963 C 0.33151 0.83357 0.33281 0.83796 0.3345 0.84213 L 0.33919 0.85486 C 0.33997 0.85695 0.34062 0.85949 0.34154 0.86134 C 0.34622 0.86945 0.34427 0.86505 0.34752 0.87407 C 0.34792 0.87616 0.34805 0.87847 0.3487 0.88032 C 0.35404 0.89445 0.35078 0.87917 0.35469 0.89306 C 0.35521 0.89491 0.35521 0.89745 0.35586 0.89931 C 0.3569 0.90232 0.35833 0.90486 0.3595 0.90787 C 0.36107 0.91204 0.3625 0.91644 0.36419 0.9206 C 0.3664 0.92593 0.37109 0.93657 0.37252 0.94167 C 0.37409 0.94722 0.37539 0.95347 0.37734 0.95857 C 0.37812 0.96065 0.37904 0.96273 0.37969 0.96505 C 0.38021 0.9669 0.38034 0.96921 0.38086 0.9713 C 0.38359 0.98264 0.38281 0.97616 0.3845 0.98611 C 0.38489 0.98889 0.38502 0.9919 0.38568 0.99468 C 0.3862 0.99699 0.3875 0.99861 0.38802 1.00093 C 0.38802 1.00093 0.39101 1.0169 0.39154 1.01991 L 0.39401 1.03264 C 0.3944 1.03472 0.39492 1.03681 0.39518 1.03912 C 0.39596 1.04607 0.39622 1.05347 0.39752 1.06019 C 0.39961 1.0713 0.39831 1.06296 0.39987 1.07917 C 0.40026 1.08287 0.40104 1.08634 0.40117 1.08982 C 0.40143 1.09676 0.40117 1.10394 0.40117 1.11111 E">
                                      <p:cBhvr>
                                        <p:cTn id="589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path" presetID="0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-5.41667E-006 7.40741E-007 C 0.00039 0.00717 0.00065 0.01435 0.00117 0.02129 C 0.00182 0.03171 0.00221 0.03333 0.00351 0.04236 C 0.0039 0.04815 0.00429 0.0537 0.00468 0.05926 C 0.00507 0.06412 0.00559 0.06898 0.00585 0.07407 C 0.00637 0.08032 0.00664 0.08657 0.00703 0.09305 C 0.00664 0.12129 0.00664 0.14953 0.00585 0.17778 C 0.00585 0.18125 0.00507 0.18472 0.00468 0.18819 C 0.00351 0.20046 0.00403 0.20139 0.00234 0.21157 C 0.00156 0.21574 0.00052 0.2199 -5.41667E-006 0.2243 C -0.00053 0.22708 -0.00066 0.23009 -0.00131 0.23264 C -0.00183 0.23495 -0.00287 0.23703 -0.00365 0.23912 C -0.00443 0.24328 -0.00547 0.24745 -0.006 0.25185 C -0.00639 0.25463 -0.00665 0.2574 -0.00717 0.26018 C -0.00782 0.26319 -0.00886 0.26574 -0.00964 0.26875 C -0.01251 0.28102 -0.0086 0.26921 -0.01316 0.28148 C -0.01355 0.28356 -0.01381 0.28565 -0.01433 0.28773 C -0.01615 0.29537 -0.01667 0.29629 -0.01915 0.30254 C -0.02253 0.32685 -0.01771 0.29699 -0.02266 0.31736 C -0.02331 0.32014 -0.02318 0.32315 -0.02383 0.32592 C -0.02514 0.33032 -0.02865 0.33865 -0.02865 0.33865 C -0.03139 0.35301 -0.02761 0.33541 -0.03334 0.35347 C -0.03399 0.35532 -0.03386 0.35787 -0.03464 0.35972 C -0.03555 0.36227 -0.03711 0.36365 -0.03816 0.36597 C -0.03998 0.37014 -0.04167 0.3743 -0.04297 0.3787 C -0.04441 0.38403 -0.04558 0.38912 -0.04766 0.39352 C -0.0487 0.39583 -0.05001 0.39791 -0.05131 0.4 C -0.05391 0.41921 -0.05014 0.39583 -0.05717 0.42106 C -0.05795 0.42384 -0.05899 0.42662 -0.05964 0.42963 C -0.06055 0.43379 -0.06055 0.43865 -0.06198 0.44236 L -0.06433 0.44861 C -0.06485 0.45231 -0.06576 0.45972 -0.06667 0.46342 C -0.07058 0.47847 -0.07019 0.47685 -0.07383 0.4868 C -0.07422 0.49028 -0.07448 0.49375 -0.07501 0.49722 C -0.07579 0.50162 -0.07696 0.50555 -0.07748 0.50995 C -0.07826 0.51713 -0.07891 0.52407 -0.07982 0.53125 C -0.08113 0.54028 -0.08126 0.54028 -0.08217 0.55023 C -0.08269 0.5544 -0.08295 0.55879 -0.08334 0.56296 C -0.08321 0.57685 -0.08334 0.62523 -0.081 0.64977 C -0.08086 0.65185 -0.08021 0.65393 -0.07982 0.65602 C -0.07891 0.66157 -0.07813 0.66736 -0.07748 0.67291 C -0.07683 0.67893 -0.07605 0.68611 -0.07501 0.69213 C -0.07435 0.69629 -0.07344 0.70046 -0.07266 0.70463 C -0.07227 0.70694 -0.07175 0.70903 -0.07149 0.71111 C -0.07097 0.71481 -0.07006 0.72199 -0.06915 0.72592 C -0.06797 0.73032 -0.06667 0.73426 -0.0655 0.73865 C -0.06329 0.74791 -0.0655 0.74259 -0.06316 0.75347 C -0.06003 0.76828 -0.06185 0.75602 -0.05834 0.76828 C -0.05782 0.77014 -0.05769 0.77245 -0.05717 0.77453 C -0.05508 0.78356 -0.05469 0.78333 -0.05131 0.79143 C -0.05092 0.79352 -0.05079 0.79606 -0.05001 0.79791 C -0.0487 0.80115 -0.04675 0.80324 -0.04532 0.80625 C -0.04441 0.80833 -0.04376 0.81065 -0.04297 0.81273 C -0.04011 0.82778 -0.04415 0.81041 -0.03816 0.82315 C -0.0306 0.83935 -0.04089 0.82569 -0.03217 0.83588 C -0.031 0.83889 -0.02995 0.8419 -0.02865 0.84444 C -0.02644 0.84884 -0.02357 0.85231 -0.02149 0.85717 C -0.02032 0.85995 -0.01902 0.86273 -0.01797 0.86551 C -0.01706 0.86759 -0.01654 0.87014 -0.0155 0.87199 C -0.01459 0.87384 -0.01303 0.87453 -0.01198 0.87615 C -0.00951 0.88009 -0.00717 0.88472 -0.00482 0.88889 L 0.00351 0.9037 C 0.00468 0.90578 0.00572 0.90833 0.00703 0.90995 C 0.01432 0.91875 0.0069 0.90926 0.01419 0.9206 C 0.01614 0.92361 0.01822 0.92615 0.02018 0.92916 C 0.02148 0.93102 0.02239 0.93356 0.02369 0.93541 C 0.02486 0.93703 0.0263 0.93796 0.02734 0.93958 C 0.0302 0.94444 0.03242 0.95069 0.03567 0.9544 C 0.03802 0.9574 0.04075 0.95926 0.04283 0.96296 C 0.05247 0.98032 0.04804 0.97361 0.05585 0.98403 C 0.06223 1.00115 0.0539 0.98055 0.06184 0.99467 C 0.06328 0.99722 0.06406 1.00046 0.06536 1.00324 C 0.06692 1.00625 0.06848 1.00903 0.07018 1.01157 C 0.07122 1.01319 0.07278 1.01412 0.07369 1.01597 C 0.07512 1.01828 0.07604 1.02176 0.07734 1.0243 C 0.07877 1.02731 0.08059 1.02986 0.08203 1.03287 C 0.08541 1.03981 0.08528 1.04213 0.08919 1.04768 C 0.09153 1.05069 0.09635 1.05602 0.09635 1.05602 C 0.10156 1.07453 0.09557 1.05555 0.10234 1.07083 C 0.10403 1.075 0.10546 1.0794 0.10703 1.08356 L 0.11184 1.09629 C 0.11588 1.10115 0.11445 1.09884 0.11666 1.10278 E">
                                      <p:cBhvr>
                                        <p:cTn id="591" dur="5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path" presetID="0">
                                  <p:stCondLst>
                                    <p:cond delay="4750"/>
                                  </p:stCondLst>
                                  <p:childTnLst>
                                    <p:animMotion origin="layout" path="M -3.54167E-006 -2.59259E-006 C 0.00118 0.00579 0.00248 0.01134 0.00352 0.01713 C 0.00456 0.02269 0.00443 0.0287 0.00586 0.03403 C 0.00678 0.03681 0.00756 0.03958 0.00834 0.04236 C 0.00886 0.04445 0.00912 0.04676 0.00951 0.04884 C 0.0099 0.05162 0.01003 0.05463 0.01068 0.05718 C 0.0112 0.05926 0.01237 0.06111 0.01303 0.06343 C 0.01498 0.06991 0.01355 0.07153 0.01667 0.07824 C 0.01758 0.08009 0.01901 0.08102 0.02019 0.08241 C 0.0224 0.09398 0.02006 0.08357 0.02383 0.09514 C 0.02461 0.09792 0.02526 0.10093 0.02618 0.10347 C 0.02761 0.10787 0.0306 0.11482 0.03217 0.11852 C 0.03256 0.1206 0.03269 0.12292 0.03334 0.12477 C 0.03464 0.12917 0.03711 0.13264 0.03803 0.1375 C 0.04102 0.15347 0.03698 0.1338 0.04167 0.15023 C 0.04662 0.16759 0.03842 0.14468 0.04519 0.16296 C 0.04558 0.16574 0.04584 0.16852 0.04636 0.1713 C 0.04766 0.17755 0.04922 0.18079 0.05118 0.18611 C 0.05352 0.20764 0.05105 0.18796 0.05352 0.20301 C 0.05443 0.20833 0.05469 0.21273 0.05586 0.21782 C 0.05664 0.22083 0.05756 0.22361 0.05834 0.22639 C 0.05873 0.23056 0.05899 0.23495 0.05951 0.23912 C 0.06107 0.25232 0.0612 0.25255 0.06303 0.26227 C 0.06355 0.26898 0.06537 0.29074 0.06537 0.2963 C 0.06537 0.33264 0.06901 0.37384 0.06303 0.41042 C 0.06276 0.4125 0.06224 0.41458 0.06185 0.4169 C 0.06146 0.42176 0.0612 0.42662 0.06068 0.43171 C 0.0599 0.43866 0.05834 0.44607 0.05717 0.45278 L 0.05469 0.46551 C 0.0543 0.46759 0.05378 0.46968 0.05352 0.47176 C 0.05313 0.47546 0.053 0.47917 0.05235 0.48241 C 0.05183 0.48472 0.05079 0.48657 0.05 0.48889 C 0.04961 0.49097 0.04909 0.49306 0.04883 0.49514 C 0.04831 0.49861 0.04831 0.50232 0.04753 0.50579 C 0.04714 0.5081 0.04597 0.50995 0.04519 0.51204 C 0.04428 0.51482 0.04375 0.51782 0.04284 0.5206 C 0.04206 0.52269 0.04102 0.52454 0.0405 0.52685 C 0.03946 0.53102 0.03946 0.53588 0.03803 0.53958 L 0.03334 0.55232 C 0.03034 0.56829 0.03438 0.54861 0.02969 0.56505 C 0.02917 0.5669 0.02917 0.56945 0.02852 0.5713 C 0.02709 0.5757 0.025 0.5794 0.02383 0.58403 C 0.02292 0.58681 0.02227 0.58982 0.02136 0.59259 C 0.01993 0.59676 0.01823 0.60093 0.01667 0.60509 C 0.01589 0.60718 0.01485 0.60926 0.0142 0.61157 C 0.01342 0.61435 0.01263 0.61713 0.01185 0.61991 C 0.01133 0.62199 0.01133 0.62431 0.01068 0.62639 C 0.00964 0.6294 0.00821 0.63195 0.00717 0.63472 C 0.00625 0.63681 0.0056 0.63912 0.00469 0.6412 C 0.00235 0.64676 -0.00026 0.65232 -0.00247 0.6581 C -0.00807 0.67315 -0.00104 0.65463 -0.00833 0.67292 C -0.01106 0.67963 -0.01093 0.68079 -0.01432 0.68773 C -0.01536 0.69005 -0.01679 0.6919 -0.01783 0.69398 C -0.01914 0.69676 -0.02018 0.69977 -0.02148 0.70255 C -0.02252 0.70486 -0.02395 0.70648 -0.025 0.7088 C -0.02591 0.71088 -0.02643 0.71343 -0.02734 0.71528 C -0.02838 0.71713 -0.02994 0.71782 -0.03099 0.71945 C -0.03385 0.72407 -0.03658 0.7294 -0.03932 0.73426 C -0.04049 0.73634 -0.04153 0.73889 -0.04283 0.74051 C -0.05078 0.75 -0.04205 0.73889 -0.05 0.75116 C -0.05156 0.75347 -0.05338 0.75509 -0.05481 0.75764 C -0.05625 0.75995 -0.0569 0.76343 -0.05833 0.76597 C -0.06458 0.77708 -0.06132 0.76829 -0.06783 0.77662 C -0.06927 0.77824 -0.07018 0.78102 -0.07148 0.78287 C -0.07252 0.78449 -0.07382 0.78565 -0.075 0.78727 C -0.07669 0.78912 -0.07812 0.79144 -0.07981 0.79352 C -0.08216 0.79653 -0.0845 0.79907 -0.08697 0.80208 L -0.09401 0.81042 L -0.10481 0.82315 C -0.10599 0.82454 -0.10703 0.82616 -0.10833 0.82732 C -0.10989 0.8287 -0.11158 0.82986 -0.11315 0.83171 C -0.11484 0.83357 -0.11627 0.83588 -0.11783 0.83796 C -0.11901 0.83935 -0.12031 0.84074 -0.12148 0.84213 C -0.12304 0.84421 -0.12447 0.84676 -0.12617 0.84861 C -0.12773 0.85023 -0.12942 0.85139 -0.13099 0.85278 C -0.13359 0.85741 -0.13476 0.86042 -0.13815 0.86343 C -0.13919 0.86435 -0.14049 0.86482 -0.14166 0.86551 C -0.14518 0.86968 -0.14869 0.87431 -0.15234 0.87824 C -0.15533 0.88125 -0.15898 0.88495 -0.16184 0.88866 C -0.16184 0.88889 -0.17382 0.90463 -0.17617 0.90787 C -0.17773 0.90995 -0.17903 0.91296 -0.18099 0.91412 C -0.18216 0.91482 -0.18333 0.91528 -0.1845 0.9162 C -0.19231 0.92315 -0.18372 0.91759 -0.19166 0.92685 C -0.1927 0.92801 -0.19401 0.92824 -0.19518 0.92894 C -0.20338 0.93866 -0.19961 0.93588 -0.20599 0.93958 C -0.20755 0.94167 -0.20898 0.94421 -0.21067 0.94583 C -0.21184 0.94699 -0.21315 0.94699 -0.21432 0.94815 C -0.21809 0.95185 -0.21888 0.95532 -0.22265 0.95857 C -0.22369 0.95972 -0.225 0.95995 -0.22617 0.96065 C -0.22786 0.96204 -0.22942 0.96343 -0.23099 0.96505 C -0.23294 0.9669 -0.23489 0.96921 -0.23684 0.9713 C -0.23815 0.97269 -0.23919 0.97454 -0.24049 0.97546 C -0.2427 0.97732 -0.24765 0.97986 -0.24765 0.97986 C -0.24974 0.98357 -0.25182 0.9882 -0.25468 0.99028 C -0.25625 0.99144 -0.25794 0.99167 -0.2595 0.99259 C -0.2677 1.00208 -0.26393 0.99931 -0.27018 1.00301 C -0.27838 1.01273 -0.27461 1.00995 -0.28086 1.01366 C -0.28216 1.01574 -0.2832 1.01829 -0.2845 1.01991 C -0.28919 1.02639 -0.29049 1.0257 -0.29518 1.03056 C -0.29856 1.03403 -0.30742 1.0463 -0.30833 1.04745 C -0.31184 1.05185 -0.31562 1.05556 -0.31901 1.06019 C -0.32421 1.06713 -0.32135 1.06644 -0.32617 1.075 C -0.33554 1.09167 -0.32356 1.06482 -0.33333 1.08565 C -0.33424 1.0875 -0.33502 1.08958 -0.33567 1.0919 C -0.33619 1.09398 -0.33606 1.09653 -0.33684 1.09838 C -0.33776 1.10023 -0.33919 1.10116 -0.34049 1.10255 C -0.34596 1.11736 -0.34283 1.1125 -0.34882 1.11945 C -0.35429 1.13426 -0.35117 1.1294 -0.35716 1.13634 C -0.35794 1.13843 -0.35885 1.14051 -0.3595 1.14282 C -0.36002 1.14468 -0.35989 1.14745 -0.36067 1.14907 C -0.36158 1.15116 -0.36315 1.15185 -0.36419 1.15324 C -0.36471 1.15394 -0.36497 1.15463 -0.36536 1.15532 E">
                                      <p:cBhvr>
                                        <p:cTn id="593" dur="5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path" presetID="0">
                                  <p:stCondLst>
                                    <p:cond delay="5750"/>
                                  </p:stCondLst>
                                  <p:childTnLst>
                                    <p:animMotion origin="layout" path="M 1.875E-006 7.40741E-007 C 0.00117 0.00717 0.00234 0.01435 0.00352 0.02129 C 0.00391 0.02338 0.00404 0.02569 0.00469 0.02754 C 0.00573 0.03078 0.00703 0.03333 0.00833 0.03611 C 0.01107 0.05115 0.00703 0.03287 0.01302 0.04884 C 0.01367 0.05069 0.01354 0.05324 0.01419 0.05509 C 0.01523 0.0581 0.01667 0.06065 0.01784 0.06342 C 0.03229 0.10023 0.01419 0.05509 0.02617 0.08657 C 0.02721 0.08958 0.02852 0.09213 0.02969 0.09514 C 0.03047 0.09722 0.03138 0.0993 0.03203 0.10139 C 0.03333 0.10486 0.03425 0.10879 0.03568 0.11203 C 0.03776 0.11666 0.04284 0.12477 0.04284 0.12477 C 0.04557 0.13981 0.04154 0.12245 0.04753 0.13541 C 0.0487 0.13773 0.04896 0.1412 0.05 0.14375 C 0.05091 0.14629 0.05234 0.14791 0.05352 0.15023 C 0.05547 0.16041 0.05378 0.1537 0.05833 0.16504 C 0.05912 0.16713 0.05977 0.16944 0.06068 0.17129 C 0.06211 0.1743 0.06406 0.17662 0.06537 0.17986 C 0.07357 0.19791 0.0668 0.18657 0.0737 0.20092 C 0.07904 0.21203 0.07682 0.20301 0.08203 0.2199 C 0.08307 0.22338 0.08333 0.22731 0.08451 0.23055 C 0.08529 0.2331 0.08698 0.23472 0.08802 0.2368 C 0.08932 0.23958 0.09037 0.24259 0.09167 0.24537 C 0.09206 0.24745 0.09219 0.24977 0.09284 0.25162 C 0.09479 0.2581 0.09714 0.26157 0.1 0.26643 C 0.10182 0.27986 0.10026 0.27268 0.10586 0.28773 L 0.10833 0.29398 C 0.1112 0.30995 0.10716 0.29028 0.11185 0.30671 C 0.11237 0.30879 0.1125 0.31111 0.11302 0.31319 C 0.11367 0.31528 0.11471 0.31713 0.11537 0.31944 C 0.11602 0.32153 0.11615 0.32384 0.11667 0.32569 C 0.11836 0.33333 0.11901 0.33426 0.12135 0.34051 L 0.1237 0.35324 C 0.12409 0.35532 0.12422 0.35787 0.125 0.35972 C 0.12578 0.3618 0.12669 0.36365 0.12734 0.36597 C 0.12956 0.375 0.12956 0.37847 0.13086 0.38703 C 0.13203 0.39444 0.13229 0.39444 0.13451 0.40185 C 0.1349 0.40625 0.13516 0.41041 0.13568 0.41458 C 0.13594 0.41759 0.13659 0.42037 0.13685 0.42315 C 0.13737 0.4287 0.13763 0.43449 0.13802 0.44004 C 0.13841 0.44421 0.13893 0.44838 0.13919 0.45278 C 0.1401 0.4662 0.14115 0.49768 0.14167 0.50995 C 0.14115 0.55231 0.14102 0.59444 0.14037 0.6368 C 0.13971 0.68634 0.14141 0.67199 0.13802 0.69606 C 0.13763 0.70254 0.13737 0.70879 0.13685 0.71528 C 0.13659 0.71805 0.13607 0.72083 0.13568 0.72361 C 0.13516 0.72708 0.13477 0.73055 0.13451 0.73426 C 0.13398 0.73981 0.13385 0.7456 0.13333 0.75115 C 0.13307 0.75324 0.13242 0.75532 0.13203 0.7574 C 0.13112 0.76458 0.13099 0.77176 0.12969 0.7787 C 0.1293 0.78078 0.12878 0.78287 0.12852 0.78495 C 0.128 0.78842 0.12787 0.79213 0.12734 0.7956 C 0.12695 0.79768 0.12643 0.79977 0.12617 0.80185 C 0.12565 0.80532 0.12539 0.80903 0.125 0.8125 C 0.12461 0.81458 0.12409 0.81666 0.1237 0.81875 C 0.12331 0.82176 0.12305 0.82453 0.12253 0.82731 C 0.12227 0.8294 0.12175 0.83148 0.12135 0.83356 C 0.12044 0.83912 0.12018 0.84352 0.11901 0.84838 C 0.11823 0.85139 0.11732 0.85416 0.11667 0.85694 C 0.11615 0.85903 0.11589 0.86111 0.11537 0.86319 C 0.11471 0.8669 0.11367 0.87014 0.11302 0.87384 C 0.11211 0.8794 0.11237 0.88588 0.11068 0.89074 L 0.10703 0.90139 C 0.10456 0.91898 0.10755 0.90162 0.10352 0.9162 C 0.103 0.91828 0.10287 0.9206 0.10234 0.92245 C 0.10065 0.92847 0.09896 0.93055 0.09635 0.93518 C 0.09362 0.9544 0.09753 0.93125 0.09037 0.95648 C 0.08958 0.95926 0.08893 0.96227 0.08802 0.96481 C 0.08659 0.96921 0.08412 0.97268 0.08333 0.97754 C 0.08099 0.98981 0.08372 0.97847 0.07852 0.99028 C 0.07669 0.99421 0.075 0.99838 0.0737 1.00301 C 0.07292 1.00578 0.0724 1.00903 0.07135 1.01134 C 0.07005 1.01458 0.0681 1.0169 0.06667 1.0199 C 0.05951 1.03426 0.06693 1.02315 0.05833 1.03472 C 0.05234 1.05046 0.05586 1.04444 0.0487 1.0537 L 0.04401 1.06643 C 0.04323 1.06852 0.04284 1.07129 0.04167 1.07291 L 0.03802 1.07708 C 0.03724 1.07916 0.03659 1.08148 0.03568 1.08333 C 0.03346 1.08796 0.03034 1.0912 0.02852 1.09606 C 0.02292 1.11088 0.02617 1.10602 0.02018 1.11296 C 0.0138 1.12986 0.02214 1.10949 0.01419 1.12361 C 0.00625 1.13773 0.01784 1.12291 0.00833 1.13426 L 0.00352 1.14699 E">
                                      <p:cBhvr>
                                        <p:cTn id="595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path" presetID="0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2.08333E-006 7.40741E-007 C -0.00156 0.00648 -0.00325 0.01273 -0.00482 0.01921 C -0.00755 0.03078 -0.00403 0.02037 -0.00833 0.03194 C -0.01172 0.06203 -0.00703 0.02453 -0.01198 0.05092 C -0.0125 0.0544 -0.01263 0.05787 -0.01315 0.06134 C -0.01341 0.06412 -0.01393 0.0669 -0.01432 0.06967 C -0.01471 0.07315 -0.01497 0.07685 -0.01549 0.08032 C -0.01614 0.08472 -0.01836 0.09398 -0.01901 0.09722 C -0.01992 0.10995 -0.02005 0.11713 -0.02148 0.12893 C -0.02174 0.13194 -0.02239 0.13472 -0.02265 0.1375 C -0.02552 0.16528 -0.02226 0.14166 -0.025 0.16065 C -0.02539 0.16643 -0.02591 0.17199 -0.02617 0.17778 C -0.02799 0.20903 -0.02604 0.19375 -0.02864 0.21157 C -0.03112 0.25625 -0.0306 0.23703 -0.02864 0.31319 C -0.02851 0.31736 -0.02786 0.32176 -0.02734 0.32592 C -0.02708 0.32801 -0.02656 0.33009 -0.02617 0.33217 C -0.02278 0.35625 -0.02773 0.32824 -0.02265 0.35555 C -0.02096 0.37384 -0.022 0.36412 -0.01901 0.38518 C -0.01862 0.38796 -0.01862 0.39097 -0.01784 0.39352 L -0.01549 0.40208 C -0.0151 0.40486 -0.01471 0.40764 -0.01432 0.41041 C -0.01393 0.41273 -0.01341 0.41481 -0.01315 0.4169 C -0.01276 0.41898 -0.01146 0.4331 -0.01068 0.43588 C -0.00976 0.43958 -0.00833 0.44305 -0.00716 0.44653 C -0.00429 0.46736 -0.00846 0.4419 -0.00234 0.46342 C 0.00534 0.49074 -0.00755 0.45509 0.00117 0.47824 C 0.00156 0.48171 0.00156 0.48541 0.00235 0.48889 C 0.00326 0.49259 0.00495 0.49583 0.00599 0.49953 C 0.0069 0.50278 0.00742 0.50671 0.00834 0.50995 C 0.00899 0.51227 0.01003 0.51412 0.01068 0.51643 C 0.01159 0.51921 0.01237 0.52199 0.01302 0.52477 C 0.01354 0.52685 0.01354 0.5294 0.01432 0.53125 C 0.01524 0.53356 0.01667 0.53541 0.01784 0.5375 C 0.01823 0.54028 0.01849 0.54328 0.01901 0.54606 C 0.02097 0.55532 0.02123 0.55301 0.02383 0.56088 C 0.02696 0.5706 0.02513 0.56736 0.02852 0.57569 C 0.03698 0.59583 0.03034 0.57824 0.03568 0.59259 C 0.03763 0.60278 0.03594 0.59606 0.0405 0.6074 C 0.04128 0.60949 0.04206 0.61157 0.04284 0.61365 C 0.04518 0.61944 0.04779 0.62477 0.05 0.63055 C 0.05156 0.63495 0.05274 0.63981 0.05469 0.64328 C 0.05716 0.64768 0.06003 0.65115 0.06185 0.65602 C 0.06354 0.66018 0.06576 0.66389 0.06667 0.66875 C 0.06771 0.67453 0.06771 0.67662 0.07018 0.68148 C 0.0724 0.68588 0.07735 0.69421 0.07735 0.69421 C 0.07956 0.70578 0.07722 0.69537 0.08099 0.70694 C 0.08177 0.70949 0.08216 0.71296 0.08334 0.71528 C 0.08425 0.71736 0.08568 0.71805 0.08685 0.71967 C 0.08972 0.73472 0.08568 0.71643 0.09167 0.73217 C 0.09232 0.73403 0.09219 0.73657 0.09284 0.73865 C 0.09427 0.74305 0.09597 0.74699 0.09766 0.75139 C 0.09844 0.75347 0.09948 0.75532 0.1 0.75764 C 0.10235 0.7699 0.10065 0.76203 0.10599 0.78102 C 0.10677 0.78379 0.10703 0.78727 0.10834 0.78935 L 0.11185 0.79583 C 0.11511 0.81805 0.11081 0.7919 0.1155 0.81065 C 0.11654 0.81458 0.11706 0.81898 0.11784 0.82338 C 0.11823 0.82546 0.11849 0.82754 0.11901 0.82963 C 0.12201 0.84028 0.12044 0.83541 0.12383 0.84444 C 0.12552 0.85949 0.12435 0.85162 0.12735 0.86782 L 0.12852 0.87407 C 0.12891 0.87615 0.12956 0.87824 0.12969 0.88032 C 0.13021 0.88403 0.13047 0.8875 0.13099 0.89097 C 0.13164 0.89537 0.13268 0.8993 0.13334 0.9037 C 0.13373 0.90648 0.13412 0.90949 0.13451 0.91227 C 0.1349 0.91435 0.13542 0.91643 0.13568 0.91852 L 0.13802 0.93541 C 0.13841 0.94028 0.13985 0.95764 0.1405 0.96296 C 0.14076 0.96528 0.14141 0.96713 0.14167 0.96944 C 0.14219 0.97291 0.14245 0.97639 0.14284 0.97986 C 0.14362 0.98565 0.14518 0.99676 0.14518 0.99676 C 0.14557 1.00324 0.14649 1.00949 0.14649 1.01597 C 0.14649 1.03912 0.14584 1.0625 0.14518 1.08565 C 0.14492 1.09768 0.14414 1.09907 0.14284 1.10903 C 0.14245 1.1125 0.14219 1.1162 0.14167 1.11967 C 0.14141 1.12176 0.14076 1.12384 0.1405 1.12592 C 0.13998 1.1294 0.13985 1.1331 0.13932 1.13657 C 0.13867 1.14097 0.1375 1.1449 0.13685 1.1493 C 0.13555 1.15879 0.13685 1.15555 0.13451 1.15972 E">
                                      <p:cBhvr>
                                        <p:cTn id="597" dur="5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7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75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mph" presetID="26">
                                  <p:stCondLst>
                                    <p:cond delay="5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7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1" dur="375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笑脸 141"/>
          <p:cNvSpPr/>
          <p:nvPr/>
        </p:nvSpPr>
        <p:spPr>
          <a:xfrm>
            <a:off x="9969480" y="122076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笑脸 119"/>
          <p:cNvSpPr/>
          <p:nvPr/>
        </p:nvSpPr>
        <p:spPr>
          <a:xfrm>
            <a:off x="9226440" y="10944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笑脸 133"/>
          <p:cNvSpPr/>
          <p:nvPr/>
        </p:nvSpPr>
        <p:spPr>
          <a:xfrm>
            <a:off x="3267000" y="104292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笑脸 134"/>
          <p:cNvSpPr/>
          <p:nvPr/>
        </p:nvSpPr>
        <p:spPr>
          <a:xfrm>
            <a:off x="4087800" y="1238400"/>
            <a:ext cx="641520" cy="62532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任意多边形 116"/>
          <p:cNvSpPr/>
          <p:nvPr/>
        </p:nvSpPr>
        <p:spPr>
          <a:xfrm rot="5204400">
            <a:off x="11494440" y="39528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任意多边形 115"/>
          <p:cNvSpPr/>
          <p:nvPr/>
        </p:nvSpPr>
        <p:spPr>
          <a:xfrm rot="2692200">
            <a:off x="11245680" y="135000"/>
            <a:ext cx="33372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114"/>
          <p:cNvSpPr/>
          <p:nvPr/>
        </p:nvSpPr>
        <p:spPr>
          <a:xfrm rot="20751000">
            <a:off x="9059400" y="-63180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113"/>
          <p:cNvSpPr/>
          <p:nvPr/>
        </p:nvSpPr>
        <p:spPr>
          <a:xfrm rot="2692200">
            <a:off x="9505800" y="-550440"/>
            <a:ext cx="33336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112"/>
          <p:cNvSpPr/>
          <p:nvPr/>
        </p:nvSpPr>
        <p:spPr>
          <a:xfrm rot="2692200">
            <a:off x="10726560" y="-480600"/>
            <a:ext cx="33372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111"/>
          <p:cNvSpPr/>
          <p:nvPr/>
        </p:nvSpPr>
        <p:spPr>
          <a:xfrm rot="21443400">
            <a:off x="10387080" y="-632880"/>
            <a:ext cx="33336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任意多边形 110"/>
          <p:cNvSpPr/>
          <p:nvPr/>
        </p:nvSpPr>
        <p:spPr>
          <a:xfrm rot="6126600">
            <a:off x="10172160" y="2431800"/>
            <a:ext cx="401760" cy="13129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109"/>
          <p:cNvSpPr/>
          <p:nvPr/>
        </p:nvSpPr>
        <p:spPr>
          <a:xfrm rot="15104400">
            <a:off x="492480" y="4131000"/>
            <a:ext cx="33372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任意多边形 108"/>
          <p:cNvSpPr/>
          <p:nvPr/>
        </p:nvSpPr>
        <p:spPr>
          <a:xfrm rot="17521200">
            <a:off x="561240" y="3830040"/>
            <a:ext cx="33336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任意多边形 107"/>
          <p:cNvSpPr/>
          <p:nvPr/>
        </p:nvSpPr>
        <p:spPr>
          <a:xfrm rot="17521200">
            <a:off x="900720" y="3197880"/>
            <a:ext cx="333360" cy="10400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任意多边形 106"/>
          <p:cNvSpPr/>
          <p:nvPr/>
        </p:nvSpPr>
        <p:spPr>
          <a:xfrm rot="20031000">
            <a:off x="1090080" y="2993760"/>
            <a:ext cx="33372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05"/>
          <p:cNvSpPr/>
          <p:nvPr/>
        </p:nvSpPr>
        <p:spPr>
          <a:xfrm rot="18056400">
            <a:off x="690480" y="115092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104"/>
          <p:cNvSpPr/>
          <p:nvPr/>
        </p:nvSpPr>
        <p:spPr>
          <a:xfrm rot="20881800">
            <a:off x="988920" y="939600"/>
            <a:ext cx="33336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103"/>
          <p:cNvSpPr/>
          <p:nvPr/>
        </p:nvSpPr>
        <p:spPr>
          <a:xfrm rot="16020000">
            <a:off x="-102960" y="204624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102"/>
          <p:cNvSpPr/>
          <p:nvPr/>
        </p:nvSpPr>
        <p:spPr>
          <a:xfrm rot="19136400">
            <a:off x="69480" y="1663200"/>
            <a:ext cx="333360" cy="10400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01"/>
          <p:cNvSpPr/>
          <p:nvPr/>
        </p:nvSpPr>
        <p:spPr>
          <a:xfrm rot="17828400">
            <a:off x="1369080" y="297360"/>
            <a:ext cx="333360" cy="10400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100"/>
          <p:cNvSpPr/>
          <p:nvPr/>
        </p:nvSpPr>
        <p:spPr>
          <a:xfrm rot="20532000">
            <a:off x="1731960" y="6660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98"/>
          <p:cNvSpPr/>
          <p:nvPr/>
        </p:nvSpPr>
        <p:spPr>
          <a:xfrm rot="19050600">
            <a:off x="2082600" y="-493200"/>
            <a:ext cx="333360" cy="1039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99"/>
          <p:cNvSpPr/>
          <p:nvPr/>
        </p:nvSpPr>
        <p:spPr>
          <a:xfrm rot="1276800">
            <a:off x="2577960" y="-561600"/>
            <a:ext cx="333360" cy="10414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任意多边形 96"/>
          <p:cNvSpPr/>
          <p:nvPr/>
        </p:nvSpPr>
        <p:spPr>
          <a:xfrm rot="1903200">
            <a:off x="3290400" y="1189080"/>
            <a:ext cx="400320" cy="12492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任意多边形 97"/>
          <p:cNvSpPr/>
          <p:nvPr/>
        </p:nvSpPr>
        <p:spPr>
          <a:xfrm rot="20337000">
            <a:off x="2854440" y="1177560"/>
            <a:ext cx="399960" cy="12477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60"/>
          <p:cNvSpPr/>
          <p:nvPr/>
        </p:nvSpPr>
        <p:spPr>
          <a:xfrm rot="20391600">
            <a:off x="4405320" y="1577520"/>
            <a:ext cx="36684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58"/>
          <p:cNvSpPr/>
          <p:nvPr/>
        </p:nvSpPr>
        <p:spPr>
          <a:xfrm rot="2093400">
            <a:off x="4924080" y="1591920"/>
            <a:ext cx="366840" cy="11444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95"/>
          <p:cNvSpPr/>
          <p:nvPr/>
        </p:nvSpPr>
        <p:spPr>
          <a:xfrm rot="19282200">
            <a:off x="3346200" y="2014200"/>
            <a:ext cx="452160" cy="14097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任意多边形 94"/>
          <p:cNvSpPr/>
          <p:nvPr/>
        </p:nvSpPr>
        <p:spPr>
          <a:xfrm rot="2856600">
            <a:off x="4164480" y="2278800"/>
            <a:ext cx="450720" cy="14083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93"/>
          <p:cNvSpPr/>
          <p:nvPr/>
        </p:nvSpPr>
        <p:spPr>
          <a:xfrm rot="18784800">
            <a:off x="3155760" y="-241560"/>
            <a:ext cx="36684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任意多边形 91"/>
          <p:cNvSpPr/>
          <p:nvPr/>
        </p:nvSpPr>
        <p:spPr>
          <a:xfrm rot="1489200">
            <a:off x="3739680" y="-364680"/>
            <a:ext cx="366840" cy="11444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任意多边形 92"/>
          <p:cNvSpPr/>
          <p:nvPr/>
        </p:nvSpPr>
        <p:spPr>
          <a:xfrm rot="16527000">
            <a:off x="2238120" y="510480"/>
            <a:ext cx="36684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任意多边形 90"/>
          <p:cNvSpPr/>
          <p:nvPr/>
        </p:nvSpPr>
        <p:spPr>
          <a:xfrm rot="19839000">
            <a:off x="2595240" y="166320"/>
            <a:ext cx="366840" cy="11444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任意多边形 89"/>
          <p:cNvSpPr/>
          <p:nvPr/>
        </p:nvSpPr>
        <p:spPr>
          <a:xfrm rot="16882200">
            <a:off x="808560" y="2073960"/>
            <a:ext cx="36504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任意多边形 88"/>
          <p:cNvSpPr/>
          <p:nvPr/>
        </p:nvSpPr>
        <p:spPr>
          <a:xfrm rot="19839000">
            <a:off x="2018880" y="1476000"/>
            <a:ext cx="366840" cy="1143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任意多边形 87"/>
          <p:cNvSpPr/>
          <p:nvPr/>
        </p:nvSpPr>
        <p:spPr>
          <a:xfrm rot="20467200">
            <a:off x="1189080" y="1740960"/>
            <a:ext cx="36684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任意多边形 86"/>
          <p:cNvSpPr/>
          <p:nvPr/>
        </p:nvSpPr>
        <p:spPr>
          <a:xfrm rot="1380600">
            <a:off x="2470320" y="1476000"/>
            <a:ext cx="365040" cy="1143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任意多边形 85"/>
          <p:cNvSpPr/>
          <p:nvPr/>
        </p:nvSpPr>
        <p:spPr>
          <a:xfrm rot="2827800">
            <a:off x="7403760" y="-277560"/>
            <a:ext cx="366480" cy="11444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84"/>
          <p:cNvSpPr/>
          <p:nvPr/>
        </p:nvSpPr>
        <p:spPr>
          <a:xfrm rot="20394000">
            <a:off x="6829200" y="-294840"/>
            <a:ext cx="365040" cy="1143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83"/>
          <p:cNvSpPr/>
          <p:nvPr/>
        </p:nvSpPr>
        <p:spPr>
          <a:xfrm rot="2003400">
            <a:off x="6008400" y="-533520"/>
            <a:ext cx="36648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82"/>
          <p:cNvSpPr/>
          <p:nvPr/>
        </p:nvSpPr>
        <p:spPr>
          <a:xfrm rot="20226000">
            <a:off x="5573520" y="-600120"/>
            <a:ext cx="36648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任意多边形 81"/>
          <p:cNvSpPr/>
          <p:nvPr/>
        </p:nvSpPr>
        <p:spPr>
          <a:xfrm rot="1703400">
            <a:off x="4830480" y="-254160"/>
            <a:ext cx="36648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任意多边形 80"/>
          <p:cNvSpPr/>
          <p:nvPr/>
        </p:nvSpPr>
        <p:spPr>
          <a:xfrm rot="20031600">
            <a:off x="4295880" y="-226800"/>
            <a:ext cx="36648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任意多边形 79"/>
          <p:cNvSpPr/>
          <p:nvPr/>
        </p:nvSpPr>
        <p:spPr>
          <a:xfrm rot="20872800">
            <a:off x="3566880" y="463320"/>
            <a:ext cx="366480" cy="1143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任意多边形 78"/>
          <p:cNvSpPr/>
          <p:nvPr/>
        </p:nvSpPr>
        <p:spPr>
          <a:xfrm rot="17634600">
            <a:off x="3198600" y="776160"/>
            <a:ext cx="366480" cy="11448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77"/>
          <p:cNvSpPr/>
          <p:nvPr/>
        </p:nvSpPr>
        <p:spPr>
          <a:xfrm rot="4716600">
            <a:off x="10480320" y="473040"/>
            <a:ext cx="357120" cy="117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6"/>
          <p:cNvSpPr/>
          <p:nvPr/>
        </p:nvSpPr>
        <p:spPr>
          <a:xfrm rot="19889400">
            <a:off x="8489880" y="14400"/>
            <a:ext cx="357120" cy="117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75"/>
          <p:cNvSpPr/>
          <p:nvPr/>
        </p:nvSpPr>
        <p:spPr>
          <a:xfrm rot="1828200">
            <a:off x="10180800" y="160200"/>
            <a:ext cx="357120" cy="117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74"/>
          <p:cNvSpPr/>
          <p:nvPr/>
        </p:nvSpPr>
        <p:spPr>
          <a:xfrm rot="1696200">
            <a:off x="8924400" y="98280"/>
            <a:ext cx="358920" cy="117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73"/>
          <p:cNvSpPr/>
          <p:nvPr/>
        </p:nvSpPr>
        <p:spPr>
          <a:xfrm rot="2700000">
            <a:off x="10855080" y="1528560"/>
            <a:ext cx="357480" cy="117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72"/>
          <p:cNvSpPr/>
          <p:nvPr/>
        </p:nvSpPr>
        <p:spPr>
          <a:xfrm rot="5119200">
            <a:off x="10979640" y="1859760"/>
            <a:ext cx="357120" cy="11714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71"/>
          <p:cNvSpPr/>
          <p:nvPr/>
        </p:nvSpPr>
        <p:spPr>
          <a:xfrm rot="3789000">
            <a:off x="10017000" y="2049480"/>
            <a:ext cx="401400" cy="13129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70"/>
          <p:cNvSpPr/>
          <p:nvPr/>
        </p:nvSpPr>
        <p:spPr>
          <a:xfrm rot="18440400">
            <a:off x="1708920" y="2473560"/>
            <a:ext cx="399960" cy="12495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69"/>
          <p:cNvSpPr/>
          <p:nvPr/>
        </p:nvSpPr>
        <p:spPr>
          <a:xfrm rot="277800">
            <a:off x="2193840" y="2335320"/>
            <a:ext cx="399960" cy="12477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68"/>
          <p:cNvSpPr/>
          <p:nvPr/>
        </p:nvSpPr>
        <p:spPr>
          <a:xfrm rot="16200000">
            <a:off x="1312560" y="3952440"/>
            <a:ext cx="366840" cy="11412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67"/>
          <p:cNvSpPr/>
          <p:nvPr/>
        </p:nvSpPr>
        <p:spPr>
          <a:xfrm rot="18930600">
            <a:off x="1611360" y="3658680"/>
            <a:ext cx="366840" cy="11415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66"/>
          <p:cNvSpPr/>
          <p:nvPr/>
        </p:nvSpPr>
        <p:spPr>
          <a:xfrm rot="20989800">
            <a:off x="4597560" y="644040"/>
            <a:ext cx="428400" cy="1336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65"/>
          <p:cNvSpPr/>
          <p:nvPr/>
        </p:nvSpPr>
        <p:spPr>
          <a:xfrm rot="17127600">
            <a:off x="4138560" y="1029960"/>
            <a:ext cx="428760" cy="13366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64"/>
          <p:cNvSpPr/>
          <p:nvPr/>
        </p:nvSpPr>
        <p:spPr>
          <a:xfrm rot="20086800">
            <a:off x="5962320" y="221760"/>
            <a:ext cx="422280" cy="13176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63"/>
          <p:cNvSpPr/>
          <p:nvPr/>
        </p:nvSpPr>
        <p:spPr>
          <a:xfrm rot="2910000">
            <a:off x="6591240" y="326880"/>
            <a:ext cx="422280" cy="13176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62"/>
          <p:cNvSpPr/>
          <p:nvPr/>
        </p:nvSpPr>
        <p:spPr>
          <a:xfrm rot="17934000">
            <a:off x="5223600" y="1401840"/>
            <a:ext cx="484200" cy="15080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61"/>
          <p:cNvSpPr/>
          <p:nvPr/>
        </p:nvSpPr>
        <p:spPr>
          <a:xfrm rot="613800">
            <a:off x="6018120" y="1195560"/>
            <a:ext cx="484200" cy="150804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57"/>
          <p:cNvSpPr/>
          <p:nvPr/>
        </p:nvSpPr>
        <p:spPr>
          <a:xfrm rot="14883000">
            <a:off x="2327760" y="3613320"/>
            <a:ext cx="452520" cy="14097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56"/>
          <p:cNvSpPr/>
          <p:nvPr/>
        </p:nvSpPr>
        <p:spPr>
          <a:xfrm rot="18507000">
            <a:off x="2566800" y="3052800"/>
            <a:ext cx="450720" cy="14097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55"/>
          <p:cNvSpPr/>
          <p:nvPr/>
        </p:nvSpPr>
        <p:spPr>
          <a:xfrm rot="2426400">
            <a:off x="9616680" y="934560"/>
            <a:ext cx="380880" cy="11890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54"/>
          <p:cNvSpPr/>
          <p:nvPr/>
        </p:nvSpPr>
        <p:spPr>
          <a:xfrm rot="19933200">
            <a:off x="8930880" y="874800"/>
            <a:ext cx="380880" cy="11890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53"/>
          <p:cNvSpPr/>
          <p:nvPr/>
        </p:nvSpPr>
        <p:spPr>
          <a:xfrm rot="6121200">
            <a:off x="8960040" y="2145240"/>
            <a:ext cx="451080" cy="14083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52"/>
          <p:cNvSpPr/>
          <p:nvPr/>
        </p:nvSpPr>
        <p:spPr>
          <a:xfrm rot="2880600">
            <a:off x="8779680" y="1588320"/>
            <a:ext cx="450720" cy="14400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51"/>
          <p:cNvSpPr/>
          <p:nvPr/>
        </p:nvSpPr>
        <p:spPr>
          <a:xfrm rot="3600000">
            <a:off x="7679160" y="2243880"/>
            <a:ext cx="522360" cy="16318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50"/>
          <p:cNvSpPr/>
          <p:nvPr/>
        </p:nvSpPr>
        <p:spPr>
          <a:xfrm rot="18746400">
            <a:off x="6334560" y="2146680"/>
            <a:ext cx="522360" cy="163188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49"/>
          <p:cNvSpPr/>
          <p:nvPr/>
        </p:nvSpPr>
        <p:spPr>
          <a:xfrm rot="17100000">
            <a:off x="3593520" y="3529080"/>
            <a:ext cx="463320" cy="14461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48"/>
          <p:cNvSpPr/>
          <p:nvPr/>
        </p:nvSpPr>
        <p:spPr>
          <a:xfrm rot="19979400">
            <a:off x="3960720" y="3035160"/>
            <a:ext cx="463680" cy="14479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46"/>
          <p:cNvSpPr/>
          <p:nvPr/>
        </p:nvSpPr>
        <p:spPr>
          <a:xfrm rot="18000000">
            <a:off x="4788720" y="3839040"/>
            <a:ext cx="576360" cy="180036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任意多边形 47"/>
          <p:cNvSpPr/>
          <p:nvPr/>
        </p:nvSpPr>
        <p:spPr>
          <a:xfrm rot="1800000">
            <a:off x="6335640" y="3098520"/>
            <a:ext cx="741600" cy="231120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任意多边形 45"/>
          <p:cNvSpPr/>
          <p:nvPr/>
        </p:nvSpPr>
        <p:spPr>
          <a:xfrm>
            <a:off x="5519880" y="4869000"/>
            <a:ext cx="1108080" cy="2146320"/>
          </a:xfrm>
          <a:prstGeom prst="pie">
            <a:avLst/>
          </a:prstGeom>
          <a:solidFill>
            <a:srgbClr val="e6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"/>
          <p:cNvSpPr/>
          <p:nvPr/>
        </p:nvSpPr>
        <p:spPr>
          <a:xfrm>
            <a:off x="4191840" y="62373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大学四年，我的能力得到了极大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笑脸 8"/>
          <p:cNvSpPr/>
          <p:nvPr/>
        </p:nvSpPr>
        <p:spPr>
          <a:xfrm>
            <a:off x="10653840" y="298764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笑脸 117"/>
          <p:cNvSpPr/>
          <p:nvPr/>
        </p:nvSpPr>
        <p:spPr>
          <a:xfrm>
            <a:off x="-23760" y="4556160"/>
            <a:ext cx="641160" cy="62532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笑脸 118"/>
          <p:cNvSpPr/>
          <p:nvPr/>
        </p:nvSpPr>
        <p:spPr>
          <a:xfrm>
            <a:off x="1609560" y="129528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笑脸 120"/>
          <p:cNvSpPr/>
          <p:nvPr/>
        </p:nvSpPr>
        <p:spPr>
          <a:xfrm>
            <a:off x="5243400" y="124776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笑脸 121"/>
          <p:cNvSpPr/>
          <p:nvPr/>
        </p:nvSpPr>
        <p:spPr>
          <a:xfrm>
            <a:off x="8207280" y="-117360"/>
            <a:ext cx="641520" cy="62532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笑脸 122"/>
          <p:cNvSpPr/>
          <p:nvPr/>
        </p:nvSpPr>
        <p:spPr>
          <a:xfrm>
            <a:off x="11358720" y="-3024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笑脸 123"/>
          <p:cNvSpPr/>
          <p:nvPr/>
        </p:nvSpPr>
        <p:spPr>
          <a:xfrm>
            <a:off x="11160000" y="138744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笑脸 124"/>
          <p:cNvSpPr/>
          <p:nvPr/>
        </p:nvSpPr>
        <p:spPr>
          <a:xfrm>
            <a:off x="11377440" y="210168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笑脸 125"/>
          <p:cNvSpPr/>
          <p:nvPr/>
        </p:nvSpPr>
        <p:spPr>
          <a:xfrm>
            <a:off x="733320" y="74772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笑脸 126"/>
          <p:cNvSpPr/>
          <p:nvPr/>
        </p:nvSpPr>
        <p:spPr>
          <a:xfrm>
            <a:off x="9360" y="110664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笑脸 127"/>
          <p:cNvSpPr/>
          <p:nvPr/>
        </p:nvSpPr>
        <p:spPr>
          <a:xfrm>
            <a:off x="696960" y="273060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笑脸 128"/>
          <p:cNvSpPr/>
          <p:nvPr/>
        </p:nvSpPr>
        <p:spPr>
          <a:xfrm>
            <a:off x="154080" y="3222720"/>
            <a:ext cx="641160" cy="62532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笑脸 129"/>
          <p:cNvSpPr/>
          <p:nvPr/>
        </p:nvSpPr>
        <p:spPr>
          <a:xfrm>
            <a:off x="-104760" y="377352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笑脸 130"/>
          <p:cNvSpPr/>
          <p:nvPr/>
        </p:nvSpPr>
        <p:spPr>
          <a:xfrm>
            <a:off x="719280" y="16200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笑脸 131"/>
          <p:cNvSpPr/>
          <p:nvPr/>
        </p:nvSpPr>
        <p:spPr>
          <a:xfrm>
            <a:off x="1414440" y="-19368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笑脸 132"/>
          <p:cNvSpPr/>
          <p:nvPr/>
        </p:nvSpPr>
        <p:spPr>
          <a:xfrm>
            <a:off x="2556000" y="109872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笑脸 137"/>
          <p:cNvSpPr/>
          <p:nvPr/>
        </p:nvSpPr>
        <p:spPr>
          <a:xfrm>
            <a:off x="7593120" y="-322200"/>
            <a:ext cx="6411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笑脸 140"/>
          <p:cNvSpPr/>
          <p:nvPr/>
        </p:nvSpPr>
        <p:spPr>
          <a:xfrm>
            <a:off x="11783880" y="73188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笑脸 138"/>
          <p:cNvSpPr/>
          <p:nvPr/>
        </p:nvSpPr>
        <p:spPr>
          <a:xfrm>
            <a:off x="2585880" y="-22392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笑脸 139"/>
          <p:cNvSpPr/>
          <p:nvPr/>
        </p:nvSpPr>
        <p:spPr>
          <a:xfrm>
            <a:off x="3843360" y="-88920"/>
            <a:ext cx="641160" cy="62532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笑脸 135"/>
          <p:cNvSpPr/>
          <p:nvPr/>
        </p:nvSpPr>
        <p:spPr>
          <a:xfrm>
            <a:off x="5079960" y="-201600"/>
            <a:ext cx="64152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笑脸 136"/>
          <p:cNvSpPr/>
          <p:nvPr/>
        </p:nvSpPr>
        <p:spPr>
          <a:xfrm>
            <a:off x="6432480" y="-131760"/>
            <a:ext cx="642960" cy="623880"/>
          </a:xfrm>
          <a:prstGeom prst="smileyFace">
            <a:avLst>
              <a:gd name="adj" fmla="val 4653"/>
            </a:avLst>
          </a:prstGeom>
          <a:solidFill>
            <a:srgbClr val="d5e8f2"/>
          </a:solidFill>
          <a:ln w="25560">
            <a:solidFill>
              <a:srgbClr val="5b7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10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2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0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0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10">
                                  <p:stCondLst>
                                    <p:cond delay="118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0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10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10">
                                  <p:stCondLst>
                                    <p:cond delay="106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10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10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10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10">
                                  <p:stCondLst>
                                    <p:cond delay="118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0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2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10">
                                  <p:stCondLst>
                                    <p:cond delay="122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0">
                                  <p:stCondLst>
                                    <p:cond delay="126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0">
                                  <p:stCondLst>
                                    <p:cond delay="82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10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0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10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10">
                                  <p:stCondLst>
                                    <p:cond delay="62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10">
                                  <p:stCondLst>
                                    <p:cond delay="66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10">
                                  <p:stCondLst>
                                    <p:cond delay="118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10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10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10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10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2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0">
                                  <p:stCondLst>
                                    <p:cond delay="106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10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0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10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2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0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10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0">
                                  <p:stCondLst>
                                    <p:cond delay="106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0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10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0">
                                  <p:stCondLst>
                                    <p:cond delay="106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2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0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2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0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10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10">
                                  <p:stCondLst>
                                    <p:cond delay="82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2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86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2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0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2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10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10">
                                  <p:stCondLst>
                                    <p:cond delay="82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10">
                                  <p:stCondLst>
                                    <p:cond delay="86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10">
                                  <p:stCondLst>
                                    <p:cond delay="62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10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10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0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10">
                                  <p:stCondLst>
                                    <p:cond delay="86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2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0">
                                  <p:stCondLst>
                                    <p:cond delay="82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10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10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2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0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2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10">
                                  <p:stCondLst>
                                    <p:cond delay="46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0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2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0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9217080" y="1557360"/>
            <a:ext cx="46080" cy="272736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47"/>
          <p:cNvGrpSpPr/>
          <p:nvPr/>
        </p:nvGrpSpPr>
        <p:grpSpPr>
          <a:xfrm>
            <a:off x="8740800" y="1374840"/>
            <a:ext cx="503280" cy="504720"/>
            <a:chOff x="8740800" y="1374840"/>
            <a:chExt cx="503280" cy="504720"/>
          </a:xfrm>
        </p:grpSpPr>
        <p:sp>
          <p:nvSpPr>
            <p:cNvPr id="488" name="椭圆 7"/>
            <p:cNvSpPr/>
            <p:nvPr/>
          </p:nvSpPr>
          <p:spPr>
            <a:xfrm>
              <a:off x="8740800" y="1374840"/>
              <a:ext cx="503280" cy="504720"/>
            </a:xfrm>
            <a:prstGeom prst="ellipse">
              <a:avLst/>
            </a:prstGeom>
            <a:solidFill>
              <a:srgbClr val="e6d7ac"/>
            </a:solidFill>
            <a:ln w="76320">
              <a:solidFill>
                <a:srgbClr val="5b73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43"/>
            <p:cNvSpPr/>
            <p:nvPr/>
          </p:nvSpPr>
          <p:spPr>
            <a:xfrm>
              <a:off x="8946000" y="1735560"/>
              <a:ext cx="92520" cy="92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44"/>
            <p:cNvSpPr/>
            <p:nvPr/>
          </p:nvSpPr>
          <p:spPr>
            <a:xfrm>
              <a:off x="8791200" y="1580760"/>
              <a:ext cx="92520" cy="92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45"/>
            <p:cNvSpPr/>
            <p:nvPr/>
          </p:nvSpPr>
          <p:spPr>
            <a:xfrm>
              <a:off x="8946000" y="1422720"/>
              <a:ext cx="92520" cy="92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46"/>
            <p:cNvSpPr/>
            <p:nvPr/>
          </p:nvSpPr>
          <p:spPr>
            <a:xfrm>
              <a:off x="9100440" y="1580760"/>
              <a:ext cx="92520" cy="92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矩形 6"/>
          <p:cNvSpPr/>
          <p:nvPr/>
        </p:nvSpPr>
        <p:spPr>
          <a:xfrm rot="19386600">
            <a:off x="4608360" y="2744280"/>
            <a:ext cx="4680000" cy="360360"/>
          </a:xfrm>
          <a:prstGeom prst="rect">
            <a:avLst/>
          </a:prstGeom>
          <a:solidFill>
            <a:srgbClr val="5b7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5"/>
          <p:cNvSpPr/>
          <p:nvPr/>
        </p:nvSpPr>
        <p:spPr>
          <a:xfrm>
            <a:off x="3727440" y="4775040"/>
            <a:ext cx="755640" cy="289080"/>
          </a:xfrm>
          <a:prstGeom prst="rect">
            <a:avLst/>
          </a:prstGeom>
          <a:solidFill>
            <a:srgbClr val="47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4831200" y="6237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7342d"/>
                </a:solidFill>
                <a:latin typeface="微软雅黑"/>
                <a:ea typeface="微软雅黑"/>
              </a:rPr>
              <a:t>我有能力胜任这份工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"/>
          <p:cNvSpPr/>
          <p:nvPr/>
        </p:nvSpPr>
        <p:spPr>
          <a:xfrm>
            <a:off x="2879640" y="4076640"/>
            <a:ext cx="2449440" cy="792360"/>
          </a:xfrm>
          <a:prstGeom prst="rect">
            <a:avLst/>
          </a:prstGeom>
          <a:solidFill>
            <a:srgbClr val="5b7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4"/>
          <p:cNvSpPr/>
          <p:nvPr/>
        </p:nvSpPr>
        <p:spPr>
          <a:xfrm>
            <a:off x="2664000" y="5013360"/>
            <a:ext cx="2809800" cy="576360"/>
          </a:xfrm>
          <a:prstGeom prst="roundRect">
            <a:avLst>
              <a:gd name="adj" fmla="val 50000"/>
            </a:avLst>
          </a:prstGeom>
          <a:solidFill>
            <a:srgbClr val="5b738f"/>
          </a:solidFill>
          <a:ln w="76320">
            <a:solidFill>
              <a:srgbClr val="473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单圆角矩形 8"/>
          <p:cNvSpPr/>
          <p:nvPr/>
        </p:nvSpPr>
        <p:spPr>
          <a:xfrm rot="3213000">
            <a:off x="8638920" y="1303200"/>
            <a:ext cx="576000" cy="360360"/>
          </a:xfrm>
          <a:prstGeom prst="pie">
            <a:avLst/>
          </a:prstGeom>
          <a:solidFill>
            <a:srgbClr val="5b7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13"/>
          <p:cNvSpPr/>
          <p:nvPr/>
        </p:nvSpPr>
        <p:spPr>
          <a:xfrm>
            <a:off x="8639280" y="4213080"/>
            <a:ext cx="1201680" cy="1308240"/>
          </a:xfrm>
          <a:prstGeom prst="pie">
            <a:avLst/>
          </a:prstGeom>
          <a:solidFill>
            <a:srgbClr val="87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42"/>
          <p:cNvGrpSpPr/>
          <p:nvPr/>
        </p:nvGrpSpPr>
        <p:grpSpPr>
          <a:xfrm>
            <a:off x="2303280" y="3715560"/>
            <a:ext cx="1369080" cy="1330200"/>
            <a:chOff x="2303280" y="3715560"/>
            <a:chExt cx="1369080" cy="1330200"/>
          </a:xfrm>
        </p:grpSpPr>
        <p:sp>
          <p:nvSpPr>
            <p:cNvPr id="501" name="矩形 19"/>
            <p:cNvSpPr/>
            <p:nvPr/>
          </p:nvSpPr>
          <p:spPr>
            <a:xfrm>
              <a:off x="2376000" y="3840120"/>
              <a:ext cx="1224360" cy="1080720"/>
            </a:xfrm>
            <a:prstGeom prst="rect">
              <a:avLst/>
            </a:prstGeom>
            <a:solidFill>
              <a:srgbClr val="5b7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41"/>
            <p:cNvSpPr/>
            <p:nvPr/>
          </p:nvSpPr>
          <p:spPr>
            <a:xfrm rot="9000000">
              <a:off x="2292480" y="3879720"/>
              <a:ext cx="696600" cy="144000"/>
            </a:xfrm>
            <a:prstGeom prst="pie">
              <a:avLst/>
            </a:prstGeom>
            <a:solidFill>
              <a:srgbClr val="473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任意多边形 40"/>
            <p:cNvSpPr/>
            <p:nvPr/>
          </p:nvSpPr>
          <p:spPr>
            <a:xfrm rot="9000000">
              <a:off x="2246400" y="4053600"/>
              <a:ext cx="1391760" cy="144000"/>
            </a:xfrm>
            <a:prstGeom prst="pie">
              <a:avLst/>
            </a:prstGeom>
            <a:solidFill>
              <a:srgbClr val="473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39"/>
            <p:cNvSpPr/>
            <p:nvPr/>
          </p:nvSpPr>
          <p:spPr>
            <a:xfrm rot="9000000">
              <a:off x="2239560" y="4360320"/>
              <a:ext cx="1496880" cy="144000"/>
            </a:xfrm>
            <a:prstGeom prst="pie">
              <a:avLst/>
            </a:prstGeom>
            <a:solidFill>
              <a:srgbClr val="473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38"/>
            <p:cNvSpPr/>
            <p:nvPr/>
          </p:nvSpPr>
          <p:spPr>
            <a:xfrm rot="9000000">
              <a:off x="2573280" y="4626360"/>
              <a:ext cx="1139400" cy="144000"/>
            </a:xfrm>
            <a:prstGeom prst="pie">
              <a:avLst/>
            </a:prstGeom>
            <a:solidFill>
              <a:srgbClr val="473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37"/>
            <p:cNvSpPr/>
            <p:nvPr/>
          </p:nvSpPr>
          <p:spPr>
            <a:xfrm rot="9000000">
              <a:off x="3231720" y="4802760"/>
              <a:ext cx="433080" cy="144000"/>
            </a:xfrm>
            <a:prstGeom prst="pie">
              <a:avLst/>
            </a:prstGeom>
            <a:solidFill>
              <a:srgbClr val="473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2" presetSubtype="8">
                                  <p:stCondLst>
                                    <p:cond delay="101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" presetSubtype="8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" presetSubtype="8">
                                  <p:stCondLst>
                                    <p:cond delay="102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2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2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2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2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2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2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4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4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770"/>
                            </p:stCondLst>
                            <p:childTnLst>
                              <p:par>
                                <p:cTn id="1004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2.5E-006 -0.16805 E">
                                      <p:cBhvr>
                                        <p:cTn id="1005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939">
                                      <p:cBhvr>
                                        <p:cTn id="100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11:10:00Z</dcterms:created>
  <dc:creator>www.pptbz.com</dc:creator>
  <dc:description/>
  <dc:language>en-US</dc:language>
  <cp:lastModifiedBy>YANGS-PC</cp:lastModifiedBy>
  <dcterms:modified xsi:type="dcterms:W3CDTF">2015-08-03T12:33:36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