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068-AE7F-4DB6-9C64-F3BF19FF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3866400"/>
            <a:ext cx="8785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47D-A2C2-446B-B533-41BA1BEE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6640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386640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7E4-BBA8-433E-AF4B-526EA8C8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9640" y="119664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0000" y="119664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386640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9640" y="386640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0000" y="386640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DBC-E51C-4AA2-B20B-90DA1390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4659-1472-4298-A56D-B020FF6F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7A48-6ECE-4D12-AF72-6D66620D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55E3-D556-4A5B-BEA2-E00422DC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006D-7D49-485E-89B6-DE3C2A6E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896C-D57C-4379-8ECB-9DB73519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30FF-733C-4E8A-AE72-4D699A0A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9280" y="386640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96E9-4034-4255-BC62-156BAF8B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974-F895-4513-A18D-2A75D5EC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440" y="386640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D685-60EF-4FAA-909B-861585E7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9280" y="3866400"/>
            <a:ext cx="8785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7C2B-9FE3-47EA-BB65-739C9A69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9280" y="3866400"/>
            <a:ext cx="8785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8B0A-9359-4D44-9A8A-1CF22A65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9280" y="386640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440" y="386640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A9E3-3E3F-4C27-9274-B0BC724A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9640" y="119664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0000" y="119664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9280" y="386640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9640" y="386640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0000" y="386640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7F6B-418B-41F5-A656-3443527F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E6D-7F5B-45BA-B11A-684F9E8B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2462-B78E-4742-89F8-0A87E17A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C74-3C96-4997-9D1C-8E18E605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735-092F-4BA2-B7D5-3BF91B59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386640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3C7-951A-45A5-9443-B73529F3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386640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699-D2E0-4210-A281-227F7262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3866400"/>
            <a:ext cx="8785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09D-2F45-4FF5-88C2-E2DC0063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BCD1-9857-421D-A032-BB07CF9F7CB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未知"/>
          <p:cNvSpPr/>
          <p:nvPr/>
        </p:nvSpPr>
        <p:spPr>
          <a:xfrm>
            <a:off x="5003640" y="-25560"/>
            <a:ext cx="4165920" cy="44316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100000">
                <a:srgbClr val="00e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8672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429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C472-C859-4D40-861A-5F893097DBC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Picture 11" descr="电子科技大学校徽"/>
          <p:cNvPicPr/>
          <p:nvPr/>
        </p:nvPicPr>
        <p:blipFill>
          <a:blip r:embed="rId2"/>
          <a:stretch/>
        </p:blipFill>
        <p:spPr>
          <a:xfrm>
            <a:off x="2286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AD47-BA15-4429-9199-09CB0C2DEA5C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68360" y="3789000"/>
            <a:ext cx="8353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Tahoma"/>
              </a:rPr>
              <a:t>开题报告人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Tahoma"/>
              </a:rPr>
              <a:t>报告人电子邮件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Tahoma"/>
              </a:rPr>
              <a:t>校方指导导师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Tahoma"/>
              </a:rPr>
              <a:t>企业指导导师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33399"/>
                </a:solidFill>
                <a:latin typeface="Tahoma"/>
              </a:rPr>
              <a:t>电子科技大学软件学院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XXXX</a:t>
            </a:r>
            <a:r>
              <a:rPr b="1" lang="en-AU" sz="1800" spc="-1" strike="noStrike">
                <a:solidFill>
                  <a:srgbClr val="333399"/>
                </a:solidFill>
                <a:latin typeface="Tahoma"/>
              </a:rPr>
              <a:t>年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XX</a:t>
            </a:r>
            <a:r>
              <a:rPr b="1" lang="en-AU" sz="1800" spc="-1" strike="noStrike">
                <a:solidFill>
                  <a:srgbClr val="333399"/>
                </a:solidFill>
                <a:latin typeface="Tahoma"/>
              </a:rPr>
              <a:t>月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50920" y="1822320"/>
            <a:ext cx="9074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开题报告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PPT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模板打包在线下载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未知"/>
          <p:cNvSpPr/>
          <p:nvPr/>
        </p:nvSpPr>
        <p:spPr>
          <a:xfrm>
            <a:off x="0" y="6413400"/>
            <a:ext cx="4203720" cy="44460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100000">
                <a:srgbClr val="00e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未知"/>
          <p:cNvSpPr/>
          <p:nvPr/>
        </p:nvSpPr>
        <p:spPr>
          <a:xfrm>
            <a:off x="4978440" y="0"/>
            <a:ext cx="4165560" cy="44460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100000">
                <a:srgbClr val="00e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e00"/>
                </a:solidFill>
                <a:latin typeface="Tahoma"/>
              </a:rPr>
              <a:t>技术路线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400"/>
                </a:solidFill>
                <a:latin typeface="Tahoma"/>
              </a:rPr>
              <a:t>即说明采用一种什么样的方案来完成研究内容，并说明完成的可行性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e00"/>
                </a:solidFill>
                <a:latin typeface="Tahoma"/>
              </a:rPr>
              <a:t>论文工作的实验条件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描述为了完成课题，需要什么样的实验环境、编程语言、操作系统、数据库等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必须说明这些实验条件是否具备，例如编程语言是否数量？数据库系统是否熟悉？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e00"/>
                </a:solidFill>
                <a:latin typeface="Tahoma"/>
              </a:rPr>
              <a:t>可能的困难和解决方法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描述论文工作过程中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可能</a:t>
            </a: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存在的困难，并尽可能提出应对措施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e00"/>
                </a:solidFill>
                <a:latin typeface="Tahoma"/>
              </a:rPr>
              <a:t>论文工作计划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一般包含以下几个步骤</a:t>
            </a: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文献阅读和科学调研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方案论证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系统实现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实验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撰写论文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从开题到答辩一般为</a:t>
            </a: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年～</a:t>
            </a: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年半左右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请说明完成上述内容的时间段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AU" sz="15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AU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AU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AU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AU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AU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AU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AU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AU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AU" sz="15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B97-7405-4CF2-A299-9DF6F43AAC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e00"/>
                </a:solidFill>
                <a:latin typeface="Tahoma"/>
              </a:rPr>
              <a:t>总结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注意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开题报告的目的是提出问题，而不是解决问题。因此，必须对课题研究内容及意义透彻理解！！！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开题报告陈述要简练，对开题指导导师提出的建议及问题一般不需要解释，而是尽可能记录并在论文工作过程中高度重视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开题报告必须在公开报告前提交给导师及导师组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开题报告陈述时间必须控制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AU" sz="2800" spc="-1" strike="noStrike">
                <a:solidFill>
                  <a:srgbClr val="000000"/>
                </a:solidFill>
                <a:latin typeface="Tahoma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en-AU" sz="2800" spc="-1" strike="noStrike">
                <a:solidFill>
                  <a:srgbClr val="000000"/>
                </a:solidFill>
                <a:latin typeface="Tahoma"/>
              </a:rPr>
              <a:t>分钟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内容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c00"/>
                </a:solidFill>
                <a:latin typeface="Tahoma"/>
              </a:rPr>
              <a:t>题目来源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c00"/>
                </a:solidFill>
                <a:latin typeface="Tahoma"/>
              </a:rPr>
              <a:t>选题意义及依据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c00"/>
                </a:solidFill>
                <a:latin typeface="Tahoma"/>
              </a:rPr>
              <a:t>课题相关国内外研究现状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c00"/>
                </a:solidFill>
                <a:latin typeface="Tahoma"/>
              </a:rPr>
              <a:t>论文研究内容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4e00"/>
                </a:solidFill>
                <a:latin typeface="Tahoma"/>
              </a:rPr>
              <a:t>关键技术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4e00"/>
                </a:solidFill>
                <a:latin typeface="Tahoma"/>
              </a:rPr>
              <a:t>最终目标和成果形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4e00"/>
                </a:solidFill>
                <a:latin typeface="Tahoma"/>
              </a:rPr>
              <a:t>技术路线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4e00"/>
                </a:solidFill>
                <a:latin typeface="Tahoma"/>
              </a:rPr>
              <a:t>论文工作的实验条件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4e00"/>
                </a:solidFill>
                <a:latin typeface="Tahoma"/>
              </a:rPr>
              <a:t>可能存在的困难和解决方法</a:t>
            </a:r>
            <a:r>
              <a:rPr b="1" lang="en-US" sz="2800" spc="-1" strike="noStrike">
                <a:solidFill>
                  <a:srgbClr val="004e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4e00"/>
                </a:solidFill>
                <a:latin typeface="Tahoma"/>
              </a:rPr>
              <a:t>论文工作计划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4e00"/>
                </a:solidFill>
                <a:latin typeface="Tahoma"/>
              </a:rPr>
              <a:t>总结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c00"/>
                </a:solidFill>
                <a:latin typeface="Tahoma"/>
              </a:rPr>
              <a:t>题目来源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c00"/>
                </a:solidFill>
                <a:latin typeface="Tahoma"/>
              </a:rPr>
              <a:t>必须明确课题来源是什么，如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① 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结合各自单位的工作选择论文题目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② 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结合本地区的实际情况选择论文题目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③ 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承担导师现有课题或子课题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④ 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根据导师研究方向进行先期研究并设计实现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c00"/>
                </a:solidFill>
                <a:latin typeface="Tahoma"/>
              </a:rPr>
              <a:t>选题意义及依据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c00"/>
                </a:solidFill>
                <a:latin typeface="Tahoma"/>
              </a:rPr>
              <a:t>选题意义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简要概述课题有什么价值，可以应用到什么领域。如果是理论研究，应重点说明理论价值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c00"/>
                </a:solidFill>
                <a:latin typeface="Tahoma"/>
              </a:rPr>
              <a:t>选题依据</a:t>
            </a:r>
            <a:r>
              <a:rPr b="1" lang="zh-CN" sz="3200" spc="-1" strike="noStrike">
                <a:solidFill>
                  <a:srgbClr val="003c00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3c00"/>
                </a:solidFill>
                <a:latin typeface="Tahoma"/>
              </a:rPr>
              <a:t>开题的关键要素之一</a:t>
            </a:r>
            <a:r>
              <a:rPr b="1" lang="zh-CN" sz="3200" spc="-1" strike="noStrike">
                <a:solidFill>
                  <a:srgbClr val="003c00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① 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有理论研究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, 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取得一定研究成果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学术论文支持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), 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并将其成果应用于工程实践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即工程工作量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② 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无理论研究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, 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但有较大的工程工作量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c00"/>
                </a:solidFill>
                <a:latin typeface="Tahoma"/>
              </a:rPr>
              <a:t>课题相关国内外研究现状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4e00"/>
                </a:solidFill>
                <a:latin typeface="Tahoma"/>
              </a:rPr>
              <a:t>通过阅读国内外相关技术资料和论文</a:t>
            </a:r>
            <a:r>
              <a:rPr b="1" lang="en-AU" sz="3200" spc="-1" strike="noStrike">
                <a:solidFill>
                  <a:srgbClr val="004e00"/>
                </a:solidFill>
                <a:latin typeface="Tahoma"/>
              </a:rPr>
              <a:t>, </a:t>
            </a:r>
            <a:r>
              <a:rPr b="1" lang="en-AU" sz="3200" spc="-1" strike="noStrike">
                <a:solidFill>
                  <a:srgbClr val="004e00"/>
                </a:solidFill>
                <a:latin typeface="Tahoma"/>
              </a:rPr>
              <a:t>充分了解所选题目相关领域国内外发展状况</a:t>
            </a:r>
            <a:r>
              <a:rPr b="1" lang="en-AU" sz="3200" spc="-1" strike="noStrike">
                <a:solidFill>
                  <a:srgbClr val="004e00"/>
                </a:solidFill>
                <a:latin typeface="Tahoma"/>
              </a:rPr>
              <a:t>, </a:t>
            </a:r>
            <a:r>
              <a:rPr b="1" lang="en-AU" sz="3200" spc="-1" strike="noStrike">
                <a:solidFill>
                  <a:srgbClr val="004400"/>
                </a:solidFill>
                <a:latin typeface="Tahoma"/>
              </a:rPr>
              <a:t>找到题目的立足点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4400"/>
                </a:solidFill>
                <a:latin typeface="Tahoma"/>
              </a:rPr>
              <a:t>必须陈述课题的现状，但是要概括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4400"/>
                </a:solidFill>
                <a:latin typeface="Tahoma"/>
              </a:rPr>
              <a:t>如果为一般的应用系统开发，则必须调研现有系统，并说明这些系统的特点、优缺点，以及指出本课题与这些已有系统的区别与联系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c00"/>
                </a:solidFill>
                <a:latin typeface="Tahoma"/>
              </a:rPr>
              <a:t>论文研究内容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研究内容必须明确和具体，以精炼语言说明课题主要研究内容（最好列表方式）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例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如果为软件系统开发，研究内容可能包括软件架构、课题中的关键技术、功能模块、处理流程，安全保障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如果为硬件开发，则可包括原理图、加工工艺、板卡测试与调试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如果为理论研究，则可包括理论关键点，算法，算法复杂度分析，算法仿真分析，拟解决的关键问题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e00"/>
                </a:solidFill>
                <a:latin typeface="Tahoma"/>
              </a:rPr>
              <a:t>关键技术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4e00"/>
                </a:solidFill>
                <a:latin typeface="Tahoma"/>
              </a:rPr>
              <a:t>从技术的角度描述完成课题所涉及的关键技术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Tahoma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e00"/>
                </a:solidFill>
                <a:latin typeface="Tahoma"/>
              </a:rPr>
              <a:t>最终目标和成果形式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最终目标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简短描述课题最终目标（最好控制在</a:t>
            </a:r>
            <a:r>
              <a:rPr b="1" lang="en-US" sz="2800" spc="-1" strike="noStrike">
                <a:solidFill>
                  <a:srgbClr val="004e00"/>
                </a:solidFill>
                <a:latin typeface="Tahoma"/>
              </a:rPr>
              <a:t>100</a:t>
            </a:r>
            <a:r>
              <a:rPr b="1" lang="en-AU" sz="2800" spc="-1" strike="noStrike">
                <a:solidFill>
                  <a:srgbClr val="004e00"/>
                </a:solidFill>
                <a:latin typeface="Tahoma"/>
              </a:rPr>
              <a:t>字以内</a:t>
            </a:r>
            <a:r>
              <a:rPr b="1" lang="en-US" sz="2800" spc="-1" strike="noStrike">
                <a:solidFill>
                  <a:srgbClr val="004e00"/>
                </a:solidFill>
                <a:latin typeface="Tahoma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成果形式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成果的表现形式</a:t>
            </a: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如原型机、软件系统、论文、</a:t>
            </a:r>
            <a:r>
              <a:rPr b="1" lang="zh-CN" sz="2800" spc="-1" strike="noStrike">
                <a:solidFill>
                  <a:srgbClr val="004400"/>
                </a:solidFill>
                <a:latin typeface="Tahoma"/>
              </a:rPr>
              <a:t>设计报告、研究报告</a:t>
            </a: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等</a:t>
            </a: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06:54Z</dcterms:created>
  <dc:creator>www.pptbz.com</dc:creator>
  <dc:description/>
  <dc:language>en-US</dc:language>
  <cp:lastModifiedBy>微软用户</cp:lastModifiedBy>
  <dcterms:modified xsi:type="dcterms:W3CDTF">2015-08-03T12:32:26Z</dcterms:modified>
  <cp:revision>1765</cp:revision>
  <dc:subject>Lecture Overheads - Ch 1</dc:subject>
  <dc:title>William Stallings, Cryptography and Network Security 3/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