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3.jpeg" ContentType="image/jpeg"/>
  <Override PartName="/ppt/media/image23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7B4-490F-4F85-9CD5-ACFB03D1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37D-3FD6-43C0-A17C-3080730B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40E-BA39-4D66-B4AF-D783047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822-A5EA-42FB-BEFF-0B4BE80F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C5A-9CA9-4D94-8FAF-516C7A1D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F7E-0D4E-4116-9A64-E4F11D8E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CA1-281E-498C-AEFC-D2778C9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977-98E5-4CA4-A5BB-88745A7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FDC-5DA7-4071-BC6B-3C3CDDC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94C-27CE-4C2B-8650-9532B6F2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EB6-7984-4726-864F-37C72F98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08F-86E0-4759-8B78-A4397FBC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841C-BF1A-4619-A313-D61BFBC0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04CB-26EE-441C-980B-40D9BCF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726-15EB-4B16-A8BD-0EFE77AB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7ED-E21C-410B-BB7C-F5FB14D1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23B7-6FEF-4263-9E7F-C75BCED4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5737-01C1-4D17-946C-9952C43F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41E0-36FE-4678-81E9-AAAE95C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D1D3-CF05-4697-A520-EE438B76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A89E-9398-4459-A08C-4C9105E1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3DBC-7DCA-43AC-9C5A-9B91EF92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9BD5-EE89-4081-9D83-674C8CD0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1867-A956-4EFE-AC21-8DCFDA14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BB58-5CF7-4541-9F59-A9240245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F069-53EF-4E3C-B505-FC2C740D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B26A-4D92-4B3F-8BEC-85BFEB3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9BB9-A991-4E84-BFD4-A3873036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48D6-2CA3-44D5-81C3-A4C62DA6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253D-0359-4A1B-86DF-69C0CCF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673E-7218-436E-8C4B-1D6FB72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AA26-83AD-4CFB-BB9E-F94C5CF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602F-5661-4EF7-BE7D-8C839917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BB1D-93EB-4894-9089-A32DE084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5C91-0778-49F8-AE71-60C71976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192F-0831-4134-9B49-FD874DB2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EF9C-C061-49AF-A06A-B3BCEE3B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AE96-FB99-489C-ABB3-5374F757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EFD4-B93D-45AA-848A-FF71F89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2D98-582C-41E4-A73A-556DC3DF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B001-F4FE-4A69-AFFD-12B3594D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2BC2-5FE2-4F5B-BC4A-51EFA6A6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AB73-A44A-4952-80F7-520B509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EBF2-FCFF-4B42-A250-5FA647A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8FD4-259E-440C-B33C-540C0B8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2355-7B66-4C24-BA01-A29EDE8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C5AB-26D2-4A30-B817-F1345C99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5C50-6730-4A7A-AB1F-2584C830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3"/>
          <p:cNvSpPr/>
          <p:nvPr/>
        </p:nvSpPr>
        <p:spPr>
          <a:xfrm>
            <a:off x="6351480" y="4792680"/>
            <a:ext cx="148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4"/>
          <p:cNvSpPr/>
          <p:nvPr/>
        </p:nvSpPr>
        <p:spPr>
          <a:xfrm>
            <a:off x="7667640" y="4803840"/>
            <a:ext cx="1316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ppt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" name="TextBox 1"/>
          <p:cNvSpPr/>
          <p:nvPr/>
        </p:nvSpPr>
        <p:spPr>
          <a:xfrm>
            <a:off x="3145320" y="82598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6351480" y="4792680"/>
            <a:ext cx="148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7667640" y="4803840"/>
            <a:ext cx="1316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ppt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145320" y="82598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F:\工作夹\PPT设计\PPT模板\PPT模板2013\s1030\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6351480" y="4792680"/>
            <a:ext cx="148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667640" y="4803840"/>
            <a:ext cx="1316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ppt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3145320" y="82598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D110-29DA-4A9A-BCF3-6D5E2109632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351480" y="4792680"/>
            <a:ext cx="148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667640" y="4803840"/>
            <a:ext cx="1316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ppt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3145320" y="82598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DA2F-9BEC-493A-9927-9930304E845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6351480" y="4792680"/>
            <a:ext cx="148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7667640" y="4803840"/>
            <a:ext cx="1316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ppt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3145320" y="82598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173E-7B34-432E-9259-578FEB69381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6351480" y="4792680"/>
            <a:ext cx="148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667640" y="4803840"/>
            <a:ext cx="1316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ppt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3145320" y="82598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5569-728C-4F07-B0B9-C5A5D349490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F:\工作夹\PPT设计\PPT模板\PPT模板2013\s1030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93320" y="1969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草地球环保主题企业报告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539640" y="1419120"/>
            <a:ext cx="4716720" cy="3097440"/>
            <a:chOff x="539640" y="1419120"/>
            <a:chExt cx="4716720" cy="3097440"/>
          </a:xfrm>
        </p:grpSpPr>
        <p:sp>
          <p:nvSpPr>
            <p:cNvPr id="445" name="矩形 2"/>
            <p:cNvSpPr/>
            <p:nvPr/>
          </p:nvSpPr>
          <p:spPr>
            <a:xfrm>
              <a:off x="539640" y="1419120"/>
              <a:ext cx="4716720" cy="30974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3" descr=""/>
            <p:cNvPicPr/>
            <p:nvPr/>
          </p:nvPicPr>
          <p:blipFill>
            <a:blip r:embed="rId1"/>
            <a:stretch/>
          </p:blipFill>
          <p:spPr>
            <a:xfrm>
              <a:off x="683640" y="1635120"/>
              <a:ext cx="4393440" cy="266544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</p:grpSp>
      <p:grpSp>
        <p:nvGrpSpPr>
          <p:cNvPr id="447" name="组合 7"/>
          <p:cNvGrpSpPr/>
          <p:nvPr/>
        </p:nvGrpSpPr>
        <p:grpSpPr>
          <a:xfrm>
            <a:off x="4915440" y="579240"/>
            <a:ext cx="4282200" cy="2834280"/>
            <a:chOff x="4915440" y="579240"/>
            <a:chExt cx="4282200" cy="2834280"/>
          </a:xfrm>
        </p:grpSpPr>
        <p:sp>
          <p:nvSpPr>
            <p:cNvPr id="448" name="任意多边形 6"/>
            <p:cNvSpPr/>
            <p:nvPr/>
          </p:nvSpPr>
          <p:spPr>
            <a:xfrm rot="20981400">
              <a:off x="5076720" y="915840"/>
              <a:ext cx="3959280" cy="2160720"/>
            </a:xfrm>
            <a:custGeom>
              <a:avLst/>
              <a:gdLst/>
              <a:ahLst/>
              <a:rect l="l" t="t" r="r" b="b"/>
              <a:pathLst>
                <a:path w="2037778" h="2037778">
                  <a:moveTo>
                    <a:pt x="1201140" y="16611"/>
                  </a:moveTo>
                  <a:cubicBezTo>
                    <a:pt x="1754683" y="117266"/>
                    <a:pt x="2121821" y="647597"/>
                    <a:pt x="2021167" y="1201140"/>
                  </a:cubicBezTo>
                  <a:cubicBezTo>
                    <a:pt x="1920512" y="1754683"/>
                    <a:pt x="1390181" y="2121821"/>
                    <a:pt x="836638" y="2021167"/>
                  </a:cubicBezTo>
                  <a:cubicBezTo>
                    <a:pt x="731525" y="2002054"/>
                    <a:pt x="633134" y="1967447"/>
                    <a:pt x="543476" y="1919969"/>
                  </a:cubicBezTo>
                  <a:cubicBezTo>
                    <a:pt x="379926" y="1975646"/>
                    <a:pt x="193523" y="1966561"/>
                    <a:pt x="19928" y="1946271"/>
                  </a:cubicBezTo>
                  <a:cubicBezTo>
                    <a:pt x="24161" y="1950504"/>
                    <a:pt x="185028" y="1909758"/>
                    <a:pt x="283453" y="1781171"/>
                  </a:cubicBezTo>
                  <a:cubicBezTo>
                    <a:pt x="292222" y="1769715"/>
                    <a:pt x="299966" y="1758368"/>
                    <a:pt x="306069" y="1746684"/>
                  </a:cubicBezTo>
                  <a:cubicBezTo>
                    <a:pt x="73055" y="1518178"/>
                    <a:pt x="-46174" y="1181924"/>
                    <a:pt x="16611" y="836638"/>
                  </a:cubicBezTo>
                  <a:cubicBezTo>
                    <a:pt x="117265" y="283095"/>
                    <a:pt x="647597" y="-84043"/>
                    <a:pt x="1201140" y="16611"/>
                  </a:cubicBezTo>
                  <a:close/>
                </a:path>
              </a:pathLst>
            </a:custGeom>
            <a:solidFill>
              <a:srgbClr val="8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52"/>
            <p:cNvSpPr/>
            <p:nvPr/>
          </p:nvSpPr>
          <p:spPr>
            <a:xfrm>
              <a:off x="5605560" y="1467360"/>
              <a:ext cx="32781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组根据波特图统计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问题点“烧嘴故障”是导致烧嘴点火失败的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类因素，也是我们这次课题解决的主要问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Box 7"/>
          <p:cNvSpPr/>
          <p:nvPr/>
        </p:nvSpPr>
        <p:spPr>
          <a:xfrm>
            <a:off x="3780000" y="4111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状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组合 1"/>
          <p:cNvGrpSpPr/>
          <p:nvPr/>
        </p:nvGrpSpPr>
        <p:grpSpPr>
          <a:xfrm>
            <a:off x="250920" y="2373480"/>
            <a:ext cx="5473440" cy="2143080"/>
            <a:chOff x="250920" y="2373480"/>
            <a:chExt cx="5473440" cy="2143080"/>
          </a:xfrm>
        </p:grpSpPr>
        <p:sp>
          <p:nvSpPr>
            <p:cNvPr id="452" name="矩形 49"/>
            <p:cNvSpPr/>
            <p:nvPr/>
          </p:nvSpPr>
          <p:spPr>
            <a:xfrm>
              <a:off x="250920" y="2373480"/>
              <a:ext cx="5473440" cy="2143080"/>
            </a:xfrm>
            <a:prstGeom prst="rect">
              <a:avLst/>
            </a:prstGeom>
            <a:solidFill>
              <a:srgbClr val="8bcd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2"/>
            <p:cNvSpPr/>
            <p:nvPr/>
          </p:nvSpPr>
          <p:spPr>
            <a:xfrm>
              <a:off x="405000" y="2607480"/>
              <a:ext cx="5319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年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月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-12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月份焙烧炉设备异常月均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7.3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其中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A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类因素火焰探测器故障为月均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4.4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次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a907"/>
                  </a:solidFill>
                  <a:latin typeface="微软雅黑"/>
                  <a:ea typeface="微软雅黑"/>
                </a:rPr>
                <a:t>目标定为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解决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75%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的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A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类因素，则总的设备故障降到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7.3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次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-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75%X4.4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次）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=4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次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椭圆 10"/>
          <p:cNvGrpSpPr/>
          <p:nvPr/>
        </p:nvGrpSpPr>
        <p:grpSpPr>
          <a:xfrm>
            <a:off x="5138640" y="3309840"/>
            <a:ext cx="3962520" cy="1554120"/>
            <a:chOff x="5138640" y="3309840"/>
            <a:chExt cx="3962520" cy="1554120"/>
          </a:xfrm>
        </p:grpSpPr>
        <p:pic>
          <p:nvPicPr>
            <p:cNvPr id="455" name="椭圆 10" descr=""/>
            <p:cNvPicPr/>
            <p:nvPr/>
          </p:nvPicPr>
          <p:blipFill>
            <a:blip r:embed="rId1"/>
            <a:stretch/>
          </p:blipFill>
          <p:spPr>
            <a:xfrm>
              <a:off x="5138640" y="3309840"/>
              <a:ext cx="396252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796000" y="3614760"/>
              <a:ext cx="25653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33"/>
          <p:cNvGrpSpPr/>
          <p:nvPr/>
        </p:nvGrpSpPr>
        <p:grpSpPr>
          <a:xfrm>
            <a:off x="3540960" y="463680"/>
            <a:ext cx="5588640" cy="4485240"/>
            <a:chOff x="3540960" y="463680"/>
            <a:chExt cx="5588640" cy="4485240"/>
          </a:xfrm>
        </p:grpSpPr>
        <p:sp>
          <p:nvSpPr>
            <p:cNvPr id="458" name="椭圆 14"/>
            <p:cNvSpPr/>
            <p:nvPr/>
          </p:nvSpPr>
          <p:spPr>
            <a:xfrm>
              <a:off x="5214960" y="3657600"/>
              <a:ext cx="3914640" cy="1000080"/>
            </a:xfrm>
            <a:prstGeom prst="ellipse">
              <a:avLst/>
            </a:prstGeom>
            <a:noFill/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组合 15"/>
            <p:cNvGrpSpPr/>
            <p:nvPr/>
          </p:nvGrpSpPr>
          <p:grpSpPr>
            <a:xfrm>
              <a:off x="4139640" y="463680"/>
              <a:ext cx="4102560" cy="4485240"/>
              <a:chOff x="4139640" y="463680"/>
              <a:chExt cx="4102560" cy="4485240"/>
            </a:xfrm>
          </p:grpSpPr>
          <p:sp>
            <p:nvSpPr>
              <p:cNvPr id="460" name="任意多边形 16"/>
              <p:cNvSpPr/>
              <p:nvPr/>
            </p:nvSpPr>
            <p:spPr>
              <a:xfrm>
                <a:off x="4139640" y="1368000"/>
                <a:ext cx="1141560" cy="266400"/>
              </a:xfrm>
              <a:custGeom>
                <a:avLst/>
                <a:gdLst/>
                <a:ahLst/>
                <a:rect l="l" t="t" r="r" b="b"/>
                <a:pathLst>
                  <a:path w="1140977" h="267037">
                    <a:moveTo>
                      <a:pt x="469338" y="0"/>
                    </a:moveTo>
                    <a:cubicBezTo>
                      <a:pt x="312892" y="24276"/>
                      <a:pt x="204998" y="56644"/>
                      <a:pt x="0" y="267037"/>
                    </a:cubicBezTo>
                    <a:lnTo>
                      <a:pt x="695915" y="267037"/>
                    </a:lnTo>
                    <a:cubicBezTo>
                      <a:pt x="787625" y="137565"/>
                      <a:pt x="919794" y="64735"/>
                      <a:pt x="1140977" y="0"/>
                    </a:cubicBezTo>
                    <a:lnTo>
                      <a:pt x="4693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下箭头 3"/>
              <p:cNvSpPr/>
              <p:nvPr/>
            </p:nvSpPr>
            <p:spPr>
              <a:xfrm rot="20239200">
                <a:off x="5214600" y="771480"/>
                <a:ext cx="2372040" cy="3869640"/>
              </a:xfrm>
              <a:custGeom>
                <a:avLst/>
                <a:gdLst/>
                <a:ahLst/>
                <a:rect l="l" t="t" r="r" b="b"/>
                <a:pathLst>
                  <a:path w="2372736" h="3869531">
                    <a:moveTo>
                      <a:pt x="123164" y="45026"/>
                    </a:moveTo>
                    <a:lnTo>
                      <a:pt x="199212" y="77997"/>
                    </a:lnTo>
                    <a:lnTo>
                      <a:pt x="0" y="0"/>
                    </a:lnTo>
                    <a:cubicBezTo>
                      <a:pt x="42656" y="14265"/>
                      <a:pt x="83690" y="29286"/>
                      <a:pt x="123164" y="45026"/>
                    </a:cubicBezTo>
                    <a:close/>
                    <a:moveTo>
                      <a:pt x="735051" y="313125"/>
                    </a:moveTo>
                    <a:cubicBezTo>
                      <a:pt x="1855964" y="872993"/>
                      <a:pt x="1771001" y="1742820"/>
                      <a:pt x="1771051" y="2517415"/>
                    </a:cubicBezTo>
                    <a:lnTo>
                      <a:pt x="2079117" y="2352624"/>
                    </a:lnTo>
                    <a:lnTo>
                      <a:pt x="2066222" y="2364821"/>
                    </a:lnTo>
                    <a:lnTo>
                      <a:pt x="2074032" y="2361759"/>
                    </a:lnTo>
                    <a:lnTo>
                      <a:pt x="2086502" y="2359144"/>
                    </a:lnTo>
                    <a:lnTo>
                      <a:pt x="2372736" y="2334828"/>
                    </a:lnTo>
                    <a:lnTo>
                      <a:pt x="1599453" y="3869531"/>
                    </a:lnTo>
                    <a:lnTo>
                      <a:pt x="1392399" y="3843092"/>
                    </a:lnTo>
                    <a:cubicBezTo>
                      <a:pt x="1217792" y="3597241"/>
                      <a:pt x="695615" y="2641066"/>
                      <a:pt x="551811" y="2394422"/>
                    </a:cubicBezTo>
                    <a:lnTo>
                      <a:pt x="529574" y="2363226"/>
                    </a:lnTo>
                    <a:lnTo>
                      <a:pt x="754116" y="2250654"/>
                    </a:lnTo>
                    <a:lnTo>
                      <a:pt x="805440" y="2348027"/>
                    </a:lnTo>
                    <a:lnTo>
                      <a:pt x="1067227" y="2469139"/>
                    </a:lnTo>
                    <a:cubicBezTo>
                      <a:pt x="1070191" y="1727575"/>
                      <a:pt x="1335153" y="583112"/>
                      <a:pt x="199212" y="77997"/>
                    </a:cubicBezTo>
                    <a:cubicBezTo>
                      <a:pt x="366837" y="143627"/>
                      <a:pt x="567426" y="247495"/>
                      <a:pt x="735051" y="313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6762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下箭头 3"/>
              <p:cNvSpPr/>
              <p:nvPr/>
            </p:nvSpPr>
            <p:spPr>
              <a:xfrm rot="20239200">
                <a:off x="5357520" y="792000"/>
                <a:ext cx="2237040" cy="3808080"/>
              </a:xfrm>
              <a:custGeom>
                <a:avLst/>
                <a:gdLst/>
                <a:ahLst/>
                <a:rect l="l" t="t" r="r" b="b"/>
                <a:pathLst>
                  <a:path w="2237358" h="3807876">
                    <a:moveTo>
                      <a:pt x="598302" y="2189266"/>
                    </a:moveTo>
                    <a:lnTo>
                      <a:pt x="1139288" y="2439545"/>
                    </a:lnTo>
                    <a:cubicBezTo>
                      <a:pt x="1142414" y="1657349"/>
                      <a:pt x="1364975" y="456487"/>
                      <a:pt x="0" y="0"/>
                    </a:cubicBezTo>
                    <a:lnTo>
                      <a:pt x="728337" y="297791"/>
                    </a:lnTo>
                    <a:cubicBezTo>
                      <a:pt x="1849250" y="857659"/>
                      <a:pt x="1843062" y="1713226"/>
                      <a:pt x="1843112" y="2487821"/>
                    </a:cubicBezTo>
                    <a:lnTo>
                      <a:pt x="2237358" y="2275211"/>
                    </a:lnTo>
                    <a:lnTo>
                      <a:pt x="1459944" y="3807876"/>
                    </a:lnTo>
                    <a:lnTo>
                      <a:pt x="598302" y="21892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6762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TextBox 19"/>
            <p:cNvSpPr/>
            <p:nvPr/>
          </p:nvSpPr>
          <p:spPr>
            <a:xfrm flipH="1">
              <a:off x="3540600" y="1563480"/>
              <a:ext cx="11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7.3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20"/>
            <p:cNvSpPr/>
            <p:nvPr/>
          </p:nvSpPr>
          <p:spPr>
            <a:xfrm flipH="1">
              <a:off x="8082360" y="3939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a907"/>
                  </a:solidFill>
                  <a:latin typeface="微软雅黑"/>
                  <a:ea typeface="微软雅黑"/>
                </a:rPr>
                <a:t>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24"/>
            <p:cNvSpPr/>
            <p:nvPr/>
          </p:nvSpPr>
          <p:spPr>
            <a:xfrm flipH="1">
              <a:off x="6549480" y="3147840"/>
              <a:ext cx="106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21"/>
          <p:cNvSpPr/>
          <p:nvPr/>
        </p:nvSpPr>
        <p:spPr>
          <a:xfrm>
            <a:off x="3780000" y="4111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组合 87"/>
          <p:cNvGrpSpPr/>
          <p:nvPr/>
        </p:nvGrpSpPr>
        <p:grpSpPr>
          <a:xfrm>
            <a:off x="108000" y="1004760"/>
            <a:ext cx="8937720" cy="3295800"/>
            <a:chOff x="108000" y="1004760"/>
            <a:chExt cx="8937720" cy="3295800"/>
          </a:xfrm>
        </p:grpSpPr>
        <p:sp>
          <p:nvSpPr>
            <p:cNvPr id="468" name="直接连接符 86"/>
            <p:cNvSpPr/>
            <p:nvPr/>
          </p:nvSpPr>
          <p:spPr>
            <a:xfrm>
              <a:off x="6301080" y="4084920"/>
              <a:ext cx="676080" cy="0"/>
            </a:xfrm>
            <a:prstGeom prst="line">
              <a:avLst/>
            </a:prstGeom>
            <a:ln w="25560">
              <a:solidFill>
                <a:srgbClr val="13a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5"/>
            <p:cNvSpPr/>
            <p:nvPr/>
          </p:nvSpPr>
          <p:spPr>
            <a:xfrm>
              <a:off x="3708360" y="4084920"/>
              <a:ext cx="676080" cy="0"/>
            </a:xfrm>
            <a:prstGeom prst="line">
              <a:avLst/>
            </a:prstGeom>
            <a:ln w="25560">
              <a:solidFill>
                <a:srgbClr val="13a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4"/>
            <p:cNvSpPr/>
            <p:nvPr/>
          </p:nvSpPr>
          <p:spPr>
            <a:xfrm>
              <a:off x="4284720" y="3724560"/>
              <a:ext cx="676080" cy="0"/>
            </a:xfrm>
            <a:prstGeom prst="line">
              <a:avLst/>
            </a:prstGeom>
            <a:ln w="25560">
              <a:solidFill>
                <a:srgbClr val="13a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3"/>
            <p:cNvSpPr/>
            <p:nvPr/>
          </p:nvSpPr>
          <p:spPr>
            <a:xfrm>
              <a:off x="3780000" y="3292560"/>
              <a:ext cx="677880" cy="0"/>
            </a:xfrm>
            <a:prstGeom prst="line">
              <a:avLst/>
            </a:prstGeom>
            <a:ln w="25560">
              <a:solidFill>
                <a:srgbClr val="13a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33"/>
            <p:cNvGrpSpPr/>
            <p:nvPr/>
          </p:nvGrpSpPr>
          <p:grpSpPr>
            <a:xfrm>
              <a:off x="1331640" y="2859840"/>
              <a:ext cx="485640" cy="1224360"/>
              <a:chOff x="1331640" y="2859840"/>
              <a:chExt cx="485640" cy="1224360"/>
            </a:xfrm>
          </p:grpSpPr>
          <p:sp>
            <p:nvSpPr>
              <p:cNvPr id="473" name="任意多边形 79"/>
              <p:cNvSpPr/>
              <p:nvPr/>
            </p:nvSpPr>
            <p:spPr>
              <a:xfrm rot="16200000">
                <a:off x="1055160" y="3322080"/>
                <a:ext cx="1224360" cy="299880"/>
              </a:xfrm>
              <a:custGeom>
                <a:avLst/>
                <a:gdLst/>
                <a:ahLst/>
                <a:rect l="l" t="t" r="r" b="b"/>
                <a:pathLst>
                  <a:path w="1590805" h="300624">
                    <a:moveTo>
                      <a:pt x="0" y="275572"/>
                    </a:moveTo>
                    <a:lnTo>
                      <a:pt x="0" y="0"/>
                    </a:lnTo>
                    <a:lnTo>
                      <a:pt x="1590805" y="0"/>
                    </a:lnTo>
                    <a:lnTo>
                      <a:pt x="1590805" y="300624"/>
                    </a:lnTo>
                  </a:path>
                </a:pathLst>
              </a:custGeom>
              <a:noFill/>
              <a:ln w="25560">
                <a:solidFill>
                  <a:srgbClr val="13a9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直接连接符 80"/>
              <p:cNvSpPr/>
              <p:nvPr/>
            </p:nvSpPr>
            <p:spPr>
              <a:xfrm flipH="1">
                <a:off x="1331640" y="3531600"/>
                <a:ext cx="185760" cy="0"/>
              </a:xfrm>
              <a:prstGeom prst="line">
                <a:avLst/>
              </a:prstGeom>
              <a:ln w="25560">
                <a:solidFill>
                  <a:srgbClr val="13a9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直接连接符 68"/>
            <p:cNvSpPr/>
            <p:nvPr/>
          </p:nvSpPr>
          <p:spPr>
            <a:xfrm flipH="1">
              <a:off x="6354720" y="1634760"/>
              <a:ext cx="880920" cy="0"/>
            </a:xfrm>
            <a:prstGeom prst="line">
              <a:avLst/>
            </a:prstGeom>
            <a:ln w="25560">
              <a:solidFill>
                <a:srgbClr val="13a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组合 33"/>
            <p:cNvGrpSpPr/>
            <p:nvPr/>
          </p:nvGrpSpPr>
          <p:grpSpPr>
            <a:xfrm>
              <a:off x="3806280" y="1914840"/>
              <a:ext cx="333720" cy="512280"/>
              <a:chOff x="3806280" y="1914840"/>
              <a:chExt cx="333720" cy="512280"/>
            </a:xfrm>
          </p:grpSpPr>
          <p:sp>
            <p:nvSpPr>
              <p:cNvPr id="477" name="任意多边形 64"/>
              <p:cNvSpPr/>
              <p:nvPr/>
            </p:nvSpPr>
            <p:spPr>
              <a:xfrm rot="16200000">
                <a:off x="3780720" y="2067840"/>
                <a:ext cx="512280" cy="206280"/>
              </a:xfrm>
              <a:custGeom>
                <a:avLst/>
                <a:gdLst/>
                <a:ahLst/>
                <a:rect l="l" t="t" r="r" b="b"/>
                <a:pathLst>
                  <a:path w="1590805" h="300624">
                    <a:moveTo>
                      <a:pt x="0" y="275572"/>
                    </a:moveTo>
                    <a:lnTo>
                      <a:pt x="0" y="0"/>
                    </a:lnTo>
                    <a:lnTo>
                      <a:pt x="1590805" y="0"/>
                    </a:lnTo>
                    <a:lnTo>
                      <a:pt x="1590805" y="300624"/>
                    </a:lnTo>
                  </a:path>
                </a:pathLst>
              </a:custGeom>
              <a:noFill/>
              <a:ln w="25560">
                <a:solidFill>
                  <a:srgbClr val="13a9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直接连接符 65"/>
              <p:cNvSpPr/>
              <p:nvPr/>
            </p:nvSpPr>
            <p:spPr>
              <a:xfrm flipH="1">
                <a:off x="3806280" y="2190240"/>
                <a:ext cx="127080" cy="0"/>
              </a:xfrm>
              <a:prstGeom prst="line">
                <a:avLst/>
              </a:prstGeom>
              <a:ln w="25560">
                <a:solidFill>
                  <a:srgbClr val="13a9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组合 33"/>
            <p:cNvGrpSpPr/>
            <p:nvPr/>
          </p:nvGrpSpPr>
          <p:grpSpPr>
            <a:xfrm>
              <a:off x="3779640" y="1194480"/>
              <a:ext cx="333720" cy="512280"/>
              <a:chOff x="3779640" y="1194480"/>
              <a:chExt cx="333720" cy="512280"/>
            </a:xfrm>
          </p:grpSpPr>
          <p:sp>
            <p:nvSpPr>
              <p:cNvPr id="480" name="任意多边形 61"/>
              <p:cNvSpPr/>
              <p:nvPr/>
            </p:nvSpPr>
            <p:spPr>
              <a:xfrm rot="16200000">
                <a:off x="3754080" y="1347480"/>
                <a:ext cx="512280" cy="206280"/>
              </a:xfrm>
              <a:custGeom>
                <a:avLst/>
                <a:gdLst/>
                <a:ahLst/>
                <a:rect l="l" t="t" r="r" b="b"/>
                <a:pathLst>
                  <a:path w="1590805" h="300624">
                    <a:moveTo>
                      <a:pt x="0" y="275572"/>
                    </a:moveTo>
                    <a:lnTo>
                      <a:pt x="0" y="0"/>
                    </a:lnTo>
                    <a:lnTo>
                      <a:pt x="1590805" y="0"/>
                    </a:lnTo>
                    <a:lnTo>
                      <a:pt x="1590805" y="300624"/>
                    </a:lnTo>
                  </a:path>
                </a:pathLst>
              </a:custGeom>
              <a:noFill/>
              <a:ln w="25560">
                <a:solidFill>
                  <a:srgbClr val="13a9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直接连接符 62"/>
              <p:cNvSpPr/>
              <p:nvPr/>
            </p:nvSpPr>
            <p:spPr>
              <a:xfrm flipH="1">
                <a:off x="3779640" y="1483200"/>
                <a:ext cx="127080" cy="0"/>
              </a:xfrm>
              <a:prstGeom prst="line">
                <a:avLst/>
              </a:prstGeom>
              <a:ln w="25560">
                <a:solidFill>
                  <a:srgbClr val="13a9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组合 33"/>
            <p:cNvGrpSpPr/>
            <p:nvPr/>
          </p:nvGrpSpPr>
          <p:grpSpPr>
            <a:xfrm>
              <a:off x="1349640" y="1483200"/>
              <a:ext cx="341640" cy="656640"/>
              <a:chOff x="1349640" y="1483200"/>
              <a:chExt cx="341640" cy="656640"/>
            </a:xfrm>
          </p:grpSpPr>
          <p:sp>
            <p:nvSpPr>
              <p:cNvPr id="483" name="任意多边形 58"/>
              <p:cNvSpPr/>
              <p:nvPr/>
            </p:nvSpPr>
            <p:spPr>
              <a:xfrm rot="16200000">
                <a:off x="1256760" y="1705320"/>
                <a:ext cx="656640" cy="212040"/>
              </a:xfrm>
              <a:custGeom>
                <a:avLst/>
                <a:gdLst/>
                <a:ahLst/>
                <a:rect l="l" t="t" r="r" b="b"/>
                <a:pathLst>
                  <a:path w="1590805" h="300624">
                    <a:moveTo>
                      <a:pt x="0" y="275572"/>
                    </a:moveTo>
                    <a:lnTo>
                      <a:pt x="0" y="0"/>
                    </a:lnTo>
                    <a:lnTo>
                      <a:pt x="1590805" y="0"/>
                    </a:lnTo>
                    <a:lnTo>
                      <a:pt x="1590805" y="300624"/>
                    </a:lnTo>
                  </a:path>
                </a:pathLst>
              </a:custGeom>
              <a:noFill/>
              <a:ln w="25560">
                <a:solidFill>
                  <a:srgbClr val="13a9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直接连接符 59"/>
              <p:cNvSpPr/>
              <p:nvPr/>
            </p:nvSpPr>
            <p:spPr>
              <a:xfrm flipH="1">
                <a:off x="1349640" y="1837080"/>
                <a:ext cx="129600" cy="0"/>
              </a:xfrm>
              <a:prstGeom prst="line">
                <a:avLst/>
              </a:prstGeom>
              <a:ln w="25560">
                <a:solidFill>
                  <a:srgbClr val="13a9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Rectangle 4"/>
            <p:cNvSpPr/>
            <p:nvPr/>
          </p:nvSpPr>
          <p:spPr>
            <a:xfrm>
              <a:off x="108000" y="1763640"/>
              <a:ext cx="496800" cy="1513080"/>
            </a:xfrm>
            <a:prstGeom prst="rect">
              <a:avLst/>
            </a:pr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烧嘴故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"/>
            <p:cNvSpPr/>
            <p:nvPr/>
          </p:nvSpPr>
          <p:spPr>
            <a:xfrm>
              <a:off x="1619280" y="2787480"/>
              <a:ext cx="1928880" cy="288720"/>
            </a:xfrm>
            <a:prstGeom prst="rect">
              <a:avLst/>
            </a:pr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火电极无电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4643640" y="3508560"/>
              <a:ext cx="1992240" cy="34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阀门生锈卡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4211640" y="3148200"/>
              <a:ext cx="2300400" cy="3045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火焰检测电极污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1"/>
            <p:cNvSpPr/>
            <p:nvPr/>
          </p:nvSpPr>
          <p:spPr>
            <a:xfrm>
              <a:off x="1619280" y="3148200"/>
              <a:ext cx="2448000" cy="360360"/>
            </a:xfrm>
            <a:prstGeom prst="rect">
              <a:avLst/>
            </a:pr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检测电极无接收信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1619280" y="3579840"/>
              <a:ext cx="2921040" cy="288720"/>
            </a:xfrm>
            <a:prstGeom prst="rect">
              <a:avLst/>
            </a:pr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烧嘴煤气电磁阀打不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1619280" y="3940200"/>
              <a:ext cx="2346120" cy="360360"/>
            </a:xfrm>
            <a:prstGeom prst="rect">
              <a:avLst/>
            </a:pr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产操作流程不规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4278240" y="3940200"/>
              <a:ext cx="2165400" cy="360360"/>
            </a:xfrm>
            <a:prstGeom prst="rect">
              <a:avLst/>
            </a:prstGeom>
            <a:solidFill>
              <a:srgbClr val="8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操作漏项频繁失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"/>
            <p:cNvSpPr/>
            <p:nvPr/>
          </p:nvSpPr>
          <p:spPr>
            <a:xfrm>
              <a:off x="6659640" y="3943440"/>
              <a:ext cx="2386080" cy="3571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产人员技能水平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6"/>
            <p:cNvSpPr/>
            <p:nvPr/>
          </p:nvSpPr>
          <p:spPr>
            <a:xfrm>
              <a:off x="1582560" y="2843280"/>
              <a:ext cx="0" cy="1405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7"/>
            <p:cNvSpPr/>
            <p:nvPr/>
          </p:nvSpPr>
          <p:spPr>
            <a:xfrm>
              <a:off x="1582560" y="4248360"/>
              <a:ext cx="1425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8"/>
            <p:cNvSpPr/>
            <p:nvPr/>
          </p:nvSpPr>
          <p:spPr>
            <a:xfrm>
              <a:off x="1582560" y="3816360"/>
              <a:ext cx="142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9"/>
            <p:cNvSpPr/>
            <p:nvPr/>
          </p:nvSpPr>
          <p:spPr>
            <a:xfrm>
              <a:off x="1582560" y="3438720"/>
              <a:ext cx="142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0"/>
            <p:cNvSpPr/>
            <p:nvPr/>
          </p:nvSpPr>
          <p:spPr>
            <a:xfrm>
              <a:off x="1582560" y="2843280"/>
              <a:ext cx="212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3575160" y="2843280"/>
              <a:ext cx="357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2"/>
            <p:cNvSpPr/>
            <p:nvPr/>
          </p:nvSpPr>
          <p:spPr>
            <a:xfrm>
              <a:off x="3861000" y="3438720"/>
              <a:ext cx="284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3"/>
            <p:cNvSpPr/>
            <p:nvPr/>
          </p:nvSpPr>
          <p:spPr>
            <a:xfrm>
              <a:off x="4287960" y="3870360"/>
              <a:ext cx="353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4"/>
            <p:cNvSpPr/>
            <p:nvPr/>
          </p:nvSpPr>
          <p:spPr>
            <a:xfrm>
              <a:off x="4073760" y="4248360"/>
              <a:ext cx="355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5"/>
            <p:cNvSpPr/>
            <p:nvPr/>
          </p:nvSpPr>
          <p:spPr>
            <a:xfrm>
              <a:off x="6596280" y="4194360"/>
              <a:ext cx="284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755640" y="1709640"/>
              <a:ext cx="142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7"/>
            <p:cNvSpPr/>
            <p:nvPr/>
          </p:nvSpPr>
          <p:spPr>
            <a:xfrm flipH="1">
              <a:off x="752400" y="3384720"/>
              <a:ext cx="142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8"/>
            <p:cNvSpPr/>
            <p:nvPr/>
          </p:nvSpPr>
          <p:spPr>
            <a:xfrm>
              <a:off x="755640" y="1709640"/>
              <a:ext cx="0" cy="1674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9"/>
            <p:cNvSpPr/>
            <p:nvPr/>
          </p:nvSpPr>
          <p:spPr>
            <a:xfrm>
              <a:off x="612720" y="2519280"/>
              <a:ext cx="1425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0"/>
            <p:cNvSpPr/>
            <p:nvPr/>
          </p:nvSpPr>
          <p:spPr>
            <a:xfrm>
              <a:off x="1547640" y="1330200"/>
              <a:ext cx="2282760" cy="377640"/>
            </a:xfrm>
            <a:prstGeom prst="rect">
              <a:avLst/>
            </a:pr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火焰探测器无法点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1"/>
            <p:cNvSpPr/>
            <p:nvPr/>
          </p:nvSpPr>
          <p:spPr>
            <a:xfrm>
              <a:off x="3995640" y="1455480"/>
              <a:ext cx="2544840" cy="323640"/>
            </a:xfrm>
            <a:prstGeom prst="rect">
              <a:avLst/>
            </a:prstGeom>
            <a:solidFill>
              <a:srgbClr val="8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测器安装位置不合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2"/>
            <p:cNvSpPr/>
            <p:nvPr/>
          </p:nvSpPr>
          <p:spPr>
            <a:xfrm>
              <a:off x="6659640" y="1419120"/>
              <a:ext cx="2287440" cy="360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备人员技能水平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3"/>
            <p:cNvSpPr/>
            <p:nvPr/>
          </p:nvSpPr>
          <p:spPr>
            <a:xfrm>
              <a:off x="3995640" y="1041120"/>
              <a:ext cx="2471760" cy="306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测器放大信号不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4"/>
            <p:cNvSpPr/>
            <p:nvPr/>
          </p:nvSpPr>
          <p:spPr>
            <a:xfrm>
              <a:off x="3973680" y="1006200"/>
              <a:ext cx="0" cy="5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35"/>
            <p:cNvSpPr/>
            <p:nvPr/>
          </p:nvSpPr>
          <p:spPr>
            <a:xfrm>
              <a:off x="3830760" y="1274400"/>
              <a:ext cx="1425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6"/>
            <p:cNvSpPr/>
            <p:nvPr/>
          </p:nvSpPr>
          <p:spPr>
            <a:xfrm>
              <a:off x="3973680" y="1545840"/>
              <a:ext cx="1425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39"/>
            <p:cNvSpPr/>
            <p:nvPr/>
          </p:nvSpPr>
          <p:spPr>
            <a:xfrm>
              <a:off x="3995640" y="1869840"/>
              <a:ext cx="2251080" cy="269640"/>
            </a:xfrm>
            <a:prstGeom prst="rect">
              <a:avLst/>
            </a:prstGeom>
            <a:solidFill>
              <a:srgbClr val="8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控制箱继电器无动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0"/>
            <p:cNvSpPr/>
            <p:nvPr/>
          </p:nvSpPr>
          <p:spPr>
            <a:xfrm>
              <a:off x="3995640" y="2211120"/>
              <a:ext cx="2278080" cy="2696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温控仪表信号不稳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1"/>
            <p:cNvSpPr/>
            <p:nvPr/>
          </p:nvSpPr>
          <p:spPr>
            <a:xfrm>
              <a:off x="1547640" y="1995480"/>
              <a:ext cx="2300400" cy="342720"/>
            </a:xfrm>
            <a:prstGeom prst="rect">
              <a:avLst/>
            </a:pr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烧嘴控制器无信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42"/>
            <p:cNvSpPr/>
            <p:nvPr/>
          </p:nvSpPr>
          <p:spPr>
            <a:xfrm>
              <a:off x="6463080" y="2031840"/>
              <a:ext cx="2142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43"/>
            <p:cNvSpPr/>
            <p:nvPr/>
          </p:nvSpPr>
          <p:spPr>
            <a:xfrm>
              <a:off x="3759120" y="2193840"/>
              <a:ext cx="284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44"/>
            <p:cNvSpPr/>
            <p:nvPr/>
          </p:nvSpPr>
          <p:spPr>
            <a:xfrm>
              <a:off x="4043520" y="1923840"/>
              <a:ext cx="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45"/>
            <p:cNvSpPr/>
            <p:nvPr/>
          </p:nvSpPr>
          <p:spPr>
            <a:xfrm>
              <a:off x="4043520" y="1977840"/>
              <a:ext cx="1440" cy="48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46"/>
            <p:cNvSpPr/>
            <p:nvPr/>
          </p:nvSpPr>
          <p:spPr>
            <a:xfrm>
              <a:off x="4043520" y="1977840"/>
              <a:ext cx="357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47"/>
            <p:cNvSpPr/>
            <p:nvPr/>
          </p:nvSpPr>
          <p:spPr>
            <a:xfrm>
              <a:off x="4043520" y="2463840"/>
              <a:ext cx="3571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48"/>
            <p:cNvSpPr/>
            <p:nvPr/>
          </p:nvSpPr>
          <p:spPr>
            <a:xfrm>
              <a:off x="1555560" y="1274400"/>
              <a:ext cx="2124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49"/>
            <p:cNvSpPr/>
            <p:nvPr/>
          </p:nvSpPr>
          <p:spPr>
            <a:xfrm>
              <a:off x="1555560" y="1274400"/>
              <a:ext cx="0" cy="9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0"/>
            <p:cNvSpPr/>
            <p:nvPr/>
          </p:nvSpPr>
          <p:spPr>
            <a:xfrm>
              <a:off x="1555560" y="2193840"/>
              <a:ext cx="2124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1"/>
            <p:cNvSpPr/>
            <p:nvPr/>
          </p:nvSpPr>
          <p:spPr>
            <a:xfrm>
              <a:off x="6392880" y="1545840"/>
              <a:ext cx="212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52"/>
            <p:cNvSpPr/>
            <p:nvPr/>
          </p:nvSpPr>
          <p:spPr>
            <a:xfrm>
              <a:off x="3973680" y="1004760"/>
              <a:ext cx="1425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3"/>
            <p:cNvSpPr/>
            <p:nvPr/>
          </p:nvSpPr>
          <p:spPr>
            <a:xfrm flipH="1">
              <a:off x="1410840" y="3436920"/>
              <a:ext cx="1443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54"/>
            <p:cNvSpPr/>
            <p:nvPr/>
          </p:nvSpPr>
          <p:spPr>
            <a:xfrm>
              <a:off x="1411200" y="1709640"/>
              <a:ext cx="144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组合 33"/>
            <p:cNvGrpSpPr/>
            <p:nvPr/>
          </p:nvGrpSpPr>
          <p:grpSpPr>
            <a:xfrm>
              <a:off x="557640" y="1701000"/>
              <a:ext cx="485640" cy="1591200"/>
              <a:chOff x="557640" y="1701000"/>
              <a:chExt cx="485640" cy="1591200"/>
            </a:xfrm>
          </p:grpSpPr>
          <p:sp>
            <p:nvSpPr>
              <p:cNvPr id="532" name="任意多边形 55"/>
              <p:cNvSpPr/>
              <p:nvPr/>
            </p:nvSpPr>
            <p:spPr>
              <a:xfrm rot="16200000">
                <a:off x="97560" y="2346480"/>
                <a:ext cx="1591200" cy="299880"/>
              </a:xfrm>
              <a:custGeom>
                <a:avLst/>
                <a:gdLst/>
                <a:ahLst/>
                <a:rect l="l" t="t" r="r" b="b"/>
                <a:pathLst>
                  <a:path w="1590805" h="300624">
                    <a:moveTo>
                      <a:pt x="0" y="275572"/>
                    </a:moveTo>
                    <a:lnTo>
                      <a:pt x="0" y="0"/>
                    </a:lnTo>
                    <a:lnTo>
                      <a:pt x="1590805" y="0"/>
                    </a:lnTo>
                    <a:lnTo>
                      <a:pt x="1590805" y="300624"/>
                    </a:lnTo>
                  </a:path>
                </a:pathLst>
              </a:custGeom>
              <a:noFill/>
              <a:ln w="25560">
                <a:solidFill>
                  <a:srgbClr val="13a9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直接连接符 56"/>
              <p:cNvSpPr/>
              <p:nvPr/>
            </p:nvSpPr>
            <p:spPr>
              <a:xfrm flipH="1">
                <a:off x="557640" y="2557080"/>
                <a:ext cx="185760" cy="0"/>
              </a:xfrm>
              <a:prstGeom prst="line">
                <a:avLst/>
              </a:prstGeom>
              <a:ln w="25560">
                <a:solidFill>
                  <a:srgbClr val="13a9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直接连接符 69"/>
            <p:cNvSpPr/>
            <p:nvPr/>
          </p:nvSpPr>
          <p:spPr>
            <a:xfrm>
              <a:off x="6228000" y="1995480"/>
              <a:ext cx="647640" cy="0"/>
            </a:xfrm>
            <a:prstGeom prst="line">
              <a:avLst/>
            </a:prstGeom>
            <a:ln w="25560">
              <a:solidFill>
                <a:srgbClr val="13a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81"/>
            <p:cNvSpPr/>
            <p:nvPr/>
          </p:nvSpPr>
          <p:spPr>
            <a:xfrm>
              <a:off x="3492720" y="2932200"/>
              <a:ext cx="934920" cy="0"/>
            </a:xfrm>
            <a:prstGeom prst="line">
              <a:avLst/>
            </a:prstGeom>
            <a:ln w="25560">
              <a:solidFill>
                <a:srgbClr val="13a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>
              <a:off x="898560" y="1131480"/>
              <a:ext cx="504720" cy="1440000"/>
            </a:xfrm>
            <a:prstGeom prst="rect">
              <a:avLst/>
            </a:prstGeom>
            <a:solidFill>
              <a:srgbClr val="8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烧嘴故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6"/>
            <p:cNvSpPr/>
            <p:nvPr/>
          </p:nvSpPr>
          <p:spPr>
            <a:xfrm>
              <a:off x="898560" y="2787480"/>
              <a:ext cx="504720" cy="1441440"/>
            </a:xfrm>
            <a:prstGeom prst="rect">
              <a:avLst/>
            </a:prstGeom>
            <a:solidFill>
              <a:srgbClr val="8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烧嘴故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38"/>
            <p:cNvSpPr/>
            <p:nvPr/>
          </p:nvSpPr>
          <p:spPr>
            <a:xfrm>
              <a:off x="6444000" y="1869840"/>
              <a:ext cx="2469960" cy="341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继电器触点接触不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4240440" y="2787480"/>
              <a:ext cx="2203560" cy="288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火极位置不合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Box 77"/>
          <p:cNvSpPr/>
          <p:nvPr/>
        </p:nvSpPr>
        <p:spPr>
          <a:xfrm>
            <a:off x="3780000" y="4111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6"/>
          <p:cNvGrpSpPr/>
          <p:nvPr/>
        </p:nvGrpSpPr>
        <p:grpSpPr>
          <a:xfrm>
            <a:off x="546120" y="1325520"/>
            <a:ext cx="8202600" cy="2975040"/>
            <a:chOff x="546120" y="1325520"/>
            <a:chExt cx="8202600" cy="2975040"/>
          </a:xfrm>
        </p:grpSpPr>
        <p:grpSp>
          <p:nvGrpSpPr>
            <p:cNvPr id="542" name="组合 4"/>
            <p:cNvGrpSpPr/>
            <p:nvPr/>
          </p:nvGrpSpPr>
          <p:grpSpPr>
            <a:xfrm>
              <a:off x="546120" y="1325520"/>
              <a:ext cx="8202600" cy="2975040"/>
              <a:chOff x="546120" y="1325520"/>
              <a:chExt cx="8202600" cy="2975040"/>
            </a:xfrm>
          </p:grpSpPr>
          <p:sp>
            <p:nvSpPr>
              <p:cNvPr id="543" name="矩形 3"/>
              <p:cNvSpPr/>
              <p:nvPr/>
            </p:nvSpPr>
            <p:spPr>
              <a:xfrm>
                <a:off x="546120" y="1325520"/>
                <a:ext cx="8202600" cy="297504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525680"/>
                <a:ext cx="4309200" cy="23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矩形 39"/>
              <p:cNvSpPr/>
              <p:nvPr/>
            </p:nvSpPr>
            <p:spPr>
              <a:xfrm>
                <a:off x="5220360" y="1470960"/>
                <a:ext cx="3528360" cy="268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末端因素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：探测器放大板信号不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方法：探测器专业检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准要求：保证输出信号的</a:t>
                </a:r>
                <a:r>
                  <a:rPr b="0" lang="zh-CN" sz="14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稳定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信号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放大判别。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内容：委托上海示成电气公司检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火焰距离与安装角度恒定时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信号， 输出电流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                 </a:t>
                </a:r>
                <a:r>
                  <a:rPr b="0" lang="zh-CN" sz="14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4-20MA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监测。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分析 ： 检测信号有偏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人  ：  纪雪华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日期：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.3.5-3.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结论： 要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组合 2"/>
            <p:cNvGrpSpPr/>
            <p:nvPr/>
          </p:nvGrpSpPr>
          <p:grpSpPr>
            <a:xfrm>
              <a:off x="1979640" y="3940560"/>
              <a:ext cx="2016360" cy="288000"/>
              <a:chOff x="1979640" y="3940560"/>
              <a:chExt cx="2016360" cy="288000"/>
            </a:xfrm>
          </p:grpSpPr>
          <p:sp>
            <p:nvSpPr>
              <p:cNvPr id="547" name="矩形 16"/>
              <p:cNvSpPr/>
              <p:nvPr/>
            </p:nvSpPr>
            <p:spPr>
              <a:xfrm>
                <a:off x="1979640" y="3940560"/>
                <a:ext cx="1944720" cy="2880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矩形 17"/>
              <p:cNvSpPr/>
              <p:nvPr/>
            </p:nvSpPr>
            <p:spPr>
              <a:xfrm>
                <a:off x="2051640" y="3951720"/>
                <a:ext cx="194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信号放大判别电量监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矩形 21"/>
          <p:cNvSpPr/>
          <p:nvPr/>
        </p:nvSpPr>
        <p:spPr>
          <a:xfrm>
            <a:off x="1368360" y="4371840"/>
            <a:ext cx="4572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月</a:t>
            </a:r>
            <a:r>
              <a:rPr b="0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日上海示成电气现场监测脉冲信号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波动较大，电流值变化差异，信号不稳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0"/>
          <p:cNvSpPr/>
          <p:nvPr/>
        </p:nvSpPr>
        <p:spPr>
          <a:xfrm>
            <a:off x="3780000" y="4111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因确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44"/>
          <p:cNvSpPr/>
          <p:nvPr/>
        </p:nvSpPr>
        <p:spPr>
          <a:xfrm>
            <a:off x="611280" y="1763640"/>
            <a:ext cx="504036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方法 ：等级职称调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要求：机械，电气设备维护人员必须经过岗位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、应会考试，取得等级证书方可上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内容：针对每位设备人员等级工进行考核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场故障处理能力进行评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结果：设备人员技能均符合岗位要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人：王平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日期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结论：非要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7"/>
          <p:cNvGrpSpPr/>
          <p:nvPr/>
        </p:nvGrpSpPr>
        <p:grpSpPr>
          <a:xfrm>
            <a:off x="2050920" y="1311120"/>
            <a:ext cx="2639520" cy="385920"/>
            <a:chOff x="2050920" y="1311120"/>
            <a:chExt cx="2639520" cy="385920"/>
          </a:xfrm>
        </p:grpSpPr>
        <p:sp>
          <p:nvSpPr>
            <p:cNvPr id="553" name="矩形 6"/>
            <p:cNvSpPr/>
            <p:nvPr/>
          </p:nvSpPr>
          <p:spPr>
            <a:xfrm>
              <a:off x="2050920" y="1323720"/>
              <a:ext cx="2230560" cy="363960"/>
            </a:xfrm>
            <a:prstGeom prst="rect">
              <a:avLst/>
            </a:prstGeom>
            <a:solidFill>
              <a:srgbClr val="5577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45"/>
            <p:cNvSpPr/>
            <p:nvPr/>
          </p:nvSpPr>
          <p:spPr>
            <a:xfrm>
              <a:off x="2589480" y="1311120"/>
              <a:ext cx="2100960" cy="3859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85760"/>
                  <a:tab algn="l" pos="371520"/>
                  <a:tab algn="l" pos="557280"/>
                  <a:tab algn="l" pos="743040"/>
                  <a:tab algn="l" pos="928800"/>
                  <a:tab algn="l" pos="1114560"/>
                  <a:tab algn="l" pos="1300320"/>
                  <a:tab algn="l" pos="1486080"/>
                  <a:tab algn="l" pos="1671480"/>
                  <a:tab algn="l" pos="1857240"/>
                  <a:tab algn="l" pos="2043000"/>
                  <a:tab algn="l" pos="2228760"/>
                  <a:tab algn="l" pos="2414520"/>
                  <a:tab algn="l" pos="2600280"/>
                  <a:tab algn="l" pos="2786040"/>
                  <a:tab algn="l" pos="2971800"/>
                  <a:tab algn="l" pos="3157560"/>
                  <a:tab algn="l" pos="3343320"/>
                  <a:tab algn="l" pos="3529080"/>
                  <a:tab algn="l" pos="371484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末端因素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设备人员技能水平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2"/>
          <p:cNvGrpSpPr/>
          <p:nvPr/>
        </p:nvGrpSpPr>
        <p:grpSpPr>
          <a:xfrm>
            <a:off x="5560920" y="1189080"/>
            <a:ext cx="2813040" cy="2728800"/>
            <a:chOff x="5560920" y="1189080"/>
            <a:chExt cx="2813040" cy="2728800"/>
          </a:xfrm>
        </p:grpSpPr>
        <p:sp>
          <p:nvSpPr>
            <p:cNvPr id="556" name="矩形标注 1"/>
            <p:cNvSpPr/>
            <p:nvPr/>
          </p:nvSpPr>
          <p:spPr>
            <a:xfrm>
              <a:off x="5560920" y="1189080"/>
              <a:ext cx="2813040" cy="2728800"/>
            </a:xfrm>
            <a:prstGeom prst="wedgeRectCallout">
              <a:avLst>
                <a:gd name="adj1" fmla="val -63888"/>
                <a:gd name="adj2" fmla="val -40337"/>
              </a:avLst>
            </a:prstGeom>
            <a:solidFill>
              <a:srgbClr val="008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4"/>
            <p:cNvSpPr/>
            <p:nvPr/>
          </p:nvSpPr>
          <p:spPr>
            <a:xfrm>
              <a:off x="5740200" y="1433520"/>
              <a:ext cx="2441520" cy="1882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8"/>
            <p:cNvSpPr/>
            <p:nvPr/>
          </p:nvSpPr>
          <p:spPr>
            <a:xfrm>
              <a:off x="6578280" y="3430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等级证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Box 9"/>
          <p:cNvSpPr/>
          <p:nvPr/>
        </p:nvSpPr>
        <p:spPr>
          <a:xfrm>
            <a:off x="3780000" y="4111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因确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组合 6"/>
          <p:cNvGrpSpPr/>
          <p:nvPr/>
        </p:nvGrpSpPr>
        <p:grpSpPr>
          <a:xfrm>
            <a:off x="546120" y="1131840"/>
            <a:ext cx="8202600" cy="3311640"/>
            <a:chOff x="546120" y="1131840"/>
            <a:chExt cx="8202600" cy="3311640"/>
          </a:xfrm>
        </p:grpSpPr>
        <p:grpSp>
          <p:nvGrpSpPr>
            <p:cNvPr id="561" name="组合 4"/>
            <p:cNvGrpSpPr/>
            <p:nvPr/>
          </p:nvGrpSpPr>
          <p:grpSpPr>
            <a:xfrm>
              <a:off x="546120" y="1131840"/>
              <a:ext cx="8202600" cy="3311640"/>
              <a:chOff x="546120" y="1131840"/>
              <a:chExt cx="8202600" cy="3311640"/>
            </a:xfrm>
          </p:grpSpPr>
          <p:sp>
            <p:nvSpPr>
              <p:cNvPr id="562" name="矩形 3"/>
              <p:cNvSpPr/>
              <p:nvPr/>
            </p:nvSpPr>
            <p:spPr>
              <a:xfrm>
                <a:off x="546120" y="1131840"/>
                <a:ext cx="8202600" cy="331164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3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9520"/>
                <a:ext cx="4309200" cy="224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矩形 39"/>
              <p:cNvSpPr/>
              <p:nvPr/>
            </p:nvSpPr>
            <p:spPr>
              <a:xfrm>
                <a:off x="5220360" y="1226160"/>
                <a:ext cx="3312360" cy="31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末端因素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：火焰检测电极污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方法： 现场调试确认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准要求： 检测电极可将火焰信号传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控制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内容： 检测电极表面污染情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结果： 现场发现受到高温及氯化氢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气体的吸附，凝结固状物过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多。火焰检测电极积炭过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无法将火焰信号放大，传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执行继电器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人：    李丹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日期：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.5.9-6.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确认结论： 要因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组合 2"/>
            <p:cNvGrpSpPr/>
            <p:nvPr/>
          </p:nvGrpSpPr>
          <p:grpSpPr>
            <a:xfrm>
              <a:off x="1979640" y="3746160"/>
              <a:ext cx="2304360" cy="360000"/>
              <a:chOff x="1979640" y="3746160"/>
              <a:chExt cx="2304360" cy="360000"/>
            </a:xfrm>
          </p:grpSpPr>
          <p:sp>
            <p:nvSpPr>
              <p:cNvPr id="566" name="矩形 16"/>
              <p:cNvSpPr/>
              <p:nvPr/>
            </p:nvSpPr>
            <p:spPr>
              <a:xfrm>
                <a:off x="1979640" y="3746160"/>
                <a:ext cx="2089080" cy="3600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矩形 17"/>
              <p:cNvSpPr/>
              <p:nvPr/>
            </p:nvSpPr>
            <p:spPr>
              <a:xfrm>
                <a:off x="1979640" y="3828600"/>
                <a:ext cx="230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长时间受酸雾影响腐蚀严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TextBox 9"/>
          <p:cNvSpPr/>
          <p:nvPr/>
        </p:nvSpPr>
        <p:spPr>
          <a:xfrm>
            <a:off x="3780000" y="4111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因确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3276720" y="1924200"/>
          <a:ext cx="5543280" cy="1871640"/>
        </p:xfrm>
        <a:graphic>
          <a:graphicData uri="http://schemas.openxmlformats.org/drawingml/2006/table">
            <a:tbl>
              <a:tblPr/>
              <a:tblGrid>
                <a:gridCol w="790200"/>
                <a:gridCol w="798480"/>
                <a:gridCol w="784440"/>
                <a:gridCol w="793440"/>
                <a:gridCol w="790560"/>
                <a:gridCol w="792360"/>
                <a:gridCol w="793800"/>
              </a:tblGrid>
              <a:tr h="565200"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故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65200"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积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程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</a:tr>
              <a:tr h="741240"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点火失败情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无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点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无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点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无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点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  <a:tc>
                  <a:txBody>
                    <a:bodyPr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无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点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bffcba"/>
                    </a:solidFill>
                  </a:tcPr>
                </a:tc>
              </a:tr>
            </a:tbl>
          </a:graphicData>
        </a:graphic>
      </p:graphicFrame>
      <p:pic>
        <p:nvPicPr>
          <p:cNvPr id="570" name="组合 4182" descr=""/>
          <p:cNvPicPr/>
          <p:nvPr/>
        </p:nvPicPr>
        <p:blipFill>
          <a:blip r:embed="rId1"/>
          <a:stretch/>
        </p:blipFill>
        <p:spPr>
          <a:xfrm>
            <a:off x="4102200" y="4230720"/>
            <a:ext cx="3676680" cy="139680"/>
          </a:xfrm>
          <a:prstGeom prst="rect">
            <a:avLst/>
          </a:prstGeom>
          <a:ln w="0">
            <a:noFill/>
          </a:ln>
        </p:spPr>
      </p:pic>
      <p:sp>
        <p:nvSpPr>
          <p:cNvPr id="571" name="矩形 106"/>
          <p:cNvSpPr/>
          <p:nvPr/>
        </p:nvSpPr>
        <p:spPr>
          <a:xfrm>
            <a:off x="324000" y="3508200"/>
            <a:ext cx="331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3a907"/>
                </a:solidFill>
                <a:latin typeface="Calibri"/>
                <a:ea typeface="微软雅黑"/>
              </a:rPr>
              <a:t>由图分析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火极积炭污垢，电子点火频数过多，导致点火极使用寿命过短。无法点燃增加了检修难度。造成生产停机，影响产品质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110"/>
          <p:cNvGrpSpPr/>
          <p:nvPr/>
        </p:nvGrpSpPr>
        <p:grpSpPr>
          <a:xfrm>
            <a:off x="468360" y="1181160"/>
            <a:ext cx="2231640" cy="2253600"/>
            <a:chOff x="468360" y="1181160"/>
            <a:chExt cx="2231640" cy="2253600"/>
          </a:xfrm>
        </p:grpSpPr>
        <p:grpSp>
          <p:nvGrpSpPr>
            <p:cNvPr id="573" name="组合 17"/>
            <p:cNvGrpSpPr/>
            <p:nvPr/>
          </p:nvGrpSpPr>
          <p:grpSpPr>
            <a:xfrm>
              <a:off x="468360" y="1181160"/>
              <a:ext cx="2231640" cy="2253600"/>
              <a:chOff x="468360" y="1181160"/>
              <a:chExt cx="2231640" cy="2253600"/>
            </a:xfrm>
          </p:grpSpPr>
          <p:grpSp>
            <p:nvGrpSpPr>
              <p:cNvPr id="574" name="Group 5"/>
              <p:cNvGrpSpPr/>
              <p:nvPr/>
            </p:nvGrpSpPr>
            <p:grpSpPr>
              <a:xfrm>
                <a:off x="468360" y="1181160"/>
                <a:ext cx="2231640" cy="2253600"/>
                <a:chOff x="468360" y="1181160"/>
                <a:chExt cx="2231640" cy="2253600"/>
              </a:xfrm>
            </p:grpSpPr>
            <p:sp>
              <p:nvSpPr>
                <p:cNvPr id="575" name="AutoShape 4"/>
                <p:cNvSpPr/>
                <p:nvPr/>
              </p:nvSpPr>
              <p:spPr>
                <a:xfrm>
                  <a:off x="480960" y="1193760"/>
                  <a:ext cx="2206440" cy="224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6"/>
                <p:cNvSpPr/>
                <p:nvPr/>
              </p:nvSpPr>
              <p:spPr>
                <a:xfrm>
                  <a:off x="468360" y="1181160"/>
                  <a:ext cx="2231640" cy="2241000"/>
                </a:xfrm>
                <a:custGeom>
                  <a:avLst/>
                  <a:gdLst/>
                  <a:ahLst/>
                  <a:rect l="l" t="t" r="r" b="b"/>
                  <a:pathLst>
                    <a:path w="176" h="177">
                      <a:moveTo>
                        <a:pt x="88" y="0"/>
                      </a:moveTo>
                      <a:cubicBezTo>
                        <a:pt x="39" y="0"/>
                        <a:pt x="0" y="40"/>
                        <a:pt x="0" y="88"/>
                      </a:cubicBezTo>
                      <a:cubicBezTo>
                        <a:pt x="0" y="137"/>
                        <a:pt x="39" y="177"/>
                        <a:pt x="88" y="177"/>
                      </a:cubicBezTo>
                      <a:cubicBezTo>
                        <a:pt x="137" y="177"/>
                        <a:pt x="176" y="137"/>
                        <a:pt x="176" y="88"/>
                      </a:cubicBezTo>
                      <a:cubicBezTo>
                        <a:pt x="176" y="0"/>
                        <a:pt x="176" y="0"/>
                        <a:pt x="176" y="0"/>
                      </a:cubicBez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矩形 16"/>
              <p:cNvSpPr/>
              <p:nvPr/>
            </p:nvSpPr>
            <p:spPr>
              <a:xfrm>
                <a:off x="789480" y="1743120"/>
                <a:ext cx="17154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8" name="图片 107" descr="7.jpg"/>
            <p:cNvPicPr/>
            <p:nvPr/>
          </p:nvPicPr>
          <p:blipFill>
            <a:blip r:embed="rId2"/>
            <a:stretch/>
          </p:blipFill>
          <p:spPr>
            <a:xfrm>
              <a:off x="792360" y="1450800"/>
              <a:ext cx="1670400" cy="162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矩形 109"/>
          <p:cNvSpPr/>
          <p:nvPr/>
        </p:nvSpPr>
        <p:spPr>
          <a:xfrm>
            <a:off x="3564000" y="1347840"/>
            <a:ext cx="49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5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障时点火极积炭程度及影响点火情况调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95"/>
          <p:cNvSpPr/>
          <p:nvPr/>
        </p:nvSpPr>
        <p:spPr>
          <a:xfrm>
            <a:off x="3780000" y="4111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因确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63640" y="1238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468360" y="1328760"/>
            <a:ext cx="1022400" cy="3999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29"/>
          <p:cNvGrpSpPr/>
          <p:nvPr/>
        </p:nvGrpSpPr>
        <p:grpSpPr>
          <a:xfrm>
            <a:off x="179280" y="754200"/>
            <a:ext cx="7056720" cy="3825720"/>
            <a:chOff x="179280" y="754200"/>
            <a:chExt cx="7056720" cy="3825720"/>
          </a:xfrm>
        </p:grpSpPr>
        <p:grpSp>
          <p:nvGrpSpPr>
            <p:cNvPr id="584" name="组合 12"/>
            <p:cNvGrpSpPr/>
            <p:nvPr/>
          </p:nvGrpSpPr>
          <p:grpSpPr>
            <a:xfrm>
              <a:off x="179280" y="754200"/>
              <a:ext cx="7056720" cy="3825720"/>
              <a:chOff x="179280" y="754200"/>
              <a:chExt cx="7056720" cy="3825720"/>
            </a:xfrm>
          </p:grpSpPr>
          <p:sp>
            <p:nvSpPr>
              <p:cNvPr id="585" name="圆角矩形 14"/>
              <p:cNvSpPr/>
              <p:nvPr/>
            </p:nvSpPr>
            <p:spPr>
              <a:xfrm flipH="1">
                <a:off x="179280" y="1325520"/>
                <a:ext cx="7056720" cy="32544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圆角矩形 15"/>
              <p:cNvSpPr/>
              <p:nvPr/>
            </p:nvSpPr>
            <p:spPr>
              <a:xfrm flipH="1">
                <a:off x="374400" y="2006640"/>
                <a:ext cx="6650640" cy="240192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16"/>
              <p:cNvSpPr/>
              <p:nvPr/>
            </p:nvSpPr>
            <p:spPr>
              <a:xfrm flipH="1">
                <a:off x="712440" y="754200"/>
                <a:ext cx="977760" cy="95400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对策实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Box 16"/>
              <p:cNvSpPr/>
              <p:nvPr/>
            </p:nvSpPr>
            <p:spPr>
              <a:xfrm flipH="1">
                <a:off x="1828440" y="1461600"/>
                <a:ext cx="388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火焰检测电极污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TextBox 24"/>
            <p:cNvSpPr/>
            <p:nvPr/>
          </p:nvSpPr>
          <p:spPr>
            <a:xfrm>
              <a:off x="516960" y="2038680"/>
              <a:ext cx="642528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：清灰到位，保证检测信号输出的稳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施内容：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每</a:t>
              </a:r>
              <a:r>
                <a:rPr b="1" lang="zh-CN" sz="18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两周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火焰检测电极积炭进行清洗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干，并且对检测极绝缘套管距离进行适当调整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定制清灰作业标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效果检验： 火焰温度信号通过监测器将信号放大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准确传入执行继电器。效果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3"/>
          <p:cNvGrpSpPr/>
          <p:nvPr/>
        </p:nvGrpSpPr>
        <p:grpSpPr>
          <a:xfrm>
            <a:off x="6184800" y="2139840"/>
            <a:ext cx="3500640" cy="1835280"/>
            <a:chOff x="6184800" y="2139840"/>
            <a:chExt cx="3500640" cy="1835280"/>
          </a:xfrm>
        </p:grpSpPr>
        <p:pic>
          <p:nvPicPr>
            <p:cNvPr id="591" name="Picture 4" descr="照片 071"/>
            <p:cNvPicPr/>
            <p:nvPr/>
          </p:nvPicPr>
          <p:blipFill>
            <a:blip r:embed="rId1"/>
            <a:stretch/>
          </p:blipFill>
          <p:spPr>
            <a:xfrm>
              <a:off x="6184800" y="2139840"/>
              <a:ext cx="3500640" cy="18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5" descr=""/>
            <p:cNvPicPr/>
            <p:nvPr/>
          </p:nvPicPr>
          <p:blipFill>
            <a:blip r:embed="rId2"/>
            <a:stretch/>
          </p:blipFill>
          <p:spPr>
            <a:xfrm>
              <a:off x="6184800" y="2679840"/>
              <a:ext cx="8730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6" descr=""/>
            <p:cNvPicPr/>
            <p:nvPr/>
          </p:nvPicPr>
          <p:blipFill>
            <a:blip r:embed="rId3"/>
            <a:stretch/>
          </p:blipFill>
          <p:spPr>
            <a:xfrm rot="1380000">
              <a:off x="6904440" y="2949480"/>
              <a:ext cx="657360" cy="25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274560" y="309240"/>
            <a:ext cx="2089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效果检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900000" y="9874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方案实施后，在</a:t>
            </a: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7</a:t>
            </a:r>
            <a:r>
              <a:rPr b="1" lang="en-US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12</a:t>
            </a: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月份我们进行故障跟踪，故障次数与活动前相比分别有了很大的改善并且</a:t>
            </a:r>
            <a:r>
              <a:rPr b="1" lang="zh-CN" sz="3200" spc="-1" strike="noStrike">
                <a:solidFill>
                  <a:srgbClr val="99cc00"/>
                </a:solidFill>
                <a:latin typeface="微软雅黑"/>
                <a:ea typeface="微软雅黑"/>
              </a:rPr>
              <a:t>达到预期目标</a:t>
            </a:r>
            <a:r>
              <a:rPr b="1" lang="zh-CN" sz="20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826920" y="2832120"/>
          <a:ext cx="2519280" cy="1960560"/>
        </p:xfrm>
        <a:graphic>
          <a:graphicData uri="http://schemas.openxmlformats.org/drawingml/2006/table">
            <a:tbl>
              <a:tblPr/>
              <a:tblGrid>
                <a:gridCol w="1050840"/>
                <a:gridCol w="1468440"/>
              </a:tblGrid>
              <a:tr h="5032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烧嘴点火故障月均次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64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活动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60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目标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564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活动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828720" y="1851120"/>
          <a:ext cx="7343640" cy="855720"/>
        </p:xfrm>
        <a:graphic>
          <a:graphicData uri="http://schemas.openxmlformats.org/drawingml/2006/table">
            <a:tbl>
              <a:tblPr/>
              <a:tblGrid>
                <a:gridCol w="1109520"/>
                <a:gridCol w="963720"/>
                <a:gridCol w="914400"/>
                <a:gridCol w="905040"/>
                <a:gridCol w="887400"/>
                <a:gridCol w="885600"/>
                <a:gridCol w="885960"/>
                <a:gridCol w="792000"/>
              </a:tblGrid>
              <a:tr h="352440"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月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平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3280"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月均故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34200" bIns="34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598" name="Picture 94" descr=""/>
          <p:cNvPicPr/>
          <p:nvPr/>
        </p:nvPicPr>
        <p:blipFill>
          <a:blip r:embed="rId1"/>
          <a:stretch/>
        </p:blipFill>
        <p:spPr>
          <a:xfrm>
            <a:off x="3419640" y="2878200"/>
            <a:ext cx="4321080" cy="191124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95"/>
          <p:cNvSpPr/>
          <p:nvPr/>
        </p:nvSpPr>
        <p:spPr>
          <a:xfrm rot="1980000">
            <a:off x="5758920" y="3584160"/>
            <a:ext cx="1422720" cy="287280"/>
          </a:xfrm>
          <a:custGeom>
            <a:avLst/>
            <a:gdLst>
              <a:gd name="textAreaLeft" fmla="*/ 275400 w 1422720"/>
              <a:gd name="textAreaRight" fmla="*/ 1040400 w 1422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2857368"/>
                <a:lnTo>
                  <a:pt x="21121" y="14400"/>
                </a:lnTo>
                <a:lnTo>
                  <a:pt x="18360" y="21600"/>
                </a:lnTo>
                <a:lnTo>
                  <a:pt x="14641" y="14400"/>
                </a:lnTo>
                <a:lnTo>
                  <a:pt x="16261" y="14400"/>
                </a:lnTo>
                <a:arcTo wR="8370" hR="21600" stAng="-2542632" swAng="-2595078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cc99ff">
              <a:alpha val="49000"/>
            </a:srgbClr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6"/>
          <p:cNvSpPr/>
          <p:nvPr/>
        </p:nvSpPr>
        <p:spPr>
          <a:xfrm>
            <a:off x="6877080" y="2770200"/>
            <a:ext cx="2162160" cy="91764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ff99cc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Calibri"/>
                <a:ea typeface="微软雅黑"/>
              </a:rPr>
              <a:t>目标实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7"/>
          <p:cNvSpPr/>
          <p:nvPr/>
        </p:nvSpPr>
        <p:spPr>
          <a:xfrm rot="1980000">
            <a:off x="4468320" y="3129120"/>
            <a:ext cx="1422360" cy="304560"/>
          </a:xfrm>
          <a:custGeom>
            <a:avLst/>
            <a:gdLst>
              <a:gd name="textAreaLeft" fmla="*/ 275400 w 1422360"/>
              <a:gd name="textAreaRight" fmla="*/ 1040040 w 142236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2857368"/>
                <a:lnTo>
                  <a:pt x="21121" y="14400"/>
                </a:lnTo>
                <a:lnTo>
                  <a:pt x="18360" y="21600"/>
                </a:lnTo>
                <a:lnTo>
                  <a:pt x="14641" y="14400"/>
                </a:lnTo>
                <a:lnTo>
                  <a:pt x="16261" y="14400"/>
                </a:lnTo>
                <a:arcTo wR="8370" hR="21600" stAng="-2542632" swAng="-2595078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cc99ff">
              <a:alpha val="49000"/>
            </a:srgbClr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8"/>
          <p:cNvSpPr/>
          <p:nvPr/>
        </p:nvSpPr>
        <p:spPr>
          <a:xfrm>
            <a:off x="3564000" y="4842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经济效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116000" y="8445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250920" y="987480"/>
            <a:ext cx="8424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节约备件费用效益计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进口价格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0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费率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4*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价率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寿命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价格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费率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03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寿命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产化数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*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产化项目综合贡献系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库存结余备件损失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费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=13.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生产原料效益计算</a:t>
            </a: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浓盐酸价格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一吨。生产方统计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半年故障统计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，一年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。每次处理故障约半个小时，全年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2*30=30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统计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。实施后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，一年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，每次半个小时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*30=5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统计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小时。实施后对比减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1-9=4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造后一年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小时生产浓盐酸能力，减少新酸使用量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（生产方估算）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8*1.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1.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料创造效益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共计：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3.1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万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+ 1.98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万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=15.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2"/>
          <p:cNvSpPr/>
          <p:nvPr/>
        </p:nvSpPr>
        <p:spPr>
          <a:xfrm>
            <a:off x="758880" y="2511360"/>
            <a:ext cx="7412040" cy="503280"/>
          </a:xfrm>
          <a:custGeom>
            <a:avLst/>
            <a:gdLst/>
            <a:ahLst/>
            <a:rect l="l" t="t" r="r" b="b"/>
            <a:pathLst>
              <a:path w="7411452" h="504056">
                <a:moveTo>
                  <a:pt x="0" y="0"/>
                </a:moveTo>
                <a:lnTo>
                  <a:pt x="7099546" y="0"/>
                </a:lnTo>
                <a:lnTo>
                  <a:pt x="7411452" y="246318"/>
                </a:lnTo>
                <a:lnTo>
                  <a:pt x="7099546" y="504056"/>
                </a:lnTo>
                <a:lnTo>
                  <a:pt x="0" y="504056"/>
                </a:lnTo>
                <a:lnTo>
                  <a:pt x="0" y="0"/>
                </a:lnTo>
                <a:close/>
              </a:path>
            </a:pathLst>
          </a:custGeom>
          <a:solidFill>
            <a:srgbClr val="65f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4"/>
          <p:cNvGrpSpPr/>
          <p:nvPr/>
        </p:nvGrpSpPr>
        <p:grpSpPr>
          <a:xfrm>
            <a:off x="1752480" y="1638360"/>
            <a:ext cx="1152360" cy="2335320"/>
            <a:chOff x="1752480" y="1638360"/>
            <a:chExt cx="1152360" cy="2335320"/>
          </a:xfrm>
        </p:grpSpPr>
        <p:sp>
          <p:nvSpPr>
            <p:cNvPr id="262" name="椭圆 3"/>
            <p:cNvSpPr/>
            <p:nvPr/>
          </p:nvSpPr>
          <p:spPr>
            <a:xfrm>
              <a:off x="1752480" y="2185920"/>
              <a:ext cx="1152360" cy="1152720"/>
            </a:xfrm>
            <a:prstGeom prst="ellipse">
              <a:avLst/>
            </a:prstGeom>
            <a:solidFill>
              <a:srgbClr val="13a907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6"/>
            <p:cNvSpPr/>
            <p:nvPr/>
          </p:nvSpPr>
          <p:spPr>
            <a:xfrm>
              <a:off x="1969920" y="1638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组合 10"/>
            <p:cNvGrpSpPr/>
            <p:nvPr/>
          </p:nvGrpSpPr>
          <p:grpSpPr>
            <a:xfrm>
              <a:off x="1885320" y="3480840"/>
              <a:ext cx="912240" cy="492840"/>
              <a:chOff x="1885320" y="3480840"/>
              <a:chExt cx="912240" cy="492840"/>
            </a:xfrm>
          </p:grpSpPr>
          <p:sp>
            <p:nvSpPr>
              <p:cNvPr id="265" name="矩形 9"/>
              <p:cNvSpPr/>
              <p:nvPr/>
            </p:nvSpPr>
            <p:spPr>
              <a:xfrm>
                <a:off x="1885320" y="34808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小组介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69"/>
              <p:cNvSpPr/>
              <p:nvPr/>
            </p:nvSpPr>
            <p:spPr>
              <a:xfrm>
                <a:off x="2249640" y="369720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组合 5"/>
          <p:cNvGrpSpPr/>
          <p:nvPr/>
        </p:nvGrpSpPr>
        <p:grpSpPr>
          <a:xfrm>
            <a:off x="3811320" y="1638360"/>
            <a:ext cx="1152360" cy="2302920"/>
            <a:chOff x="3811320" y="1638360"/>
            <a:chExt cx="1152360" cy="2302920"/>
          </a:xfrm>
        </p:grpSpPr>
        <p:sp>
          <p:nvSpPr>
            <p:cNvPr id="268" name="椭圆 38"/>
            <p:cNvSpPr/>
            <p:nvPr/>
          </p:nvSpPr>
          <p:spPr>
            <a:xfrm>
              <a:off x="3811320" y="2185920"/>
              <a:ext cx="1152360" cy="1154160"/>
            </a:xfrm>
            <a:prstGeom prst="ellipse">
              <a:avLst/>
            </a:prstGeom>
            <a:solidFill>
              <a:srgbClr val="13a907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67"/>
            <p:cNvSpPr/>
            <p:nvPr/>
          </p:nvSpPr>
          <p:spPr>
            <a:xfrm>
              <a:off x="3989160" y="1638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71"/>
            <p:cNvSpPr/>
            <p:nvPr/>
          </p:nvSpPr>
          <p:spPr>
            <a:xfrm>
              <a:off x="3955320" y="3481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艺介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7"/>
          <p:cNvGrpSpPr/>
          <p:nvPr/>
        </p:nvGrpSpPr>
        <p:grpSpPr>
          <a:xfrm>
            <a:off x="5868720" y="1638360"/>
            <a:ext cx="1152720" cy="2302920"/>
            <a:chOff x="5868720" y="1638360"/>
            <a:chExt cx="1152720" cy="2302920"/>
          </a:xfrm>
        </p:grpSpPr>
        <p:sp>
          <p:nvSpPr>
            <p:cNvPr id="272" name="椭圆 39"/>
            <p:cNvSpPr/>
            <p:nvPr/>
          </p:nvSpPr>
          <p:spPr>
            <a:xfrm>
              <a:off x="5868720" y="2185920"/>
              <a:ext cx="1152720" cy="1154160"/>
            </a:xfrm>
            <a:prstGeom prst="ellipse">
              <a:avLst/>
            </a:prstGeom>
            <a:solidFill>
              <a:srgbClr val="0070c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68"/>
            <p:cNvSpPr/>
            <p:nvPr/>
          </p:nvSpPr>
          <p:spPr>
            <a:xfrm>
              <a:off x="6039360" y="1638360"/>
              <a:ext cx="1846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74"/>
            <p:cNvSpPr/>
            <p:nvPr/>
          </p:nvSpPr>
          <p:spPr>
            <a:xfrm>
              <a:off x="5974920" y="3481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课题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3827520" y="103968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0"/>
          <p:cNvSpPr/>
          <p:nvPr/>
        </p:nvSpPr>
        <p:spPr>
          <a:xfrm>
            <a:off x="3703680" y="1563840"/>
            <a:ext cx="1260360" cy="0"/>
          </a:xfrm>
          <a:prstGeom prst="line">
            <a:avLst/>
          </a:prstGeom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5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395280" y="1058760"/>
            <a:ext cx="8280360" cy="1191240"/>
          </a:xfrm>
          <a:prstGeom prst="rect">
            <a:avLst/>
          </a:prstGeom>
          <a:noFill/>
          <a:ln cap="rnd" w="9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由于小组成员包含领航人员并且倾向于年轻化，开展活动的想法和思维活跃，掌握和积累了烧嘴点火处理的故障及使用方法和各项技能 ，规范了作业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对自主管理活动的各项能力进行了自评互评。激发了年轻人对工作的热情。自身各方面能力的提高，让年轻一代更好服务于企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"/>
          <p:cNvGrpSpPr/>
          <p:nvPr/>
        </p:nvGrpSpPr>
        <p:grpSpPr>
          <a:xfrm>
            <a:off x="4861440" y="2547360"/>
            <a:ext cx="3620880" cy="1679040"/>
            <a:chOff x="4861440" y="2547360"/>
            <a:chExt cx="3620880" cy="1679040"/>
          </a:xfrm>
        </p:grpSpPr>
        <p:sp>
          <p:nvSpPr>
            <p:cNvPr id="607" name="Rectangle 4"/>
            <p:cNvSpPr/>
            <p:nvPr/>
          </p:nvSpPr>
          <p:spPr>
            <a:xfrm>
              <a:off x="5550120" y="2819160"/>
              <a:ext cx="1591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5"/>
            <p:cNvSpPr/>
            <p:nvPr/>
          </p:nvSpPr>
          <p:spPr>
            <a:xfrm>
              <a:off x="6346440" y="3505320"/>
              <a:ext cx="720" cy="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6"/>
            <p:cNvSpPr/>
            <p:nvPr/>
          </p:nvSpPr>
          <p:spPr>
            <a:xfrm>
              <a:off x="6346440" y="3333240"/>
              <a:ext cx="192600" cy="11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7"/>
            <p:cNvSpPr/>
            <p:nvPr/>
          </p:nvSpPr>
          <p:spPr>
            <a:xfrm>
              <a:off x="6346440" y="3162240"/>
              <a:ext cx="379080" cy="23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8"/>
            <p:cNvSpPr/>
            <p:nvPr/>
          </p:nvSpPr>
          <p:spPr>
            <a:xfrm>
              <a:off x="6346440" y="2990880"/>
              <a:ext cx="571680" cy="353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"/>
            <p:cNvSpPr/>
            <p:nvPr/>
          </p:nvSpPr>
          <p:spPr>
            <a:xfrm>
              <a:off x="6346440" y="2819160"/>
              <a:ext cx="758160" cy="471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"/>
            <p:cNvSpPr/>
            <p:nvPr/>
          </p:nvSpPr>
          <p:spPr>
            <a:xfrm>
              <a:off x="6346440" y="3505320"/>
              <a:ext cx="720" cy="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1"/>
            <p:cNvSpPr/>
            <p:nvPr/>
          </p:nvSpPr>
          <p:spPr>
            <a:xfrm flipH="1">
              <a:off x="6464520" y="3451320"/>
              <a:ext cx="7452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2"/>
            <p:cNvSpPr/>
            <p:nvPr/>
          </p:nvSpPr>
          <p:spPr>
            <a:xfrm flipH="1">
              <a:off x="6582240" y="3397680"/>
              <a:ext cx="142920" cy="385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3"/>
            <p:cNvSpPr/>
            <p:nvPr/>
          </p:nvSpPr>
          <p:spPr>
            <a:xfrm flipH="1">
              <a:off x="6694560" y="3344400"/>
              <a:ext cx="223920" cy="57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4"/>
            <p:cNvSpPr/>
            <p:nvPr/>
          </p:nvSpPr>
          <p:spPr>
            <a:xfrm flipH="1">
              <a:off x="6812640" y="3291120"/>
              <a:ext cx="292320" cy="771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5"/>
            <p:cNvSpPr/>
            <p:nvPr/>
          </p:nvSpPr>
          <p:spPr>
            <a:xfrm>
              <a:off x="6346440" y="3505320"/>
              <a:ext cx="720" cy="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6"/>
            <p:cNvSpPr/>
            <p:nvPr/>
          </p:nvSpPr>
          <p:spPr>
            <a:xfrm flipH="1">
              <a:off x="6227640" y="3645000"/>
              <a:ext cx="2368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7"/>
            <p:cNvSpPr/>
            <p:nvPr/>
          </p:nvSpPr>
          <p:spPr>
            <a:xfrm flipH="1">
              <a:off x="6109560" y="3783960"/>
              <a:ext cx="472680" cy="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8"/>
            <p:cNvSpPr/>
            <p:nvPr/>
          </p:nvSpPr>
          <p:spPr>
            <a:xfrm flipH="1">
              <a:off x="5997600" y="3923640"/>
              <a:ext cx="6966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9"/>
            <p:cNvSpPr/>
            <p:nvPr/>
          </p:nvSpPr>
          <p:spPr>
            <a:xfrm flipH="1">
              <a:off x="5879520" y="4062600"/>
              <a:ext cx="932760" cy="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0"/>
            <p:cNvSpPr/>
            <p:nvPr/>
          </p:nvSpPr>
          <p:spPr>
            <a:xfrm>
              <a:off x="6346440" y="3505320"/>
              <a:ext cx="720" cy="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1"/>
            <p:cNvSpPr/>
            <p:nvPr/>
          </p:nvSpPr>
          <p:spPr>
            <a:xfrm flipH="1" flipV="1">
              <a:off x="6152760" y="3451320"/>
              <a:ext cx="7452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2"/>
            <p:cNvSpPr/>
            <p:nvPr/>
          </p:nvSpPr>
          <p:spPr>
            <a:xfrm flipH="1" flipV="1">
              <a:off x="5966280" y="3397680"/>
              <a:ext cx="142920" cy="385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3"/>
            <p:cNvSpPr/>
            <p:nvPr/>
          </p:nvSpPr>
          <p:spPr>
            <a:xfrm flipH="1" flipV="1">
              <a:off x="5774040" y="3344400"/>
              <a:ext cx="223920" cy="57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4"/>
            <p:cNvSpPr/>
            <p:nvPr/>
          </p:nvSpPr>
          <p:spPr>
            <a:xfrm flipH="1" flipV="1">
              <a:off x="5587560" y="3290760"/>
              <a:ext cx="292320" cy="771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5"/>
            <p:cNvSpPr/>
            <p:nvPr/>
          </p:nvSpPr>
          <p:spPr>
            <a:xfrm>
              <a:off x="6346440" y="3505320"/>
              <a:ext cx="720" cy="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6"/>
            <p:cNvSpPr/>
            <p:nvPr/>
          </p:nvSpPr>
          <p:spPr>
            <a:xfrm flipV="1">
              <a:off x="6153120" y="3332880"/>
              <a:ext cx="193320" cy="11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7"/>
            <p:cNvSpPr/>
            <p:nvPr/>
          </p:nvSpPr>
          <p:spPr>
            <a:xfrm flipV="1">
              <a:off x="5966640" y="3162240"/>
              <a:ext cx="379800" cy="23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8"/>
            <p:cNvSpPr/>
            <p:nvPr/>
          </p:nvSpPr>
          <p:spPr>
            <a:xfrm flipV="1">
              <a:off x="5774040" y="2990520"/>
              <a:ext cx="572400" cy="353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9"/>
            <p:cNvSpPr/>
            <p:nvPr/>
          </p:nvSpPr>
          <p:spPr>
            <a:xfrm flipV="1">
              <a:off x="5587560" y="2819160"/>
              <a:ext cx="758880" cy="471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30"/>
            <p:cNvSpPr/>
            <p:nvPr/>
          </p:nvSpPr>
          <p:spPr>
            <a:xfrm flipV="1">
              <a:off x="6346440" y="2818800"/>
              <a:ext cx="720" cy="68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31"/>
            <p:cNvSpPr/>
            <p:nvPr/>
          </p:nvSpPr>
          <p:spPr>
            <a:xfrm flipV="1">
              <a:off x="6346440" y="3290760"/>
              <a:ext cx="758160" cy="214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2"/>
            <p:cNvSpPr/>
            <p:nvPr/>
          </p:nvSpPr>
          <p:spPr>
            <a:xfrm>
              <a:off x="6346440" y="3505320"/>
              <a:ext cx="465840" cy="557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33"/>
            <p:cNvSpPr/>
            <p:nvPr/>
          </p:nvSpPr>
          <p:spPr>
            <a:xfrm flipH="1">
              <a:off x="5879880" y="3505320"/>
              <a:ext cx="466560" cy="557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4"/>
            <p:cNvSpPr/>
            <p:nvPr/>
          </p:nvSpPr>
          <p:spPr>
            <a:xfrm flipH="1" flipV="1">
              <a:off x="5587560" y="3290760"/>
              <a:ext cx="758880" cy="214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35"/>
            <p:cNvSpPr/>
            <p:nvPr/>
          </p:nvSpPr>
          <p:spPr>
            <a:xfrm>
              <a:off x="6346440" y="3092400"/>
              <a:ext cx="509400" cy="26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6"/>
            <p:cNvSpPr/>
            <p:nvPr/>
          </p:nvSpPr>
          <p:spPr>
            <a:xfrm flipH="1">
              <a:off x="6545160" y="3360960"/>
              <a:ext cx="310680" cy="37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37"/>
            <p:cNvSpPr/>
            <p:nvPr/>
          </p:nvSpPr>
          <p:spPr>
            <a:xfrm flipH="1">
              <a:off x="6078600" y="3740760"/>
              <a:ext cx="46656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8"/>
            <p:cNvSpPr/>
            <p:nvPr/>
          </p:nvSpPr>
          <p:spPr>
            <a:xfrm flipH="1" flipV="1">
              <a:off x="6060240" y="3424680"/>
              <a:ext cx="18000" cy="40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39"/>
            <p:cNvSpPr/>
            <p:nvPr/>
          </p:nvSpPr>
          <p:spPr>
            <a:xfrm flipV="1">
              <a:off x="6060240" y="3092400"/>
              <a:ext cx="286200" cy="33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40"/>
            <p:cNvSpPr/>
            <p:nvPr/>
          </p:nvSpPr>
          <p:spPr>
            <a:xfrm>
              <a:off x="6346440" y="2872440"/>
              <a:ext cx="721080" cy="429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41"/>
            <p:cNvSpPr/>
            <p:nvPr/>
          </p:nvSpPr>
          <p:spPr>
            <a:xfrm flipH="1">
              <a:off x="6639120" y="3301920"/>
              <a:ext cx="428400" cy="551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42"/>
            <p:cNvSpPr/>
            <p:nvPr/>
          </p:nvSpPr>
          <p:spPr>
            <a:xfrm flipH="1">
              <a:off x="5973120" y="3853800"/>
              <a:ext cx="665640" cy="96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43"/>
            <p:cNvSpPr/>
            <p:nvPr/>
          </p:nvSpPr>
          <p:spPr>
            <a:xfrm flipH="1" flipV="1">
              <a:off x="5799240" y="3349440"/>
              <a:ext cx="174240" cy="600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"/>
            <p:cNvSpPr/>
            <p:nvPr/>
          </p:nvSpPr>
          <p:spPr>
            <a:xfrm flipV="1">
              <a:off x="5799240" y="2872080"/>
              <a:ext cx="547200" cy="477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5"/>
            <p:cNvSpPr/>
            <p:nvPr/>
          </p:nvSpPr>
          <p:spPr>
            <a:xfrm>
              <a:off x="6255360" y="3391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46"/>
            <p:cNvSpPr/>
            <p:nvPr/>
          </p:nvSpPr>
          <p:spPr>
            <a:xfrm>
              <a:off x="6175440" y="3236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47"/>
            <p:cNvSpPr/>
            <p:nvPr/>
          </p:nvSpPr>
          <p:spPr>
            <a:xfrm>
              <a:off x="6175440" y="310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48"/>
            <p:cNvSpPr/>
            <p:nvPr/>
          </p:nvSpPr>
          <p:spPr>
            <a:xfrm>
              <a:off x="6175440" y="2941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9"/>
            <p:cNvSpPr/>
            <p:nvPr/>
          </p:nvSpPr>
          <p:spPr>
            <a:xfrm>
              <a:off x="6175440" y="276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0"/>
            <p:cNvSpPr/>
            <p:nvPr/>
          </p:nvSpPr>
          <p:spPr>
            <a:xfrm>
              <a:off x="6137640" y="25473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团队精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1"/>
            <p:cNvSpPr/>
            <p:nvPr/>
          </p:nvSpPr>
          <p:spPr>
            <a:xfrm>
              <a:off x="7310520" y="322920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66"/>
                  </a:solidFill>
                  <a:latin typeface="隶书"/>
                </a:rPr>
                <a:t>自信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52"/>
            <p:cNvSpPr/>
            <p:nvPr/>
          </p:nvSpPr>
          <p:spPr>
            <a:xfrm>
              <a:off x="7133400" y="39801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66"/>
                  </a:solidFill>
                  <a:latin typeface="隶书"/>
                </a:rPr>
                <a:t>创新能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53"/>
            <p:cNvSpPr/>
            <p:nvPr/>
          </p:nvSpPr>
          <p:spPr>
            <a:xfrm>
              <a:off x="5164200" y="401292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66"/>
                  </a:solidFill>
                  <a:latin typeface="隶书"/>
                </a:rPr>
                <a:t>动手能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4861440" y="32241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66"/>
                  </a:solidFill>
                  <a:latin typeface="隶书"/>
                </a:rPr>
                <a:t>思考方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5"/>
            <p:cNvSpPr/>
            <p:nvPr/>
          </p:nvSpPr>
          <p:spPr>
            <a:xfrm>
              <a:off x="7989840" y="3772440"/>
              <a:ext cx="167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8268120" y="364032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隶书"/>
                </a:rPr>
                <a:t>过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57"/>
            <p:cNvSpPr/>
            <p:nvPr/>
          </p:nvSpPr>
          <p:spPr>
            <a:xfrm>
              <a:off x="7989840" y="3948840"/>
              <a:ext cx="167400" cy="3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58"/>
            <p:cNvSpPr/>
            <p:nvPr/>
          </p:nvSpPr>
          <p:spPr>
            <a:xfrm>
              <a:off x="8266320" y="381672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隶书"/>
                </a:rPr>
                <a:t>现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9640" y="2525760"/>
          <a:ext cx="3456000" cy="1917720"/>
        </p:xfrm>
        <a:graphic>
          <a:graphicData uri="http://schemas.openxmlformats.org/drawingml/2006/table">
            <a:tbl>
              <a:tblPr/>
              <a:tblGrid>
                <a:gridCol w="1150920"/>
                <a:gridCol w="1155600"/>
                <a:gridCol w="1149480"/>
              </a:tblGrid>
              <a:tr h="25092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d0d0d"/>
                          </a:solidFill>
                          <a:latin typeface="华文新魏"/>
                          <a:ea typeface="微软雅黑"/>
                        </a:rPr>
                        <a:t>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d0d0d"/>
                          </a:solidFill>
                          <a:latin typeface="华文新魏"/>
                          <a:ea typeface="微软雅黑"/>
                        </a:rPr>
                        <a:t>自我评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d0d0d"/>
                          </a:solidFill>
                          <a:latin typeface="华文新魏"/>
                          <a:ea typeface="微软雅黑"/>
                        </a:rPr>
                        <a:t>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d0d0d"/>
                          </a:solidFill>
                          <a:latin typeface="华文新魏"/>
                          <a:ea typeface="微软雅黑"/>
                        </a:rPr>
                        <a:t>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273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华文新魏"/>
                          <a:ea typeface="微软雅黑"/>
                        </a:rPr>
                        <a:t>创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9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华文新魏"/>
                          <a:ea typeface="微软雅黑"/>
                        </a:rPr>
                        <a:t>自信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3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华文新魏"/>
                          <a:ea typeface="微软雅黑"/>
                        </a:rPr>
                        <a:t>团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3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华文新魏"/>
                          <a:ea typeface="微软雅黑"/>
                        </a:rPr>
                        <a:t>动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63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华文新魏"/>
                          <a:ea typeface="微软雅黑"/>
                        </a:rPr>
                        <a:t>思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99"/>
                          </a:solidFill>
                          <a:latin typeface="微软雅黑"/>
                          <a:ea typeface="微软雅黑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663" name="Text Box 91"/>
          <p:cNvSpPr/>
          <p:nvPr/>
        </p:nvSpPr>
        <p:spPr>
          <a:xfrm>
            <a:off x="3780000" y="4111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社会效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椭圆 10"/>
          <p:cNvGrpSpPr/>
          <p:nvPr/>
        </p:nvGrpSpPr>
        <p:grpSpPr>
          <a:xfrm>
            <a:off x="1316160" y="3462480"/>
            <a:ext cx="3547800" cy="1176120"/>
            <a:chOff x="1316160" y="3462480"/>
            <a:chExt cx="3547800" cy="1176120"/>
          </a:xfrm>
        </p:grpSpPr>
        <p:pic>
          <p:nvPicPr>
            <p:cNvPr id="665" name="椭圆 10" descr=""/>
            <p:cNvPicPr/>
            <p:nvPr/>
          </p:nvPicPr>
          <p:blipFill>
            <a:blip r:embed="rId1"/>
            <a:stretch/>
          </p:blipFill>
          <p:spPr>
            <a:xfrm>
              <a:off x="1316160" y="3462480"/>
              <a:ext cx="35478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 rot="10800000">
              <a:off x="1915560" y="3712680"/>
              <a:ext cx="22712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椭圆 10"/>
          <p:cNvGrpSpPr/>
          <p:nvPr/>
        </p:nvGrpSpPr>
        <p:grpSpPr>
          <a:xfrm>
            <a:off x="2724120" y="3833640"/>
            <a:ext cx="3543480" cy="1176480"/>
            <a:chOff x="2724120" y="3833640"/>
            <a:chExt cx="3543480" cy="1176480"/>
          </a:xfrm>
        </p:grpSpPr>
        <p:pic>
          <p:nvPicPr>
            <p:cNvPr id="668" name="椭圆 10" descr=""/>
            <p:cNvPicPr/>
            <p:nvPr/>
          </p:nvPicPr>
          <p:blipFill>
            <a:blip r:embed="rId2"/>
            <a:stretch/>
          </p:blipFill>
          <p:spPr>
            <a:xfrm>
              <a:off x="2724120" y="3833640"/>
              <a:ext cx="35434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 rot="10800000">
              <a:off x="3321000" y="40842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椭圆 10"/>
          <p:cNvGrpSpPr/>
          <p:nvPr/>
        </p:nvGrpSpPr>
        <p:grpSpPr>
          <a:xfrm>
            <a:off x="4054320" y="3462480"/>
            <a:ext cx="3546360" cy="1176120"/>
            <a:chOff x="4054320" y="3462480"/>
            <a:chExt cx="3546360" cy="1176120"/>
          </a:xfrm>
        </p:grpSpPr>
        <p:pic>
          <p:nvPicPr>
            <p:cNvPr id="671" name="椭圆 10" descr=""/>
            <p:cNvPicPr/>
            <p:nvPr/>
          </p:nvPicPr>
          <p:blipFill>
            <a:blip r:embed="rId3"/>
            <a:stretch/>
          </p:blipFill>
          <p:spPr>
            <a:xfrm>
              <a:off x="4054320" y="3462480"/>
              <a:ext cx="35463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 rot="10800000">
              <a:off x="4651200" y="3712680"/>
              <a:ext cx="22701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9"/>
          <p:cNvGrpSpPr/>
          <p:nvPr/>
        </p:nvGrpSpPr>
        <p:grpSpPr>
          <a:xfrm>
            <a:off x="2565360" y="2490840"/>
            <a:ext cx="996840" cy="1784160"/>
            <a:chOff x="2565360" y="2490840"/>
            <a:chExt cx="996840" cy="1784160"/>
          </a:xfrm>
        </p:grpSpPr>
        <p:pic>
          <p:nvPicPr>
            <p:cNvPr id="674" name="圆角矩形 10" descr=""/>
            <p:cNvPicPr/>
            <p:nvPr/>
          </p:nvPicPr>
          <p:blipFill>
            <a:blip r:embed="rId4"/>
            <a:stretch/>
          </p:blipFill>
          <p:spPr>
            <a:xfrm>
              <a:off x="2565360" y="3624840"/>
              <a:ext cx="996840" cy="65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圆角矩形 11" descr=""/>
            <p:cNvPicPr/>
            <p:nvPr/>
          </p:nvPicPr>
          <p:blipFill>
            <a:blip r:embed="rId5"/>
            <a:stretch/>
          </p:blipFill>
          <p:spPr>
            <a:xfrm>
              <a:off x="2569680" y="3611880"/>
              <a:ext cx="992520" cy="59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椭圆 10"/>
            <p:cNvSpPr/>
            <p:nvPr/>
          </p:nvSpPr>
          <p:spPr>
            <a:xfrm>
              <a:off x="2739600" y="2490840"/>
              <a:ext cx="663120" cy="15375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0"/>
            <p:cNvSpPr/>
            <p:nvPr/>
          </p:nvSpPr>
          <p:spPr>
            <a:xfrm>
              <a:off x="2889000" y="2837880"/>
              <a:ext cx="365040" cy="301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0"/>
            <p:cNvSpPr/>
            <p:nvPr/>
          </p:nvSpPr>
          <p:spPr>
            <a:xfrm>
              <a:off x="2788200" y="3357720"/>
              <a:ext cx="567720" cy="2926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15"/>
          <p:cNvGrpSpPr/>
          <p:nvPr/>
        </p:nvGrpSpPr>
        <p:grpSpPr>
          <a:xfrm>
            <a:off x="5302080" y="2490840"/>
            <a:ext cx="997200" cy="1784160"/>
            <a:chOff x="5302080" y="2490840"/>
            <a:chExt cx="997200" cy="1784160"/>
          </a:xfrm>
        </p:grpSpPr>
        <p:pic>
          <p:nvPicPr>
            <p:cNvPr id="680" name="圆角矩形 16" descr=""/>
            <p:cNvPicPr/>
            <p:nvPr/>
          </p:nvPicPr>
          <p:blipFill>
            <a:blip r:embed="rId6"/>
            <a:stretch/>
          </p:blipFill>
          <p:spPr>
            <a:xfrm>
              <a:off x="5302080" y="3624840"/>
              <a:ext cx="997200" cy="65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圆角矩形 17" descr=""/>
            <p:cNvPicPr/>
            <p:nvPr/>
          </p:nvPicPr>
          <p:blipFill>
            <a:blip r:embed="rId7"/>
            <a:stretch/>
          </p:blipFill>
          <p:spPr>
            <a:xfrm>
              <a:off x="5306400" y="3611880"/>
              <a:ext cx="992880" cy="59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椭圆 10"/>
            <p:cNvSpPr/>
            <p:nvPr/>
          </p:nvSpPr>
          <p:spPr>
            <a:xfrm>
              <a:off x="5475960" y="2490840"/>
              <a:ext cx="663120" cy="15375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"/>
            <p:cNvSpPr/>
            <p:nvPr/>
          </p:nvSpPr>
          <p:spPr>
            <a:xfrm>
              <a:off x="5625720" y="2837880"/>
              <a:ext cx="365040" cy="301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0"/>
            <p:cNvSpPr/>
            <p:nvPr/>
          </p:nvSpPr>
          <p:spPr>
            <a:xfrm>
              <a:off x="5524920" y="3357720"/>
              <a:ext cx="568080" cy="2926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任意多边形 21"/>
          <p:cNvSpPr/>
          <p:nvPr/>
        </p:nvSpPr>
        <p:spPr>
          <a:xfrm>
            <a:off x="468360" y="3589200"/>
            <a:ext cx="7613640" cy="682920"/>
          </a:xfrm>
          <a:custGeom>
            <a:avLst/>
            <a:gdLst/>
            <a:ahLst/>
            <a:rect l="l" t="t" r="r" b="b"/>
            <a:pathLst>
              <a:path w="7613650" h="682824">
                <a:moveTo>
                  <a:pt x="0" y="341738"/>
                </a:moveTo>
                <a:cubicBezTo>
                  <a:pt x="157692" y="222146"/>
                  <a:pt x="601133" y="-29888"/>
                  <a:pt x="1225550" y="2920"/>
                </a:cubicBezTo>
                <a:cubicBezTo>
                  <a:pt x="1823508" y="35728"/>
                  <a:pt x="2069042" y="611462"/>
                  <a:pt x="2543175" y="653795"/>
                </a:cubicBezTo>
                <a:cubicBezTo>
                  <a:pt x="3104092" y="649562"/>
                  <a:pt x="3469065" y="229857"/>
                  <a:pt x="3963307" y="235149"/>
                </a:cubicBezTo>
                <a:cubicBezTo>
                  <a:pt x="4616299" y="231974"/>
                  <a:pt x="4687359" y="672392"/>
                  <a:pt x="5393872" y="682824"/>
                </a:cubicBezTo>
                <a:cubicBezTo>
                  <a:pt x="6008461" y="610102"/>
                  <a:pt x="6205764" y="130524"/>
                  <a:pt x="6742339" y="53266"/>
                </a:cubicBezTo>
                <a:cubicBezTo>
                  <a:pt x="7158415" y="32099"/>
                  <a:pt x="7483777" y="273098"/>
                  <a:pt x="7613650" y="454677"/>
                </a:cubicBezTo>
              </a:path>
            </a:pathLst>
          </a:custGeom>
          <a:noFill/>
          <a:ln w="9360">
            <a:solidFill>
              <a:srgbClr val="262626"/>
            </a:solidFill>
            <a:prstDash val="sys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22"/>
          <p:cNvGrpSpPr/>
          <p:nvPr/>
        </p:nvGrpSpPr>
        <p:grpSpPr>
          <a:xfrm>
            <a:off x="1198440" y="2881440"/>
            <a:ext cx="966960" cy="1733400"/>
            <a:chOff x="1198440" y="2881440"/>
            <a:chExt cx="966960" cy="1733400"/>
          </a:xfrm>
        </p:grpSpPr>
        <p:pic>
          <p:nvPicPr>
            <p:cNvPr id="687" name="圆角矩形 23" descr=""/>
            <p:cNvPicPr/>
            <p:nvPr/>
          </p:nvPicPr>
          <p:blipFill>
            <a:blip r:embed="rId8"/>
            <a:stretch/>
          </p:blipFill>
          <p:spPr>
            <a:xfrm>
              <a:off x="1198440" y="3983760"/>
              <a:ext cx="96264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圆角矩形 24" descr=""/>
            <p:cNvPicPr/>
            <p:nvPr/>
          </p:nvPicPr>
          <p:blipFill>
            <a:blip r:embed="rId9"/>
            <a:stretch/>
          </p:blipFill>
          <p:spPr>
            <a:xfrm>
              <a:off x="1198440" y="3970440"/>
              <a:ext cx="9669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椭圆 10"/>
            <p:cNvSpPr/>
            <p:nvPr/>
          </p:nvSpPr>
          <p:spPr>
            <a:xfrm>
              <a:off x="1365480" y="2881440"/>
              <a:ext cx="641160" cy="149508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0"/>
            <p:cNvSpPr/>
            <p:nvPr/>
          </p:nvSpPr>
          <p:spPr>
            <a:xfrm>
              <a:off x="1509840" y="3218760"/>
              <a:ext cx="352080" cy="29304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椭圆 10"/>
            <p:cNvSpPr/>
            <p:nvPr/>
          </p:nvSpPr>
          <p:spPr>
            <a:xfrm>
              <a:off x="1413000" y="3723840"/>
              <a:ext cx="548640" cy="28620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28"/>
          <p:cNvGrpSpPr/>
          <p:nvPr/>
        </p:nvGrpSpPr>
        <p:grpSpPr>
          <a:xfrm>
            <a:off x="4006800" y="2881440"/>
            <a:ext cx="966960" cy="1733400"/>
            <a:chOff x="4006800" y="2881440"/>
            <a:chExt cx="966960" cy="1733400"/>
          </a:xfrm>
        </p:grpSpPr>
        <p:pic>
          <p:nvPicPr>
            <p:cNvPr id="693" name="圆角矩形 29" descr=""/>
            <p:cNvPicPr/>
            <p:nvPr/>
          </p:nvPicPr>
          <p:blipFill>
            <a:blip r:embed="rId10"/>
            <a:stretch/>
          </p:blipFill>
          <p:spPr>
            <a:xfrm>
              <a:off x="4006800" y="3983760"/>
              <a:ext cx="96696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圆角矩形 30" descr=""/>
            <p:cNvPicPr/>
            <p:nvPr/>
          </p:nvPicPr>
          <p:blipFill>
            <a:blip r:embed="rId11"/>
            <a:stretch/>
          </p:blipFill>
          <p:spPr>
            <a:xfrm>
              <a:off x="4011120" y="3970440"/>
              <a:ext cx="96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椭圆 10"/>
            <p:cNvSpPr/>
            <p:nvPr/>
          </p:nvSpPr>
          <p:spPr>
            <a:xfrm>
              <a:off x="4176720" y="2881440"/>
              <a:ext cx="641160" cy="149508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0"/>
            <p:cNvSpPr/>
            <p:nvPr/>
          </p:nvSpPr>
          <p:spPr>
            <a:xfrm>
              <a:off x="4321440" y="3218760"/>
              <a:ext cx="352080" cy="29304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椭圆 10"/>
            <p:cNvSpPr/>
            <p:nvPr/>
          </p:nvSpPr>
          <p:spPr>
            <a:xfrm>
              <a:off x="4224240" y="3723840"/>
              <a:ext cx="548640" cy="28620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组合 34"/>
          <p:cNvGrpSpPr/>
          <p:nvPr/>
        </p:nvGrpSpPr>
        <p:grpSpPr>
          <a:xfrm>
            <a:off x="6670800" y="2881440"/>
            <a:ext cx="968400" cy="1733400"/>
            <a:chOff x="6670800" y="2881440"/>
            <a:chExt cx="968400" cy="1733400"/>
          </a:xfrm>
        </p:grpSpPr>
        <p:pic>
          <p:nvPicPr>
            <p:cNvPr id="699" name="圆角矩形 35" descr=""/>
            <p:cNvPicPr/>
            <p:nvPr/>
          </p:nvPicPr>
          <p:blipFill>
            <a:blip r:embed="rId12"/>
            <a:stretch/>
          </p:blipFill>
          <p:spPr>
            <a:xfrm>
              <a:off x="6670800" y="3983760"/>
              <a:ext cx="96840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圆角矩形 36" descr=""/>
            <p:cNvPicPr/>
            <p:nvPr/>
          </p:nvPicPr>
          <p:blipFill>
            <a:blip r:embed="rId13"/>
            <a:stretch/>
          </p:blipFill>
          <p:spPr>
            <a:xfrm>
              <a:off x="6675120" y="3970440"/>
              <a:ext cx="9640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椭圆 10"/>
            <p:cNvSpPr/>
            <p:nvPr/>
          </p:nvSpPr>
          <p:spPr>
            <a:xfrm>
              <a:off x="6841080" y="2881440"/>
              <a:ext cx="643320" cy="149508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椭圆 10"/>
            <p:cNvSpPr/>
            <p:nvPr/>
          </p:nvSpPr>
          <p:spPr>
            <a:xfrm>
              <a:off x="6986880" y="3218760"/>
              <a:ext cx="352800" cy="29304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椭圆 10"/>
            <p:cNvSpPr/>
            <p:nvPr/>
          </p:nvSpPr>
          <p:spPr>
            <a:xfrm>
              <a:off x="6888600" y="3723840"/>
              <a:ext cx="550800" cy="28620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直接连接符 40"/>
          <p:cNvSpPr/>
          <p:nvPr/>
        </p:nvSpPr>
        <p:spPr>
          <a:xfrm>
            <a:off x="3067200" y="1819440"/>
            <a:ext cx="0" cy="66816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41"/>
          <p:cNvSpPr/>
          <p:nvPr/>
        </p:nvSpPr>
        <p:spPr>
          <a:xfrm>
            <a:off x="1689120" y="2317680"/>
            <a:ext cx="0" cy="57312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42"/>
          <p:cNvSpPr/>
          <p:nvPr/>
        </p:nvSpPr>
        <p:spPr>
          <a:xfrm>
            <a:off x="4492800" y="2274840"/>
            <a:ext cx="0" cy="5968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43"/>
          <p:cNvSpPr/>
          <p:nvPr/>
        </p:nvSpPr>
        <p:spPr>
          <a:xfrm>
            <a:off x="5797440" y="1757520"/>
            <a:ext cx="0" cy="7300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4"/>
          <p:cNvSpPr/>
          <p:nvPr/>
        </p:nvSpPr>
        <p:spPr>
          <a:xfrm>
            <a:off x="7162920" y="2297160"/>
            <a:ext cx="0" cy="5842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1"/>
          <p:cNvSpPr/>
          <p:nvPr/>
        </p:nvSpPr>
        <p:spPr>
          <a:xfrm flipH="1">
            <a:off x="323280" y="1728720"/>
            <a:ext cx="216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修订点检标准编号：</a:t>
            </a: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450301I01J02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定期对火焰检测电极积炭检查，清洗，烘干并对电缆线绝缘进行维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1"/>
          <p:cNvSpPr/>
          <p:nvPr/>
        </p:nvSpPr>
        <p:spPr>
          <a:xfrm flipH="1">
            <a:off x="2388600" y="1224000"/>
            <a:ext cx="130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期对检测极绝缘套管距离进行适当调整</a:t>
            </a:r>
            <a:r>
              <a:rPr b="0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1"/>
          <p:cNvSpPr/>
          <p:nvPr/>
        </p:nvSpPr>
        <p:spPr>
          <a:xfrm flipH="1">
            <a:off x="3843360" y="1655640"/>
            <a:ext cx="144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期对点火极及电离子探棒位置检查，使烧嘴位置合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1"/>
          <p:cNvSpPr/>
          <p:nvPr/>
        </p:nvSpPr>
        <p:spPr>
          <a:xfrm flipH="1">
            <a:off x="5169600" y="784080"/>
            <a:ext cx="148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新点检标准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0401I01D0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化日常点检对检测电极的观察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1"/>
          <p:cNvSpPr/>
          <p:nvPr/>
        </p:nvSpPr>
        <p:spPr>
          <a:xfrm flipH="1">
            <a:off x="6579360" y="1689120"/>
            <a:ext cx="159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学习探测器的维修手册，并定期提问，提高运保人员认知度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619280" y="2824200"/>
            <a:ext cx="154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5"/>
          <p:cNvGrpSpPr/>
          <p:nvPr/>
        </p:nvGrpSpPr>
        <p:grpSpPr>
          <a:xfrm>
            <a:off x="3564000" y="2211480"/>
            <a:ext cx="5113440" cy="2141280"/>
            <a:chOff x="3564000" y="2211480"/>
            <a:chExt cx="5113440" cy="2141280"/>
          </a:xfrm>
        </p:grpSpPr>
        <p:sp>
          <p:nvSpPr>
            <p:cNvPr id="716" name="矩形 6"/>
            <p:cNvSpPr/>
            <p:nvPr/>
          </p:nvSpPr>
          <p:spPr>
            <a:xfrm>
              <a:off x="3564000" y="2211480"/>
              <a:ext cx="5113440" cy="2141280"/>
            </a:xfrm>
            <a:prstGeom prst="rect">
              <a:avLst/>
            </a:pr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7"/>
            <p:cNvSpPr/>
            <p:nvPr/>
          </p:nvSpPr>
          <p:spPr>
            <a:xfrm>
              <a:off x="3708000" y="2283120"/>
              <a:ext cx="4969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本次活动解决了烧嘴点火失败的原因，提高了点火的成功率。极大激发了小组成员的工作热情，但是烧嘴点火的成功还受到酸枪压力，阀门开口度，流量等因素影响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着酸再生对酸质量要求的提高。同时要求焙烧炉点火的连续性，经小组讨论决定</a:t>
              </a:r>
              <a:r>
                <a:rPr b="1" lang="zh-CN" sz="18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“降低酸枪升降故障率</a:t>
              </a:r>
              <a:r>
                <a:rPr b="1" lang="zh-CN" sz="2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”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问题作为下一次研究课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椭圆 10"/>
          <p:cNvGrpSpPr/>
          <p:nvPr/>
        </p:nvGrpSpPr>
        <p:grpSpPr>
          <a:xfrm>
            <a:off x="-1676520" y="3157560"/>
            <a:ext cx="6450120" cy="1420920"/>
            <a:chOff x="-1676520" y="3157560"/>
            <a:chExt cx="6450120" cy="1420920"/>
          </a:xfrm>
        </p:grpSpPr>
        <p:pic>
          <p:nvPicPr>
            <p:cNvPr id="719" name="椭圆 10" descr=""/>
            <p:cNvPicPr/>
            <p:nvPr/>
          </p:nvPicPr>
          <p:blipFill>
            <a:blip r:embed="rId1"/>
            <a:stretch/>
          </p:blipFill>
          <p:spPr>
            <a:xfrm>
              <a:off x="-1676520" y="3157560"/>
              <a:ext cx="64501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-652680" y="3444840"/>
              <a:ext cx="43243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1" name="矩形 5" descr=""/>
          <p:cNvPicPr/>
          <p:nvPr/>
        </p:nvPicPr>
        <p:blipFill>
          <a:blip r:embed="rId2"/>
          <a:stretch/>
        </p:blipFill>
        <p:spPr>
          <a:xfrm>
            <a:off x="676440" y="858960"/>
            <a:ext cx="1665000" cy="3139920"/>
          </a:xfrm>
          <a:prstGeom prst="rect">
            <a:avLst/>
          </a:prstGeom>
          <a:ln w="0">
            <a:noFill/>
          </a:ln>
        </p:spPr>
      </p:pic>
      <p:sp>
        <p:nvSpPr>
          <p:cNvPr id="722" name="矩形 10"/>
          <p:cNvSpPr/>
          <p:nvPr/>
        </p:nvSpPr>
        <p:spPr>
          <a:xfrm>
            <a:off x="1509840" y="2495520"/>
            <a:ext cx="307800" cy="10526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箭头 1"/>
          <p:cNvSpPr/>
          <p:nvPr/>
        </p:nvSpPr>
        <p:spPr>
          <a:xfrm rot="20832600">
            <a:off x="-947880" y="1431720"/>
            <a:ext cx="5220000" cy="2125440"/>
          </a:xfrm>
          <a:custGeom>
            <a:avLst/>
            <a:gdLst/>
            <a:ahLst/>
            <a:rect l="l" t="t" r="r" b="b"/>
            <a:pathLst>
              <a:path w="5680224" h="2312897">
                <a:moveTo>
                  <a:pt x="1493657" y="1010955"/>
                </a:moveTo>
                <a:lnTo>
                  <a:pt x="1434086" y="1273463"/>
                </a:lnTo>
                <a:lnTo>
                  <a:pt x="0" y="1156300"/>
                </a:lnTo>
                <a:lnTo>
                  <a:pt x="12204" y="1156596"/>
                </a:lnTo>
                <a:lnTo>
                  <a:pt x="1493657" y="1010955"/>
                </a:lnTo>
                <a:close/>
                <a:moveTo>
                  <a:pt x="3924196" y="0"/>
                </a:moveTo>
                <a:lnTo>
                  <a:pt x="5680224" y="1120299"/>
                </a:lnTo>
                <a:lnTo>
                  <a:pt x="3924196" y="2312897"/>
                </a:lnTo>
                <a:lnTo>
                  <a:pt x="4424565" y="1517782"/>
                </a:lnTo>
                <a:lnTo>
                  <a:pt x="2852765" y="1389368"/>
                </a:lnTo>
                <a:cubicBezTo>
                  <a:pt x="2845727" y="1390995"/>
                  <a:pt x="2838572" y="1390760"/>
                  <a:pt x="2831389" y="1389906"/>
                </a:cubicBezTo>
                <a:lnTo>
                  <a:pt x="2819121" y="1386619"/>
                </a:lnTo>
                <a:lnTo>
                  <a:pt x="2788448" y="1384113"/>
                </a:lnTo>
                <a:lnTo>
                  <a:pt x="2790082" y="1376914"/>
                </a:lnTo>
                <a:cubicBezTo>
                  <a:pt x="2714731" y="1340933"/>
                  <a:pt x="2668650" y="1232861"/>
                  <a:pt x="2682986" y="1112243"/>
                </a:cubicBezTo>
                <a:cubicBezTo>
                  <a:pt x="2699818" y="970636"/>
                  <a:pt x="2793549" y="865360"/>
                  <a:pt x="2892341" y="877102"/>
                </a:cubicBezTo>
                <a:lnTo>
                  <a:pt x="2902864" y="879922"/>
                </a:lnTo>
                <a:lnTo>
                  <a:pt x="2904606" y="872245"/>
                </a:lnTo>
                <a:lnTo>
                  <a:pt x="4424565" y="722818"/>
                </a:lnTo>
                <a:lnTo>
                  <a:pt x="3924196" y="0"/>
                </a:lnTo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1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任意多边形 12"/>
          <p:cNvSpPr/>
          <p:nvPr/>
        </p:nvSpPr>
        <p:spPr>
          <a:xfrm rot="20832600">
            <a:off x="2476080" y="1015920"/>
            <a:ext cx="1838520" cy="1063800"/>
          </a:xfrm>
          <a:custGeom>
            <a:avLst/>
            <a:gdLst/>
            <a:ahLst/>
            <a:rect l="l" t="t" r="r" b="b"/>
            <a:pathLst>
              <a:path w="2305318" h="1242812">
                <a:moveTo>
                  <a:pt x="0" y="0"/>
                </a:moveTo>
                <a:lnTo>
                  <a:pt x="2028422" y="1223493"/>
                </a:lnTo>
                <a:lnTo>
                  <a:pt x="2305318" y="1242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任意多边形 13"/>
          <p:cNvSpPr/>
          <p:nvPr/>
        </p:nvSpPr>
        <p:spPr>
          <a:xfrm rot="20832600">
            <a:off x="2747880" y="2025720"/>
            <a:ext cx="1787760" cy="1076400"/>
          </a:xfrm>
          <a:custGeom>
            <a:avLst/>
            <a:gdLst/>
            <a:ahLst/>
            <a:rect l="l" t="t" r="r" b="b"/>
            <a:pathLst>
              <a:path w="2240924" h="1249251">
                <a:moveTo>
                  <a:pt x="1964028" y="0"/>
                </a:moveTo>
                <a:lnTo>
                  <a:pt x="2240924" y="25758"/>
                </a:lnTo>
                <a:lnTo>
                  <a:pt x="0" y="1249251"/>
                </a:lnTo>
                <a:lnTo>
                  <a:pt x="1964028" y="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任意多边形 14" descr=""/>
          <p:cNvPicPr/>
          <p:nvPr/>
        </p:nvPicPr>
        <p:blipFill>
          <a:blip r:embed="rId3"/>
          <a:stretch/>
        </p:blipFill>
        <p:spPr>
          <a:xfrm>
            <a:off x="438120" y="858960"/>
            <a:ext cx="263520" cy="3146400"/>
          </a:xfrm>
          <a:prstGeom prst="rect">
            <a:avLst/>
          </a:prstGeom>
          <a:ln w="0">
            <a:noFill/>
          </a:ln>
        </p:spPr>
      </p:pic>
      <p:sp>
        <p:nvSpPr>
          <p:cNvPr id="727" name="TextBox 11"/>
          <p:cNvSpPr/>
          <p:nvPr/>
        </p:nvSpPr>
        <p:spPr>
          <a:xfrm flipH="1" rot="20856000">
            <a:off x="2269440" y="19602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未来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3B75-CD78-483F-B893-A48E42A52F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3" descr=""/>
          <p:cNvPicPr/>
          <p:nvPr/>
        </p:nvPicPr>
        <p:blipFill>
          <a:blip r:embed="rId1"/>
          <a:stretch/>
        </p:blipFill>
        <p:spPr>
          <a:xfrm>
            <a:off x="4572000" y="3011400"/>
            <a:ext cx="3286080" cy="1603440"/>
          </a:xfrm>
          <a:prstGeom prst="rect">
            <a:avLst/>
          </a:prstGeom>
          <a:ln w="0">
            <a:noFill/>
          </a:ln>
        </p:spPr>
      </p:pic>
      <p:sp>
        <p:nvSpPr>
          <p:cNvPr id="732" name="TextBox 7"/>
          <p:cNvSpPr/>
          <p:nvPr/>
        </p:nvSpPr>
        <p:spPr>
          <a:xfrm>
            <a:off x="4954680" y="4065480"/>
            <a:ext cx="32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布人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9"/>
          <p:cNvSpPr/>
          <p:nvPr/>
        </p:nvSpPr>
        <p:spPr>
          <a:xfrm>
            <a:off x="4964040" y="4276800"/>
            <a:ext cx="381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上海梅山钢铁股份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mai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"/>
          <p:cNvSpPr/>
          <p:nvPr/>
        </p:nvSpPr>
        <p:spPr>
          <a:xfrm>
            <a:off x="4778280" y="3387600"/>
            <a:ext cx="135000" cy="1079640"/>
          </a:xfrm>
          <a:prstGeom prst="rect">
            <a:avLst/>
          </a:prstGeom>
          <a:gradFill rotWithShape="0">
            <a:gsLst>
              <a:gs pos="0">
                <a:srgbClr val="4aabc6"/>
              </a:gs>
              <a:gs pos="100000">
                <a:srgbClr val="3185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6" descr="图片2副本.png"/>
          <p:cNvPicPr/>
          <p:nvPr/>
        </p:nvPicPr>
        <p:blipFill>
          <a:blip r:embed="rId2"/>
          <a:stretch/>
        </p:blipFill>
        <p:spPr>
          <a:xfrm>
            <a:off x="395280" y="339840"/>
            <a:ext cx="19447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19"/>
          <p:cNvGrpSpPr/>
          <p:nvPr/>
        </p:nvGrpSpPr>
        <p:grpSpPr>
          <a:xfrm>
            <a:off x="388800" y="1211400"/>
            <a:ext cx="576360" cy="1382400"/>
            <a:chOff x="388800" y="1211400"/>
            <a:chExt cx="576360" cy="1382400"/>
          </a:xfrm>
        </p:grpSpPr>
        <p:pic>
          <p:nvPicPr>
            <p:cNvPr id="278" name="组合 16" descr=""/>
            <p:cNvPicPr/>
            <p:nvPr/>
          </p:nvPicPr>
          <p:blipFill>
            <a:blip r:embed="rId1"/>
            <a:stretch/>
          </p:blipFill>
          <p:spPr>
            <a:xfrm>
              <a:off x="388800" y="1474560"/>
              <a:ext cx="5763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20"/>
            <p:cNvSpPr/>
            <p:nvPr/>
          </p:nvSpPr>
          <p:spPr>
            <a:xfrm>
              <a:off x="467280" y="1211400"/>
              <a:ext cx="1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3"/>
          <p:cNvGrpSpPr/>
          <p:nvPr/>
        </p:nvGrpSpPr>
        <p:grpSpPr>
          <a:xfrm>
            <a:off x="101520" y="1860480"/>
            <a:ext cx="1063800" cy="1455840"/>
            <a:chOff x="101520" y="1860480"/>
            <a:chExt cx="1063800" cy="1455840"/>
          </a:xfrm>
        </p:grpSpPr>
        <p:pic>
          <p:nvPicPr>
            <p:cNvPr id="281" name="组合 17" descr=""/>
            <p:cNvPicPr/>
            <p:nvPr/>
          </p:nvPicPr>
          <p:blipFill>
            <a:blip r:embed="rId2"/>
            <a:stretch/>
          </p:blipFill>
          <p:spPr>
            <a:xfrm>
              <a:off x="101520" y="2078640"/>
              <a:ext cx="5252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Box 21"/>
            <p:cNvSpPr/>
            <p:nvPr/>
          </p:nvSpPr>
          <p:spPr>
            <a:xfrm>
              <a:off x="981000" y="186048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24"/>
          <p:cNvGrpSpPr/>
          <p:nvPr/>
        </p:nvGrpSpPr>
        <p:grpSpPr>
          <a:xfrm>
            <a:off x="388800" y="2435400"/>
            <a:ext cx="809640" cy="1720800"/>
            <a:chOff x="388800" y="2435400"/>
            <a:chExt cx="809640" cy="1720800"/>
          </a:xfrm>
        </p:grpSpPr>
        <p:pic>
          <p:nvPicPr>
            <p:cNvPr id="284" name="组合 18" descr=""/>
            <p:cNvPicPr/>
            <p:nvPr/>
          </p:nvPicPr>
          <p:blipFill>
            <a:blip r:embed="rId3"/>
            <a:stretch/>
          </p:blipFill>
          <p:spPr>
            <a:xfrm>
              <a:off x="388800" y="3011040"/>
              <a:ext cx="46404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Box 22"/>
            <p:cNvSpPr/>
            <p:nvPr/>
          </p:nvSpPr>
          <p:spPr>
            <a:xfrm>
              <a:off x="1014120" y="2435400"/>
              <a:ext cx="1843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18"/>
          <p:cNvSpPr/>
          <p:nvPr/>
        </p:nvSpPr>
        <p:spPr>
          <a:xfrm>
            <a:off x="3276720" y="465120"/>
            <a:ext cx="26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组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32000" y="1333440"/>
          <a:ext cx="7127640" cy="2822400"/>
        </p:xfrm>
        <a:graphic>
          <a:graphicData uri="http://schemas.openxmlformats.org/drawingml/2006/table">
            <a:tbl>
              <a:tblPr/>
              <a:tblGrid>
                <a:gridCol w="712440"/>
                <a:gridCol w="712800"/>
                <a:gridCol w="469800"/>
                <a:gridCol w="596880"/>
                <a:gridCol w="179640"/>
                <a:gridCol w="890280"/>
                <a:gridCol w="709920"/>
                <a:gridCol w="357120"/>
                <a:gridCol w="355680"/>
                <a:gridCol w="465120"/>
                <a:gridCol w="603000"/>
                <a:gridCol w="179640"/>
                <a:gridCol w="895320"/>
              </a:tblGrid>
              <a:tr h="281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小组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冷轧设备运维保障部运行班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JK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所在单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上海梅山钢铁股份有限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活动日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小组类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现场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序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姓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年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文化程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职称、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序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姓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年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文化程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称、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2"/>
          <p:cNvGrpSpPr/>
          <p:nvPr/>
        </p:nvGrpSpPr>
        <p:grpSpPr>
          <a:xfrm>
            <a:off x="38160" y="144360"/>
            <a:ext cx="9072360" cy="3003480"/>
            <a:chOff x="38160" y="144360"/>
            <a:chExt cx="9072360" cy="3003480"/>
          </a:xfrm>
        </p:grpSpPr>
        <p:pic>
          <p:nvPicPr>
            <p:cNvPr id="289" name="Picture 2" descr=""/>
            <p:cNvPicPr/>
            <p:nvPr/>
          </p:nvPicPr>
          <p:blipFill>
            <a:blip r:embed="rId1"/>
            <a:stretch/>
          </p:blipFill>
          <p:spPr>
            <a:xfrm>
              <a:off x="38160" y="144360"/>
              <a:ext cx="907236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3"/>
            <p:cNvSpPr/>
            <p:nvPr/>
          </p:nvSpPr>
          <p:spPr>
            <a:xfrm>
              <a:off x="1187280" y="1690560"/>
              <a:ext cx="1803240" cy="398880"/>
            </a:xfrm>
            <a:prstGeom prst="rect">
              <a:avLst/>
            </a:prstGeom>
            <a:noFill/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焙烧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"/>
            <p:cNvSpPr/>
            <p:nvPr/>
          </p:nvSpPr>
          <p:spPr>
            <a:xfrm>
              <a:off x="3708360" y="135360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双旋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分离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"/>
            <p:cNvSpPr/>
            <p:nvPr/>
          </p:nvSpPr>
          <p:spPr>
            <a:xfrm>
              <a:off x="4788000" y="155520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预浓缩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6"/>
            <p:cNvSpPr/>
            <p:nvPr/>
          </p:nvSpPr>
          <p:spPr>
            <a:xfrm>
              <a:off x="6228000" y="1020960"/>
              <a:ext cx="45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吸收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8101080" y="876960"/>
              <a:ext cx="5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洗涤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10"/>
          <p:cNvSpPr/>
          <p:nvPr/>
        </p:nvSpPr>
        <p:spPr>
          <a:xfrm>
            <a:off x="0" y="3076560"/>
            <a:ext cx="910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酸再生机组是环保型机组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把酸洗，酸扎机组产生的废酸净化处理为再生酸供机组再次利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3"/>
          <p:cNvSpPr/>
          <p:nvPr/>
        </p:nvSpPr>
        <p:spPr>
          <a:xfrm>
            <a:off x="34920" y="10303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微软雅黑"/>
                <a:ea typeface="微软雅黑"/>
              </a:rPr>
              <a:t>工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644400" y="3443400"/>
            <a:ext cx="6523200" cy="1261800"/>
            <a:chOff x="644400" y="3443400"/>
            <a:chExt cx="6523200" cy="1261800"/>
          </a:xfrm>
        </p:grpSpPr>
        <p:sp>
          <p:nvSpPr>
            <p:cNvPr id="298" name="Text Box 11"/>
            <p:cNvSpPr/>
            <p:nvPr/>
          </p:nvSpPr>
          <p:spPr>
            <a:xfrm>
              <a:off x="1755360" y="3462120"/>
              <a:ext cx="74268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废酸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2828520" y="3462120"/>
              <a:ext cx="990360" cy="246240"/>
            </a:xfrm>
            <a:prstGeom prst="rect">
              <a:avLst/>
            </a:prstGeom>
            <a:noFill/>
            <a:ln cap="rnd" w="9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废酸过滤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4066560" y="3462120"/>
              <a:ext cx="76680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丘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5298480" y="3452760"/>
              <a:ext cx="121896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浓缩酸供给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5"/>
            <p:cNvSpPr/>
            <p:nvPr/>
          </p:nvSpPr>
          <p:spPr>
            <a:xfrm>
              <a:off x="825120" y="3443400"/>
              <a:ext cx="574560" cy="276480"/>
            </a:xfrm>
            <a:prstGeom prst="rect">
              <a:avLst/>
            </a:prstGeom>
            <a:solidFill>
              <a:srgbClr val="92d050"/>
            </a:solidFill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废酸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双箭头 347"/>
            <p:cNvSpPr/>
            <p:nvPr/>
          </p:nvSpPr>
          <p:spPr>
            <a:xfrm flipV="1">
              <a:off x="4834440" y="3586680"/>
              <a:ext cx="446760" cy="2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9"/>
            <p:cNvSpPr/>
            <p:nvPr/>
          </p:nvSpPr>
          <p:spPr>
            <a:xfrm>
              <a:off x="3154680" y="3939480"/>
              <a:ext cx="67032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焙烧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0"/>
            <p:cNvSpPr/>
            <p:nvPr/>
          </p:nvSpPr>
          <p:spPr>
            <a:xfrm>
              <a:off x="1945440" y="3948840"/>
              <a:ext cx="89748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焙烧炉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1"/>
            <p:cNvSpPr/>
            <p:nvPr/>
          </p:nvSpPr>
          <p:spPr>
            <a:xfrm>
              <a:off x="644400" y="3948840"/>
              <a:ext cx="1046160" cy="246240"/>
            </a:xfrm>
            <a:prstGeom prst="rect">
              <a:avLst/>
            </a:prstGeom>
            <a:noFill/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双旋风分离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2"/>
            <p:cNvSpPr/>
            <p:nvPr/>
          </p:nvSpPr>
          <p:spPr>
            <a:xfrm>
              <a:off x="4059000" y="3939480"/>
              <a:ext cx="99288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含盐酸气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5"/>
            <p:cNvSpPr/>
            <p:nvPr/>
          </p:nvSpPr>
          <p:spPr>
            <a:xfrm>
              <a:off x="668880" y="4457160"/>
              <a:ext cx="918720" cy="246240"/>
            </a:xfrm>
            <a:prstGeom prst="rect">
              <a:avLst/>
            </a:prstGeom>
            <a:solidFill>
              <a:srgbClr val="00b0f0"/>
            </a:solidFill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Fe2O3</a:t>
              </a: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铁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6"/>
            <p:cNvSpPr/>
            <p:nvPr/>
          </p:nvSpPr>
          <p:spPr>
            <a:xfrm>
              <a:off x="5368320" y="3934800"/>
              <a:ext cx="80064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吸收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7"/>
            <p:cNvSpPr/>
            <p:nvPr/>
          </p:nvSpPr>
          <p:spPr>
            <a:xfrm>
              <a:off x="5345280" y="4449240"/>
              <a:ext cx="85644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废气风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8"/>
            <p:cNvSpPr/>
            <p:nvPr/>
          </p:nvSpPr>
          <p:spPr>
            <a:xfrm>
              <a:off x="4186080" y="4458960"/>
              <a:ext cx="81324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洗涤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9"/>
            <p:cNvSpPr/>
            <p:nvPr/>
          </p:nvSpPr>
          <p:spPr>
            <a:xfrm>
              <a:off x="2999160" y="4458960"/>
              <a:ext cx="808200" cy="24624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排入大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0"/>
            <p:cNvSpPr/>
            <p:nvPr/>
          </p:nvSpPr>
          <p:spPr>
            <a:xfrm>
              <a:off x="6508080" y="3934800"/>
              <a:ext cx="659520" cy="246240"/>
            </a:xfrm>
            <a:prstGeom prst="rect">
              <a:avLst/>
            </a:prstGeom>
            <a:solidFill>
              <a:srgbClr val="00b0f0"/>
            </a:solidFill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再生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2"/>
            <p:cNvSpPr/>
            <p:nvPr/>
          </p:nvSpPr>
          <p:spPr>
            <a:xfrm>
              <a:off x="1434240" y="3586680"/>
              <a:ext cx="321480" cy="3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3"/>
            <p:cNvSpPr/>
            <p:nvPr/>
          </p:nvSpPr>
          <p:spPr>
            <a:xfrm>
              <a:off x="2497680" y="3589200"/>
              <a:ext cx="3301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4"/>
            <p:cNvSpPr/>
            <p:nvPr/>
          </p:nvSpPr>
          <p:spPr>
            <a:xfrm>
              <a:off x="3818160" y="3589200"/>
              <a:ext cx="2473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8"/>
            <p:cNvSpPr/>
            <p:nvPr/>
          </p:nvSpPr>
          <p:spPr>
            <a:xfrm flipH="1" flipV="1">
              <a:off x="3814920" y="4053600"/>
              <a:ext cx="247320" cy="3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8"/>
            <p:cNvSpPr/>
            <p:nvPr/>
          </p:nvSpPr>
          <p:spPr>
            <a:xfrm flipH="1" flipV="1">
              <a:off x="2865600" y="4075920"/>
              <a:ext cx="247320" cy="3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>
              <a:off x="4452840" y="3710520"/>
              <a:ext cx="3600" cy="2419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8"/>
            <p:cNvSpPr/>
            <p:nvPr/>
          </p:nvSpPr>
          <p:spPr>
            <a:xfrm flipH="1" flipV="1">
              <a:off x="3865680" y="4581000"/>
              <a:ext cx="247320" cy="3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8"/>
            <p:cNvSpPr/>
            <p:nvPr/>
          </p:nvSpPr>
          <p:spPr>
            <a:xfrm flipH="1" flipV="1">
              <a:off x="5046480" y="4581000"/>
              <a:ext cx="247320" cy="3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8"/>
            <p:cNvSpPr/>
            <p:nvPr/>
          </p:nvSpPr>
          <p:spPr>
            <a:xfrm flipH="1" flipV="1">
              <a:off x="1703520" y="4075920"/>
              <a:ext cx="247320" cy="3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V="1">
              <a:off x="5071680" y="4069800"/>
              <a:ext cx="307080" cy="1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2"/>
            <p:cNvSpPr/>
            <p:nvPr/>
          </p:nvSpPr>
          <p:spPr>
            <a:xfrm flipV="1">
              <a:off x="6170400" y="4063320"/>
              <a:ext cx="307080" cy="1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8"/>
            <p:cNvSpPr/>
            <p:nvPr/>
          </p:nvSpPr>
          <p:spPr>
            <a:xfrm>
              <a:off x="5747760" y="4205520"/>
              <a:ext cx="6840" cy="2361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 flipH="1">
              <a:off x="1144800" y="4214880"/>
              <a:ext cx="2520" cy="2271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1"/>
          <p:cNvSpPr/>
          <p:nvPr/>
        </p:nvSpPr>
        <p:spPr>
          <a:xfrm>
            <a:off x="-36360" y="1781280"/>
            <a:ext cx="9144000" cy="2220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2"/>
          <p:cNvSpPr/>
          <p:nvPr/>
        </p:nvSpPr>
        <p:spPr>
          <a:xfrm>
            <a:off x="5076720" y="185112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焙烧炉系统是酸再生机组的首要设备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正常与否直接决定酸再生机组和酸洗机组能否进行正常生产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直接关系着酸再生产品氧化铁粉的质量好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4"/>
          <p:cNvSpPr/>
          <p:nvPr/>
        </p:nvSpPr>
        <p:spPr>
          <a:xfrm>
            <a:off x="5580000" y="11318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工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31"/>
          <p:cNvGrpSpPr/>
          <p:nvPr/>
        </p:nvGrpSpPr>
        <p:grpSpPr>
          <a:xfrm>
            <a:off x="-108000" y="1046880"/>
            <a:ext cx="5249880" cy="3324960"/>
            <a:chOff x="-108000" y="1046880"/>
            <a:chExt cx="5249880" cy="3324960"/>
          </a:xfrm>
        </p:grpSpPr>
        <p:grpSp>
          <p:nvGrpSpPr>
            <p:cNvPr id="331" name="组合 30"/>
            <p:cNvGrpSpPr/>
            <p:nvPr/>
          </p:nvGrpSpPr>
          <p:grpSpPr>
            <a:xfrm>
              <a:off x="-108000" y="1046880"/>
              <a:ext cx="4757760" cy="3324960"/>
              <a:chOff x="-108000" y="1046880"/>
              <a:chExt cx="4757760" cy="3324960"/>
            </a:xfrm>
          </p:grpSpPr>
          <p:grpSp>
            <p:nvGrpSpPr>
              <p:cNvPr id="332" name="组合 3"/>
              <p:cNvGrpSpPr/>
              <p:nvPr/>
            </p:nvGrpSpPr>
            <p:grpSpPr>
              <a:xfrm>
                <a:off x="775800" y="1046880"/>
                <a:ext cx="3323160" cy="3324960"/>
                <a:chOff x="775800" y="1046880"/>
                <a:chExt cx="3323160" cy="3324960"/>
              </a:xfrm>
            </p:grpSpPr>
            <p:sp>
              <p:nvSpPr>
                <p:cNvPr id="333" name="椭圆 4"/>
                <p:cNvSpPr/>
                <p:nvPr/>
              </p:nvSpPr>
              <p:spPr>
                <a:xfrm>
                  <a:off x="775800" y="1173240"/>
                  <a:ext cx="3199680" cy="319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椭圆 5"/>
                <p:cNvSpPr/>
                <p:nvPr/>
              </p:nvSpPr>
              <p:spPr>
                <a:xfrm>
                  <a:off x="880560" y="1278000"/>
                  <a:ext cx="2990160" cy="2989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组合 6"/>
                <p:cNvGrpSpPr/>
                <p:nvPr/>
              </p:nvGrpSpPr>
              <p:grpSpPr>
                <a:xfrm>
                  <a:off x="792000" y="1046880"/>
                  <a:ext cx="3306960" cy="3302280"/>
                  <a:chOff x="792000" y="1046880"/>
                  <a:chExt cx="3306960" cy="3302280"/>
                </a:xfrm>
              </p:grpSpPr>
              <p:sp>
                <p:nvSpPr>
                  <p:cNvPr id="336" name="椭圆 45"/>
                  <p:cNvSpPr/>
                  <p:nvPr/>
                </p:nvSpPr>
                <p:spPr>
                  <a:xfrm>
                    <a:off x="1477800" y="1324440"/>
                    <a:ext cx="951480" cy="13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443" h="1946223">
                        <a:moveTo>
                          <a:pt x="1372443" y="0"/>
                        </a:moveTo>
                        <a:lnTo>
                          <a:pt x="1366371" y="1946223"/>
                        </a:lnTo>
                        <a:lnTo>
                          <a:pt x="0" y="564095"/>
                        </a:lnTo>
                        <a:cubicBezTo>
                          <a:pt x="354117" y="217080"/>
                          <a:pt x="838245" y="2682"/>
                          <a:pt x="1372443" y="0"/>
                        </a:cubicBezTo>
                        <a:close/>
                      </a:path>
                    </a:pathLst>
                  </a:cu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椭圆 45"/>
                  <p:cNvSpPr/>
                  <p:nvPr/>
                </p:nvSpPr>
                <p:spPr>
                  <a:xfrm rot="2700000">
                    <a:off x="2116080" y="1185120"/>
                    <a:ext cx="950400" cy="13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443" h="1946223">
                        <a:moveTo>
                          <a:pt x="1372443" y="0"/>
                        </a:moveTo>
                        <a:lnTo>
                          <a:pt x="1366371" y="1946223"/>
                        </a:lnTo>
                        <a:lnTo>
                          <a:pt x="0" y="564095"/>
                        </a:lnTo>
                        <a:cubicBezTo>
                          <a:pt x="354117" y="217080"/>
                          <a:pt x="838245" y="2682"/>
                          <a:pt x="1372443" y="0"/>
                        </a:cubicBezTo>
                        <a:close/>
                      </a:path>
                    </a:pathLst>
                  </a:custGeom>
                  <a:solidFill>
                    <a:srgbClr val="bffc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椭圆 45"/>
                  <p:cNvSpPr/>
                  <p:nvPr/>
                </p:nvSpPr>
                <p:spPr>
                  <a:xfrm rot="10800000">
                    <a:off x="2463840" y="2714400"/>
                    <a:ext cx="951480" cy="13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443" h="1946223">
                        <a:moveTo>
                          <a:pt x="1372443" y="0"/>
                        </a:moveTo>
                        <a:lnTo>
                          <a:pt x="1366371" y="1946223"/>
                        </a:lnTo>
                        <a:lnTo>
                          <a:pt x="0" y="564095"/>
                        </a:lnTo>
                        <a:cubicBezTo>
                          <a:pt x="354117" y="217080"/>
                          <a:pt x="838245" y="2682"/>
                          <a:pt x="1372443" y="0"/>
                        </a:cubicBezTo>
                        <a:close/>
                      </a:path>
                    </a:pathLst>
                  </a:custGeom>
                  <a:solidFill>
                    <a:srgbClr val="13a9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椭圆 45"/>
                  <p:cNvSpPr/>
                  <p:nvPr/>
                </p:nvSpPr>
                <p:spPr>
                  <a:xfrm rot="13500000">
                    <a:off x="1620360" y="3060360"/>
                    <a:ext cx="1347840" cy="9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443" h="1946223">
                        <a:moveTo>
                          <a:pt x="1372443" y="0"/>
                        </a:moveTo>
                        <a:lnTo>
                          <a:pt x="1366371" y="1946223"/>
                        </a:lnTo>
                        <a:lnTo>
                          <a:pt x="0" y="564095"/>
                        </a:lnTo>
                        <a:cubicBezTo>
                          <a:pt x="354117" y="217080"/>
                          <a:pt x="838245" y="2682"/>
                          <a:pt x="1372443" y="0"/>
                        </a:cubicBezTo>
                        <a:close/>
                      </a:path>
                    </a:pathLst>
                  </a:custGeom>
                  <a:solidFill>
                    <a:srgbClr val="8bc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椭圆 45"/>
                  <p:cNvSpPr/>
                  <p:nvPr/>
                </p:nvSpPr>
                <p:spPr>
                  <a:xfrm rot="5400000">
                    <a:off x="2663640" y="1528560"/>
                    <a:ext cx="950400" cy="13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443" h="1946223">
                        <a:moveTo>
                          <a:pt x="1372443" y="0"/>
                        </a:moveTo>
                        <a:lnTo>
                          <a:pt x="1366371" y="1946223"/>
                        </a:lnTo>
                        <a:lnTo>
                          <a:pt x="0" y="564095"/>
                        </a:lnTo>
                        <a:cubicBezTo>
                          <a:pt x="354117" y="217080"/>
                          <a:pt x="838245" y="2682"/>
                          <a:pt x="1372443" y="0"/>
                        </a:cubicBezTo>
                        <a:close/>
                      </a:path>
                    </a:pathLst>
                  </a:custGeom>
                  <a:solidFill>
                    <a:srgbClr val="65f8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椭圆 45"/>
                  <p:cNvSpPr/>
                  <p:nvPr/>
                </p:nvSpPr>
                <p:spPr>
                  <a:xfrm rot="8100000">
                    <a:off x="2808720" y="2160000"/>
                    <a:ext cx="952920" cy="13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443" h="1946223">
                        <a:moveTo>
                          <a:pt x="1372443" y="0"/>
                        </a:moveTo>
                        <a:lnTo>
                          <a:pt x="1366371" y="1946223"/>
                        </a:lnTo>
                        <a:lnTo>
                          <a:pt x="0" y="564095"/>
                        </a:lnTo>
                        <a:cubicBezTo>
                          <a:pt x="354117" y="217080"/>
                          <a:pt x="838245" y="2682"/>
                          <a:pt x="1372443" y="0"/>
                        </a:cubicBezTo>
                        <a:close/>
                      </a:path>
                    </a:pathLst>
                  </a:custGeom>
                  <a:solidFill>
                    <a:srgbClr val="1af00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椭圆 45"/>
                  <p:cNvSpPr/>
                  <p:nvPr/>
                </p:nvSpPr>
                <p:spPr>
                  <a:xfrm rot="16200000">
                    <a:off x="1280520" y="2505960"/>
                    <a:ext cx="950400" cy="13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442" h="1959267">
                        <a:moveTo>
                          <a:pt x="1372442" y="0"/>
                        </a:moveTo>
                        <a:cubicBezTo>
                          <a:pt x="1370418" y="653089"/>
                          <a:pt x="1368395" y="1306178"/>
                          <a:pt x="1366371" y="1959267"/>
                        </a:cubicBezTo>
                        <a:lnTo>
                          <a:pt x="0" y="577139"/>
                        </a:lnTo>
                        <a:cubicBezTo>
                          <a:pt x="354117" y="230124"/>
                          <a:pt x="838244" y="2682"/>
                          <a:pt x="1372442" y="0"/>
                        </a:cubicBezTo>
                        <a:close/>
                      </a:path>
                    </a:pathLst>
                  </a:custGeom>
                  <a:solidFill>
                    <a:srgbClr val="47b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椭圆 45"/>
                  <p:cNvSpPr/>
                  <p:nvPr/>
                </p:nvSpPr>
                <p:spPr>
                  <a:xfrm rot="18900000">
                    <a:off x="930240" y="2071080"/>
                    <a:ext cx="1355760" cy="9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7055" h="1955446">
                        <a:moveTo>
                          <a:pt x="1377055" y="0"/>
                        </a:moveTo>
                        <a:cubicBezTo>
                          <a:pt x="1373494" y="651815"/>
                          <a:pt x="1369932" y="1303631"/>
                          <a:pt x="1366371" y="1955446"/>
                        </a:cubicBezTo>
                        <a:lnTo>
                          <a:pt x="0" y="573318"/>
                        </a:lnTo>
                        <a:cubicBezTo>
                          <a:pt x="354117" y="226303"/>
                          <a:pt x="842857" y="2682"/>
                          <a:pt x="1377055" y="0"/>
                        </a:cubicBezTo>
                        <a:close/>
                      </a:path>
                    </a:pathLst>
                  </a:custGeom>
                  <a:solidFill>
                    <a:srgbClr val="008f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椭圆 7"/>
                <p:cNvSpPr/>
                <p:nvPr/>
              </p:nvSpPr>
              <p:spPr>
                <a:xfrm>
                  <a:off x="1677600" y="2074680"/>
                  <a:ext cx="1395720" cy="1395360"/>
                </a:xfrm>
                <a:prstGeom prst="ellipse">
                  <a:avLst/>
                </a:prstGeom>
                <a:solidFill>
                  <a:srgbClr val="404040"/>
                </a:solidFill>
                <a:ln w="25560">
                  <a:solidFill>
                    <a:srgbClr val="26262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组合 8"/>
                <p:cNvGrpSpPr/>
                <p:nvPr/>
              </p:nvGrpSpPr>
              <p:grpSpPr>
                <a:xfrm>
                  <a:off x="1928160" y="2301840"/>
                  <a:ext cx="1294920" cy="886680"/>
                  <a:chOff x="1928160" y="2301840"/>
                  <a:chExt cx="1294920" cy="886680"/>
                </a:xfrm>
              </p:grpSpPr>
              <p:sp>
                <p:nvSpPr>
                  <p:cNvPr id="346" name="等腰三角形 2"/>
                  <p:cNvSpPr/>
                  <p:nvPr/>
                </p:nvSpPr>
                <p:spPr>
                  <a:xfrm rot="5400000">
                    <a:off x="2132280" y="2097720"/>
                    <a:ext cx="886680" cy="129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4940" h="1772224">
                        <a:moveTo>
                          <a:pt x="607470" y="0"/>
                        </a:moveTo>
                        <a:lnTo>
                          <a:pt x="754383" y="577227"/>
                        </a:lnTo>
                        <a:cubicBezTo>
                          <a:pt x="1019137" y="641157"/>
                          <a:pt x="1214940" y="880090"/>
                          <a:pt x="1214940" y="1164754"/>
                        </a:cubicBezTo>
                        <a:cubicBezTo>
                          <a:pt x="1214940" y="1500250"/>
                          <a:pt x="942966" y="1772224"/>
                          <a:pt x="607470" y="1772224"/>
                        </a:cubicBezTo>
                        <a:cubicBezTo>
                          <a:pt x="271974" y="1772224"/>
                          <a:pt x="0" y="1500250"/>
                          <a:pt x="0" y="1164754"/>
                        </a:cubicBezTo>
                        <a:cubicBezTo>
                          <a:pt x="0" y="880090"/>
                          <a:pt x="195803" y="641157"/>
                          <a:pt x="460557" y="577227"/>
                        </a:cubicBezTo>
                        <a:lnTo>
                          <a:pt x="60747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TextBox 10"/>
                  <p:cNvSpPr/>
                  <p:nvPr/>
                </p:nvSpPr>
                <p:spPr>
                  <a:xfrm>
                    <a:off x="2044080" y="2470320"/>
                    <a:ext cx="7293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焙烧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燃烧系统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TextBox 2"/>
              <p:cNvSpPr/>
              <p:nvPr/>
            </p:nvSpPr>
            <p:spPr>
              <a:xfrm>
                <a:off x="2428920" y="1414080"/>
                <a:ext cx="2021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1600" spc="-1" strike="noStrike">
                    <a:solidFill>
                      <a:srgbClr val="3333cc"/>
                    </a:solidFill>
                    <a:latin typeface="微软雅黑"/>
                    <a:ea typeface="微软雅黑"/>
                  </a:rPr>
                  <a:t>、助燃空气打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3333cc"/>
                    </a:solidFill>
                    <a:latin typeface="微软雅黑"/>
                    <a:ea typeface="微软雅黑"/>
                  </a:rPr>
                  <a:t>（压力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微软雅黑"/>
                    <a:ea typeface="微软雅黑"/>
                  </a:rPr>
                  <a:t>8.28kpa</a:t>
                </a:r>
                <a:r>
                  <a:rPr b="1" lang="zh-CN" sz="1600" spc="-1" strike="noStrike">
                    <a:solidFill>
                      <a:srgbClr val="3333cc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23"/>
              <p:cNvSpPr/>
              <p:nvPr/>
            </p:nvSpPr>
            <p:spPr>
              <a:xfrm>
                <a:off x="2627280" y="3369600"/>
                <a:ext cx="202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3333cc"/>
                    </a:solidFill>
                    <a:latin typeface="微软雅黑"/>
                    <a:ea typeface="微软雅黑"/>
                  </a:rPr>
                  <a:t>3</a:t>
                </a:r>
                <a:r>
                  <a:rPr b="1" lang="zh-CN" sz="1600" spc="-1" strike="noStrike">
                    <a:solidFill>
                      <a:srgbClr val="3333cc"/>
                    </a:solidFill>
                    <a:latin typeface="微软雅黑"/>
                    <a:ea typeface="微软雅黑"/>
                  </a:rPr>
                  <a:t>、小烧嘴点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Box 23"/>
              <p:cNvSpPr/>
              <p:nvPr/>
            </p:nvSpPr>
            <p:spPr>
              <a:xfrm>
                <a:off x="419040" y="3445560"/>
                <a:ext cx="202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4</a:t>
                </a: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、大烧嘴自动点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Box 23"/>
              <p:cNvSpPr/>
              <p:nvPr/>
            </p:nvSpPr>
            <p:spPr>
              <a:xfrm>
                <a:off x="-108000" y="2502720"/>
                <a:ext cx="2019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5</a:t>
                </a: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、</a:t>
                </a: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5</a:t>
                </a: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分钟后小烧嘴手动灭火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23"/>
              <p:cNvSpPr/>
              <p:nvPr/>
            </p:nvSpPr>
            <p:spPr>
              <a:xfrm>
                <a:off x="257040" y="1607760"/>
                <a:ext cx="202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6</a:t>
                </a:r>
                <a:r>
                  <a:rPr b="1" lang="zh-CN" sz="1600" spc="-1" strike="noStrike">
                    <a:solidFill>
                      <a:srgbClr val="13a907"/>
                    </a:solidFill>
                    <a:latin typeface="微软雅黑"/>
                    <a:ea typeface="微软雅黑"/>
                  </a:rPr>
                  <a:t>、烧嘴点燃成功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Box 23"/>
            <p:cNvSpPr/>
            <p:nvPr/>
          </p:nvSpPr>
          <p:spPr>
            <a:xfrm>
              <a:off x="3119400" y="2261520"/>
              <a:ext cx="202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、焦炉煤气阀门打开（压力</a:t>
              </a:r>
              <a:r>
                <a:rPr b="1" lang="en-US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16.6kpa</a:t>
              </a:r>
              <a:r>
                <a:rPr b="1" lang="zh-CN" sz="1600" spc="-1" strike="noStrike">
                  <a:solidFill>
                    <a:srgbClr val="3333cc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763640" y="3398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直接连接符 8"/>
          <p:cNvSpPr/>
          <p:nvPr/>
        </p:nvSpPr>
        <p:spPr>
          <a:xfrm>
            <a:off x="0" y="1635120"/>
            <a:ext cx="9144000" cy="0"/>
          </a:xfrm>
          <a:prstGeom prst="line">
            <a:avLst/>
          </a:prstGeom>
          <a:ln w="12600">
            <a:solidFill>
              <a:srgbClr val="557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TextBox 9" descr=""/>
          <p:cNvPicPr/>
          <p:nvPr/>
        </p:nvPicPr>
        <p:blipFill>
          <a:blip r:embed="rId1"/>
          <a:stretch/>
        </p:blipFill>
        <p:spPr>
          <a:xfrm>
            <a:off x="3382920" y="554040"/>
            <a:ext cx="2236680" cy="976320"/>
          </a:xfrm>
          <a:prstGeom prst="rect">
            <a:avLst/>
          </a:prstGeom>
          <a:ln w="0">
            <a:noFill/>
          </a:ln>
        </p:spPr>
      </p:pic>
      <p:grpSp>
        <p:nvGrpSpPr>
          <p:cNvPr id="357" name="组合 15"/>
          <p:cNvGrpSpPr/>
          <p:nvPr/>
        </p:nvGrpSpPr>
        <p:grpSpPr>
          <a:xfrm>
            <a:off x="5400720" y="1415880"/>
            <a:ext cx="576360" cy="2303640"/>
            <a:chOff x="5400720" y="1415880"/>
            <a:chExt cx="576360" cy="2303640"/>
          </a:xfrm>
        </p:grpSpPr>
        <p:sp>
          <p:nvSpPr>
            <p:cNvPr id="358" name="矩形 3"/>
            <p:cNvSpPr/>
            <p:nvPr/>
          </p:nvSpPr>
          <p:spPr>
            <a:xfrm>
              <a:off x="5400720" y="141588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14"/>
            <p:cNvSpPr/>
            <p:nvPr/>
          </p:nvSpPr>
          <p:spPr>
            <a:xfrm>
              <a:off x="5487480" y="15807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策实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16"/>
          <p:cNvGrpSpPr/>
          <p:nvPr/>
        </p:nvGrpSpPr>
        <p:grpSpPr>
          <a:xfrm>
            <a:off x="6132600" y="1415880"/>
            <a:ext cx="574560" cy="2303640"/>
            <a:chOff x="6132600" y="1415880"/>
            <a:chExt cx="574560" cy="2303640"/>
          </a:xfrm>
        </p:grpSpPr>
        <p:sp>
          <p:nvSpPr>
            <p:cNvPr id="361" name="矩形 3"/>
            <p:cNvSpPr/>
            <p:nvPr/>
          </p:nvSpPr>
          <p:spPr>
            <a:xfrm>
              <a:off x="6132600" y="1415880"/>
              <a:ext cx="5745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48"/>
            <p:cNvSpPr/>
            <p:nvPr/>
          </p:nvSpPr>
          <p:spPr>
            <a:xfrm>
              <a:off x="6205320" y="15807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检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17"/>
          <p:cNvGrpSpPr/>
          <p:nvPr/>
        </p:nvGrpSpPr>
        <p:grpSpPr>
          <a:xfrm>
            <a:off x="6861240" y="1419120"/>
            <a:ext cx="576360" cy="2303640"/>
            <a:chOff x="6861240" y="1419120"/>
            <a:chExt cx="576360" cy="2303640"/>
          </a:xfrm>
        </p:grpSpPr>
        <p:sp>
          <p:nvSpPr>
            <p:cNvPr id="364" name="矩形 3"/>
            <p:cNvSpPr/>
            <p:nvPr/>
          </p:nvSpPr>
          <p:spPr>
            <a:xfrm>
              <a:off x="6861240" y="141912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50"/>
            <p:cNvSpPr/>
            <p:nvPr/>
          </p:nvSpPr>
          <p:spPr>
            <a:xfrm>
              <a:off x="6952320" y="157392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巩固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18"/>
          <p:cNvGrpSpPr/>
          <p:nvPr/>
        </p:nvGrpSpPr>
        <p:grpSpPr>
          <a:xfrm>
            <a:off x="7596360" y="1415880"/>
            <a:ext cx="576000" cy="2303640"/>
            <a:chOff x="7596360" y="1415880"/>
            <a:chExt cx="576000" cy="2303640"/>
          </a:xfrm>
        </p:grpSpPr>
        <p:sp>
          <p:nvSpPr>
            <p:cNvPr id="367" name="矩形 3"/>
            <p:cNvSpPr/>
            <p:nvPr/>
          </p:nvSpPr>
          <p:spPr>
            <a:xfrm>
              <a:off x="7596360" y="1415880"/>
              <a:ext cx="57600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51"/>
            <p:cNvSpPr/>
            <p:nvPr/>
          </p:nvSpPr>
          <p:spPr>
            <a:xfrm>
              <a:off x="7680240" y="15789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15"/>
          <p:cNvGrpSpPr/>
          <p:nvPr/>
        </p:nvGrpSpPr>
        <p:grpSpPr>
          <a:xfrm>
            <a:off x="4662360" y="1419120"/>
            <a:ext cx="576360" cy="2305080"/>
            <a:chOff x="4662360" y="1419120"/>
            <a:chExt cx="576360" cy="2305080"/>
          </a:xfrm>
        </p:grpSpPr>
        <p:sp>
          <p:nvSpPr>
            <p:cNvPr id="370" name="矩形 3"/>
            <p:cNvSpPr/>
            <p:nvPr/>
          </p:nvSpPr>
          <p:spPr>
            <a:xfrm>
              <a:off x="4662360" y="1419120"/>
              <a:ext cx="576360" cy="230508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8"/>
            <p:cNvSpPr/>
            <p:nvPr/>
          </p:nvSpPr>
          <p:spPr>
            <a:xfrm>
              <a:off x="4753440" y="15843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定对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5"/>
          <p:cNvGrpSpPr/>
          <p:nvPr/>
        </p:nvGrpSpPr>
        <p:grpSpPr>
          <a:xfrm>
            <a:off x="3933720" y="1419120"/>
            <a:ext cx="576360" cy="2305080"/>
            <a:chOff x="3933720" y="1419120"/>
            <a:chExt cx="576360" cy="2305080"/>
          </a:xfrm>
        </p:grpSpPr>
        <p:sp>
          <p:nvSpPr>
            <p:cNvPr id="373" name="矩形 3"/>
            <p:cNvSpPr/>
            <p:nvPr/>
          </p:nvSpPr>
          <p:spPr>
            <a:xfrm>
              <a:off x="3933720" y="1419120"/>
              <a:ext cx="576360" cy="230508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22"/>
            <p:cNvSpPr/>
            <p:nvPr/>
          </p:nvSpPr>
          <p:spPr>
            <a:xfrm>
              <a:off x="4024800" y="15843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要因确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5"/>
          <p:cNvGrpSpPr/>
          <p:nvPr/>
        </p:nvGrpSpPr>
        <p:grpSpPr>
          <a:xfrm>
            <a:off x="3200400" y="1419120"/>
            <a:ext cx="576360" cy="2305080"/>
            <a:chOff x="3200400" y="1419120"/>
            <a:chExt cx="576360" cy="2305080"/>
          </a:xfrm>
        </p:grpSpPr>
        <p:sp>
          <p:nvSpPr>
            <p:cNvPr id="376" name="矩形 3"/>
            <p:cNvSpPr/>
            <p:nvPr/>
          </p:nvSpPr>
          <p:spPr>
            <a:xfrm>
              <a:off x="3200400" y="1419120"/>
              <a:ext cx="576360" cy="230508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Box 25"/>
            <p:cNvSpPr/>
            <p:nvPr/>
          </p:nvSpPr>
          <p:spPr>
            <a:xfrm>
              <a:off x="3291480" y="15843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因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15"/>
          <p:cNvGrpSpPr/>
          <p:nvPr/>
        </p:nvGrpSpPr>
        <p:grpSpPr>
          <a:xfrm>
            <a:off x="2460600" y="1419120"/>
            <a:ext cx="576360" cy="2305080"/>
            <a:chOff x="2460600" y="1419120"/>
            <a:chExt cx="576360" cy="2305080"/>
          </a:xfrm>
        </p:grpSpPr>
        <p:sp>
          <p:nvSpPr>
            <p:cNvPr id="379" name="矩形 3"/>
            <p:cNvSpPr/>
            <p:nvPr/>
          </p:nvSpPr>
          <p:spPr>
            <a:xfrm>
              <a:off x="2460600" y="1419120"/>
              <a:ext cx="576360" cy="230508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32"/>
            <p:cNvSpPr/>
            <p:nvPr/>
          </p:nvSpPr>
          <p:spPr>
            <a:xfrm>
              <a:off x="2551680" y="15843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制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15"/>
          <p:cNvGrpSpPr/>
          <p:nvPr/>
        </p:nvGrpSpPr>
        <p:grpSpPr>
          <a:xfrm>
            <a:off x="1697040" y="1419120"/>
            <a:ext cx="576360" cy="2305080"/>
            <a:chOff x="1697040" y="1419120"/>
            <a:chExt cx="576360" cy="2305080"/>
          </a:xfrm>
        </p:grpSpPr>
        <p:sp>
          <p:nvSpPr>
            <p:cNvPr id="382" name="矩形 3"/>
            <p:cNvSpPr/>
            <p:nvPr/>
          </p:nvSpPr>
          <p:spPr>
            <a:xfrm>
              <a:off x="1697040" y="1419120"/>
              <a:ext cx="576360" cy="230508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5"/>
            <p:cNvSpPr/>
            <p:nvPr/>
          </p:nvSpPr>
          <p:spPr>
            <a:xfrm>
              <a:off x="1788120" y="15843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状调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15"/>
          <p:cNvGrpSpPr/>
          <p:nvPr/>
        </p:nvGrpSpPr>
        <p:grpSpPr>
          <a:xfrm>
            <a:off x="971640" y="1419120"/>
            <a:ext cx="576000" cy="2305080"/>
            <a:chOff x="971640" y="1419120"/>
            <a:chExt cx="576000" cy="2305080"/>
          </a:xfrm>
        </p:grpSpPr>
        <p:sp>
          <p:nvSpPr>
            <p:cNvPr id="385" name="矩形 3"/>
            <p:cNvSpPr/>
            <p:nvPr/>
          </p:nvSpPr>
          <p:spPr>
            <a:xfrm>
              <a:off x="971640" y="1419120"/>
              <a:ext cx="576000" cy="230508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38"/>
            <p:cNvSpPr/>
            <p:nvPr/>
          </p:nvSpPr>
          <p:spPr>
            <a:xfrm>
              <a:off x="1054800" y="15843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题理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5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5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5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接连接符 8"/>
          <p:cNvSpPr/>
          <p:nvPr/>
        </p:nvSpPr>
        <p:spPr>
          <a:xfrm>
            <a:off x="0" y="1635120"/>
            <a:ext cx="9144000" cy="0"/>
          </a:xfrm>
          <a:prstGeom prst="line">
            <a:avLst/>
          </a:prstGeom>
          <a:ln w="12600">
            <a:solidFill>
              <a:srgbClr val="557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1"/>
          <p:cNvGrpSpPr/>
          <p:nvPr/>
        </p:nvGrpSpPr>
        <p:grpSpPr>
          <a:xfrm>
            <a:off x="971640" y="1419120"/>
            <a:ext cx="576000" cy="2303640"/>
            <a:chOff x="971640" y="1419120"/>
            <a:chExt cx="576000" cy="2303640"/>
          </a:xfrm>
        </p:grpSpPr>
        <p:sp>
          <p:nvSpPr>
            <p:cNvPr id="389" name="矩形 3"/>
            <p:cNvSpPr/>
            <p:nvPr/>
          </p:nvSpPr>
          <p:spPr>
            <a:xfrm>
              <a:off x="971640" y="1419120"/>
              <a:ext cx="57600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43"/>
            <p:cNvSpPr/>
            <p:nvPr/>
          </p:nvSpPr>
          <p:spPr>
            <a:xfrm>
              <a:off x="1062360" y="157824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题理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3"/>
          <p:cNvGrpSpPr/>
          <p:nvPr/>
        </p:nvGrpSpPr>
        <p:grpSpPr>
          <a:xfrm>
            <a:off x="971640" y="1419120"/>
            <a:ext cx="576000" cy="2303640"/>
            <a:chOff x="971640" y="1419120"/>
            <a:chExt cx="576000" cy="2303640"/>
          </a:xfrm>
        </p:grpSpPr>
        <p:sp>
          <p:nvSpPr>
            <p:cNvPr id="392" name="矩形 3"/>
            <p:cNvSpPr/>
            <p:nvPr/>
          </p:nvSpPr>
          <p:spPr>
            <a:xfrm>
              <a:off x="971640" y="1419120"/>
              <a:ext cx="57600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46"/>
            <p:cNvSpPr/>
            <p:nvPr/>
          </p:nvSpPr>
          <p:spPr>
            <a:xfrm>
              <a:off x="1033920" y="168552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题理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5"/>
          <p:cNvGrpSpPr/>
          <p:nvPr/>
        </p:nvGrpSpPr>
        <p:grpSpPr>
          <a:xfrm>
            <a:off x="5400720" y="1415880"/>
            <a:ext cx="576360" cy="2303640"/>
            <a:chOff x="5400720" y="1415880"/>
            <a:chExt cx="576360" cy="2303640"/>
          </a:xfrm>
        </p:grpSpPr>
        <p:sp>
          <p:nvSpPr>
            <p:cNvPr id="395" name="矩形 3"/>
            <p:cNvSpPr/>
            <p:nvPr/>
          </p:nvSpPr>
          <p:spPr>
            <a:xfrm>
              <a:off x="5400720" y="141588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52"/>
            <p:cNvSpPr/>
            <p:nvPr/>
          </p:nvSpPr>
          <p:spPr>
            <a:xfrm>
              <a:off x="5487480" y="15807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策实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16"/>
          <p:cNvGrpSpPr/>
          <p:nvPr/>
        </p:nvGrpSpPr>
        <p:grpSpPr>
          <a:xfrm>
            <a:off x="6130800" y="1415880"/>
            <a:ext cx="576360" cy="2303640"/>
            <a:chOff x="6130800" y="1415880"/>
            <a:chExt cx="576360" cy="2303640"/>
          </a:xfrm>
        </p:grpSpPr>
        <p:sp>
          <p:nvSpPr>
            <p:cNvPr id="398" name="矩形 3"/>
            <p:cNvSpPr/>
            <p:nvPr/>
          </p:nvSpPr>
          <p:spPr>
            <a:xfrm>
              <a:off x="6130800" y="141588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55"/>
            <p:cNvSpPr/>
            <p:nvPr/>
          </p:nvSpPr>
          <p:spPr>
            <a:xfrm>
              <a:off x="6206400" y="15807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检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17"/>
          <p:cNvGrpSpPr/>
          <p:nvPr/>
        </p:nvGrpSpPr>
        <p:grpSpPr>
          <a:xfrm>
            <a:off x="6861240" y="1419120"/>
            <a:ext cx="576360" cy="2303640"/>
            <a:chOff x="6861240" y="1419120"/>
            <a:chExt cx="576360" cy="2303640"/>
          </a:xfrm>
        </p:grpSpPr>
        <p:sp>
          <p:nvSpPr>
            <p:cNvPr id="401" name="矩形 3"/>
            <p:cNvSpPr/>
            <p:nvPr/>
          </p:nvSpPr>
          <p:spPr>
            <a:xfrm>
              <a:off x="6861240" y="141912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58"/>
            <p:cNvSpPr/>
            <p:nvPr/>
          </p:nvSpPr>
          <p:spPr>
            <a:xfrm>
              <a:off x="6952320" y="157392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巩固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8"/>
          <p:cNvGrpSpPr/>
          <p:nvPr/>
        </p:nvGrpSpPr>
        <p:grpSpPr>
          <a:xfrm>
            <a:off x="7596360" y="1415880"/>
            <a:ext cx="576000" cy="2303640"/>
            <a:chOff x="7596360" y="1415880"/>
            <a:chExt cx="576000" cy="2303640"/>
          </a:xfrm>
        </p:grpSpPr>
        <p:sp>
          <p:nvSpPr>
            <p:cNvPr id="404" name="矩形 3"/>
            <p:cNvSpPr/>
            <p:nvPr/>
          </p:nvSpPr>
          <p:spPr>
            <a:xfrm>
              <a:off x="7596360" y="1415880"/>
              <a:ext cx="57600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61"/>
            <p:cNvSpPr/>
            <p:nvPr/>
          </p:nvSpPr>
          <p:spPr>
            <a:xfrm>
              <a:off x="7687080" y="15789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15"/>
          <p:cNvGrpSpPr/>
          <p:nvPr/>
        </p:nvGrpSpPr>
        <p:grpSpPr>
          <a:xfrm>
            <a:off x="4662360" y="1419120"/>
            <a:ext cx="576360" cy="2303640"/>
            <a:chOff x="4662360" y="1419120"/>
            <a:chExt cx="576360" cy="2303640"/>
          </a:xfrm>
        </p:grpSpPr>
        <p:sp>
          <p:nvSpPr>
            <p:cNvPr id="407" name="矩形 3"/>
            <p:cNvSpPr/>
            <p:nvPr/>
          </p:nvSpPr>
          <p:spPr>
            <a:xfrm>
              <a:off x="4662360" y="141912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64"/>
            <p:cNvSpPr/>
            <p:nvPr/>
          </p:nvSpPr>
          <p:spPr>
            <a:xfrm>
              <a:off x="4753440" y="158400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定对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15"/>
          <p:cNvGrpSpPr/>
          <p:nvPr/>
        </p:nvGrpSpPr>
        <p:grpSpPr>
          <a:xfrm>
            <a:off x="3933720" y="1419120"/>
            <a:ext cx="576360" cy="2303640"/>
            <a:chOff x="3933720" y="1419120"/>
            <a:chExt cx="576360" cy="2303640"/>
          </a:xfrm>
        </p:grpSpPr>
        <p:sp>
          <p:nvSpPr>
            <p:cNvPr id="410" name="矩形 3"/>
            <p:cNvSpPr/>
            <p:nvPr/>
          </p:nvSpPr>
          <p:spPr>
            <a:xfrm>
              <a:off x="3933720" y="141912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67"/>
            <p:cNvSpPr/>
            <p:nvPr/>
          </p:nvSpPr>
          <p:spPr>
            <a:xfrm>
              <a:off x="4024800" y="158400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要因确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5"/>
          <p:cNvGrpSpPr/>
          <p:nvPr/>
        </p:nvGrpSpPr>
        <p:grpSpPr>
          <a:xfrm>
            <a:off x="3200400" y="1419120"/>
            <a:ext cx="576360" cy="2303640"/>
            <a:chOff x="3200400" y="1419120"/>
            <a:chExt cx="576360" cy="2303640"/>
          </a:xfrm>
        </p:grpSpPr>
        <p:sp>
          <p:nvSpPr>
            <p:cNvPr id="413" name="矩形 3"/>
            <p:cNvSpPr/>
            <p:nvPr/>
          </p:nvSpPr>
          <p:spPr>
            <a:xfrm>
              <a:off x="3200400" y="141912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70"/>
            <p:cNvSpPr/>
            <p:nvPr/>
          </p:nvSpPr>
          <p:spPr>
            <a:xfrm>
              <a:off x="3291480" y="158400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因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5"/>
          <p:cNvGrpSpPr/>
          <p:nvPr/>
        </p:nvGrpSpPr>
        <p:grpSpPr>
          <a:xfrm>
            <a:off x="2460600" y="1419120"/>
            <a:ext cx="576360" cy="2303640"/>
            <a:chOff x="2460600" y="1419120"/>
            <a:chExt cx="576360" cy="2303640"/>
          </a:xfrm>
        </p:grpSpPr>
        <p:sp>
          <p:nvSpPr>
            <p:cNvPr id="416" name="矩形 3"/>
            <p:cNvSpPr/>
            <p:nvPr/>
          </p:nvSpPr>
          <p:spPr>
            <a:xfrm>
              <a:off x="2460600" y="141912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73"/>
            <p:cNvSpPr/>
            <p:nvPr/>
          </p:nvSpPr>
          <p:spPr>
            <a:xfrm>
              <a:off x="2551680" y="158400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制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15"/>
          <p:cNvGrpSpPr/>
          <p:nvPr/>
        </p:nvGrpSpPr>
        <p:grpSpPr>
          <a:xfrm>
            <a:off x="1697040" y="1419120"/>
            <a:ext cx="576360" cy="2303640"/>
            <a:chOff x="1697040" y="1419120"/>
            <a:chExt cx="576360" cy="2303640"/>
          </a:xfrm>
        </p:grpSpPr>
        <p:sp>
          <p:nvSpPr>
            <p:cNvPr id="419" name="矩形 3"/>
            <p:cNvSpPr/>
            <p:nvPr/>
          </p:nvSpPr>
          <p:spPr>
            <a:xfrm>
              <a:off x="1697040" y="1419120"/>
              <a:ext cx="576360" cy="2303640"/>
            </a:xfrm>
            <a:custGeom>
              <a:avLst/>
              <a:gdLst/>
              <a:ahLst/>
              <a:rect l="l" t="t" r="r" b="b"/>
              <a:pathLst>
                <a:path w="936104" h="3096344">
                  <a:moveTo>
                    <a:pt x="484935" y="64679"/>
                  </a:moveTo>
                  <a:cubicBezTo>
                    <a:pt x="370789" y="64679"/>
                    <a:pt x="278255" y="157213"/>
                    <a:pt x="278255" y="271359"/>
                  </a:cubicBezTo>
                  <a:cubicBezTo>
                    <a:pt x="278255" y="385505"/>
                    <a:pt x="370789" y="478039"/>
                    <a:pt x="484935" y="478039"/>
                  </a:cubicBezTo>
                  <a:cubicBezTo>
                    <a:pt x="599081" y="478039"/>
                    <a:pt x="691615" y="385505"/>
                    <a:pt x="691615" y="271359"/>
                  </a:cubicBezTo>
                  <a:cubicBezTo>
                    <a:pt x="691615" y="157213"/>
                    <a:pt x="599081" y="64679"/>
                    <a:pt x="484935" y="64679"/>
                  </a:cubicBezTo>
                  <a:close/>
                  <a:moveTo>
                    <a:pt x="0" y="0"/>
                  </a:moveTo>
                  <a:lnTo>
                    <a:pt x="936104" y="0"/>
                  </a:lnTo>
                  <a:lnTo>
                    <a:pt x="936104" y="3096344"/>
                  </a:lnTo>
                  <a:lnTo>
                    <a:pt x="0" y="3096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76"/>
            <p:cNvSpPr/>
            <p:nvPr/>
          </p:nvSpPr>
          <p:spPr>
            <a:xfrm>
              <a:off x="1788120" y="158400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状调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TextBox 38" descr=""/>
          <p:cNvPicPr/>
          <p:nvPr/>
        </p:nvPicPr>
        <p:blipFill>
          <a:blip r:embed="rId1"/>
          <a:stretch/>
        </p:blipFill>
        <p:spPr>
          <a:xfrm>
            <a:off x="3382920" y="554040"/>
            <a:ext cx="2236680" cy="9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15"/>
          <p:cNvGrpSpPr/>
          <p:nvPr/>
        </p:nvGrpSpPr>
        <p:grpSpPr>
          <a:xfrm>
            <a:off x="611280" y="1592280"/>
            <a:ext cx="2689200" cy="2552760"/>
            <a:chOff x="611280" y="1592280"/>
            <a:chExt cx="2689200" cy="2552760"/>
          </a:xfrm>
        </p:grpSpPr>
        <p:sp>
          <p:nvSpPr>
            <p:cNvPr id="423" name="Freeform 6"/>
            <p:cNvSpPr/>
            <p:nvPr/>
          </p:nvSpPr>
          <p:spPr>
            <a:xfrm>
              <a:off x="963720" y="2801880"/>
              <a:ext cx="1984320" cy="990720"/>
            </a:xfrm>
            <a:custGeom>
              <a:avLst/>
              <a:gdLst>
                <a:gd name="textAreaLeft" fmla="*/ 0 w 1984320"/>
                <a:gd name="textAreaRight" fmla="*/ 1984680 w 19843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433" h="216">
                  <a:moveTo>
                    <a:pt x="433" y="0"/>
                  </a:moveTo>
                  <a:cubicBezTo>
                    <a:pt x="433" y="119"/>
                    <a:pt x="336" y="216"/>
                    <a:pt x="216" y="216"/>
                  </a:cubicBezTo>
                  <a:cubicBezTo>
                    <a:pt x="97" y="216"/>
                    <a:pt x="0" y="119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01"/>
                    <a:pt x="115" y="183"/>
                    <a:pt x="216" y="183"/>
                  </a:cubicBezTo>
                  <a:cubicBezTo>
                    <a:pt x="317" y="183"/>
                    <a:pt x="399" y="101"/>
                    <a:pt x="399" y="0"/>
                  </a:cubicBezTo>
                  <a:lnTo>
                    <a:pt x="433" y="0"/>
                  </a:lnTo>
                  <a:close/>
                </a:path>
              </a:pathLst>
            </a:custGeom>
            <a:solidFill>
              <a:srgbClr val="bff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785880" y="2068560"/>
              <a:ext cx="2340000" cy="1901880"/>
            </a:xfrm>
            <a:custGeom>
              <a:avLst/>
              <a:gdLst>
                <a:gd name="textAreaLeft" fmla="*/ 0 w 2340000"/>
                <a:gd name="textAreaRight" fmla="*/ 2340360 w 2340000"/>
                <a:gd name="textAreaTop" fmla="*/ 0 h 1901880"/>
                <a:gd name="textAreaBottom" fmla="*/ 1902240 h 1901880"/>
              </a:gdLst>
              <a:ahLst/>
              <a:rect l="textAreaLeft" t="textAreaTop" r="textAreaRight" b="textAreaBottom"/>
              <a:pathLst>
                <a:path w="511" h="415">
                  <a:moveTo>
                    <a:pt x="511" y="160"/>
                  </a:moveTo>
                  <a:cubicBezTo>
                    <a:pt x="511" y="301"/>
                    <a:pt x="396" y="415"/>
                    <a:pt x="255" y="415"/>
                  </a:cubicBezTo>
                  <a:cubicBezTo>
                    <a:pt x="115" y="415"/>
                    <a:pt x="0" y="301"/>
                    <a:pt x="0" y="160"/>
                  </a:cubicBezTo>
                  <a:cubicBezTo>
                    <a:pt x="0" y="99"/>
                    <a:pt x="21" y="43"/>
                    <a:pt x="57" y="0"/>
                  </a:cubicBezTo>
                  <a:cubicBezTo>
                    <a:pt x="83" y="21"/>
                    <a:pt x="83" y="21"/>
                    <a:pt x="83" y="21"/>
                  </a:cubicBezTo>
                  <a:cubicBezTo>
                    <a:pt x="52" y="59"/>
                    <a:pt x="34" y="107"/>
                    <a:pt x="34" y="160"/>
                  </a:cubicBezTo>
                  <a:cubicBezTo>
                    <a:pt x="34" y="282"/>
                    <a:pt x="133" y="382"/>
                    <a:pt x="255" y="382"/>
                  </a:cubicBezTo>
                  <a:cubicBezTo>
                    <a:pt x="378" y="382"/>
                    <a:pt x="477" y="282"/>
                    <a:pt x="477" y="160"/>
                  </a:cubicBezTo>
                  <a:lnTo>
                    <a:pt x="511" y="160"/>
                  </a:lnTo>
                  <a:close/>
                </a:path>
              </a:pathLst>
            </a:custGeom>
            <a:solidFill>
              <a:srgbClr val="4cf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611280" y="1592280"/>
              <a:ext cx="2689200" cy="2552760"/>
            </a:xfrm>
            <a:custGeom>
              <a:avLst/>
              <a:gdLst>
                <a:gd name="textAreaLeft" fmla="*/ 0 w 2689200"/>
                <a:gd name="textAreaRight" fmla="*/ 2689560 w 2689200"/>
                <a:gd name="textAreaTop" fmla="*/ 0 h 2552760"/>
                <a:gd name="textAreaBottom" fmla="*/ 2553120 h 2552760"/>
              </a:gdLst>
              <a:ahLst/>
              <a:rect l="textAreaLeft" t="textAreaTop" r="textAreaRight" b="textAreaBottom"/>
              <a:pathLst>
                <a:path w="587" h="557">
                  <a:moveTo>
                    <a:pt x="587" y="264"/>
                  </a:moveTo>
                  <a:cubicBezTo>
                    <a:pt x="587" y="426"/>
                    <a:pt x="455" y="557"/>
                    <a:pt x="293" y="557"/>
                  </a:cubicBezTo>
                  <a:cubicBezTo>
                    <a:pt x="132" y="557"/>
                    <a:pt x="0" y="426"/>
                    <a:pt x="0" y="264"/>
                  </a:cubicBezTo>
                  <a:cubicBezTo>
                    <a:pt x="0" y="148"/>
                    <a:pt x="67" y="48"/>
                    <a:pt x="165" y="0"/>
                  </a:cubicBezTo>
                  <a:cubicBezTo>
                    <a:pt x="179" y="30"/>
                    <a:pt x="179" y="30"/>
                    <a:pt x="179" y="30"/>
                  </a:cubicBezTo>
                  <a:cubicBezTo>
                    <a:pt x="93" y="73"/>
                    <a:pt x="33" y="161"/>
                    <a:pt x="33" y="264"/>
                  </a:cubicBezTo>
                  <a:cubicBezTo>
                    <a:pt x="33" y="407"/>
                    <a:pt x="150" y="524"/>
                    <a:pt x="293" y="524"/>
                  </a:cubicBezTo>
                  <a:cubicBezTo>
                    <a:pt x="437" y="524"/>
                    <a:pt x="553" y="407"/>
                    <a:pt x="553" y="264"/>
                  </a:cubicBezTo>
                  <a:lnTo>
                    <a:pt x="587" y="264"/>
                  </a:lnTo>
                  <a:close/>
                </a:path>
              </a:pathLst>
            </a:custGeom>
            <a:solidFill>
              <a:srgbClr val="13a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2"/>
          <p:cNvGrpSpPr/>
          <p:nvPr/>
        </p:nvGrpSpPr>
        <p:grpSpPr>
          <a:xfrm>
            <a:off x="1176480" y="1773360"/>
            <a:ext cx="4979880" cy="438120"/>
            <a:chOff x="1176480" y="1773360"/>
            <a:chExt cx="4979880" cy="438120"/>
          </a:xfrm>
        </p:grpSpPr>
        <p:sp>
          <p:nvSpPr>
            <p:cNvPr id="427" name="矩形 30"/>
            <p:cNvSpPr/>
            <p:nvPr/>
          </p:nvSpPr>
          <p:spPr>
            <a:xfrm>
              <a:off x="2217600" y="1779120"/>
              <a:ext cx="277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问题点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生产统计：焙烧炉烧嘴点火故障月最低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2050"/>
            <p:cNvSpPr/>
            <p:nvPr/>
          </p:nvSpPr>
          <p:spPr>
            <a:xfrm>
              <a:off x="1176480" y="1773360"/>
              <a:ext cx="4979880" cy="438120"/>
            </a:xfrm>
            <a:custGeom>
              <a:avLst/>
              <a:gdLst/>
              <a:ahLst/>
              <a:rect l="l" t="t" r="r" b="b"/>
              <a:pathLst>
                <a:path w="4838700" h="438150">
                  <a:moveTo>
                    <a:pt x="0" y="438150"/>
                  </a:moveTo>
                  <a:lnTo>
                    <a:pt x="4400550" y="438150"/>
                  </a:lnTo>
                  <a:lnTo>
                    <a:pt x="4838700" y="0"/>
                  </a:lnTo>
                </a:path>
              </a:pathLst>
            </a:custGeom>
            <a:noFill/>
            <a:ln w="12600">
              <a:solidFill>
                <a:srgbClr val="385d8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1"/>
          <p:cNvGrpSpPr/>
          <p:nvPr/>
        </p:nvGrpSpPr>
        <p:grpSpPr>
          <a:xfrm>
            <a:off x="1485720" y="1203480"/>
            <a:ext cx="4123080" cy="431640"/>
            <a:chOff x="1485720" y="1203480"/>
            <a:chExt cx="4123080" cy="431640"/>
          </a:xfrm>
        </p:grpSpPr>
        <p:sp>
          <p:nvSpPr>
            <p:cNvPr id="430" name="任意多边形 37"/>
            <p:cNvSpPr/>
            <p:nvPr/>
          </p:nvSpPr>
          <p:spPr>
            <a:xfrm>
              <a:off x="1485720" y="1203480"/>
              <a:ext cx="4123080" cy="431640"/>
            </a:xfrm>
            <a:custGeom>
              <a:avLst/>
              <a:gdLst/>
              <a:ahLst/>
              <a:rect l="l" t="t" r="r" b="b"/>
              <a:pathLst>
                <a:path w="3695700" h="406400">
                  <a:moveTo>
                    <a:pt x="0" y="406400"/>
                  </a:moveTo>
                  <a:lnTo>
                    <a:pt x="3289300" y="406400"/>
                  </a:lnTo>
                  <a:lnTo>
                    <a:pt x="3695700" y="0"/>
                  </a:lnTo>
                </a:path>
              </a:pathLst>
            </a:custGeom>
            <a:noFill/>
            <a:ln w="12600">
              <a:solidFill>
                <a:srgbClr val="385d8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39"/>
            <p:cNvSpPr/>
            <p:nvPr/>
          </p:nvSpPr>
          <p:spPr>
            <a:xfrm>
              <a:off x="2229480" y="1233720"/>
              <a:ext cx="25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生产要求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保证焙烧炉正常运行，提高生产效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6"/>
          <p:cNvGrpSpPr/>
          <p:nvPr/>
        </p:nvGrpSpPr>
        <p:grpSpPr>
          <a:xfrm>
            <a:off x="973080" y="2355840"/>
            <a:ext cx="4175280" cy="420840"/>
            <a:chOff x="973080" y="2355840"/>
            <a:chExt cx="4175280" cy="420840"/>
          </a:xfrm>
        </p:grpSpPr>
        <p:sp>
          <p:nvSpPr>
            <p:cNvPr id="433" name="任意多边形 2048"/>
            <p:cNvSpPr/>
            <p:nvPr/>
          </p:nvSpPr>
          <p:spPr>
            <a:xfrm>
              <a:off x="973080" y="2369880"/>
              <a:ext cx="4175280" cy="406800"/>
            </a:xfrm>
            <a:custGeom>
              <a:avLst/>
              <a:gdLst/>
              <a:ahLst/>
              <a:rect l="l" t="t" r="r" b="b"/>
              <a:pathLst>
                <a:path w="3787775" h="406400">
                  <a:moveTo>
                    <a:pt x="0" y="406400"/>
                  </a:moveTo>
                  <a:lnTo>
                    <a:pt x="3381375" y="406400"/>
                  </a:lnTo>
                  <a:lnTo>
                    <a:pt x="3787775" y="0"/>
                  </a:lnTo>
                </a:path>
              </a:pathLst>
            </a:custGeom>
            <a:noFill/>
            <a:ln w="12600">
              <a:solidFill>
                <a:srgbClr val="385d8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40"/>
            <p:cNvSpPr/>
            <p:nvPr/>
          </p:nvSpPr>
          <p:spPr>
            <a:xfrm>
              <a:off x="2010600" y="2355840"/>
              <a:ext cx="225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课题选定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降低焙烧炉烧嘴 点火故障次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Box 29"/>
          <p:cNvSpPr/>
          <p:nvPr/>
        </p:nvSpPr>
        <p:spPr>
          <a:xfrm>
            <a:off x="3851280" y="4111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图表 32" descr=""/>
          <p:cNvPicPr/>
          <p:nvPr/>
        </p:nvPicPr>
        <p:blipFill>
          <a:blip r:embed="rId1"/>
          <a:stretch/>
        </p:blipFill>
        <p:spPr>
          <a:xfrm>
            <a:off x="4670280" y="1733400"/>
            <a:ext cx="4364280" cy="31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41200" y="1077840"/>
            <a:ext cx="89028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份   烧嘴点火失败的原因以及生产报表反映故障次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252360" y="4516560"/>
            <a:ext cx="34560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396720" y="4084560"/>
            <a:ext cx="84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注：由于人员划转等原因，本小组只收集到从</a:t>
            </a: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11</a:t>
            </a: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</a:t>
            </a: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6</a:t>
            </a: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月开始的酸再生机组设备故障数据，故数据自</a:t>
            </a: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1</a:t>
            </a:r>
            <a:r>
              <a:rPr b="1" lang="en-US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</a:t>
            </a:r>
            <a:r>
              <a:rPr b="1" lang="en-US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10</a:t>
            </a:r>
            <a:r>
              <a:rPr b="1" lang="zh-CN" sz="1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月起开始统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96720" y="1563840"/>
          <a:ext cx="8424720" cy="2338200"/>
        </p:xfrm>
        <a:graphic>
          <a:graphicData uri="http://schemas.openxmlformats.org/drawingml/2006/table">
            <a:tbl>
              <a:tblPr/>
              <a:tblGrid>
                <a:gridCol w="1325520"/>
                <a:gridCol w="833400"/>
                <a:gridCol w="863640"/>
                <a:gridCol w="901800"/>
                <a:gridCol w="901800"/>
                <a:gridCol w="901440"/>
                <a:gridCol w="903240"/>
                <a:gridCol w="901800"/>
                <a:gridCol w="892080"/>
              </a:tblGrid>
              <a:tr h="49644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</a:t>
                      </a:r>
                      <a:r>
                        <a:rPr b="1" lang="zh-CN" sz="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问题点  故障次数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</a:tr>
              <a:tr h="2952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烧嘴故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842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压缩空气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压力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716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煤气阀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开口度故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970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废气风机  故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9376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其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33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cc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441" name="Line 119"/>
          <p:cNvSpPr/>
          <p:nvPr/>
        </p:nvSpPr>
        <p:spPr>
          <a:xfrm>
            <a:off x="395280" y="1563840"/>
            <a:ext cx="1297080" cy="360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0"/>
          <p:cNvSpPr/>
          <p:nvPr/>
        </p:nvSpPr>
        <p:spPr>
          <a:xfrm>
            <a:off x="395280" y="1563840"/>
            <a:ext cx="720720" cy="50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7"/>
          <p:cNvSpPr/>
          <p:nvPr/>
        </p:nvSpPr>
        <p:spPr>
          <a:xfrm>
            <a:off x="7343640" y="2682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现状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3:06:11Z</dcterms:created>
  <dc:creator>melen</dc:creator>
  <dc:description/>
  <dc:language>en-US</dc:language>
  <cp:lastModifiedBy>YANGS</cp:lastModifiedBy>
  <dcterms:modified xsi:type="dcterms:W3CDTF">2015-08-03T12:34:33Z</dcterms:modified>
  <cp:revision>22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