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C85-9A31-4571-98AE-6782A6D7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934-CEC0-4883-8A2C-96B4489D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BFA-B5BD-4BE0-96CA-AA7EF7BC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BA1-F27D-434F-80D0-47CA52B4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C78-9739-41F8-968A-537E59B2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F37-051A-4D92-ACDA-E53DF607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3D9-6254-436E-944B-BFC3F1DD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076-5D2D-432E-99E4-00BC64FC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21F-9081-4CC2-AA8B-B24E3D52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A24-6F9D-4913-930B-F3135200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58B-48B9-4B74-A70C-F15C9FF6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7D4-70BF-49DC-89CE-EDCA86FB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B9A8-550D-47F0-8004-D5787B93F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6"/>
          <p:cNvSpPr/>
          <p:nvPr/>
        </p:nvSpPr>
        <p:spPr>
          <a:xfrm>
            <a:off x="4572000" y="0"/>
            <a:ext cx="4038480" cy="68659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6865920"/>
              <a:gd name="textAreaBottom" fmla="*/ 6866280 h 6865920"/>
            </a:gdLst>
            <a:ahLst/>
            <a:rect l="textAreaLeft" t="textAreaTop" r="textAreaRight" b="textAreaBottom"/>
            <a:pathLst>
              <a:path w="2544" h="4325">
                <a:moveTo>
                  <a:pt x="0" y="0"/>
                </a:moveTo>
                <a:lnTo>
                  <a:pt x="0" y="4325"/>
                </a:lnTo>
                <a:lnTo>
                  <a:pt x="2544" y="4032"/>
                </a:lnTo>
                <a:lnTo>
                  <a:pt x="0" y="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5"/>
          <p:cNvSpPr/>
          <p:nvPr/>
        </p:nvSpPr>
        <p:spPr>
          <a:xfrm>
            <a:off x="4572000" y="0"/>
            <a:ext cx="4038480" cy="68659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6865920"/>
              <a:gd name="textAreaBottom" fmla="*/ 6866280 h 6865920"/>
            </a:gdLst>
            <a:ahLst/>
            <a:rect l="textAreaLeft" t="textAreaTop" r="textAreaRight" b="textAreaBottom"/>
            <a:pathLst>
              <a:path w="2544" h="4325">
                <a:moveTo>
                  <a:pt x="0" y="0"/>
                </a:moveTo>
                <a:lnTo>
                  <a:pt x="0" y="4325"/>
                </a:lnTo>
                <a:lnTo>
                  <a:pt x="2544" y="403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238720" y="3384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ff"/>
                </a:solidFill>
                <a:latin typeface="Arial"/>
                <a:ea typeface="黑体"/>
              </a:rPr>
              <a:t>成就未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238720" y="1555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ff"/>
                </a:solidFill>
                <a:latin typeface="Arial"/>
                <a:ea typeface="黑体"/>
              </a:rPr>
              <a:t>塑造真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9"/>
          <p:cNvSpPr/>
          <p:nvPr/>
        </p:nvSpPr>
        <p:spPr>
          <a:xfrm flipH="1" flipV="1">
            <a:off x="4572000" y="0"/>
            <a:ext cx="4038480" cy="6400800"/>
          </a:xfrm>
          <a:prstGeom prst="line">
            <a:avLst/>
          </a:prstGeom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0"/>
          <p:cNvSpPr/>
          <p:nvPr/>
        </p:nvSpPr>
        <p:spPr>
          <a:xfrm flipH="1">
            <a:off x="4572000" y="6400800"/>
            <a:ext cx="4038480" cy="471600"/>
          </a:xfrm>
          <a:prstGeom prst="line">
            <a:avLst/>
          </a:prstGeom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1"/>
          <p:cNvSpPr/>
          <p:nvPr/>
        </p:nvSpPr>
        <p:spPr>
          <a:xfrm flipH="1" flipV="1">
            <a:off x="5181480" y="4267080"/>
            <a:ext cx="1951200" cy="1214640"/>
          </a:xfrm>
          <a:prstGeom prst="line">
            <a:avLst/>
          </a:prstGeom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2"/>
          <p:cNvSpPr/>
          <p:nvPr/>
        </p:nvSpPr>
        <p:spPr>
          <a:xfrm flipH="1" flipV="1">
            <a:off x="8305920" y="1092240"/>
            <a:ext cx="304560" cy="5308560"/>
          </a:xfrm>
          <a:prstGeom prst="line">
            <a:avLst/>
          </a:prstGeom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3"/>
          <p:cNvSpPr/>
          <p:nvPr/>
        </p:nvSpPr>
        <p:spPr>
          <a:xfrm flipH="1" flipV="1">
            <a:off x="6792840" y="341280"/>
            <a:ext cx="379440" cy="1287360"/>
          </a:xfrm>
          <a:prstGeom prst="line">
            <a:avLst/>
          </a:prstGeom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5"/>
          <p:cNvSpPr/>
          <p:nvPr/>
        </p:nvSpPr>
        <p:spPr>
          <a:xfrm>
            <a:off x="6629400" y="2971800"/>
            <a:ext cx="2511360" cy="3900600"/>
          </a:xfrm>
          <a:custGeom>
            <a:avLst/>
            <a:gdLst>
              <a:gd name="textAreaLeft" fmla="*/ 0 w 2511360"/>
              <a:gd name="textAreaRight" fmla="*/ 2511720 w 2511360"/>
              <a:gd name="textAreaTop" fmla="*/ 0 h 3900600"/>
              <a:gd name="textAreaBottom" fmla="*/ 3900960 h 3900600"/>
            </a:gdLst>
            <a:ahLst/>
            <a:rect l="textAreaLeft" t="textAreaTop" r="textAreaRight" b="textAreaBottom"/>
            <a:pathLst>
              <a:path w="1582" h="2457">
                <a:moveTo>
                  <a:pt x="669" y="2454"/>
                </a:moveTo>
                <a:lnTo>
                  <a:pt x="468" y="2263"/>
                </a:lnTo>
                <a:lnTo>
                  <a:pt x="379" y="2208"/>
                </a:lnTo>
                <a:lnTo>
                  <a:pt x="334" y="2181"/>
                </a:lnTo>
                <a:lnTo>
                  <a:pt x="290" y="2154"/>
                </a:lnTo>
                <a:lnTo>
                  <a:pt x="245" y="2127"/>
                </a:lnTo>
                <a:lnTo>
                  <a:pt x="245" y="2072"/>
                </a:lnTo>
                <a:lnTo>
                  <a:pt x="134" y="1990"/>
                </a:lnTo>
                <a:lnTo>
                  <a:pt x="89" y="2018"/>
                </a:lnTo>
                <a:lnTo>
                  <a:pt x="67" y="2045"/>
                </a:lnTo>
                <a:lnTo>
                  <a:pt x="45" y="2018"/>
                </a:lnTo>
                <a:lnTo>
                  <a:pt x="22" y="2045"/>
                </a:lnTo>
                <a:lnTo>
                  <a:pt x="0" y="2018"/>
                </a:lnTo>
                <a:lnTo>
                  <a:pt x="0" y="1881"/>
                </a:lnTo>
                <a:lnTo>
                  <a:pt x="55" y="1835"/>
                </a:lnTo>
                <a:lnTo>
                  <a:pt x="93" y="1787"/>
                </a:lnTo>
                <a:lnTo>
                  <a:pt x="145" y="1782"/>
                </a:lnTo>
                <a:lnTo>
                  <a:pt x="184" y="1808"/>
                </a:lnTo>
                <a:lnTo>
                  <a:pt x="184" y="1851"/>
                </a:lnTo>
                <a:lnTo>
                  <a:pt x="348" y="1930"/>
                </a:lnTo>
                <a:lnTo>
                  <a:pt x="417" y="1898"/>
                </a:lnTo>
                <a:lnTo>
                  <a:pt x="516" y="1993"/>
                </a:lnTo>
                <a:lnTo>
                  <a:pt x="607" y="2051"/>
                </a:lnTo>
                <a:lnTo>
                  <a:pt x="667" y="2040"/>
                </a:lnTo>
                <a:lnTo>
                  <a:pt x="779" y="2083"/>
                </a:lnTo>
                <a:lnTo>
                  <a:pt x="827" y="2141"/>
                </a:lnTo>
                <a:lnTo>
                  <a:pt x="892" y="2125"/>
                </a:lnTo>
                <a:lnTo>
                  <a:pt x="771" y="1993"/>
                </a:lnTo>
                <a:lnTo>
                  <a:pt x="646" y="1988"/>
                </a:lnTo>
                <a:lnTo>
                  <a:pt x="581" y="1937"/>
                </a:lnTo>
                <a:lnTo>
                  <a:pt x="542" y="1861"/>
                </a:lnTo>
                <a:lnTo>
                  <a:pt x="551" y="1771"/>
                </a:lnTo>
                <a:lnTo>
                  <a:pt x="538" y="1734"/>
                </a:lnTo>
                <a:lnTo>
                  <a:pt x="486" y="1640"/>
                </a:lnTo>
                <a:lnTo>
                  <a:pt x="555" y="1556"/>
                </a:lnTo>
                <a:lnTo>
                  <a:pt x="555" y="1460"/>
                </a:lnTo>
                <a:lnTo>
                  <a:pt x="585" y="1413"/>
                </a:lnTo>
                <a:lnTo>
                  <a:pt x="598" y="1324"/>
                </a:lnTo>
                <a:lnTo>
                  <a:pt x="719" y="1250"/>
                </a:lnTo>
                <a:lnTo>
                  <a:pt x="784" y="1250"/>
                </a:lnTo>
                <a:lnTo>
                  <a:pt x="905" y="1281"/>
                </a:lnTo>
                <a:lnTo>
                  <a:pt x="719" y="896"/>
                </a:lnTo>
                <a:lnTo>
                  <a:pt x="685" y="896"/>
                </a:lnTo>
                <a:lnTo>
                  <a:pt x="637" y="686"/>
                </a:lnTo>
                <a:lnTo>
                  <a:pt x="654" y="649"/>
                </a:lnTo>
                <a:lnTo>
                  <a:pt x="512" y="158"/>
                </a:lnTo>
                <a:lnTo>
                  <a:pt x="477" y="74"/>
                </a:lnTo>
                <a:lnTo>
                  <a:pt x="516" y="37"/>
                </a:lnTo>
                <a:lnTo>
                  <a:pt x="628" y="37"/>
                </a:lnTo>
                <a:lnTo>
                  <a:pt x="693" y="0"/>
                </a:lnTo>
                <a:lnTo>
                  <a:pt x="711" y="42"/>
                </a:lnTo>
                <a:lnTo>
                  <a:pt x="724" y="74"/>
                </a:lnTo>
                <a:lnTo>
                  <a:pt x="715" y="121"/>
                </a:lnTo>
                <a:lnTo>
                  <a:pt x="672" y="127"/>
                </a:lnTo>
                <a:lnTo>
                  <a:pt x="883" y="538"/>
                </a:lnTo>
                <a:lnTo>
                  <a:pt x="922" y="559"/>
                </a:lnTo>
                <a:lnTo>
                  <a:pt x="961" y="664"/>
                </a:lnTo>
                <a:lnTo>
                  <a:pt x="965" y="696"/>
                </a:lnTo>
                <a:lnTo>
                  <a:pt x="995" y="738"/>
                </a:lnTo>
                <a:lnTo>
                  <a:pt x="995" y="770"/>
                </a:lnTo>
                <a:lnTo>
                  <a:pt x="1065" y="923"/>
                </a:lnTo>
                <a:lnTo>
                  <a:pt x="1159" y="976"/>
                </a:lnTo>
                <a:lnTo>
                  <a:pt x="1181" y="1128"/>
                </a:lnTo>
                <a:lnTo>
                  <a:pt x="1254" y="1149"/>
                </a:lnTo>
                <a:lnTo>
                  <a:pt x="1353" y="1366"/>
                </a:lnTo>
                <a:lnTo>
                  <a:pt x="1517" y="1582"/>
                </a:lnTo>
                <a:lnTo>
                  <a:pt x="1578" y="1640"/>
                </a:lnTo>
                <a:lnTo>
                  <a:pt x="1582" y="2457"/>
                </a:lnTo>
                <a:lnTo>
                  <a:pt x="669" y="2454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4"/>
          <p:cNvSpPr/>
          <p:nvPr/>
        </p:nvSpPr>
        <p:spPr>
          <a:xfrm rot="18646800">
            <a:off x="8343360" y="6133680"/>
            <a:ext cx="533520" cy="457200"/>
          </a:xfrm>
          <a:custGeom>
            <a:avLst/>
            <a:gdLst>
              <a:gd name="textAreaLeft" fmla="*/ 124200 w 533520"/>
              <a:gd name="textAreaRight" fmla="*/ 408960 w 533520"/>
              <a:gd name="textAreaTop" fmla="*/ 47880 h 457200"/>
              <a:gd name="textAreaBottom" fmla="*/ 289440 h 4572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-5029200" y="0"/>
            <a:ext cx="960120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428560" y="1035000"/>
            <a:ext cx="207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务 </a:t>
            </a:r>
            <a:r>
              <a:rPr b="1" lang="zh-CN" sz="8000" spc="-1" strike="noStrike">
                <a:solidFill>
                  <a:srgbClr val="ff6600"/>
                </a:solidFill>
                <a:latin typeface="Arial"/>
                <a:ea typeface="黑体"/>
              </a:rPr>
              <a:t>实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428560" y="2863800"/>
            <a:ext cx="207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用 </a:t>
            </a:r>
            <a:r>
              <a:rPr b="1" lang="zh-CN" sz="8000" spc="-1" strike="noStrike">
                <a:solidFill>
                  <a:srgbClr val="ff6600"/>
                </a:solidFill>
                <a:latin typeface="Arial"/>
                <a:ea typeface="黑体"/>
              </a:rPr>
              <a:t>心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758320" y="5105520"/>
            <a:ext cx="31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求职者      </a:t>
            </a:r>
            <a:r>
              <a:rPr b="0" lang="zh-CN" sz="3200" spc="-1" strike="noStrike">
                <a:solidFill>
                  <a:srgbClr val="6699ff"/>
                </a:solidFill>
                <a:latin typeface="Arial"/>
                <a:ea typeface="黑体"/>
              </a:rPr>
              <a:t>小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  <a:ea typeface="黑体"/>
              </a:rPr>
              <a:t>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82640" y="3906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简约实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历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2084 0.46666 E">
                                      <p:cBhvr>
                                        <p:cTn id="25" dur="3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66667E-006 1.85185E-006 L 0.18021 0.79143 E">
                                      <p:cBhvr>
                                        <p:cTn id="27" dur="3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73988E-006 L 0.01667 0.38659 E">
                                      <p:cBhvr>
                                        <p:cTn id="29" dur="3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88889E-006 -2.42775E-006 L 0.26667 0.22196 E">
                                      <p:cBhvr>
                                        <p:cTn id="31" dur="3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35838E-007 L 0.2191 -0.03168 E">
                                      <p:cBhvr>
                                        <p:cTn id="33" dur="3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4.73988E-006 L -0.05139 -1.05618 E">
                                      <p:cBhvr>
                                        <p:cTn id="36" dur="2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66667E-006 -2.60116E-006 L -0.07118 -0.35422 E">
                                      <p:cBhvr>
                                        <p:cTn id="38" dur="2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3.98844E-006 L -0.52083 0.07677 E">
                                      <p:cBhvr>
                                        <p:cTn id="40" dur="2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88889E-006 3.4104E-006 L -1.02326 -0.82081 E">
                                      <p:cBhvr>
                                        <p:cTn id="42" dur="2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0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3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"/>
                            </p:stCondLst>
                            <p:childTnLst>
                              <p:par>
                                <p:cTn id="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6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1.96532E-006 L 0.5125 -1.96532E-006 E">
                                      <p:cBhvr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7"/>
          <p:cNvSpPr/>
          <p:nvPr/>
        </p:nvSpPr>
        <p:spPr>
          <a:xfrm>
            <a:off x="0" y="2666880"/>
            <a:ext cx="91440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533520" y="533520"/>
            <a:ext cx="5562360" cy="3200400"/>
          </a:xfrm>
          <a:prstGeom prst="roundRect">
            <a:avLst>
              <a:gd name="adj" fmla="val 460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66680" y="1968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男 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6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548360" y="24764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老家揭阳 勤劳朴实客家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285560" y="29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居广州番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064160" y="146052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小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1066680" y="501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It’s Me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990720" y="1143000"/>
            <a:ext cx="5562360" cy="3200400"/>
          </a:xfrm>
          <a:prstGeom prst="roundRect">
            <a:avLst>
              <a:gd name="adj" fmla="val 460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5"/>
          <p:cNvSpPr/>
          <p:nvPr/>
        </p:nvSpPr>
        <p:spPr>
          <a:xfrm>
            <a:off x="6586560" y="3809880"/>
            <a:ext cx="3395520" cy="3210120"/>
          </a:xfrm>
          <a:custGeom>
            <a:avLst/>
            <a:gdLst>
              <a:gd name="textAreaLeft" fmla="*/ 0 w 3395520"/>
              <a:gd name="textAreaRight" fmla="*/ 3395880 w 3395520"/>
              <a:gd name="textAreaTop" fmla="*/ 0 h 3210120"/>
              <a:gd name="textAreaBottom" fmla="*/ 3210480 h 3210120"/>
            </a:gdLst>
            <a:ahLst/>
            <a:rect l="textAreaLeft" t="textAreaTop" r="textAreaRight" b="textAreaBottom"/>
            <a:pathLst>
              <a:path w="2955" h="3030">
                <a:moveTo>
                  <a:pt x="47" y="3011"/>
                </a:moveTo>
                <a:lnTo>
                  <a:pt x="0" y="2742"/>
                </a:lnTo>
                <a:lnTo>
                  <a:pt x="50" y="2494"/>
                </a:lnTo>
                <a:lnTo>
                  <a:pt x="317" y="2284"/>
                </a:lnTo>
                <a:lnTo>
                  <a:pt x="852" y="1993"/>
                </a:lnTo>
                <a:lnTo>
                  <a:pt x="852" y="1770"/>
                </a:lnTo>
                <a:lnTo>
                  <a:pt x="772" y="1756"/>
                </a:lnTo>
                <a:lnTo>
                  <a:pt x="732" y="1712"/>
                </a:lnTo>
                <a:lnTo>
                  <a:pt x="684" y="1652"/>
                </a:lnTo>
                <a:lnTo>
                  <a:pt x="572" y="1204"/>
                </a:lnTo>
                <a:lnTo>
                  <a:pt x="568" y="1080"/>
                </a:lnTo>
                <a:lnTo>
                  <a:pt x="596" y="976"/>
                </a:lnTo>
                <a:lnTo>
                  <a:pt x="600" y="915"/>
                </a:lnTo>
                <a:lnTo>
                  <a:pt x="564" y="852"/>
                </a:lnTo>
                <a:lnTo>
                  <a:pt x="528" y="732"/>
                </a:lnTo>
                <a:lnTo>
                  <a:pt x="517" y="616"/>
                </a:lnTo>
                <a:lnTo>
                  <a:pt x="534" y="473"/>
                </a:lnTo>
                <a:lnTo>
                  <a:pt x="588" y="431"/>
                </a:lnTo>
                <a:lnTo>
                  <a:pt x="641" y="389"/>
                </a:lnTo>
                <a:lnTo>
                  <a:pt x="546" y="378"/>
                </a:lnTo>
                <a:lnTo>
                  <a:pt x="653" y="294"/>
                </a:lnTo>
                <a:lnTo>
                  <a:pt x="647" y="232"/>
                </a:lnTo>
                <a:lnTo>
                  <a:pt x="706" y="252"/>
                </a:lnTo>
                <a:lnTo>
                  <a:pt x="717" y="157"/>
                </a:lnTo>
                <a:lnTo>
                  <a:pt x="749" y="102"/>
                </a:lnTo>
                <a:lnTo>
                  <a:pt x="765" y="163"/>
                </a:lnTo>
                <a:lnTo>
                  <a:pt x="818" y="121"/>
                </a:lnTo>
                <a:lnTo>
                  <a:pt x="935" y="37"/>
                </a:lnTo>
                <a:lnTo>
                  <a:pt x="967" y="90"/>
                </a:lnTo>
                <a:lnTo>
                  <a:pt x="1056" y="18"/>
                </a:lnTo>
                <a:lnTo>
                  <a:pt x="1233" y="0"/>
                </a:lnTo>
                <a:lnTo>
                  <a:pt x="1116" y="60"/>
                </a:lnTo>
                <a:lnTo>
                  <a:pt x="1312" y="35"/>
                </a:lnTo>
                <a:lnTo>
                  <a:pt x="1598" y="69"/>
                </a:lnTo>
                <a:lnTo>
                  <a:pt x="1688" y="128"/>
                </a:lnTo>
                <a:lnTo>
                  <a:pt x="1730" y="182"/>
                </a:lnTo>
                <a:lnTo>
                  <a:pt x="1629" y="218"/>
                </a:lnTo>
                <a:lnTo>
                  <a:pt x="1762" y="223"/>
                </a:lnTo>
                <a:lnTo>
                  <a:pt x="1864" y="371"/>
                </a:lnTo>
                <a:lnTo>
                  <a:pt x="1957" y="631"/>
                </a:lnTo>
                <a:lnTo>
                  <a:pt x="1980" y="900"/>
                </a:lnTo>
                <a:lnTo>
                  <a:pt x="1980" y="1164"/>
                </a:lnTo>
                <a:lnTo>
                  <a:pt x="1920" y="1404"/>
                </a:lnTo>
                <a:lnTo>
                  <a:pt x="1824" y="1620"/>
                </a:lnTo>
                <a:lnTo>
                  <a:pt x="1813" y="1497"/>
                </a:lnTo>
                <a:lnTo>
                  <a:pt x="1762" y="1723"/>
                </a:lnTo>
                <a:lnTo>
                  <a:pt x="1855" y="1909"/>
                </a:lnTo>
                <a:lnTo>
                  <a:pt x="2013" y="1918"/>
                </a:lnTo>
                <a:lnTo>
                  <a:pt x="2101" y="1919"/>
                </a:lnTo>
                <a:lnTo>
                  <a:pt x="2244" y="1936"/>
                </a:lnTo>
                <a:lnTo>
                  <a:pt x="2334" y="1995"/>
                </a:lnTo>
                <a:lnTo>
                  <a:pt x="2376" y="2048"/>
                </a:lnTo>
                <a:lnTo>
                  <a:pt x="2650" y="2178"/>
                </a:lnTo>
                <a:lnTo>
                  <a:pt x="2776" y="2338"/>
                </a:lnTo>
                <a:lnTo>
                  <a:pt x="2842" y="2588"/>
                </a:lnTo>
                <a:lnTo>
                  <a:pt x="2945" y="2862"/>
                </a:lnTo>
                <a:lnTo>
                  <a:pt x="2955" y="3030"/>
                </a:lnTo>
                <a:lnTo>
                  <a:pt x="47" y="30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8"/>
          <p:cNvSpPr/>
          <p:nvPr/>
        </p:nvSpPr>
        <p:spPr>
          <a:xfrm>
            <a:off x="4083120" y="3657600"/>
            <a:ext cx="1251000" cy="1676520"/>
          </a:xfrm>
          <a:custGeom>
            <a:avLst/>
            <a:gdLst>
              <a:gd name="textAreaLeft" fmla="*/ 0 w 1251000"/>
              <a:gd name="textAreaRight" fmla="*/ 1251360 w 12510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3538" h="4741">
                <a:moveTo>
                  <a:pt x="1795" y="4645"/>
                </a:moveTo>
                <a:lnTo>
                  <a:pt x="1392" y="3758"/>
                </a:lnTo>
                <a:lnTo>
                  <a:pt x="504" y="3112"/>
                </a:lnTo>
                <a:lnTo>
                  <a:pt x="40" y="2368"/>
                </a:lnTo>
                <a:lnTo>
                  <a:pt x="10" y="2274"/>
                </a:lnTo>
                <a:lnTo>
                  <a:pt x="72" y="2040"/>
                </a:lnTo>
                <a:lnTo>
                  <a:pt x="0" y="1724"/>
                </a:lnTo>
                <a:lnTo>
                  <a:pt x="77" y="1677"/>
                </a:lnTo>
                <a:lnTo>
                  <a:pt x="234" y="1756"/>
                </a:lnTo>
                <a:lnTo>
                  <a:pt x="375" y="1928"/>
                </a:lnTo>
                <a:lnTo>
                  <a:pt x="437" y="2193"/>
                </a:lnTo>
                <a:lnTo>
                  <a:pt x="760" y="2477"/>
                </a:lnTo>
                <a:lnTo>
                  <a:pt x="978" y="1775"/>
                </a:lnTo>
                <a:lnTo>
                  <a:pt x="1103" y="650"/>
                </a:lnTo>
                <a:lnTo>
                  <a:pt x="1135" y="323"/>
                </a:lnTo>
                <a:lnTo>
                  <a:pt x="1200" y="156"/>
                </a:lnTo>
                <a:lnTo>
                  <a:pt x="1247" y="30"/>
                </a:lnTo>
                <a:lnTo>
                  <a:pt x="1372" y="0"/>
                </a:lnTo>
                <a:lnTo>
                  <a:pt x="1462" y="124"/>
                </a:lnTo>
                <a:lnTo>
                  <a:pt x="1490" y="365"/>
                </a:lnTo>
                <a:lnTo>
                  <a:pt x="1573" y="1350"/>
                </a:lnTo>
                <a:lnTo>
                  <a:pt x="1610" y="1443"/>
                </a:lnTo>
                <a:lnTo>
                  <a:pt x="1666" y="1432"/>
                </a:lnTo>
                <a:lnTo>
                  <a:pt x="1741" y="1163"/>
                </a:lnTo>
                <a:lnTo>
                  <a:pt x="1788" y="1101"/>
                </a:lnTo>
                <a:lnTo>
                  <a:pt x="1898" y="1084"/>
                </a:lnTo>
                <a:lnTo>
                  <a:pt x="1982" y="1155"/>
                </a:lnTo>
                <a:lnTo>
                  <a:pt x="2038" y="1211"/>
                </a:lnTo>
                <a:lnTo>
                  <a:pt x="2103" y="1536"/>
                </a:lnTo>
                <a:lnTo>
                  <a:pt x="2165" y="1541"/>
                </a:lnTo>
                <a:lnTo>
                  <a:pt x="2223" y="1378"/>
                </a:lnTo>
                <a:lnTo>
                  <a:pt x="2321" y="1306"/>
                </a:lnTo>
                <a:lnTo>
                  <a:pt x="2409" y="1304"/>
                </a:lnTo>
                <a:lnTo>
                  <a:pt x="2540" y="1338"/>
                </a:lnTo>
                <a:lnTo>
                  <a:pt x="2614" y="1480"/>
                </a:lnTo>
                <a:lnTo>
                  <a:pt x="2651" y="1713"/>
                </a:lnTo>
                <a:lnTo>
                  <a:pt x="2711" y="1744"/>
                </a:lnTo>
                <a:lnTo>
                  <a:pt x="2818" y="1582"/>
                </a:lnTo>
                <a:lnTo>
                  <a:pt x="2911" y="1582"/>
                </a:lnTo>
                <a:lnTo>
                  <a:pt x="3013" y="1629"/>
                </a:lnTo>
                <a:lnTo>
                  <a:pt x="3101" y="1760"/>
                </a:lnTo>
                <a:lnTo>
                  <a:pt x="3171" y="2093"/>
                </a:lnTo>
                <a:lnTo>
                  <a:pt x="3236" y="2456"/>
                </a:lnTo>
                <a:lnTo>
                  <a:pt x="3245" y="2846"/>
                </a:lnTo>
                <a:lnTo>
                  <a:pt x="3101" y="3633"/>
                </a:lnTo>
                <a:lnTo>
                  <a:pt x="3538" y="4649"/>
                </a:lnTo>
                <a:lnTo>
                  <a:pt x="1891" y="4741"/>
                </a:lnTo>
              </a:path>
            </a:pathLst>
          </a:cu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1433520" y="1533600"/>
            <a:ext cx="5286240" cy="3041640"/>
          </a:xfrm>
          <a:prstGeom prst="roundRect">
            <a:avLst>
              <a:gd name="adj" fmla="val 460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1857240" y="1905120"/>
            <a:ext cx="5005440" cy="2879640"/>
          </a:xfrm>
          <a:prstGeom prst="roundRect">
            <a:avLst>
              <a:gd name="adj" fmla="val 460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4"/>
          <p:cNvSpPr/>
          <p:nvPr/>
        </p:nvSpPr>
        <p:spPr>
          <a:xfrm>
            <a:off x="2252520" y="2133720"/>
            <a:ext cx="4729320" cy="2720880"/>
          </a:xfrm>
          <a:prstGeom prst="roundRect">
            <a:avLst>
              <a:gd name="adj" fmla="val 460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6"/>
          <p:cNvSpPr/>
          <p:nvPr/>
        </p:nvSpPr>
        <p:spPr>
          <a:xfrm>
            <a:off x="2638440" y="2362320"/>
            <a:ext cx="4448160" cy="2558880"/>
          </a:xfrm>
          <a:prstGeom prst="roundRect">
            <a:avLst>
              <a:gd name="adj" fmla="val 4602"/>
            </a:avLst>
          </a:prstGeom>
          <a:solidFill>
            <a:srgbClr val="ffffff">
              <a:alpha val="15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"/>
                            </p:stCondLst>
                            <p:childTnLst>
                              <p:par>
                                <p:cTn id="10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1"/>
                            </p:stCondLst>
                            <p:childTnLst>
                              <p:par>
                                <p:cTn id="1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1"/>
                            </p:stCondLst>
                            <p:childTnLst>
                              <p:par>
                                <p:cTn id="121" nodeType="afterEffect" fill="hold" presetClass="exit" presetID="23" presetSubtype="2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01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2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3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4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5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6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7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8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8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308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608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8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2666880"/>
            <a:ext cx="91440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8880" y="282096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630840" y="2820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34960" y="28195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764640" y="4298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黑体"/>
              </a:rPr>
              <a:t>教育培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764640" y="378252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黑体"/>
              </a:rPr>
              <a:t>工作实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3354480" y="282096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489760" y="1208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黑体"/>
                <a:ea typeface="黑体"/>
              </a:rPr>
              <a:t>人力资源管理 本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6140520" y="120816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黑体"/>
                <a:ea typeface="黑体"/>
              </a:rPr>
              <a:t>企业内部培训师培训（</a:t>
            </a:r>
            <a:r>
              <a:rPr b="0" lang="en-US" sz="1800" spc="-1" strike="noStrike">
                <a:solidFill>
                  <a:srgbClr val="6699ff"/>
                </a:solidFill>
                <a:latin typeface="黑体"/>
                <a:ea typeface="黑体"/>
              </a:rPr>
              <a:t>TTT</a:t>
            </a:r>
            <a:r>
              <a:rPr b="0" lang="zh-CN" sz="1800" spc="-1" strike="noStrike">
                <a:solidFill>
                  <a:srgbClr val="6699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6040440" y="4562640"/>
            <a:ext cx="155232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某汽车内饰件生产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383920" y="4567320"/>
            <a:ext cx="1140840" cy="36828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中国扶贫基金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 flipV="1">
            <a:off x="7707240" y="228564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05"/>
          <p:cNvGrpSpPr/>
          <p:nvPr/>
        </p:nvGrpSpPr>
        <p:grpSpPr>
          <a:xfrm>
            <a:off x="1542960" y="2361960"/>
            <a:ext cx="152280" cy="838440"/>
            <a:chOff x="1542960" y="2361960"/>
            <a:chExt cx="152280" cy="838440"/>
          </a:xfrm>
        </p:grpSpPr>
        <p:sp>
          <p:nvSpPr>
            <p:cNvPr id="86" name="Line 25"/>
            <p:cNvSpPr/>
            <p:nvPr/>
          </p:nvSpPr>
          <p:spPr>
            <a:xfrm flipV="1">
              <a:off x="1619280" y="236196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1542960" y="3048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5"/>
          <p:cNvGrpSpPr/>
          <p:nvPr/>
        </p:nvGrpSpPr>
        <p:grpSpPr>
          <a:xfrm>
            <a:off x="5181480" y="2285640"/>
            <a:ext cx="152280" cy="838440"/>
            <a:chOff x="5181480" y="2285640"/>
            <a:chExt cx="152280" cy="838440"/>
          </a:xfrm>
        </p:grpSpPr>
        <p:sp>
          <p:nvSpPr>
            <p:cNvPr id="89" name="Line 30"/>
            <p:cNvSpPr/>
            <p:nvPr/>
          </p:nvSpPr>
          <p:spPr>
            <a:xfrm flipV="1">
              <a:off x="5257800" y="228564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33"/>
            <p:cNvSpPr/>
            <p:nvPr/>
          </p:nvSpPr>
          <p:spPr>
            <a:xfrm>
              <a:off x="5181480" y="2971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Oval 34"/>
          <p:cNvSpPr/>
          <p:nvPr/>
        </p:nvSpPr>
        <p:spPr>
          <a:xfrm>
            <a:off x="7620120" y="29718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4952880" y="3124080"/>
            <a:ext cx="152280" cy="838440"/>
            <a:chOff x="4952880" y="3124080"/>
            <a:chExt cx="152280" cy="838440"/>
          </a:xfrm>
        </p:grpSpPr>
        <p:sp>
          <p:nvSpPr>
            <p:cNvPr id="93" name="Line 37"/>
            <p:cNvSpPr/>
            <p:nvPr/>
          </p:nvSpPr>
          <p:spPr>
            <a:xfrm>
              <a:off x="5029200" y="320040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38"/>
            <p:cNvSpPr/>
            <p:nvPr/>
          </p:nvSpPr>
          <p:spPr>
            <a:xfrm flipV="1">
              <a:off x="4952880" y="3123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9"/>
          <p:cNvGrpSpPr/>
          <p:nvPr/>
        </p:nvGrpSpPr>
        <p:grpSpPr>
          <a:xfrm>
            <a:off x="7791480" y="3124080"/>
            <a:ext cx="152280" cy="838440"/>
            <a:chOff x="7791480" y="3124080"/>
            <a:chExt cx="152280" cy="838440"/>
          </a:xfrm>
        </p:grpSpPr>
        <p:sp>
          <p:nvSpPr>
            <p:cNvPr id="96" name="Line 40"/>
            <p:cNvSpPr/>
            <p:nvPr/>
          </p:nvSpPr>
          <p:spPr>
            <a:xfrm>
              <a:off x="7867800" y="320040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1"/>
            <p:cNvSpPr/>
            <p:nvPr/>
          </p:nvSpPr>
          <p:spPr>
            <a:xfrm flipV="1">
              <a:off x="7791480" y="3123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42"/>
          <p:cNvSpPr/>
          <p:nvPr/>
        </p:nvSpPr>
        <p:spPr>
          <a:xfrm flipV="1" rot="5400000">
            <a:off x="6219720" y="2390400"/>
            <a:ext cx="457200" cy="2838600"/>
          </a:xfrm>
          <a:custGeom>
            <a:avLst/>
            <a:gdLst>
              <a:gd name="textAreaLeft" fmla="*/ 0 w 457200"/>
              <a:gd name="textAreaRight" fmla="*/ 164880 w 457200"/>
              <a:gd name="textAreaTop" fmla="*/ 62280 h 2838600"/>
              <a:gd name="textAreaBottom" fmla="*/ 2776320 h 283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7"/>
                </a:cubicBezTo>
                <a:lnTo>
                  <a:pt x="10800" y="9167"/>
                </a:lnTo>
                <a:cubicBezTo>
                  <a:pt x="10800" y="9926"/>
                  <a:pt x="16200" y="10684"/>
                  <a:pt x="21600" y="10684"/>
                </a:cubicBezTo>
                <a:cubicBezTo>
                  <a:pt x="16200" y="10684"/>
                  <a:pt x="10800" y="11443"/>
                  <a:pt x="10800" y="12201"/>
                </a:cubicBezTo>
                <a:lnTo>
                  <a:pt x="10800" y="20083"/>
                </a:lnTo>
                <a:cubicBezTo>
                  <a:pt x="10800" y="2084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4"/>
          <p:cNvSpPr/>
          <p:nvPr/>
        </p:nvSpPr>
        <p:spPr>
          <a:xfrm>
            <a:off x="4191120" y="3124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5"/>
          <p:cNvSpPr/>
          <p:nvPr/>
        </p:nvSpPr>
        <p:spPr>
          <a:xfrm flipV="1">
            <a:off x="4114800" y="31240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6"/>
          <p:cNvSpPr/>
          <p:nvPr/>
        </p:nvSpPr>
        <p:spPr>
          <a:xfrm>
            <a:off x="2287800" y="4983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广东办事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7"/>
          <p:cNvSpPr/>
          <p:nvPr/>
        </p:nvSpPr>
        <p:spPr>
          <a:xfrm>
            <a:off x="2470680" y="5389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主任助理（志愿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8"/>
          <p:cNvSpPr/>
          <p:nvPr/>
        </p:nvSpPr>
        <p:spPr>
          <a:xfrm>
            <a:off x="5848560" y="5095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活动策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5848560" y="547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内刊编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1"/>
          <p:cNvSpPr/>
          <p:nvPr/>
        </p:nvSpPr>
        <p:spPr>
          <a:xfrm rot="16200000">
            <a:off x="3209760" y="618840"/>
            <a:ext cx="457200" cy="3638520"/>
          </a:xfrm>
          <a:custGeom>
            <a:avLst/>
            <a:gdLst>
              <a:gd name="textAreaLeft" fmla="*/ 0 w 457200"/>
              <a:gd name="textAreaRight" fmla="*/ 164880 w 457200"/>
              <a:gd name="textAreaTop" fmla="*/ 70920 h 3638520"/>
              <a:gd name="textAreaBottom" fmla="*/ 3567600 h 363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5"/>
                  <a:pt x="10800" y="1349"/>
                </a:cubicBezTo>
                <a:lnTo>
                  <a:pt x="10800" y="9451"/>
                </a:lnTo>
                <a:cubicBezTo>
                  <a:pt x="10800" y="10126"/>
                  <a:pt x="16200" y="10800"/>
                  <a:pt x="21600" y="10800"/>
                </a:cubicBezTo>
                <a:cubicBezTo>
                  <a:pt x="16200" y="10800"/>
                  <a:pt x="10800" y="11475"/>
                  <a:pt x="10800" y="12149"/>
                </a:cubicBezTo>
                <a:lnTo>
                  <a:pt x="10800" y="20251"/>
                </a:lnTo>
                <a:cubicBezTo>
                  <a:pt x="10800" y="2092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6"/>
          <p:cNvSpPr/>
          <p:nvPr/>
        </p:nvSpPr>
        <p:spPr>
          <a:xfrm flipV="1">
            <a:off x="7696080" y="1918800"/>
            <a:ext cx="0" cy="74772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0"/>
          <p:cNvSpPr/>
          <p:nvPr/>
        </p:nvSpPr>
        <p:spPr>
          <a:xfrm>
            <a:off x="2732040" y="5796000"/>
            <a:ext cx="285840" cy="3682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责任心、感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1"/>
          <p:cNvSpPr/>
          <p:nvPr/>
        </p:nvSpPr>
        <p:spPr>
          <a:xfrm>
            <a:off x="2597400" y="1681200"/>
            <a:ext cx="409320" cy="3682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一等奖学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2"/>
          <p:cNvSpPr/>
          <p:nvPr/>
        </p:nvSpPr>
        <p:spPr>
          <a:xfrm flipV="1">
            <a:off x="4191120" y="3581280"/>
            <a:ext cx="0" cy="243864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1"/>
          <p:cNvGrpSpPr/>
          <p:nvPr/>
        </p:nvGrpSpPr>
        <p:grpSpPr>
          <a:xfrm>
            <a:off x="3776760" y="2666880"/>
            <a:ext cx="0" cy="900000"/>
            <a:chOff x="3776760" y="2666880"/>
            <a:chExt cx="0" cy="900000"/>
          </a:xfrm>
        </p:grpSpPr>
        <p:sp>
          <p:nvSpPr>
            <p:cNvPr id="111" name="Line 77"/>
            <p:cNvSpPr/>
            <p:nvPr/>
          </p:nvSpPr>
          <p:spPr>
            <a:xfrm>
              <a:off x="377676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1"/>
            <p:cNvSpPr/>
            <p:nvPr/>
          </p:nvSpPr>
          <p:spPr>
            <a:xfrm>
              <a:off x="377676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00"/>
          <p:cNvGrpSpPr/>
          <p:nvPr/>
        </p:nvGrpSpPr>
        <p:grpSpPr>
          <a:xfrm>
            <a:off x="4680000" y="2666880"/>
            <a:ext cx="0" cy="900000"/>
            <a:chOff x="4680000" y="2666880"/>
            <a:chExt cx="0" cy="900000"/>
          </a:xfrm>
        </p:grpSpPr>
        <p:sp>
          <p:nvSpPr>
            <p:cNvPr id="114" name="Line 78"/>
            <p:cNvSpPr/>
            <p:nvPr/>
          </p:nvSpPr>
          <p:spPr>
            <a:xfrm>
              <a:off x="468000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2"/>
            <p:cNvSpPr/>
            <p:nvPr/>
          </p:nvSpPr>
          <p:spPr>
            <a:xfrm>
              <a:off x="468000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99"/>
          <p:cNvGrpSpPr/>
          <p:nvPr/>
        </p:nvGrpSpPr>
        <p:grpSpPr>
          <a:xfrm>
            <a:off x="7391520" y="2666880"/>
            <a:ext cx="0" cy="900000"/>
            <a:chOff x="7391520" y="2666880"/>
            <a:chExt cx="0" cy="900000"/>
          </a:xfrm>
        </p:grpSpPr>
        <p:sp>
          <p:nvSpPr>
            <p:cNvPr id="117" name="Line 79"/>
            <p:cNvSpPr/>
            <p:nvPr/>
          </p:nvSpPr>
          <p:spPr>
            <a:xfrm>
              <a:off x="739152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3"/>
            <p:cNvSpPr/>
            <p:nvPr/>
          </p:nvSpPr>
          <p:spPr>
            <a:xfrm>
              <a:off x="739152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87"/>
          <p:cNvGrpSpPr/>
          <p:nvPr/>
        </p:nvGrpSpPr>
        <p:grpSpPr>
          <a:xfrm>
            <a:off x="1969920" y="2666880"/>
            <a:ext cx="0" cy="900000"/>
            <a:chOff x="1969920" y="2666880"/>
            <a:chExt cx="0" cy="900000"/>
          </a:xfrm>
        </p:grpSpPr>
        <p:sp>
          <p:nvSpPr>
            <p:cNvPr id="120" name="Line 88"/>
            <p:cNvSpPr/>
            <p:nvPr/>
          </p:nvSpPr>
          <p:spPr>
            <a:xfrm>
              <a:off x="196992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9"/>
            <p:cNvSpPr/>
            <p:nvPr/>
          </p:nvSpPr>
          <p:spPr>
            <a:xfrm>
              <a:off x="196992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0"/>
          <p:cNvGrpSpPr/>
          <p:nvPr/>
        </p:nvGrpSpPr>
        <p:grpSpPr>
          <a:xfrm>
            <a:off x="2873520" y="2666880"/>
            <a:ext cx="0" cy="900000"/>
            <a:chOff x="2873520" y="2666880"/>
            <a:chExt cx="0" cy="900000"/>
          </a:xfrm>
        </p:grpSpPr>
        <p:sp>
          <p:nvSpPr>
            <p:cNvPr id="123" name="Line 91"/>
            <p:cNvSpPr/>
            <p:nvPr/>
          </p:nvSpPr>
          <p:spPr>
            <a:xfrm>
              <a:off x="287352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92"/>
            <p:cNvSpPr/>
            <p:nvPr/>
          </p:nvSpPr>
          <p:spPr>
            <a:xfrm>
              <a:off x="287352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93"/>
          <p:cNvGrpSpPr/>
          <p:nvPr/>
        </p:nvGrpSpPr>
        <p:grpSpPr>
          <a:xfrm>
            <a:off x="5583240" y="2666880"/>
            <a:ext cx="0" cy="900000"/>
            <a:chOff x="5583240" y="2666880"/>
            <a:chExt cx="0" cy="900000"/>
          </a:xfrm>
        </p:grpSpPr>
        <p:sp>
          <p:nvSpPr>
            <p:cNvPr id="126" name="Line 94"/>
            <p:cNvSpPr/>
            <p:nvPr/>
          </p:nvSpPr>
          <p:spPr>
            <a:xfrm>
              <a:off x="558324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5"/>
            <p:cNvSpPr/>
            <p:nvPr/>
          </p:nvSpPr>
          <p:spPr>
            <a:xfrm>
              <a:off x="558324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96"/>
          <p:cNvGrpSpPr/>
          <p:nvPr/>
        </p:nvGrpSpPr>
        <p:grpSpPr>
          <a:xfrm>
            <a:off x="6486480" y="2666880"/>
            <a:ext cx="0" cy="900000"/>
            <a:chOff x="6486480" y="2666880"/>
            <a:chExt cx="0" cy="900000"/>
          </a:xfrm>
        </p:grpSpPr>
        <p:sp>
          <p:nvSpPr>
            <p:cNvPr id="129" name="Line 97"/>
            <p:cNvSpPr/>
            <p:nvPr/>
          </p:nvSpPr>
          <p:spPr>
            <a:xfrm>
              <a:off x="648648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8"/>
            <p:cNvSpPr/>
            <p:nvPr/>
          </p:nvSpPr>
          <p:spPr>
            <a:xfrm>
              <a:off x="648648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02"/>
          <p:cNvGrpSpPr/>
          <p:nvPr/>
        </p:nvGrpSpPr>
        <p:grpSpPr>
          <a:xfrm>
            <a:off x="8381880" y="2666880"/>
            <a:ext cx="0" cy="900000"/>
            <a:chOff x="8381880" y="2666880"/>
            <a:chExt cx="0" cy="900000"/>
          </a:xfrm>
        </p:grpSpPr>
        <p:sp>
          <p:nvSpPr>
            <p:cNvPr id="132" name="Line 103"/>
            <p:cNvSpPr/>
            <p:nvPr/>
          </p:nvSpPr>
          <p:spPr>
            <a:xfrm>
              <a:off x="838188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04"/>
            <p:cNvSpPr/>
            <p:nvPr/>
          </p:nvSpPr>
          <p:spPr>
            <a:xfrm>
              <a:off x="838188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06"/>
          <p:cNvSpPr/>
          <p:nvPr/>
        </p:nvSpPr>
        <p:spPr>
          <a:xfrm>
            <a:off x="2505960" y="725400"/>
            <a:ext cx="1278000" cy="36828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广东外语外贸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7"/>
          <p:cNvSpPr/>
          <p:nvPr/>
        </p:nvSpPr>
        <p:spPr>
          <a:xfrm>
            <a:off x="2054520" y="38088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</a:rPr>
              <a:t>2004.9-2008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8"/>
          <p:cNvSpPr/>
          <p:nvPr/>
        </p:nvSpPr>
        <p:spPr>
          <a:xfrm>
            <a:off x="2056320" y="42624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</a:rPr>
              <a:t>2007.7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9"/>
          <p:cNvSpPr/>
          <p:nvPr/>
        </p:nvSpPr>
        <p:spPr>
          <a:xfrm>
            <a:off x="5661360" y="426240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</a:rPr>
              <a:t>2008.4-201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0"/>
          <p:cNvSpPr/>
          <p:nvPr/>
        </p:nvSpPr>
        <p:spPr>
          <a:xfrm>
            <a:off x="6264000" y="9032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</a:rPr>
              <a:t>201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4"/>
          <p:cNvSpPr/>
          <p:nvPr/>
        </p:nvSpPr>
        <p:spPr>
          <a:xfrm>
            <a:off x="1542960" y="0"/>
            <a:ext cx="3981600" cy="266688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5"/>
          <p:cNvSpPr/>
          <p:nvPr/>
        </p:nvSpPr>
        <p:spPr>
          <a:xfrm>
            <a:off x="5664240" y="0"/>
            <a:ext cx="3479760" cy="266688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6"/>
          <p:cNvSpPr/>
          <p:nvPr/>
        </p:nvSpPr>
        <p:spPr>
          <a:xfrm>
            <a:off x="1371600" y="3581280"/>
            <a:ext cx="3479760" cy="26672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6"/>
          <p:cNvSpPr/>
          <p:nvPr/>
        </p:nvSpPr>
        <p:spPr>
          <a:xfrm>
            <a:off x="5181480" y="4562640"/>
            <a:ext cx="343080" cy="32364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7"/>
          <p:cNvSpPr/>
          <p:nvPr/>
        </p:nvSpPr>
        <p:spPr>
          <a:xfrm>
            <a:off x="4664160" y="3581280"/>
            <a:ext cx="3930480" cy="26672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2" descr="2_Aero_car_colouring_sheets_pages_kids_boys副本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1969920" y="876240"/>
            <a:ext cx="12119040" cy="9353520"/>
          </a:xfrm>
          <a:prstGeom prst="rect">
            <a:avLst/>
          </a:prstGeom>
          <a:ln w="0">
            <a:noFill/>
          </a:ln>
        </p:spPr>
      </p:pic>
    </p:spTree>
  </p:cSld>
  <p:transition advTm="12000">
    <p:push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10" fill="hold"/>
                                        <p:tgtEl>
                                          <p:spTgt spid="14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6.35838E-007 L -1.34167 -0.81017 E">
                                      <p:cBhvr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3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514600" y="7621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黑体"/>
                <a:ea typeface="黑体"/>
              </a:rPr>
              <a:t>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黑体"/>
                <a:ea typeface="黑体"/>
              </a:rPr>
              <a:t>策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787080" y="76212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黑体"/>
                <a:ea typeface="黑体"/>
              </a:rPr>
              <a:t>内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黑体"/>
                <a:ea typeface="黑体"/>
              </a:rPr>
              <a:t>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60"/>
          <p:cNvGrpSpPr/>
          <p:nvPr/>
        </p:nvGrpSpPr>
        <p:grpSpPr>
          <a:xfrm>
            <a:off x="990720" y="762120"/>
            <a:ext cx="3885480" cy="6018840"/>
            <a:chOff x="990720" y="762120"/>
            <a:chExt cx="3885480" cy="6018840"/>
          </a:xfrm>
        </p:grpSpPr>
        <p:grpSp>
          <p:nvGrpSpPr>
            <p:cNvPr id="150" name="Group 42"/>
            <p:cNvGrpSpPr/>
            <p:nvPr/>
          </p:nvGrpSpPr>
          <p:grpSpPr>
            <a:xfrm>
              <a:off x="990720" y="762120"/>
              <a:ext cx="3885480" cy="6018840"/>
              <a:chOff x="990720" y="762120"/>
              <a:chExt cx="3885480" cy="6018840"/>
            </a:xfrm>
          </p:grpSpPr>
          <p:sp>
            <p:nvSpPr>
              <p:cNvPr id="151" name="Freeform 37"/>
              <p:cNvSpPr/>
              <p:nvPr/>
            </p:nvSpPr>
            <p:spPr>
              <a:xfrm>
                <a:off x="2167920" y="762120"/>
                <a:ext cx="1714320" cy="1194480"/>
              </a:xfrm>
              <a:custGeom>
                <a:avLst/>
                <a:gdLst>
                  <a:gd name="textAreaLeft" fmla="*/ 0 w 1714320"/>
                  <a:gd name="textAreaRight" fmla="*/ 1714680 w 1714320"/>
                  <a:gd name="textAreaTop" fmla="*/ 0 h 1194480"/>
                  <a:gd name="textAreaBottom" fmla="*/ 1194840 h 1194480"/>
                </a:gdLst>
                <a:ahLst/>
                <a:rect l="textAreaLeft" t="textAreaTop" r="textAreaRight" b="textAreaBottom"/>
                <a:pathLst>
                  <a:path w="466" h="380">
                    <a:moveTo>
                      <a:pt x="53" y="34"/>
                    </a:moveTo>
                    <a:lnTo>
                      <a:pt x="29" y="72"/>
                    </a:lnTo>
                    <a:lnTo>
                      <a:pt x="10" y="154"/>
                    </a:lnTo>
                    <a:lnTo>
                      <a:pt x="0" y="322"/>
                    </a:lnTo>
                    <a:lnTo>
                      <a:pt x="48" y="375"/>
                    </a:lnTo>
                    <a:lnTo>
                      <a:pt x="432" y="380"/>
                    </a:lnTo>
                    <a:lnTo>
                      <a:pt x="466" y="346"/>
                    </a:lnTo>
                    <a:lnTo>
                      <a:pt x="466" y="140"/>
                    </a:lnTo>
                    <a:lnTo>
                      <a:pt x="423" y="20"/>
                    </a:lnTo>
                    <a:lnTo>
                      <a:pt x="303" y="0"/>
                    </a:lnTo>
                    <a:lnTo>
                      <a:pt x="197" y="10"/>
                    </a:lnTo>
                    <a:lnTo>
                      <a:pt x="130" y="10"/>
                    </a:lnTo>
                    <a:lnTo>
                      <a:pt x="53" y="34"/>
                    </a:lnTo>
                    <a:close/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8"/>
              <p:cNvSpPr/>
              <p:nvPr/>
            </p:nvSpPr>
            <p:spPr>
              <a:xfrm>
                <a:off x="1288440" y="1877400"/>
                <a:ext cx="3355560" cy="3287880"/>
              </a:xfrm>
              <a:custGeom>
                <a:avLst/>
                <a:gdLst>
                  <a:gd name="textAreaLeft" fmla="*/ 0 w 3355560"/>
                  <a:gd name="textAreaRight" fmla="*/ 3355920 w 3355560"/>
                  <a:gd name="textAreaTop" fmla="*/ 0 h 3287880"/>
                  <a:gd name="textAreaBottom" fmla="*/ 3288240 h 3287880"/>
                </a:gdLst>
                <a:ahLst/>
                <a:rect l="textAreaLeft" t="textAreaTop" r="textAreaRight" b="textAreaBottom"/>
                <a:pathLst>
                  <a:path w="912" h="1046">
                    <a:moveTo>
                      <a:pt x="845" y="19"/>
                    </a:moveTo>
                    <a:lnTo>
                      <a:pt x="720" y="0"/>
                    </a:lnTo>
                    <a:lnTo>
                      <a:pt x="216" y="0"/>
                    </a:lnTo>
                    <a:lnTo>
                      <a:pt x="115" y="43"/>
                    </a:lnTo>
                    <a:lnTo>
                      <a:pt x="53" y="77"/>
                    </a:lnTo>
                    <a:lnTo>
                      <a:pt x="48" y="110"/>
                    </a:lnTo>
                    <a:lnTo>
                      <a:pt x="43" y="153"/>
                    </a:lnTo>
                    <a:lnTo>
                      <a:pt x="48" y="192"/>
                    </a:lnTo>
                    <a:lnTo>
                      <a:pt x="19" y="485"/>
                    </a:lnTo>
                    <a:lnTo>
                      <a:pt x="5" y="585"/>
                    </a:lnTo>
                    <a:lnTo>
                      <a:pt x="0" y="725"/>
                    </a:lnTo>
                    <a:lnTo>
                      <a:pt x="24" y="830"/>
                    </a:lnTo>
                    <a:lnTo>
                      <a:pt x="24" y="859"/>
                    </a:lnTo>
                    <a:lnTo>
                      <a:pt x="39" y="883"/>
                    </a:lnTo>
                    <a:lnTo>
                      <a:pt x="87" y="955"/>
                    </a:lnTo>
                    <a:lnTo>
                      <a:pt x="106" y="998"/>
                    </a:lnTo>
                    <a:lnTo>
                      <a:pt x="173" y="1032"/>
                    </a:lnTo>
                    <a:lnTo>
                      <a:pt x="327" y="1022"/>
                    </a:lnTo>
                    <a:lnTo>
                      <a:pt x="691" y="1046"/>
                    </a:lnTo>
                    <a:lnTo>
                      <a:pt x="763" y="1032"/>
                    </a:lnTo>
                    <a:lnTo>
                      <a:pt x="821" y="984"/>
                    </a:lnTo>
                    <a:lnTo>
                      <a:pt x="888" y="893"/>
                    </a:lnTo>
                    <a:lnTo>
                      <a:pt x="912" y="797"/>
                    </a:lnTo>
                    <a:lnTo>
                      <a:pt x="898" y="461"/>
                    </a:lnTo>
                    <a:lnTo>
                      <a:pt x="879" y="297"/>
                    </a:lnTo>
                    <a:lnTo>
                      <a:pt x="845" y="19"/>
                    </a:lnTo>
                    <a:close/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9"/>
              <p:cNvSpPr/>
              <p:nvPr/>
            </p:nvSpPr>
            <p:spPr>
              <a:xfrm>
                <a:off x="990720" y="4533840"/>
                <a:ext cx="3815280" cy="1357560"/>
              </a:xfrm>
              <a:custGeom>
                <a:avLst/>
                <a:gdLst>
                  <a:gd name="textAreaLeft" fmla="*/ 0 w 3815280"/>
                  <a:gd name="textAreaRight" fmla="*/ 3815640 w 381528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1037" h="432">
                    <a:moveTo>
                      <a:pt x="96" y="0"/>
                    </a:moveTo>
                    <a:lnTo>
                      <a:pt x="91" y="53"/>
                    </a:lnTo>
                    <a:lnTo>
                      <a:pt x="67" y="120"/>
                    </a:lnTo>
                    <a:lnTo>
                      <a:pt x="53" y="173"/>
                    </a:lnTo>
                    <a:lnTo>
                      <a:pt x="34" y="230"/>
                    </a:lnTo>
                    <a:lnTo>
                      <a:pt x="0" y="341"/>
                    </a:lnTo>
                    <a:lnTo>
                      <a:pt x="29" y="398"/>
                    </a:lnTo>
                    <a:lnTo>
                      <a:pt x="106" y="432"/>
                    </a:lnTo>
                    <a:lnTo>
                      <a:pt x="936" y="422"/>
                    </a:lnTo>
                    <a:lnTo>
                      <a:pt x="1037" y="336"/>
                    </a:lnTo>
                    <a:lnTo>
                      <a:pt x="1022" y="216"/>
                    </a:lnTo>
                    <a:lnTo>
                      <a:pt x="1003" y="149"/>
                    </a:lnTo>
                    <a:lnTo>
                      <a:pt x="989" y="86"/>
                    </a:lnTo>
                    <a:lnTo>
                      <a:pt x="970" y="10"/>
                    </a:lnTo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40"/>
              <p:cNvSpPr/>
              <p:nvPr/>
            </p:nvSpPr>
            <p:spPr>
              <a:xfrm>
                <a:off x="990720" y="5438880"/>
                <a:ext cx="3885480" cy="1342080"/>
              </a:xfrm>
              <a:custGeom>
                <a:avLst/>
                <a:gdLst>
                  <a:gd name="textAreaLeft" fmla="*/ 0 w 3885480"/>
                  <a:gd name="textAreaRight" fmla="*/ 3885840 w 3885480"/>
                  <a:gd name="textAreaTop" fmla="*/ 0 h 1342080"/>
                  <a:gd name="textAreaBottom" fmla="*/ 1342080 h 1342080"/>
                </a:gdLst>
                <a:ahLst/>
                <a:rect l="textAreaLeft" t="textAreaTop" r="textAreaRight" b="textAreaBottom"/>
                <a:pathLst>
                  <a:path w="1056" h="427">
                    <a:moveTo>
                      <a:pt x="0" y="43"/>
                    </a:moveTo>
                    <a:lnTo>
                      <a:pt x="24" y="221"/>
                    </a:lnTo>
                    <a:lnTo>
                      <a:pt x="19" y="307"/>
                    </a:lnTo>
                    <a:lnTo>
                      <a:pt x="58" y="384"/>
                    </a:lnTo>
                    <a:lnTo>
                      <a:pt x="130" y="427"/>
                    </a:lnTo>
                    <a:lnTo>
                      <a:pt x="144" y="360"/>
                    </a:lnTo>
                    <a:lnTo>
                      <a:pt x="134" y="288"/>
                    </a:lnTo>
                    <a:lnTo>
                      <a:pt x="178" y="312"/>
                    </a:lnTo>
                    <a:lnTo>
                      <a:pt x="869" y="312"/>
                    </a:lnTo>
                    <a:lnTo>
                      <a:pt x="941" y="293"/>
                    </a:lnTo>
                    <a:lnTo>
                      <a:pt x="946" y="326"/>
                    </a:lnTo>
                    <a:lnTo>
                      <a:pt x="922" y="384"/>
                    </a:lnTo>
                    <a:lnTo>
                      <a:pt x="931" y="413"/>
                    </a:lnTo>
                    <a:lnTo>
                      <a:pt x="1003" y="403"/>
                    </a:lnTo>
                    <a:lnTo>
                      <a:pt x="1056" y="283"/>
                    </a:lnTo>
                    <a:lnTo>
                      <a:pt x="1032" y="153"/>
                    </a:lnTo>
                    <a:lnTo>
                      <a:pt x="1013" y="120"/>
                    </a:lnTo>
                    <a:lnTo>
                      <a:pt x="1037" y="0"/>
                    </a:lnTo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Line 50"/>
            <p:cNvSpPr/>
            <p:nvPr/>
          </p:nvSpPr>
          <p:spPr>
            <a:xfrm flipH="1">
              <a:off x="1599840" y="2438280"/>
              <a:ext cx="81000" cy="182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>
              <a:off x="4262400" y="2438280"/>
              <a:ext cx="81000" cy="182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6"/>
            <p:cNvSpPr/>
            <p:nvPr/>
          </p:nvSpPr>
          <p:spPr>
            <a:xfrm flipV="1">
              <a:off x="1143000" y="4952880"/>
              <a:ext cx="432000" cy="2124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7"/>
            <p:cNvSpPr/>
            <p:nvPr/>
          </p:nvSpPr>
          <p:spPr>
            <a:xfrm>
              <a:off x="4270320" y="5028840"/>
              <a:ext cx="454320" cy="2124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1"/>
          <p:cNvGrpSpPr/>
          <p:nvPr/>
        </p:nvGrpSpPr>
        <p:grpSpPr>
          <a:xfrm>
            <a:off x="5105520" y="762120"/>
            <a:ext cx="3732840" cy="6018840"/>
            <a:chOff x="5105520" y="762120"/>
            <a:chExt cx="3732840" cy="6018840"/>
          </a:xfrm>
        </p:grpSpPr>
        <p:grpSp>
          <p:nvGrpSpPr>
            <p:cNvPr id="160" name="Group 43"/>
            <p:cNvGrpSpPr/>
            <p:nvPr/>
          </p:nvGrpSpPr>
          <p:grpSpPr>
            <a:xfrm>
              <a:off x="5105520" y="762120"/>
              <a:ext cx="3732840" cy="6018840"/>
              <a:chOff x="5105520" y="762120"/>
              <a:chExt cx="3732840" cy="6018840"/>
            </a:xfrm>
          </p:grpSpPr>
          <p:sp>
            <p:nvSpPr>
              <p:cNvPr id="161" name="Freeform 44"/>
              <p:cNvSpPr/>
              <p:nvPr/>
            </p:nvSpPr>
            <p:spPr>
              <a:xfrm>
                <a:off x="6236280" y="762120"/>
                <a:ext cx="1647000" cy="1194480"/>
              </a:xfrm>
              <a:custGeom>
                <a:avLst/>
                <a:gdLst>
                  <a:gd name="textAreaLeft" fmla="*/ 0 w 1647000"/>
                  <a:gd name="textAreaRight" fmla="*/ 1647360 w 1647000"/>
                  <a:gd name="textAreaTop" fmla="*/ 0 h 1194480"/>
                  <a:gd name="textAreaBottom" fmla="*/ 1194840 h 1194480"/>
                </a:gdLst>
                <a:ahLst/>
                <a:rect l="textAreaLeft" t="textAreaTop" r="textAreaRight" b="textAreaBottom"/>
                <a:pathLst>
                  <a:path w="466" h="380">
                    <a:moveTo>
                      <a:pt x="53" y="34"/>
                    </a:moveTo>
                    <a:lnTo>
                      <a:pt x="29" y="72"/>
                    </a:lnTo>
                    <a:lnTo>
                      <a:pt x="10" y="154"/>
                    </a:lnTo>
                    <a:lnTo>
                      <a:pt x="0" y="322"/>
                    </a:lnTo>
                    <a:lnTo>
                      <a:pt x="48" y="375"/>
                    </a:lnTo>
                    <a:lnTo>
                      <a:pt x="432" y="380"/>
                    </a:lnTo>
                    <a:lnTo>
                      <a:pt x="466" y="346"/>
                    </a:lnTo>
                    <a:lnTo>
                      <a:pt x="466" y="140"/>
                    </a:lnTo>
                    <a:lnTo>
                      <a:pt x="423" y="20"/>
                    </a:lnTo>
                    <a:lnTo>
                      <a:pt x="303" y="0"/>
                    </a:lnTo>
                    <a:lnTo>
                      <a:pt x="197" y="10"/>
                    </a:lnTo>
                    <a:lnTo>
                      <a:pt x="130" y="10"/>
                    </a:lnTo>
                    <a:lnTo>
                      <a:pt x="53" y="34"/>
                    </a:lnTo>
                    <a:close/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45"/>
              <p:cNvSpPr/>
              <p:nvPr/>
            </p:nvSpPr>
            <p:spPr>
              <a:xfrm>
                <a:off x="5391360" y="1877400"/>
                <a:ext cx="3223800" cy="3287880"/>
              </a:xfrm>
              <a:custGeom>
                <a:avLst/>
                <a:gdLst>
                  <a:gd name="textAreaLeft" fmla="*/ 0 w 3223800"/>
                  <a:gd name="textAreaRight" fmla="*/ 3224160 w 3223800"/>
                  <a:gd name="textAreaTop" fmla="*/ 0 h 3287880"/>
                  <a:gd name="textAreaBottom" fmla="*/ 3288240 h 3287880"/>
                </a:gdLst>
                <a:ahLst/>
                <a:rect l="textAreaLeft" t="textAreaTop" r="textAreaRight" b="textAreaBottom"/>
                <a:pathLst>
                  <a:path w="912" h="1046">
                    <a:moveTo>
                      <a:pt x="845" y="19"/>
                    </a:moveTo>
                    <a:lnTo>
                      <a:pt x="720" y="0"/>
                    </a:lnTo>
                    <a:lnTo>
                      <a:pt x="216" y="0"/>
                    </a:lnTo>
                    <a:lnTo>
                      <a:pt x="115" y="43"/>
                    </a:lnTo>
                    <a:lnTo>
                      <a:pt x="53" y="77"/>
                    </a:lnTo>
                    <a:lnTo>
                      <a:pt x="48" y="110"/>
                    </a:lnTo>
                    <a:lnTo>
                      <a:pt x="43" y="153"/>
                    </a:lnTo>
                    <a:lnTo>
                      <a:pt x="48" y="192"/>
                    </a:lnTo>
                    <a:lnTo>
                      <a:pt x="19" y="485"/>
                    </a:lnTo>
                    <a:lnTo>
                      <a:pt x="5" y="585"/>
                    </a:lnTo>
                    <a:lnTo>
                      <a:pt x="0" y="725"/>
                    </a:lnTo>
                    <a:lnTo>
                      <a:pt x="24" y="830"/>
                    </a:lnTo>
                    <a:lnTo>
                      <a:pt x="24" y="859"/>
                    </a:lnTo>
                    <a:lnTo>
                      <a:pt x="39" y="883"/>
                    </a:lnTo>
                    <a:lnTo>
                      <a:pt x="87" y="955"/>
                    </a:lnTo>
                    <a:lnTo>
                      <a:pt x="106" y="998"/>
                    </a:lnTo>
                    <a:lnTo>
                      <a:pt x="173" y="1032"/>
                    </a:lnTo>
                    <a:lnTo>
                      <a:pt x="327" y="1022"/>
                    </a:lnTo>
                    <a:lnTo>
                      <a:pt x="691" y="1046"/>
                    </a:lnTo>
                    <a:lnTo>
                      <a:pt x="763" y="1032"/>
                    </a:lnTo>
                    <a:lnTo>
                      <a:pt x="821" y="984"/>
                    </a:lnTo>
                    <a:lnTo>
                      <a:pt x="888" y="893"/>
                    </a:lnTo>
                    <a:lnTo>
                      <a:pt x="912" y="797"/>
                    </a:lnTo>
                    <a:lnTo>
                      <a:pt x="898" y="461"/>
                    </a:lnTo>
                    <a:lnTo>
                      <a:pt x="879" y="297"/>
                    </a:lnTo>
                    <a:lnTo>
                      <a:pt x="845" y="19"/>
                    </a:lnTo>
                    <a:close/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6"/>
              <p:cNvSpPr/>
              <p:nvPr/>
            </p:nvSpPr>
            <p:spPr>
              <a:xfrm>
                <a:off x="5105520" y="4533840"/>
                <a:ext cx="3665520" cy="1357560"/>
              </a:xfrm>
              <a:custGeom>
                <a:avLst/>
                <a:gdLst>
                  <a:gd name="textAreaLeft" fmla="*/ 0 w 3665520"/>
                  <a:gd name="textAreaRight" fmla="*/ 3665880 w 366552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1037" h="432">
                    <a:moveTo>
                      <a:pt x="96" y="0"/>
                    </a:moveTo>
                    <a:lnTo>
                      <a:pt x="91" y="53"/>
                    </a:lnTo>
                    <a:lnTo>
                      <a:pt x="67" y="120"/>
                    </a:lnTo>
                    <a:lnTo>
                      <a:pt x="53" y="173"/>
                    </a:lnTo>
                    <a:lnTo>
                      <a:pt x="34" y="230"/>
                    </a:lnTo>
                    <a:lnTo>
                      <a:pt x="0" y="341"/>
                    </a:lnTo>
                    <a:lnTo>
                      <a:pt x="29" y="398"/>
                    </a:lnTo>
                    <a:lnTo>
                      <a:pt x="106" y="432"/>
                    </a:lnTo>
                    <a:lnTo>
                      <a:pt x="936" y="422"/>
                    </a:lnTo>
                    <a:lnTo>
                      <a:pt x="1037" y="336"/>
                    </a:lnTo>
                    <a:lnTo>
                      <a:pt x="1022" y="216"/>
                    </a:lnTo>
                    <a:lnTo>
                      <a:pt x="1003" y="149"/>
                    </a:lnTo>
                    <a:lnTo>
                      <a:pt x="989" y="86"/>
                    </a:lnTo>
                    <a:lnTo>
                      <a:pt x="970" y="10"/>
                    </a:lnTo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47"/>
              <p:cNvSpPr/>
              <p:nvPr/>
            </p:nvSpPr>
            <p:spPr>
              <a:xfrm>
                <a:off x="5105520" y="5438880"/>
                <a:ext cx="3732840" cy="1342080"/>
              </a:xfrm>
              <a:custGeom>
                <a:avLst/>
                <a:gdLst>
                  <a:gd name="textAreaLeft" fmla="*/ 0 w 3732840"/>
                  <a:gd name="textAreaRight" fmla="*/ 3733200 w 3732840"/>
                  <a:gd name="textAreaTop" fmla="*/ 0 h 1342080"/>
                  <a:gd name="textAreaBottom" fmla="*/ 1342080 h 1342080"/>
                </a:gdLst>
                <a:ahLst/>
                <a:rect l="textAreaLeft" t="textAreaTop" r="textAreaRight" b="textAreaBottom"/>
                <a:pathLst>
                  <a:path w="1056" h="427">
                    <a:moveTo>
                      <a:pt x="0" y="43"/>
                    </a:moveTo>
                    <a:lnTo>
                      <a:pt x="24" y="221"/>
                    </a:lnTo>
                    <a:lnTo>
                      <a:pt x="19" y="307"/>
                    </a:lnTo>
                    <a:lnTo>
                      <a:pt x="58" y="384"/>
                    </a:lnTo>
                    <a:lnTo>
                      <a:pt x="130" y="427"/>
                    </a:lnTo>
                    <a:lnTo>
                      <a:pt x="144" y="360"/>
                    </a:lnTo>
                    <a:lnTo>
                      <a:pt x="134" y="288"/>
                    </a:lnTo>
                    <a:lnTo>
                      <a:pt x="178" y="312"/>
                    </a:lnTo>
                    <a:lnTo>
                      <a:pt x="869" y="312"/>
                    </a:lnTo>
                    <a:lnTo>
                      <a:pt x="941" y="293"/>
                    </a:lnTo>
                    <a:lnTo>
                      <a:pt x="946" y="326"/>
                    </a:lnTo>
                    <a:lnTo>
                      <a:pt x="922" y="384"/>
                    </a:lnTo>
                    <a:lnTo>
                      <a:pt x="931" y="413"/>
                    </a:lnTo>
                    <a:lnTo>
                      <a:pt x="1003" y="403"/>
                    </a:lnTo>
                    <a:lnTo>
                      <a:pt x="1056" y="283"/>
                    </a:lnTo>
                    <a:lnTo>
                      <a:pt x="1032" y="153"/>
                    </a:lnTo>
                    <a:lnTo>
                      <a:pt x="1013" y="120"/>
                    </a:lnTo>
                    <a:lnTo>
                      <a:pt x="1037" y="0"/>
                    </a:lnTo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Line 51"/>
            <p:cNvSpPr/>
            <p:nvPr/>
          </p:nvSpPr>
          <p:spPr>
            <a:xfrm flipH="1">
              <a:off x="5709960" y="2438280"/>
              <a:ext cx="80640" cy="182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2"/>
            <p:cNvSpPr/>
            <p:nvPr/>
          </p:nvSpPr>
          <p:spPr>
            <a:xfrm>
              <a:off x="8224560" y="2438280"/>
              <a:ext cx="80640" cy="182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8"/>
            <p:cNvSpPr/>
            <p:nvPr/>
          </p:nvSpPr>
          <p:spPr>
            <a:xfrm flipV="1">
              <a:off x="5257440" y="5028840"/>
              <a:ext cx="533160" cy="2124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9"/>
            <p:cNvSpPr/>
            <p:nvPr/>
          </p:nvSpPr>
          <p:spPr>
            <a:xfrm>
              <a:off x="8229240" y="5028840"/>
              <a:ext cx="515520" cy="2124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62"/>
          <p:cNvSpPr/>
          <p:nvPr/>
        </p:nvSpPr>
        <p:spPr>
          <a:xfrm>
            <a:off x="1523880" y="205740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运动会、年会、生日会等活动策划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3"/>
          <p:cNvSpPr/>
          <p:nvPr/>
        </p:nvSpPr>
        <p:spPr>
          <a:xfrm>
            <a:off x="1574640" y="280368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创新改善项目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4"/>
          <p:cNvSpPr/>
          <p:nvPr/>
        </p:nvSpPr>
        <p:spPr>
          <a:xfrm>
            <a:off x="1523880" y="326088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年度回顾材料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5"/>
          <p:cNvSpPr/>
          <p:nvPr/>
        </p:nvSpPr>
        <p:spPr>
          <a:xfrm>
            <a:off x="1523880" y="371808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改善提案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6"/>
          <p:cNvSpPr/>
          <p:nvPr/>
        </p:nvSpPr>
        <p:spPr>
          <a:xfrm>
            <a:off x="1523880" y="417528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活动成果宣传推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7"/>
          <p:cNvSpPr/>
          <p:nvPr/>
        </p:nvSpPr>
        <p:spPr>
          <a:xfrm>
            <a:off x="5791320" y="223992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内刊栏目策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8"/>
          <p:cNvSpPr/>
          <p:nvPr/>
        </p:nvSpPr>
        <p:spPr>
          <a:xfrm>
            <a:off x="5791320" y="275904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版面统括排版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9"/>
          <p:cNvSpPr/>
          <p:nvPr/>
        </p:nvSpPr>
        <p:spPr>
          <a:xfrm>
            <a:off x="5791320" y="332100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印刷发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0"/>
          <p:cNvSpPr/>
          <p:nvPr/>
        </p:nvSpPr>
        <p:spPr>
          <a:xfrm>
            <a:off x="5791320" y="3870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团队成员技能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1"/>
          <p:cNvSpPr/>
          <p:nvPr/>
        </p:nvSpPr>
        <p:spPr>
          <a:xfrm>
            <a:off x="1505880" y="95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主要职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7"/>
          <p:cNvSpPr/>
          <p:nvPr/>
        </p:nvSpPr>
        <p:spPr>
          <a:xfrm>
            <a:off x="609480" y="133200"/>
            <a:ext cx="343080" cy="324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6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2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5607E-006 L 0 0.90705 E">
                                      <p:cBhvr>
                                        <p:cTn id="315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1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1"/>
          <p:cNvGrpSpPr/>
          <p:nvPr/>
        </p:nvGrpSpPr>
        <p:grpSpPr>
          <a:xfrm>
            <a:off x="3352680" y="2743200"/>
            <a:ext cx="2438280" cy="1761840"/>
            <a:chOff x="3352680" y="2743200"/>
            <a:chExt cx="2438280" cy="1761840"/>
          </a:xfrm>
        </p:grpSpPr>
        <p:sp>
          <p:nvSpPr>
            <p:cNvPr id="181" name="Freeform 42"/>
            <p:cNvSpPr/>
            <p:nvPr/>
          </p:nvSpPr>
          <p:spPr>
            <a:xfrm>
              <a:off x="3352680" y="2743200"/>
              <a:ext cx="2438280" cy="1761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008" h="585">
                  <a:moveTo>
                    <a:pt x="0" y="330"/>
                  </a:moveTo>
                  <a:cubicBezTo>
                    <a:pt x="339" y="585"/>
                    <a:pt x="915" y="455"/>
                    <a:pt x="1008" y="282"/>
                  </a:cubicBezTo>
                  <a:cubicBezTo>
                    <a:pt x="934" y="19"/>
                    <a:pt x="153" y="0"/>
                    <a:pt x="0" y="330"/>
                  </a:cubicBezTo>
                  <a:close/>
                </a:path>
              </a:pathLst>
            </a:custGeom>
            <a:noFill/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237920" y="3062160"/>
              <a:ext cx="1044720" cy="92772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862160" y="3344760"/>
              <a:ext cx="34812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4629600" y="3228480"/>
              <a:ext cx="116280" cy="11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4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1060560" y="901800"/>
            <a:ext cx="1079280" cy="1079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1143000" y="2467080"/>
            <a:ext cx="900000" cy="900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事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1911240" y="5043600"/>
            <a:ext cx="900360" cy="900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软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技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6308640" y="5133960"/>
            <a:ext cx="900360" cy="900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英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水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7405560" y="3549600"/>
            <a:ext cx="900360" cy="900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文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逻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4"/>
          <p:cNvSpPr/>
          <p:nvPr/>
        </p:nvSpPr>
        <p:spPr>
          <a:xfrm>
            <a:off x="7364520" y="901800"/>
            <a:ext cx="1079280" cy="1079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创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1600200" y="914400"/>
            <a:ext cx="6324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H="1" flipV="1">
            <a:off x="1066680" y="1325160"/>
            <a:ext cx="76320" cy="1646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 flipV="1">
            <a:off x="1614600" y="3024360"/>
            <a:ext cx="2573280" cy="34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2"/>
          <p:cNvSpPr/>
          <p:nvPr/>
        </p:nvSpPr>
        <p:spPr>
          <a:xfrm flipV="1">
            <a:off x="2200320" y="4424400"/>
            <a:ext cx="2179440" cy="642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2362320" y="5943600"/>
            <a:ext cx="4481280" cy="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7153200" y="4343040"/>
            <a:ext cx="1000080" cy="1438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8298000" y="1371600"/>
            <a:ext cx="160200" cy="2743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3217320" y="4933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国家计算机二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2897280" y="5302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Excel/PPT/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3444840" y="3017880"/>
            <a:ext cx="1432080" cy="1431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职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2898360" y="55767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  <a:ea typeface="黑体"/>
              </a:rPr>
              <a:t>Photo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5405760" y="53481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2316240" y="10191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1000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人活动项目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2656440" y="138600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良好团队协作及沟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5780880" y="12333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自学排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5525280" y="1585800"/>
            <a:ext cx="15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创办内刊发行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4"/>
          <p:cNvSpPr/>
          <p:nvPr/>
        </p:nvSpPr>
        <p:spPr>
          <a:xfrm>
            <a:off x="5430240" y="191916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分享办公软件使用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2357280" y="21337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改善提案统计自动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3174120" y="253692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日常工作标准化、流程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5472360" y="387360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3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届年会年度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5459400" y="42400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创新成果材料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5200" y="566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8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2" presetSubtype="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9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2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 repeatCount="6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2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8" repeatCount="7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8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8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8" repeatCount="7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1" dur="1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2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" dur="2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"/>
          <p:cNvSpPr/>
          <p:nvPr/>
        </p:nvSpPr>
        <p:spPr>
          <a:xfrm>
            <a:off x="6569640" y="3228840"/>
            <a:ext cx="668520" cy="58140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黑体"/>
                <a:ea typeface="黑体"/>
              </a:rPr>
              <a:t>务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180080" y="2903400"/>
            <a:ext cx="729360" cy="64260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黑体"/>
                <a:ea typeface="黑体"/>
              </a:rPr>
              <a:t>专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338560" y="5110200"/>
            <a:ext cx="485640" cy="3988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谦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75840" y="2120760"/>
            <a:ext cx="9122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黑体"/>
                <a:ea typeface="黑体"/>
              </a:rPr>
              <a:t>乐于助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244560" y="2120760"/>
            <a:ext cx="9122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黑体"/>
                <a:ea typeface="黑体"/>
              </a:rPr>
              <a:t>电脑高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6422400" y="4257720"/>
            <a:ext cx="9122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黑体"/>
                <a:ea typeface="黑体"/>
              </a:rPr>
              <a:t>有创造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4266000" y="4902120"/>
            <a:ext cx="729360" cy="3682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黑体"/>
                <a:ea typeface="黑体"/>
              </a:rPr>
              <a:t>稍显内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2002680" y="4114800"/>
            <a:ext cx="9122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黑体"/>
                <a:ea typeface="黑体"/>
              </a:rPr>
              <a:t>有责任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4"/>
          <p:cNvGrpSpPr/>
          <p:nvPr/>
        </p:nvGrpSpPr>
        <p:grpSpPr>
          <a:xfrm>
            <a:off x="3352680" y="2743200"/>
            <a:ext cx="2438280" cy="1761840"/>
            <a:chOff x="3352680" y="2743200"/>
            <a:chExt cx="2438280" cy="1761840"/>
          </a:xfrm>
        </p:grpSpPr>
        <p:sp>
          <p:nvSpPr>
            <p:cNvPr id="223" name="Freeform 20"/>
            <p:cNvSpPr/>
            <p:nvPr/>
          </p:nvSpPr>
          <p:spPr>
            <a:xfrm>
              <a:off x="3352680" y="2743200"/>
              <a:ext cx="2438280" cy="1761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008" h="585">
                  <a:moveTo>
                    <a:pt x="0" y="330"/>
                  </a:moveTo>
                  <a:cubicBezTo>
                    <a:pt x="339" y="585"/>
                    <a:pt x="915" y="455"/>
                    <a:pt x="1008" y="282"/>
                  </a:cubicBezTo>
                  <a:cubicBezTo>
                    <a:pt x="934" y="19"/>
                    <a:pt x="153" y="0"/>
                    <a:pt x="0" y="330"/>
                  </a:cubicBezTo>
                  <a:close/>
                </a:path>
              </a:pathLst>
            </a:custGeom>
            <a:noFill/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4237920" y="3062160"/>
              <a:ext cx="1044720" cy="92772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2"/>
            <p:cNvSpPr/>
            <p:nvPr/>
          </p:nvSpPr>
          <p:spPr>
            <a:xfrm>
              <a:off x="4862160" y="3344760"/>
              <a:ext cx="34812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3"/>
            <p:cNvSpPr/>
            <p:nvPr/>
          </p:nvSpPr>
          <p:spPr>
            <a:xfrm>
              <a:off x="4629600" y="3228480"/>
              <a:ext cx="116280" cy="11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26"/>
          <p:cNvSpPr/>
          <p:nvPr/>
        </p:nvSpPr>
        <p:spPr>
          <a:xfrm>
            <a:off x="533520" y="533520"/>
            <a:ext cx="26319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别人眼中的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1855800" y="1714680"/>
            <a:ext cx="485640" cy="3988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正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0"/>
          <p:cNvSpPr/>
          <p:nvPr/>
        </p:nvSpPr>
        <p:spPr>
          <a:xfrm>
            <a:off x="5116320" y="1247760"/>
            <a:ext cx="54648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黑体"/>
                <a:ea typeface="黑体"/>
              </a:rPr>
              <a:t>好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6462720" y="5170320"/>
            <a:ext cx="485640" cy="3988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认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4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4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4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4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4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4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4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7"/>
          <p:cNvGrpSpPr/>
          <p:nvPr/>
        </p:nvGrpSpPr>
        <p:grpSpPr>
          <a:xfrm>
            <a:off x="-515880" y="250920"/>
            <a:ext cx="9345240" cy="6724800"/>
            <a:chOff x="-515880" y="250920"/>
            <a:chExt cx="9345240" cy="6724800"/>
          </a:xfrm>
        </p:grpSpPr>
        <p:sp>
          <p:nvSpPr>
            <p:cNvPr id="232" name="Rectangle 5"/>
            <p:cNvSpPr/>
            <p:nvPr/>
          </p:nvSpPr>
          <p:spPr>
            <a:xfrm rot="20899200">
              <a:off x="-85680" y="1057320"/>
              <a:ext cx="8485560" cy="51116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 rot="21292200">
              <a:off x="-193320" y="851400"/>
              <a:ext cx="8485560" cy="511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0"/>
          <p:cNvSpPr/>
          <p:nvPr/>
        </p:nvSpPr>
        <p:spPr>
          <a:xfrm rot="21245400">
            <a:off x="2552400" y="119376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华文中宋"/>
              </a:rPr>
              <a:t>职场荣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 rot="21289800">
            <a:off x="1456560" y="1985760"/>
            <a:ext cx="477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IGA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成果展示奖                成果总结、展板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 rot="21289800">
            <a:off x="1415160" y="2658960"/>
            <a:ext cx="44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IGA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小组亮相奖                策划、联合导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 rot="21289800">
            <a:off x="1379520" y="4597200"/>
            <a:ext cx="19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集团公司员工新风尚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 rot="21289800">
            <a:off x="1632960" y="3892680"/>
            <a:ext cx="41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集团主题团日活动成果一等奖   文案、</a:t>
            </a: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PPT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 rot="21289800">
            <a:off x="1269000" y="3285720"/>
            <a:ext cx="53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IGA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组织奖                    项目组织、成果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 rot="1887000">
            <a:off x="-457200" y="850680"/>
            <a:ext cx="1641600" cy="3175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 rot="5122800">
            <a:off x="363600" y="374400"/>
            <a:ext cx="1641240" cy="3175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"/>
          <p:cNvSpPr/>
          <p:nvPr/>
        </p:nvSpPr>
        <p:spPr>
          <a:xfrm>
            <a:off x="900000" y="1204920"/>
            <a:ext cx="776520" cy="7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9"/>
          <p:cNvSpPr/>
          <p:nvPr/>
        </p:nvSpPr>
        <p:spPr>
          <a:xfrm>
            <a:off x="1041480" y="1347840"/>
            <a:ext cx="492120" cy="4921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 rot="19150200">
            <a:off x="1109160" y="1461960"/>
            <a:ext cx="30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荣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 flipH="1" flipV="1">
            <a:off x="-355680" y="663120"/>
            <a:ext cx="1262160" cy="78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 flipH="1" flipV="1">
            <a:off x="1066320" y="-287640"/>
            <a:ext cx="109800" cy="148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 rot="21289800">
            <a:off x="1389960" y="5105520"/>
            <a:ext cx="21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连续</a:t>
            </a: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年被评为优秀员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40F-C856-42ED-9514-868F372CEB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0"/>
          <p:cNvGrpSpPr/>
          <p:nvPr/>
        </p:nvGrpSpPr>
        <p:grpSpPr>
          <a:xfrm>
            <a:off x="5943600" y="1714680"/>
            <a:ext cx="2286000" cy="4647600"/>
            <a:chOff x="5943600" y="1714680"/>
            <a:chExt cx="2286000" cy="4647600"/>
          </a:xfrm>
        </p:grpSpPr>
        <p:grpSp>
          <p:nvGrpSpPr>
            <p:cNvPr id="252" name="Group 15"/>
            <p:cNvGrpSpPr/>
            <p:nvPr/>
          </p:nvGrpSpPr>
          <p:grpSpPr>
            <a:xfrm>
              <a:off x="5943600" y="1714680"/>
              <a:ext cx="2286000" cy="2285640"/>
              <a:chOff x="5943600" y="1714680"/>
              <a:chExt cx="2286000" cy="2285640"/>
            </a:xfrm>
          </p:grpSpPr>
          <p:sp>
            <p:nvSpPr>
              <p:cNvPr id="253" name="AutoShape 11"/>
              <p:cNvSpPr/>
              <p:nvPr/>
            </p:nvSpPr>
            <p:spPr>
              <a:xfrm>
                <a:off x="5943600" y="1714680"/>
                <a:ext cx="2286000" cy="2285640"/>
              </a:xfrm>
              <a:custGeom>
                <a:avLst/>
                <a:gdLst>
                  <a:gd name="textAreaLeft" fmla="*/ 334800 w 2286000"/>
                  <a:gd name="textAreaRight" fmla="*/ 1951200 w 2286000"/>
                  <a:gd name="textAreaTop" fmla="*/ 334800 h 2285640"/>
                  <a:gd name="textAreaBottom" fmla="*/ 19508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4425" y="10800"/>
                    </a:moveTo>
                    <a:cubicBezTo>
                      <a:pt x="4425" y="14321"/>
                      <a:pt x="7279" y="17175"/>
                      <a:pt x="10800" y="17175"/>
                    </a:cubicBezTo>
                    <a:cubicBezTo>
                      <a:pt x="14321" y="17175"/>
                      <a:pt x="17175" y="14321"/>
                      <a:pt x="17175" y="10800"/>
                    </a:cubicBezTo>
                    <a:cubicBezTo>
                      <a:pt x="17175" y="7279"/>
                      <a:pt x="14321" y="4425"/>
                      <a:pt x="10800" y="4425"/>
                    </a:cubicBezTo>
                    <a:cubicBezTo>
                      <a:pt x="7279" y="4425"/>
                      <a:pt x="4425" y="7279"/>
                      <a:pt x="4425" y="10800"/>
                    </a:cubicBezTo>
                    <a:close/>
                  </a:path>
                </a:pathLst>
              </a:custGeom>
              <a:noFill/>
              <a:ln w="381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12"/>
              <p:cNvSpPr/>
              <p:nvPr/>
            </p:nvSpPr>
            <p:spPr>
              <a:xfrm>
                <a:off x="6746760" y="2517480"/>
                <a:ext cx="679680" cy="679320"/>
              </a:xfrm>
              <a:custGeom>
                <a:avLst/>
                <a:gdLst>
                  <a:gd name="textAreaLeft" fmla="*/ 100080 w 679680"/>
                  <a:gd name="textAreaRight" fmla="*/ 579600 w 679680"/>
                  <a:gd name="textAreaTop" fmla="*/ 99720 h 679320"/>
                  <a:gd name="textAreaBottom" fmla="*/ 579600 h 67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0189" y="10800"/>
                    </a:moveTo>
                    <a:cubicBezTo>
                      <a:pt x="10189" y="11137"/>
                      <a:pt x="10463" y="11411"/>
                      <a:pt x="10800" y="11411"/>
                    </a:cubicBezTo>
                    <a:cubicBezTo>
                      <a:pt x="11137" y="11411"/>
                      <a:pt x="11411" y="11137"/>
                      <a:pt x="11411" y="10800"/>
                    </a:cubicBezTo>
                    <a:cubicBezTo>
                      <a:pt x="11411" y="10463"/>
                      <a:pt x="11137" y="10189"/>
                      <a:pt x="10800" y="10189"/>
                    </a:cubicBezTo>
                    <a:cubicBezTo>
                      <a:pt x="10463" y="10189"/>
                      <a:pt x="10189" y="10463"/>
                      <a:pt x="10189" y="10800"/>
                    </a:cubicBezTo>
                    <a:close/>
                  </a:path>
                </a:pathLst>
              </a:custGeom>
              <a:noFill/>
              <a:ln w="381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9"/>
            <p:cNvGrpSpPr/>
            <p:nvPr/>
          </p:nvGrpSpPr>
          <p:grpSpPr>
            <a:xfrm>
              <a:off x="5943600" y="3924000"/>
              <a:ext cx="2286000" cy="2438280"/>
              <a:chOff x="5943600" y="3924000"/>
              <a:chExt cx="2286000" cy="2438280"/>
            </a:xfrm>
          </p:grpSpPr>
          <p:sp>
            <p:nvSpPr>
              <p:cNvPr id="256" name="Line 17"/>
              <p:cNvSpPr/>
              <p:nvPr/>
            </p:nvSpPr>
            <p:spPr>
              <a:xfrm flipH="1">
                <a:off x="5943600" y="3924000"/>
                <a:ext cx="812880" cy="2438280"/>
              </a:xfrm>
              <a:prstGeom prst="line">
                <a:avLst/>
              </a:prstGeom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8"/>
              <p:cNvSpPr/>
              <p:nvPr/>
            </p:nvSpPr>
            <p:spPr>
              <a:xfrm>
                <a:off x="7426440" y="3924000"/>
                <a:ext cx="803160" cy="2438280"/>
              </a:xfrm>
              <a:prstGeom prst="line">
                <a:avLst/>
              </a:prstGeom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Text Box 9"/>
          <p:cNvSpPr/>
          <p:nvPr/>
        </p:nvSpPr>
        <p:spPr>
          <a:xfrm>
            <a:off x="794520" y="563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求职意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1"/>
          <p:cNvSpPr/>
          <p:nvPr/>
        </p:nvSpPr>
        <p:spPr>
          <a:xfrm>
            <a:off x="533520" y="1447920"/>
            <a:ext cx="4267080" cy="2819160"/>
          </a:xfrm>
          <a:prstGeom prst="roundRect">
            <a:avLst>
              <a:gd name="adj" fmla="val 6194"/>
            </a:avLst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Arial"/>
                <a:ea typeface="黑体"/>
              </a:rPr>
              <a:t>企划</a:t>
            </a:r>
            <a:r>
              <a:rPr b="0" lang="en-US" sz="3600" spc="-1" strike="noStrike">
                <a:solidFill>
                  <a:srgbClr val="6699ff"/>
                </a:solidFill>
                <a:latin typeface="Arial"/>
                <a:ea typeface="黑体"/>
              </a:rPr>
              <a:t>/</a:t>
            </a:r>
            <a:r>
              <a:rPr b="0" lang="zh-CN" sz="3600" spc="-1" strike="noStrike">
                <a:solidFill>
                  <a:srgbClr val="6699ff"/>
                </a:solidFill>
                <a:latin typeface="Arial"/>
                <a:ea typeface="黑体"/>
              </a:rPr>
              <a:t>咨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相关职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2"/>
          <p:cNvSpPr/>
          <p:nvPr/>
        </p:nvSpPr>
        <p:spPr>
          <a:xfrm>
            <a:off x="705816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9" descr="图片2"/>
          <p:cNvPicPr/>
          <p:nvPr/>
        </p:nvPicPr>
        <p:blipFill>
          <a:blip r:embed="rId1"/>
          <a:stretch/>
        </p:blipFill>
        <p:spPr>
          <a:xfrm rot="19646400">
            <a:off x="5227560" y="3215880"/>
            <a:ext cx="2070000" cy="3351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8"/>
          <p:cNvSpPr/>
          <p:nvPr/>
        </p:nvSpPr>
        <p:spPr>
          <a:xfrm>
            <a:off x="5257800" y="0"/>
            <a:ext cx="388620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017120" y="555156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7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6170400" y="59277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qj_king@163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 rot="20319600">
            <a:off x="5686560" y="5126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电我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7079040" y="3943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用心创造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期待与您共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23699E-006 L -0.7849 0.6615 E">
                                      <p:cBhvr>
                                        <p:cTn id="587" dur="4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6:52:22Z</dcterms:created>
  <dc:creator>king</dc:creator>
  <dc:description/>
  <dc:language>en-US</dc:language>
  <cp:lastModifiedBy>a</cp:lastModifiedBy>
  <dcterms:modified xsi:type="dcterms:W3CDTF">2015-08-03T12:34:5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