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CB41-6C0D-4EF1-934C-964A78F54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B1A4-2941-4EBA-B416-09970A379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D90F-3B3E-4B9A-8430-CA7623421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CEAE-800D-4D80-AA73-9ADC8EE2A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7BFC-31A1-4905-9C59-4AF498182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C944-35D9-44A6-8D95-FDAC2BF84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386B-FBAE-47CA-AA1B-87AC8FEF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EB03-6935-441C-BA2E-06F26596E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2DD3-1559-4649-BE4F-7396ADA60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A490-CEBD-4C24-96CE-F6EEDD8FE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328E-99DD-41E5-B841-27EABFFA0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8CFD-6B1F-497A-BD8A-A0B396D28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494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494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1d494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666A-02E1-4161-A4A7-21461111BD84}" type="slidenum">
              <a:rPr b="1" lang="zh-CN" sz="1000" spc="-1" strike="noStrike">
                <a:solidFill>
                  <a:srgbClr val="1d494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1d4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885080" y="260280"/>
            <a:ext cx="1079640" cy="115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173560"/>
            <a:ext cx="8763120" cy="1684440"/>
          </a:xfrm>
          <a:prstGeom prst="rect">
            <a:avLst/>
          </a:prstGeom>
          <a:solidFill>
            <a:srgbClr val="669e86"/>
          </a:solidFill>
          <a:ln w="93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1d4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f7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4" name="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2362320"/>
            <a:ext cx="8759880" cy="280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e8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494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494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51640" y="1773360"/>
            <a:ext cx="1224000" cy="1295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24960" y="549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4940"/>
                </a:solidFill>
                <a:latin typeface="Arial"/>
              </a:rPr>
              <a:t>绿色年终工作报告幻灯片打包下载</a:t>
            </a:r>
            <a:endParaRPr b="0" lang="en-US" sz="4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2223000" y="1600200"/>
            <a:ext cx="9253800" cy="4824360"/>
            <a:chOff x="-2223000" y="1600200"/>
            <a:chExt cx="9253800" cy="4824360"/>
          </a:xfrm>
        </p:grpSpPr>
        <p:sp>
          <p:nvSpPr>
            <p:cNvPr id="99" name=""/>
            <p:cNvSpPr/>
            <p:nvPr/>
          </p:nvSpPr>
          <p:spPr>
            <a:xfrm rot="5400000">
              <a:off x="-2250000" y="162684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-1846800" y="205920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620720" y="1973160"/>
              <a:ext cx="4737240" cy="507960"/>
              <a:chOff x="1620720" y="1973160"/>
              <a:chExt cx="4737240" cy="507960"/>
            </a:xfrm>
          </p:grpSpPr>
          <p:sp>
            <p:nvSpPr>
              <p:cNvPr id="102" name=""/>
              <p:cNvSpPr/>
              <p:nvPr/>
            </p:nvSpPr>
            <p:spPr>
              <a:xfrm>
                <a:off x="1938240" y="1973160"/>
                <a:ext cx="441972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1620720" y="2062080"/>
                <a:ext cx="380880" cy="380880"/>
                <a:chOff x="1620720" y="2062080"/>
                <a:chExt cx="3808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620720" y="206208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642320" y="208332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662120" y="210348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662120" y="210348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681560" y="212292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81560" y="212292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00"/>
                    </a:gs>
                    <a:gs pos="100000">
                      <a:srgbClr val="ffcc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2154240" y="2743200"/>
              <a:ext cx="4724280" cy="507960"/>
              <a:chOff x="2154240" y="2743200"/>
              <a:chExt cx="4724280" cy="507960"/>
            </a:xfrm>
          </p:grpSpPr>
          <p:sp>
            <p:nvSpPr>
              <p:cNvPr id="111" name=""/>
              <p:cNvSpPr/>
              <p:nvPr/>
            </p:nvSpPr>
            <p:spPr>
              <a:xfrm>
                <a:off x="2459160" y="27432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154240" y="2849400"/>
                <a:ext cx="380880" cy="381240"/>
                <a:chOff x="2154240" y="2849400"/>
                <a:chExt cx="380880" cy="3812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154240" y="284940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175840" y="2870640"/>
                  <a:ext cx="33732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95640" y="289080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95640" y="289080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15080" y="291024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15080" y="291024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5c31"/>
                    </a:gs>
                    <a:gs pos="100000">
                      <a:srgbClr val="48be6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2306520" y="3611520"/>
              <a:ext cx="4724280" cy="507960"/>
              <a:chOff x="2306520" y="3611520"/>
              <a:chExt cx="4724280" cy="507960"/>
            </a:xfrm>
          </p:grpSpPr>
          <p:sp>
            <p:nvSpPr>
              <p:cNvPr id="120" name=""/>
              <p:cNvSpPr/>
              <p:nvPr/>
            </p:nvSpPr>
            <p:spPr>
              <a:xfrm>
                <a:off x="2611440" y="361152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306520" y="3687840"/>
                <a:ext cx="380880" cy="380880"/>
                <a:chOff x="2306520" y="3687840"/>
                <a:chExt cx="380880" cy="380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306520" y="368784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28120" y="370908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347920" y="372924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47920" y="372924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2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367360" y="374868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367360" y="374868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566c"/>
                    </a:gs>
                    <a:gs pos="100000">
                      <a:srgbClr val="21b3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54240" y="4424400"/>
              <a:ext cx="4755600" cy="507960"/>
              <a:chOff x="2154240" y="4424400"/>
              <a:chExt cx="4755600" cy="507960"/>
            </a:xfrm>
          </p:grpSpPr>
          <p:sp>
            <p:nvSpPr>
              <p:cNvPr id="129" name=""/>
              <p:cNvSpPr/>
              <p:nvPr/>
            </p:nvSpPr>
            <p:spPr>
              <a:xfrm>
                <a:off x="2490480" y="44244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154240" y="4525920"/>
                <a:ext cx="380520" cy="381240"/>
                <a:chOff x="2154240" y="4525920"/>
                <a:chExt cx="380520" cy="3812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154240" y="452592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175840" y="454716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956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956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2150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2150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316c"/>
                    </a:gs>
                    <a:gs pos="100000">
                      <a:srgbClr val="8d67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1697040" y="5251320"/>
              <a:ext cx="4717440" cy="507960"/>
              <a:chOff x="1697040" y="5251320"/>
              <a:chExt cx="4717440" cy="507960"/>
            </a:xfrm>
          </p:grpSpPr>
          <p:sp>
            <p:nvSpPr>
              <p:cNvPr id="138" name=""/>
              <p:cNvSpPr/>
              <p:nvPr/>
            </p:nvSpPr>
            <p:spPr>
              <a:xfrm>
                <a:off x="1995120" y="525132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97040" y="5300640"/>
                <a:ext cx="355320" cy="380880"/>
                <a:chOff x="1697040" y="5300640"/>
                <a:chExt cx="355320" cy="380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97040" y="530064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17200" y="532188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355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355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539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7539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2d10"/>
                    </a:gs>
                    <a:gs pos="100000">
                      <a:srgbClr val="e35e2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"/>
          <p:cNvSpPr/>
          <p:nvPr/>
        </p:nvSpPr>
        <p:spPr>
          <a:xfrm>
            <a:off x="1187280" y="1557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ca35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494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D291-4F56-482E-8B6B-300515D1FE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62320" y="1949400"/>
            <a:ext cx="413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9e86"/>
                    </a:gs>
                    <a:gs pos="100000">
                      <a:srgbClr val="8ca35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1d494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9e86"/>
                  </a:gs>
                  <a:gs pos="100000">
                    <a:srgbClr val="8ca35f"/>
                  </a:gs>
                </a:gsLst>
                <a:lin ang="10800000"/>
              </a:gradFill>
              <a:effectLst>
                <a:outerShdw dist="53966" dir="2700000" blurRad="0" rotWithShape="0">
                  <a:srgbClr val="1d494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37:33Z</dcterms:created>
  <dc:creator>北京锐得PPT整理发布</dc:creator>
  <dc:description/>
  <dc:language>en-US</dc:language>
  <cp:lastModifiedBy>pc</cp:lastModifiedBy>
  <dcterms:modified xsi:type="dcterms:W3CDTF">2015-08-03T12:34:32Z</dcterms:modified>
  <cp:revision>4</cp:revision>
  <dc:subject>www.ruideppt.com</dc:subject>
  <dc:title>北京锐得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