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684-E2EF-4DD1-B2A4-59A41D8E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D75-72A9-463F-946B-A03F425A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03F-2D74-47EE-81C8-9C3A7423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FAC-5ED0-4F7C-9253-3FC697D1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C11-8515-4E9C-A290-A4D98E7A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A9E-7288-40B4-952F-5DF4B128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DA6-9880-4F74-8FC2-1275F6FE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06C-38DF-4965-BAF5-6D7F52D0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776-A2A3-4337-B0ED-851EEE55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40B-59F6-4716-B7CD-056796F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F3F-8CD2-48B6-A758-A3E81B4C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904-B300-4E73-871B-FF40EC9B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846F-6D8A-4DCB-BB92-69FE6B336D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DD29-87D9-425E-902C-22BED50158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0" t="11835" r="260" b="0"/>
          <a:stretch/>
        </p:blipFill>
        <p:spPr>
          <a:xfrm>
            <a:off x="-27000" y="-17640"/>
            <a:ext cx="9191520" cy="423072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-12600" y="4540320"/>
            <a:ext cx="9191520" cy="603360"/>
          </a:xfrm>
          <a:prstGeom prst="rect">
            <a:avLst/>
          </a:prstGeom>
          <a:solidFill>
            <a:srgbClr val="0a6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-12600" y="4097160"/>
            <a:ext cx="9191520" cy="540000"/>
          </a:xfrm>
          <a:prstGeom prst="rect">
            <a:avLst/>
          </a:prstGeom>
          <a:solidFill>
            <a:srgbClr val="026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7740720" y="445284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人：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826920" y="3828960"/>
            <a:ext cx="2745000" cy="7038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875200" y="-17640"/>
            <a:ext cx="3378240" cy="749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1800" y="7714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企业会议幻灯片完整版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团队精神大图 点击还原"/>
          <p:cNvPicPr/>
          <p:nvPr/>
        </p:nvPicPr>
        <p:blipFill>
          <a:blip r:embed="rId1"/>
          <a:srcRect l="0" t="3142" r="0" b="0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87" name="矩形 21"/>
          <p:cNvSpPr/>
          <p:nvPr/>
        </p:nvSpPr>
        <p:spPr>
          <a:xfrm>
            <a:off x="2367000" y="3112920"/>
            <a:ext cx="4275000" cy="800280"/>
          </a:xfrm>
          <a:prstGeom prst="rect">
            <a:avLst/>
          </a:prstGeom>
          <a:solidFill>
            <a:srgbClr val="0a6e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2367000" y="1087560"/>
            <a:ext cx="4275000" cy="2025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750840" y="1103400"/>
            <a:ext cx="1532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精诚为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新为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"/>
          <p:cNvGrpSpPr/>
          <p:nvPr/>
        </p:nvGrpSpPr>
        <p:grpSpPr>
          <a:xfrm>
            <a:off x="2914560" y="1581120"/>
            <a:ext cx="374760" cy="157320"/>
            <a:chOff x="2914560" y="1581120"/>
            <a:chExt cx="374760" cy="157320"/>
          </a:xfrm>
        </p:grpSpPr>
        <p:sp>
          <p:nvSpPr>
            <p:cNvPr id="91" name="等腰三角形 11"/>
            <p:cNvSpPr/>
            <p:nvPr/>
          </p:nvSpPr>
          <p:spPr>
            <a:xfrm rot="5400000">
              <a:off x="2925720" y="1569600"/>
              <a:ext cx="157320" cy="18000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等腰三角形 12"/>
            <p:cNvSpPr/>
            <p:nvPr/>
          </p:nvSpPr>
          <p:spPr>
            <a:xfrm rot="5400000">
              <a:off x="3120480" y="1569600"/>
              <a:ext cx="157320" cy="18000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3"/>
          <p:cNvSpPr/>
          <p:nvPr/>
        </p:nvSpPr>
        <p:spPr>
          <a:xfrm>
            <a:off x="3744000" y="315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结合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8"/>
          <p:cNvGrpSpPr/>
          <p:nvPr/>
        </p:nvGrpSpPr>
        <p:grpSpPr>
          <a:xfrm>
            <a:off x="2922480" y="2500200"/>
            <a:ext cx="374760" cy="157320"/>
            <a:chOff x="2922480" y="2500200"/>
            <a:chExt cx="374760" cy="157320"/>
          </a:xfrm>
        </p:grpSpPr>
        <p:sp>
          <p:nvSpPr>
            <p:cNvPr id="95" name="等腰三角形 19"/>
            <p:cNvSpPr/>
            <p:nvPr/>
          </p:nvSpPr>
          <p:spPr>
            <a:xfrm rot="5400000">
              <a:off x="2933640" y="2488680"/>
              <a:ext cx="157320" cy="18000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等腰三角形 20"/>
            <p:cNvSpPr/>
            <p:nvPr/>
          </p:nvSpPr>
          <p:spPr>
            <a:xfrm rot="5400000">
              <a:off x="3128400" y="2488680"/>
              <a:ext cx="157320" cy="18000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673280" y="83016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-27000" y="4538520"/>
            <a:ext cx="9191520" cy="605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04800" y="630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24360" y="46044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11280" y="3402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7956720" y="471600"/>
            <a:ext cx="93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绩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 flipH="1">
            <a:off x="917280" y="1924200"/>
            <a:ext cx="159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接箭头连接符 12"/>
          <p:cNvCxnSpPr/>
          <p:nvPr/>
        </p:nvCxnSpPr>
        <p:spPr>
          <a:xfrm flipH="1" flipV="1">
            <a:off x="1186920" y="3601440"/>
            <a:ext cx="1982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直接连接符 17"/>
          <p:cNvSpPr/>
          <p:nvPr/>
        </p:nvSpPr>
        <p:spPr>
          <a:xfrm flipH="1">
            <a:off x="3168720" y="3083040"/>
            <a:ext cx="1440" cy="51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接箭头连接符 22"/>
          <p:cNvCxnSpPr/>
          <p:nvPr/>
        </p:nvCxnSpPr>
        <p:spPr>
          <a:xfrm flipH="1" flipV="1">
            <a:off x="916920" y="1029600"/>
            <a:ext cx="1080" cy="89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直接连接符 25"/>
          <p:cNvSpPr/>
          <p:nvPr/>
        </p:nvSpPr>
        <p:spPr>
          <a:xfrm flipH="1" flipV="1">
            <a:off x="4492800" y="1923840"/>
            <a:ext cx="62064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直接箭头连接符 27"/>
          <p:cNvCxnSpPr/>
          <p:nvPr/>
        </p:nvCxnSpPr>
        <p:spPr>
          <a:xfrm flipH="1" flipV="1">
            <a:off x="5112720" y="829440"/>
            <a:ext cx="1080" cy="109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" name="Picture 2" descr=""/>
          <p:cNvPicPr/>
          <p:nvPr/>
        </p:nvPicPr>
        <p:blipFill>
          <a:blip r:embed="rId2"/>
          <a:srcRect l="0" t="40669" r="33657" b="0"/>
          <a:stretch/>
        </p:blipFill>
        <p:spPr>
          <a:xfrm>
            <a:off x="5388120" y="2735280"/>
            <a:ext cx="4038480" cy="240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1C1-D15A-4C32-B2B0-48048D52BB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3"/>
          <p:cNvSpPr/>
          <p:nvPr/>
        </p:nvSpPr>
        <p:spPr>
          <a:xfrm>
            <a:off x="3067200" y="0"/>
            <a:ext cx="6076800" cy="604800"/>
          </a:xfrm>
          <a:prstGeom prst="pie">
            <a:avLst/>
          </a:prstGeom>
          <a:solidFill>
            <a:srgbClr val="027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6"/>
          <p:cNvSpPr/>
          <p:nvPr/>
        </p:nvSpPr>
        <p:spPr>
          <a:xfrm>
            <a:off x="87480" y="587520"/>
            <a:ext cx="360360" cy="333360"/>
          </a:xfrm>
          <a:prstGeom prst="ellipse">
            <a:avLst/>
          </a:prstGeom>
          <a:solidFill>
            <a:srgbClr val="1b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7"/>
          <p:cNvSpPr/>
          <p:nvPr/>
        </p:nvSpPr>
        <p:spPr>
          <a:xfrm>
            <a:off x="498600" y="604800"/>
            <a:ext cx="288720" cy="287280"/>
          </a:xfrm>
          <a:prstGeom prst="ellipse">
            <a:avLst/>
          </a:prstGeom>
          <a:solidFill>
            <a:srgbClr val="1b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8"/>
          <p:cNvSpPr/>
          <p:nvPr/>
        </p:nvSpPr>
        <p:spPr>
          <a:xfrm>
            <a:off x="826920" y="655560"/>
            <a:ext cx="216000" cy="216000"/>
          </a:xfrm>
          <a:prstGeom prst="ellipse">
            <a:avLst/>
          </a:prstGeom>
          <a:solidFill>
            <a:srgbClr val="b3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9"/>
          <p:cNvSpPr/>
          <p:nvPr/>
        </p:nvSpPr>
        <p:spPr>
          <a:xfrm>
            <a:off x="1122480" y="681120"/>
            <a:ext cx="164880" cy="163440"/>
          </a:xfrm>
          <a:prstGeom prst="ellipse">
            <a:avLst/>
          </a:prstGeom>
          <a:solidFill>
            <a:srgbClr val="d1e2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x201i\Desktop\未标题-1.png"/>
          <p:cNvPicPr/>
          <p:nvPr/>
        </p:nvPicPr>
        <p:blipFill>
          <a:blip r:embed="rId1"/>
          <a:stretch/>
        </p:blipFill>
        <p:spPr>
          <a:xfrm>
            <a:off x="3419640" y="149400"/>
            <a:ext cx="40608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圆角矩形 20"/>
          <p:cNvSpPr/>
          <p:nvPr/>
        </p:nvSpPr>
        <p:spPr>
          <a:xfrm>
            <a:off x="774720" y="1131840"/>
            <a:ext cx="7632720" cy="3861000"/>
          </a:xfrm>
          <a:prstGeom prst="pie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标注 9"/>
          <p:cNvSpPr/>
          <p:nvPr/>
        </p:nvSpPr>
        <p:spPr>
          <a:xfrm flipH="1">
            <a:off x="0" y="620640"/>
            <a:ext cx="9144000" cy="184320"/>
          </a:xfrm>
          <a:prstGeom prst="pie">
            <a:avLst/>
          </a:prstGeom>
          <a:solidFill>
            <a:srgbClr val="026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 rot="1855800">
            <a:off x="6470280" y="1333440"/>
            <a:ext cx="274680" cy="374760"/>
          </a:xfrm>
          <a:prstGeom prst="rect">
            <a:avLst/>
          </a:prstGeom>
          <a:solidFill>
            <a:srgbClr val="94513b"/>
          </a:solidFill>
          <a:ln w="25560">
            <a:solidFill>
              <a:srgbClr val="945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 rot="18061200">
            <a:off x="6896520" y="-277200"/>
            <a:ext cx="2262240" cy="1889280"/>
          </a:xfrm>
          <a:prstGeom prst="pie">
            <a:avLst/>
          </a:prstGeom>
          <a:solidFill>
            <a:srgbClr val="94513b"/>
          </a:solidFill>
          <a:ln w="25560">
            <a:solidFill>
              <a:srgbClr val="945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 rot="1855800">
            <a:off x="7143840" y="442800"/>
            <a:ext cx="191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 rot="1855800">
            <a:off x="7296120" y="685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宋黑简体"/>
                <a:ea typeface="方正宋黑简体"/>
              </a:rPr>
              <a:t>执行保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 rot="1866000">
            <a:off x="6619680" y="11523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obe Gothic Std B"/>
                <a:ea typeface="方正兰亭中黑_GBK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8"/>
          <p:cNvSpPr/>
          <p:nvPr/>
        </p:nvSpPr>
        <p:spPr>
          <a:xfrm>
            <a:off x="7225560" y="208440"/>
            <a:ext cx="1446120" cy="86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 rot="1855800">
            <a:off x="6630120" y="1562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513b"/>
                </a:solidFill>
                <a:latin typeface="黑体"/>
                <a:ea typeface="黑体"/>
              </a:rPr>
              <a:t>33-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50920" y="1060560"/>
          <a:ext cx="8694720" cy="2895480"/>
        </p:xfrm>
        <a:graphic>
          <a:graphicData uri="http://schemas.openxmlformats.org/drawingml/2006/table">
            <a:tbl>
              <a:tblPr/>
              <a:tblGrid>
                <a:gridCol w="1913040"/>
                <a:gridCol w="2433600"/>
                <a:gridCol w="2313000"/>
                <a:gridCol w="2035080"/>
              </a:tblGrid>
              <a:tr h="451440">
                <a:tc gridSpan="4">
                  <a:txBody>
                    <a:bodyPr lIns="162720" rIns="16272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岗位说明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2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岗位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岗位编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402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所在部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岗位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直接上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工资等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402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直接下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薪酬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36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所辖人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岗位分析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4040">
                <a:tc gridSpan="4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本职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200">
                <a:tc gridSpan="4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95280" y="619200"/>
          <a:ext cx="8424720" cy="4454280"/>
        </p:xfrm>
        <a:graphic>
          <a:graphicData uri="http://schemas.openxmlformats.org/drawingml/2006/table">
            <a:tbl>
              <a:tblPr/>
              <a:tblGrid>
                <a:gridCol w="603360"/>
                <a:gridCol w="1023840"/>
                <a:gridCol w="4865760"/>
                <a:gridCol w="1931760"/>
              </a:tblGrid>
              <a:tr h="558360">
                <a:tc gridSpan="3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职责与工作任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衡量标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质、量、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2840">
                <a:tc rowSpan="3">
                  <a:txBody>
                    <a:bodyPr lIns="162720" rIns="162720" tIns="32760" bIns="327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职 责 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职责描述：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62720" rIns="162720" tIns="32760" bIns="327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工作任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2480">
                <a:tc rowSpan="3">
                  <a:txBody>
                    <a:bodyPr lIns="162720" rIns="162720" tIns="32760" bIns="327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职责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职责描述：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工作任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240">
                <a:tc gridSpan="4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权力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853920" y="1081080"/>
          <a:ext cx="7389720" cy="1849320"/>
        </p:xfrm>
        <a:graphic>
          <a:graphicData uri="http://schemas.openxmlformats.org/drawingml/2006/table">
            <a:tbl>
              <a:tblPr/>
              <a:tblGrid>
                <a:gridCol w="2143080"/>
                <a:gridCol w="5246640"/>
              </a:tblGrid>
              <a:tr h="763560"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工作协作关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内部协调关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4288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部协调关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55640" y="412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116000" y="596880"/>
          <a:ext cx="6948360" cy="4489560"/>
        </p:xfrm>
        <a:graphic>
          <a:graphicData uri="http://schemas.openxmlformats.org/drawingml/2006/table">
            <a:tbl>
              <a:tblPr/>
              <a:tblGrid>
                <a:gridCol w="2014560"/>
                <a:gridCol w="4933800"/>
              </a:tblGrid>
              <a:tr h="401040"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任职资格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教育水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培训经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48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经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知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技能技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素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2600"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其它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使用工具、设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22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工作环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工作时间特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所需记录文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800"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考核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20"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210-B6B7-427A-B979-EA5AFF4052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53:00Z</dcterms:created>
  <dc:creator>ppt宝藏</dc:creator>
  <dc:description/>
  <dc:language>en-US</dc:language>
  <cp:lastModifiedBy>Administrator</cp:lastModifiedBy>
  <dcterms:modified xsi:type="dcterms:W3CDTF">2015-08-03T12:30:50Z</dcterms:modified>
  <cp:revision>2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