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417-D89F-42FB-817C-754D90AA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E7C-1921-4D7C-9B62-E7B8D4E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528-5653-4545-BD04-2A667A28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450-5901-4E46-AEC4-F13FE902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955-152C-4DA4-9D33-41FED0D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A44-84BF-4ED0-A870-B31A16B3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CBB-8814-4CB7-8902-0AD46B11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F04-9E9C-41D8-B7F6-AC908F4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566-3D0A-47B4-83CA-FA5B938E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5D8-D9B1-4675-9D30-2867397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102-0152-447C-BA16-21B60F8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106-CC22-48E7-99B2-3199EB7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4AD-6ADE-470A-B590-9BECE953C5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冰凝\Desktop\ppt 比赛\未标题-1-01.jpg"/>
          <p:cNvPicPr/>
          <p:nvPr/>
        </p:nvPicPr>
        <p:blipFill>
          <a:blip r:embed="rId16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33040" y="9129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求职简历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冰凝\Desktop\ppt 比赛\未标题-1-02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冰凝\Desktop\ppt 比赛\未标题-1-03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冰凝\Desktop\ppt 比赛\未标题-1-04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0040" y="558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冰凝\Desktop\ppt 比赛\未标题-1-05.jpg"/>
          <p:cNvPicPr/>
          <p:nvPr/>
        </p:nvPicPr>
        <p:blipFill>
          <a:blip r:embed="rId1"/>
          <a:stretch/>
        </p:blipFill>
        <p:spPr>
          <a:xfrm>
            <a:off x="3240" y="-468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冰凝\Desktop\ppt 比赛\未标题-1-06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冰凝\Desktop\ppt 比赛\未标题-1-07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1E7-CB22-4014-85D7-CD065CC7D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冰凝\Desktop\ppt 比赛\未标题-1-08.jpg"/>
          <p:cNvPicPr/>
          <p:nvPr/>
        </p:nvPicPr>
        <p:blipFill>
          <a:blip r:embed="rId1"/>
          <a:stretch/>
        </p:blipFill>
        <p:spPr>
          <a:xfrm>
            <a:off x="0" y="-468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lenovo</cp:lastModifiedBy>
  <dcterms:modified xsi:type="dcterms:W3CDTF">2015-08-03T12:33:0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