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040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258-74DE-463C-AD24-9E1A6C9B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478-356D-4085-A245-36DDC1DD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ADB-5D25-4A07-B0A9-8504179C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4A4-1634-475E-92ED-11BCC115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B2F-B25C-48BD-80B9-5B3A2D20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ED51-7711-425E-9E3D-94396981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DFF0-6C8C-4E51-9B8B-3F76093C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56B2-32AE-4A6B-883C-61173113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9272-365B-4615-AE6B-4A50827E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C6B-1BB2-4D2E-9758-1540FBD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0E92-F408-47DB-B1AA-17B81E5A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986-2303-4A3F-8851-FFC74438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90F6-7288-422F-9063-AE879572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C4D4-4F3C-4B3D-9D9B-54A71D5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B77F-A641-499D-9759-2BB2F2EC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5921-37BA-4C23-A188-4051B268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F8E3-5E4E-4D4C-AD66-D796EDE8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CE4-1F2C-44D5-8555-DDDABAF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05F-9B2D-46BF-BB56-8800B6E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564-7D98-4DB0-88E5-3DCF39A5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2CC-2F8B-4F18-B3A2-197B58F9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0C6-A867-4632-9E03-5A19AF22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0EA-3642-42C1-BF09-D5E447D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6D3-5097-4043-BE8D-136E33A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KE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A01B-3B79-4226-AB73-8DF980D515B7}" type="slidenum"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407360" y="0"/>
            <a:ext cx="1260360" cy="433440"/>
            <a:chOff x="7407360" y="0"/>
            <a:chExt cx="1260360" cy="433440"/>
          </a:xfrm>
        </p:grpSpPr>
        <p:sp>
          <p:nvSpPr>
            <p:cNvPr id="42" name="矩形 7"/>
            <p:cNvSpPr/>
            <p:nvPr/>
          </p:nvSpPr>
          <p:spPr>
            <a:xfrm>
              <a:off x="7407360" y="0"/>
              <a:ext cx="1260360" cy="389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pic>
          <p:nvPicPr>
            <p:cNvPr id="43" name="Picture 2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421040" y="0"/>
              <a:ext cx="124668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KE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C0E1-2820-4E84-A28C-AEFA898E39E7}" type="slidenum"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rcRect l="0" t="3558" r="6249" b="18964"/>
          <a:stretch/>
        </p:blipFill>
        <p:spPr>
          <a:xfrm>
            <a:off x="0" y="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86" name="矩形 9"/>
          <p:cNvSpPr/>
          <p:nvPr/>
        </p:nvSpPr>
        <p:spPr>
          <a:xfrm>
            <a:off x="-84240" y="2070000"/>
            <a:ext cx="9228240" cy="2656080"/>
          </a:xfrm>
          <a:prstGeom prst="rect">
            <a:avLst/>
          </a:prstGeom>
          <a:solidFill>
            <a:srgbClr val="f2f2f2">
              <a:alpha val="78000"/>
            </a:srgbClr>
          </a:solidFill>
          <a:ln w="0">
            <a:noFill/>
          </a:ln>
          <a:effectLst>
            <a:outerShdw dist="3816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3543120" y="3635280"/>
            <a:ext cx="2286360" cy="1000080"/>
            <a:chOff x="3543120" y="3635280"/>
            <a:chExt cx="2286360" cy="1000080"/>
          </a:xfrm>
        </p:grpSpPr>
        <p:grpSp>
          <p:nvGrpSpPr>
            <p:cNvPr id="88" name="Group 5"/>
            <p:cNvGrpSpPr/>
            <p:nvPr/>
          </p:nvGrpSpPr>
          <p:grpSpPr>
            <a:xfrm>
              <a:off x="3596040" y="3635280"/>
              <a:ext cx="1950840" cy="749520"/>
              <a:chOff x="3596040" y="3635280"/>
              <a:chExt cx="1950840" cy="749520"/>
            </a:xfrm>
          </p:grpSpPr>
          <p:pic>
            <p:nvPicPr>
              <p:cNvPr id="89" name="Picture 2" descr=""/>
              <p:cNvPicPr/>
              <p:nvPr/>
            </p:nvPicPr>
            <p:blipFill>
              <a:blip r:embed="rId2"/>
              <a:srcRect l="0" t="0" r="3486" b="0"/>
              <a:stretch/>
            </p:blipFill>
            <p:spPr>
              <a:xfrm>
                <a:off x="3596040" y="3635280"/>
                <a:ext cx="195084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Box 12"/>
              <p:cNvSpPr/>
              <p:nvPr/>
            </p:nvSpPr>
            <p:spPr>
              <a:xfrm>
                <a:off x="3908160" y="4123440"/>
                <a:ext cx="1351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 </a:t>
                </a:r>
                <a:r>
                  <a:rPr b="1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面试技巧集萃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</a:t>
                </a:r>
                <a:endParaRPr b="0" lang="en-US" sz="11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sp>
          <p:nvSpPr>
            <p:cNvPr id="91" name="TextBox 14"/>
            <p:cNvSpPr/>
            <p:nvPr/>
          </p:nvSpPr>
          <p:spPr>
            <a:xfrm>
              <a:off x="3543120" y="4389120"/>
              <a:ext cx="228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搜集  秋叶语录        整理  黄丽娟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  曹将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3251160" y="2631960"/>
            <a:ext cx="2223360" cy="703440"/>
            <a:chOff x="3251160" y="2631960"/>
            <a:chExt cx="2223360" cy="703440"/>
          </a:xfrm>
        </p:grpSpPr>
        <p:sp>
          <p:nvSpPr>
            <p:cNvPr id="93" name="矩形 17"/>
            <p:cNvSpPr/>
            <p:nvPr/>
          </p:nvSpPr>
          <p:spPr>
            <a:xfrm>
              <a:off x="4074480" y="26319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4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94" name="圆角矩形 18"/>
            <p:cNvSpPr/>
            <p:nvPr/>
          </p:nvSpPr>
          <p:spPr>
            <a:xfrm>
              <a:off x="3251160" y="2818080"/>
              <a:ext cx="405000" cy="405360"/>
            </a:xfrm>
            <a:custGeom>
              <a:avLst/>
              <a:gdLst>
                <a:gd name="textAreaLeft" fmla="*/ 19440 w 405000"/>
                <a:gd name="textAreaRight" fmla="*/ 385560 w 405000"/>
                <a:gd name="textAreaTop" fmla="*/ 19440 h 405360"/>
                <a:gd name="textAreaBottom" fmla="*/ 385920 h 405360"/>
              </a:gdLst>
              <a:ahLst/>
              <a:rect l="textAreaLeft" t="textAreaTop" r="textAreaRight" b="textAreaBottom"/>
              <a:pathLst>
                <a:path w="21600" h="21619">
                  <a:moveTo>
                    <a:pt x="3600" y="0"/>
                  </a:moveTo>
                  <a:arcTo wR="3600" hR="3600" stAng="16200000" swAng="-5400000"/>
                  <a:lnTo>
                    <a:pt x="0" y="18019"/>
                  </a:lnTo>
                  <a:arcTo wR="3600" hR="3600" stAng="10800000" swAng="-5400000"/>
                  <a:lnTo>
                    <a:pt x="18000" y="216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陆</a:t>
              </a:r>
              <a:endParaRPr b="0" lang="en-US" sz="24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152080" y="20700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KEA Sans"/>
              </a:rPr>
              <a:t>求职简历</a:t>
            </a:r>
            <a:r>
              <a:rPr b="0" lang="en-US" sz="4000" spc="-1" strike="noStrike">
                <a:solidFill>
                  <a:srgbClr val="000000"/>
                </a:solidFill>
                <a:latin typeface="IKEA Sans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IKEA Sans"/>
              </a:rPr>
              <a:t>制作免费打包下载</a:t>
            </a:r>
            <a:endParaRPr b="0" lang="en-US" sz="4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6" name=""/>
          <p:cNvSpPr/>
          <p:nvPr/>
        </p:nvSpPr>
        <p:spPr>
          <a:xfrm>
            <a:off x="162000" y="4140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214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15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270160" y="1515960"/>
            <a:ext cx="6576840" cy="252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217" name="矩形 2"/>
          <p:cNvSpPr/>
          <p:nvPr/>
        </p:nvSpPr>
        <p:spPr>
          <a:xfrm>
            <a:off x="1150920" y="1515960"/>
            <a:ext cx="1030320" cy="2524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1390680" y="36338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范例</a:t>
            </a:r>
            <a:r>
              <a:rPr b="0" lang="en-US" sz="24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220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21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222" name="矩形 2"/>
          <p:cNvSpPr/>
          <p:nvPr/>
        </p:nvSpPr>
        <p:spPr>
          <a:xfrm>
            <a:off x="1150920" y="1515960"/>
            <a:ext cx="1030320" cy="2524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1345320" y="36338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范例</a:t>
            </a:r>
            <a:r>
              <a:rPr b="0" lang="en-US" sz="24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276640" y="1515960"/>
            <a:ext cx="5424480" cy="252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225" name="矩形 7"/>
          <p:cNvSpPr/>
          <p:nvPr/>
        </p:nvSpPr>
        <p:spPr>
          <a:xfrm>
            <a:off x="162000" y="13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227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28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229" name="矩形 2"/>
          <p:cNvSpPr/>
          <p:nvPr/>
        </p:nvSpPr>
        <p:spPr>
          <a:xfrm>
            <a:off x="1150920" y="1515960"/>
            <a:ext cx="1030320" cy="2524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1345320" y="36338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范例</a:t>
            </a:r>
            <a:r>
              <a:rPr b="0" lang="en-US" sz="24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279520" y="1515960"/>
            <a:ext cx="5534280" cy="252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122480" y="1430280"/>
            <a:ext cx="5970600" cy="153036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"/>
          <p:cNvGrpSpPr/>
          <p:nvPr/>
        </p:nvGrpSpPr>
        <p:grpSpPr>
          <a:xfrm>
            <a:off x="695160" y="609480"/>
            <a:ext cx="7058160" cy="1195200"/>
            <a:chOff x="695160" y="609480"/>
            <a:chExt cx="7058160" cy="1195200"/>
          </a:xfrm>
        </p:grpSpPr>
        <p:pic>
          <p:nvPicPr>
            <p:cNvPr id="234" name="矩形 3" descr=""/>
            <p:cNvPicPr/>
            <p:nvPr/>
          </p:nvPicPr>
          <p:blipFill>
            <a:blip r:embed="rId2"/>
            <a:stretch/>
          </p:blipFill>
          <p:spPr>
            <a:xfrm>
              <a:off x="695160" y="610560"/>
              <a:ext cx="7056720" cy="11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695160" y="609480"/>
              <a:ext cx="7058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236" name="Group 6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237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所获荣誉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38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239" name="Group 9"/>
          <p:cNvGrpSpPr/>
          <p:nvPr/>
        </p:nvGrpSpPr>
        <p:grpSpPr>
          <a:xfrm>
            <a:off x="695160" y="2176560"/>
            <a:ext cx="7058160" cy="1199880"/>
            <a:chOff x="695160" y="2176560"/>
            <a:chExt cx="7058160" cy="1199880"/>
          </a:xfrm>
        </p:grpSpPr>
        <p:pic>
          <p:nvPicPr>
            <p:cNvPr id="240" name="矩形 11" descr=""/>
            <p:cNvPicPr/>
            <p:nvPr/>
          </p:nvPicPr>
          <p:blipFill>
            <a:blip r:embed="rId3"/>
            <a:stretch/>
          </p:blipFill>
          <p:spPr>
            <a:xfrm>
              <a:off x="695160" y="2176560"/>
              <a:ext cx="705672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1"/>
            <p:cNvSpPr/>
            <p:nvPr/>
          </p:nvSpPr>
          <p:spPr>
            <a:xfrm rot="10800000">
              <a:off x="695160" y="2178720"/>
              <a:ext cx="7058160" cy="11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242" name="矩形 21"/>
          <p:cNvSpPr/>
          <p:nvPr/>
        </p:nvSpPr>
        <p:spPr>
          <a:xfrm>
            <a:off x="1014480" y="2844720"/>
            <a:ext cx="616752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标注比例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比如获优秀毕业论文（奖励前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5%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）这样的写法是最专业的。写简历有个原则，把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当傻瓜，因为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一小时可能就要看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多封简历，他根本不会去思考你的奖项比例或是什么的，所以尽量表达清楚，一看就能明白最好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无关奖励不要放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！比如“军训优秀学员”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695160" y="609480"/>
            <a:ext cx="7058160" cy="1195200"/>
            <a:chOff x="695160" y="609480"/>
            <a:chExt cx="7058160" cy="1195200"/>
          </a:xfrm>
        </p:grpSpPr>
        <p:pic>
          <p:nvPicPr>
            <p:cNvPr id="244" name="矩形 3" descr=""/>
            <p:cNvPicPr/>
            <p:nvPr/>
          </p:nvPicPr>
          <p:blipFill>
            <a:blip r:embed="rId1"/>
            <a:stretch/>
          </p:blipFill>
          <p:spPr>
            <a:xfrm>
              <a:off x="695160" y="610560"/>
              <a:ext cx="7056720" cy="11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"/>
            <p:cNvSpPr/>
            <p:nvPr/>
          </p:nvSpPr>
          <p:spPr>
            <a:xfrm>
              <a:off x="695160" y="609480"/>
              <a:ext cx="7058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246" name="Group 5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247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相关技能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48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2995560" y="1360440"/>
            <a:ext cx="4759200" cy="1171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250" name="矩形 1"/>
          <p:cNvSpPr/>
          <p:nvPr/>
        </p:nvSpPr>
        <p:spPr>
          <a:xfrm>
            <a:off x="1150920" y="1360440"/>
            <a:ext cx="1711440" cy="1171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1374480" y="208764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2" name="矩形 13"/>
          <p:cNvSpPr/>
          <p:nvPr/>
        </p:nvSpPr>
        <p:spPr>
          <a:xfrm>
            <a:off x="1150920" y="2622600"/>
            <a:ext cx="1711440" cy="11714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1629720" y="33498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4" name="矩形 4"/>
          <p:cNvSpPr/>
          <p:nvPr/>
        </p:nvSpPr>
        <p:spPr>
          <a:xfrm>
            <a:off x="2995560" y="2622600"/>
            <a:ext cx="4759200" cy="117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2995560" y="2622600"/>
            <a:ext cx="4759200" cy="30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3074760" y="2625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相关技能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7" name="矩形 21"/>
          <p:cNvSpPr/>
          <p:nvPr/>
        </p:nvSpPr>
        <p:spPr>
          <a:xfrm>
            <a:off x="3013200" y="2935440"/>
            <a:ext cx="1288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IKEA Sans"/>
                <a:ea typeface="微软雅黑"/>
              </a:rPr>
              <a:t>外语能力</a:t>
            </a:r>
            <a:endParaRPr b="0" lang="en-US" sz="9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512520" y="3103560"/>
            <a:ext cx="18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大学英语四级：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573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分  大学英语六级：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586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9" name="矩形 20"/>
          <p:cNvSpPr/>
          <p:nvPr/>
        </p:nvSpPr>
        <p:spPr>
          <a:xfrm>
            <a:off x="3013200" y="3251160"/>
            <a:ext cx="1288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IKEA Sans"/>
                <a:ea typeface="微软雅黑"/>
              </a:rPr>
              <a:t>计算机能力</a:t>
            </a:r>
            <a:endParaRPr b="0" lang="en-US" sz="9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60" name="TextBox 23"/>
          <p:cNvSpPr/>
          <p:nvPr/>
        </p:nvSpPr>
        <p:spPr>
          <a:xfrm>
            <a:off x="3511440" y="3419640"/>
            <a:ext cx="27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能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Word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做海报，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Excel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做报表，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PowerPoint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做简易动画片；</a:t>
            </a:r>
            <a:endParaRPr b="0" lang="en-US" sz="8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能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Photoshop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处理图片，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Dreamweaver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制作简单网页。</a:t>
            </a:r>
            <a:endParaRPr b="0" lang="en-US" sz="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61" name="矩形 15"/>
          <p:cNvSpPr/>
          <p:nvPr/>
        </p:nvSpPr>
        <p:spPr>
          <a:xfrm>
            <a:off x="1058760" y="3919680"/>
            <a:ext cx="53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显示出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具体能用该软件做的事情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，会更有说服力。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695160" y="609480"/>
            <a:ext cx="7058160" cy="1195200"/>
            <a:chOff x="695160" y="609480"/>
            <a:chExt cx="7058160" cy="1195200"/>
          </a:xfrm>
        </p:grpSpPr>
        <p:pic>
          <p:nvPicPr>
            <p:cNvPr id="263" name="矩形 3" descr=""/>
            <p:cNvPicPr/>
            <p:nvPr/>
          </p:nvPicPr>
          <p:blipFill>
            <a:blip r:embed="rId1"/>
            <a:stretch/>
          </p:blipFill>
          <p:spPr>
            <a:xfrm>
              <a:off x="695160" y="610560"/>
              <a:ext cx="7056720" cy="11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4"/>
            <p:cNvSpPr/>
            <p:nvPr/>
          </p:nvSpPr>
          <p:spPr>
            <a:xfrm>
              <a:off x="695160" y="609480"/>
              <a:ext cx="7058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265" name="Group 5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266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自我评价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67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268" name="矩形 1"/>
          <p:cNvSpPr/>
          <p:nvPr/>
        </p:nvSpPr>
        <p:spPr>
          <a:xfrm>
            <a:off x="1150920" y="1360440"/>
            <a:ext cx="1711440" cy="1249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1374480" y="208764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IKEA Sans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3013200" y="1360440"/>
            <a:ext cx="53388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11"/>
          <p:cNvGrpSpPr/>
          <p:nvPr/>
        </p:nvGrpSpPr>
        <p:grpSpPr>
          <a:xfrm>
            <a:off x="3013200" y="2317680"/>
            <a:ext cx="5338800" cy="307080"/>
            <a:chOff x="3013200" y="2317680"/>
            <a:chExt cx="5338800" cy="307080"/>
          </a:xfrm>
        </p:grpSpPr>
        <p:sp>
          <p:nvSpPr>
            <p:cNvPr id="272" name="矩形 2"/>
            <p:cNvSpPr/>
            <p:nvPr/>
          </p:nvSpPr>
          <p:spPr>
            <a:xfrm>
              <a:off x="3013200" y="2340720"/>
              <a:ext cx="5338800" cy="262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73" name="TextBox 5"/>
            <p:cNvSpPr/>
            <p:nvPr/>
          </p:nvSpPr>
          <p:spPr>
            <a:xfrm>
              <a:off x="4952160" y="231768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iragino Sans GB W3"/>
                  <a:ea typeface="Hiragino Sans GB W3"/>
                </a:rPr>
                <a:t>空话，套话，毫无自我特色</a:t>
              </a:r>
              <a:endParaRPr b="0" lang="en-US" sz="14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274" name="矩形 24"/>
          <p:cNvSpPr/>
          <p:nvPr/>
        </p:nvSpPr>
        <p:spPr>
          <a:xfrm>
            <a:off x="1150920" y="2784600"/>
            <a:ext cx="1711440" cy="1251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1593000" y="35272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276" name="Group 16"/>
          <p:cNvGrpSpPr/>
          <p:nvPr/>
        </p:nvGrpSpPr>
        <p:grpSpPr>
          <a:xfrm>
            <a:off x="3013200" y="3743280"/>
            <a:ext cx="5338800" cy="307080"/>
            <a:chOff x="3013200" y="3743280"/>
            <a:chExt cx="5338800" cy="307080"/>
          </a:xfrm>
        </p:grpSpPr>
        <p:sp>
          <p:nvSpPr>
            <p:cNvPr id="277" name="矩形 28"/>
            <p:cNvSpPr/>
            <p:nvPr/>
          </p:nvSpPr>
          <p:spPr>
            <a:xfrm>
              <a:off x="3013200" y="3765960"/>
              <a:ext cx="5338800" cy="260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78" name="TextBox 29"/>
            <p:cNvSpPr/>
            <p:nvPr/>
          </p:nvSpPr>
          <p:spPr>
            <a:xfrm>
              <a:off x="4898520" y="374328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e46c0a"/>
                  </a:solidFill>
                  <a:latin typeface="Hiragino Sans GB W3"/>
                  <a:ea typeface="Hiragino Sans GB W3"/>
                </a:rPr>
                <a:t>挖掘自己真正与众不同的地方</a:t>
              </a:r>
              <a:endParaRPr b="0" lang="en-US" sz="14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279" name="Group 19"/>
          <p:cNvGrpSpPr/>
          <p:nvPr/>
        </p:nvGrpSpPr>
        <p:grpSpPr>
          <a:xfrm>
            <a:off x="2995560" y="2773440"/>
            <a:ext cx="5356440" cy="914400"/>
            <a:chOff x="2995560" y="2773440"/>
            <a:chExt cx="5356440" cy="914400"/>
          </a:xfrm>
        </p:grpSpPr>
        <p:sp>
          <p:nvSpPr>
            <p:cNvPr id="280" name="矩形 34"/>
            <p:cNvSpPr/>
            <p:nvPr/>
          </p:nvSpPr>
          <p:spPr>
            <a:xfrm>
              <a:off x="2995560" y="2773440"/>
              <a:ext cx="5356440" cy="9144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81" name="矩形 35"/>
            <p:cNvSpPr/>
            <p:nvPr/>
          </p:nvSpPr>
          <p:spPr>
            <a:xfrm>
              <a:off x="2995560" y="2773440"/>
              <a:ext cx="5356440" cy="2469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282" name="TextBox 36"/>
          <p:cNvSpPr/>
          <p:nvPr/>
        </p:nvSpPr>
        <p:spPr>
          <a:xfrm>
            <a:off x="3092760" y="2760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自我评价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3" name="矩形 18"/>
          <p:cNvSpPr/>
          <p:nvPr/>
        </p:nvSpPr>
        <p:spPr>
          <a:xfrm>
            <a:off x="2978280" y="3005280"/>
            <a:ext cx="541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执着而坚韧的蜗牛，求索于交大，在通往理想的道路上跋山涉水。瘦小的身体内蕴含着独特的思维和丰富的表达。在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结网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中净化，在思索中洞悉国内外互联网的变化。从意气风发的社团主席到成熟稳健的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Intel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大使，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Follow my heart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的我期望追随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Pony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的团队一起去创造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Internet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的神话！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47"/>
          <p:cNvSpPr/>
          <p:nvPr/>
        </p:nvSpPr>
        <p:spPr>
          <a:xfrm>
            <a:off x="2411280" y="2048040"/>
            <a:ext cx="53103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5" name="矩形 48"/>
          <p:cNvSpPr/>
          <p:nvPr/>
        </p:nvSpPr>
        <p:spPr>
          <a:xfrm>
            <a:off x="2411280" y="2746440"/>
            <a:ext cx="53103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6" name="矩形 49"/>
          <p:cNvSpPr/>
          <p:nvPr/>
        </p:nvSpPr>
        <p:spPr>
          <a:xfrm>
            <a:off x="2411280" y="3435480"/>
            <a:ext cx="53103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7" name="矩形 13"/>
          <p:cNvSpPr/>
          <p:nvPr/>
        </p:nvSpPr>
        <p:spPr>
          <a:xfrm>
            <a:off x="2411280" y="1349280"/>
            <a:ext cx="5310360" cy="63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1262160" y="765000"/>
            <a:ext cx="1423080" cy="368280"/>
            <a:chOff x="1262160" y="765000"/>
            <a:chExt cx="1423080" cy="368280"/>
          </a:xfrm>
        </p:grpSpPr>
        <p:sp>
          <p:nvSpPr>
            <p:cNvPr id="289" name="TextBox 8"/>
            <p:cNvSpPr/>
            <p:nvPr/>
          </p:nvSpPr>
          <p:spPr>
            <a:xfrm>
              <a:off x="2114640" y="765000"/>
              <a:ext cx="5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总结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90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1162080" y="1349280"/>
            <a:ext cx="1171440" cy="694440"/>
            <a:chOff x="1162080" y="1349280"/>
            <a:chExt cx="1171440" cy="694440"/>
          </a:xfrm>
        </p:grpSpPr>
        <p:sp>
          <p:nvSpPr>
            <p:cNvPr id="292" name="矩形 23"/>
            <p:cNvSpPr/>
            <p:nvPr/>
          </p:nvSpPr>
          <p:spPr>
            <a:xfrm>
              <a:off x="1162080" y="1349280"/>
              <a:ext cx="1171440" cy="631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93" name="TextBox 26"/>
            <p:cNvSpPr/>
            <p:nvPr/>
          </p:nvSpPr>
          <p:spPr>
            <a:xfrm>
              <a:off x="1541160" y="1462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整洁</a:t>
              </a:r>
              <a:endParaRPr b="0" lang="en-US" sz="32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1162080" y="2048040"/>
            <a:ext cx="1171440" cy="694440"/>
            <a:chOff x="1162080" y="2048040"/>
            <a:chExt cx="1171440" cy="694440"/>
          </a:xfrm>
        </p:grpSpPr>
        <p:sp>
          <p:nvSpPr>
            <p:cNvPr id="295" name="矩形 39"/>
            <p:cNvSpPr/>
            <p:nvPr/>
          </p:nvSpPr>
          <p:spPr>
            <a:xfrm>
              <a:off x="1162080" y="2048040"/>
              <a:ext cx="1171440" cy="630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96" name="TextBox 40"/>
            <p:cNvSpPr/>
            <p:nvPr/>
          </p:nvSpPr>
          <p:spPr>
            <a:xfrm>
              <a:off x="1581840" y="21610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统一</a:t>
              </a:r>
              <a:endParaRPr b="0" lang="en-US" sz="32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297" name="Group 15"/>
          <p:cNvGrpSpPr/>
          <p:nvPr/>
        </p:nvGrpSpPr>
        <p:grpSpPr>
          <a:xfrm>
            <a:off x="1162080" y="2746440"/>
            <a:ext cx="1171440" cy="694440"/>
            <a:chOff x="1162080" y="2746440"/>
            <a:chExt cx="1171440" cy="694440"/>
          </a:xfrm>
        </p:grpSpPr>
        <p:sp>
          <p:nvSpPr>
            <p:cNvPr id="298" name="矩形 42"/>
            <p:cNvSpPr/>
            <p:nvPr/>
          </p:nvSpPr>
          <p:spPr>
            <a:xfrm>
              <a:off x="1162080" y="2746440"/>
              <a:ext cx="1171440" cy="629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299" name="TextBox 43"/>
            <p:cNvSpPr/>
            <p:nvPr/>
          </p:nvSpPr>
          <p:spPr>
            <a:xfrm>
              <a:off x="1541160" y="2859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清楚</a:t>
              </a:r>
              <a:endParaRPr b="0" lang="en-US" sz="32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300" name="Group 18"/>
          <p:cNvGrpSpPr/>
          <p:nvPr/>
        </p:nvGrpSpPr>
        <p:grpSpPr>
          <a:xfrm>
            <a:off x="1162080" y="3435480"/>
            <a:ext cx="1171440" cy="694440"/>
            <a:chOff x="1162080" y="3435480"/>
            <a:chExt cx="1171440" cy="694440"/>
          </a:xfrm>
        </p:grpSpPr>
        <p:sp>
          <p:nvSpPr>
            <p:cNvPr id="301" name="矩形 45"/>
            <p:cNvSpPr/>
            <p:nvPr/>
          </p:nvSpPr>
          <p:spPr>
            <a:xfrm>
              <a:off x="1162080" y="3435480"/>
              <a:ext cx="1171440" cy="630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302" name="TextBox 46"/>
            <p:cNvSpPr/>
            <p:nvPr/>
          </p:nvSpPr>
          <p:spPr>
            <a:xfrm>
              <a:off x="1541160" y="35485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专业</a:t>
              </a:r>
              <a:endParaRPr b="0" lang="en-US" sz="32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2470320" y="1530360"/>
            <a:ext cx="54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没有错别字和错误的标点符号，建议仔细审核后，转成</a:t>
            </a:r>
            <a:r>
              <a:rPr b="0" lang="zh-CN" sz="1400" spc="-1" strike="noStrike">
                <a:solidFill>
                  <a:srgbClr val="ff0000"/>
                </a:solidFill>
                <a:latin typeface="IKEA Sans"/>
                <a:ea typeface="微软雅黑"/>
              </a:rPr>
              <a:t>ＰＤＦ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4054320" y="22129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格式统一，日期、项目符号、字体、颜色等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5" name="矩形 7"/>
          <p:cNvSpPr/>
          <p:nvPr/>
        </p:nvSpPr>
        <p:spPr>
          <a:xfrm>
            <a:off x="2470320" y="2835360"/>
            <a:ext cx="53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所有要表达的东西，清晰表达，有条理不混乱，</a:t>
            </a:r>
            <a:r>
              <a:rPr b="0" lang="zh-CN" sz="1400" spc="-1" strike="noStrike">
                <a:solidFill>
                  <a:srgbClr val="ff0000"/>
                </a:solidFill>
                <a:latin typeface="IKEA Sans"/>
                <a:ea typeface="微软雅黑"/>
              </a:rPr>
              <a:t>无关的经历和奖励不需要写！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6" name="矩形 9"/>
          <p:cNvSpPr/>
          <p:nvPr/>
        </p:nvSpPr>
        <p:spPr>
          <a:xfrm>
            <a:off x="2470320" y="3481560"/>
            <a:ext cx="53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用词</a:t>
            </a:r>
            <a:r>
              <a:rPr b="0" lang="zh-CN" sz="1400" spc="-1" strike="noStrike">
                <a:solidFill>
                  <a:srgbClr val="ff0000"/>
                </a:solidFill>
                <a:latin typeface="IKEA Sans"/>
                <a:ea typeface="微软雅黑"/>
              </a:rPr>
              <a:t>商务化</a:t>
            </a: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，不要有第一人称的出现，只用动词引导每句开头，如“负责</a:t>
            </a:r>
            <a:r>
              <a:rPr b="0" lang="en-US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……”</a:t>
            </a: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，“销售了</a:t>
            </a:r>
            <a:r>
              <a:rPr b="0" lang="en-US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……”</a:t>
            </a: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等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39320"/>
            <a:ext cx="82072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IKEA San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000" y="933480"/>
            <a:ext cx="8928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KEA Sans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KEA San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KEA San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KEA San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KEA San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KEA San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KEA Sans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KEA San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KEA Sans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7286760" y="244440"/>
            <a:ext cx="1388880" cy="257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IKEA San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DFC5-008C-4F31-9F32-5566C52CAD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8"/>
          <p:cNvSpPr/>
          <p:nvPr/>
        </p:nvSpPr>
        <p:spPr>
          <a:xfrm>
            <a:off x="2764440" y="301464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IKEA Sans"/>
                <a:ea typeface="微软雅黑"/>
              </a:rPr>
              <a:t>搜集  秋叶语录        整理  黄丽娟      </a:t>
            </a:r>
            <a:r>
              <a:rPr b="1" lang="en-US" sz="1600" spc="-1" strike="noStrike">
                <a:solidFill>
                  <a:srgbClr val="000000"/>
                </a:solidFill>
                <a:latin typeface="IKEA Sans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IKEA Sans"/>
                <a:ea typeface="微软雅黑"/>
              </a:rPr>
              <a:t>制作  曹将</a:t>
            </a:r>
            <a:endParaRPr b="0" lang="en-US" sz="16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1649520" y="1357200"/>
            <a:ext cx="5479200" cy="1303920"/>
            <a:chOff x="1649520" y="1357200"/>
            <a:chExt cx="5479200" cy="1303920"/>
          </a:xfrm>
        </p:grpSpPr>
        <p:grpSp>
          <p:nvGrpSpPr>
            <p:cNvPr id="312" name="Group 4"/>
            <p:cNvGrpSpPr/>
            <p:nvPr/>
          </p:nvGrpSpPr>
          <p:grpSpPr>
            <a:xfrm>
              <a:off x="1649520" y="1357200"/>
              <a:ext cx="3589200" cy="1303920"/>
              <a:chOff x="1649520" y="1357200"/>
              <a:chExt cx="3589200" cy="1303920"/>
            </a:xfrm>
          </p:grpSpPr>
          <p:pic>
            <p:nvPicPr>
              <p:cNvPr id="313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649520" y="1357200"/>
                <a:ext cx="3589200" cy="12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TextBox 10"/>
              <p:cNvSpPr/>
              <p:nvPr/>
            </p:nvSpPr>
            <p:spPr>
              <a:xfrm>
                <a:off x="2822760" y="2262240"/>
                <a:ext cx="173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面试技巧集萃</a:t>
                </a:r>
                <a:endParaRPr b="0" lang="en-US" sz="20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315" name="矩形 17"/>
              <p:cNvSpPr/>
              <p:nvPr/>
            </p:nvSpPr>
            <p:spPr>
              <a:xfrm>
                <a:off x="4905720" y="1679760"/>
                <a:ext cx="72000" cy="925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sp>
          <p:nvSpPr>
            <p:cNvPr id="316" name="TextBox 2"/>
            <p:cNvSpPr/>
            <p:nvPr/>
          </p:nvSpPr>
          <p:spPr>
            <a:xfrm>
              <a:off x="5576400" y="152316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4711320" y="110160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5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秒</a:t>
            </a:r>
            <a:endParaRPr b="0" lang="en-US" sz="5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153400" y="195120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筛选简历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均停留时间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1438560" cy="360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1079640" y="1255680"/>
            <a:ext cx="1577880" cy="397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tretch/>
        </p:blipFill>
        <p:spPr>
          <a:xfrm>
            <a:off x="1676520" y="1243080"/>
            <a:ext cx="1785960" cy="4376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4"/>
          <a:stretch/>
        </p:blipFill>
        <p:spPr>
          <a:xfrm>
            <a:off x="2468520" y="1243080"/>
            <a:ext cx="1884240" cy="474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4779720" y="1125360"/>
            <a:ext cx="11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秒</a:t>
            </a:r>
            <a:endParaRPr b="0" lang="en-US" sz="5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297400" y="1973160"/>
            <a:ext cx="25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简历必须在最初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内吸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1332000" y="1068480"/>
            <a:ext cx="3552840" cy="3159000"/>
            <a:chOff x="1332000" y="1068480"/>
            <a:chExt cx="3552840" cy="3159000"/>
          </a:xfrm>
        </p:grpSpPr>
        <p:pic>
          <p:nvPicPr>
            <p:cNvPr id="106" name="Picture 5" descr=""/>
            <p:cNvPicPr/>
            <p:nvPr/>
          </p:nvPicPr>
          <p:blipFill>
            <a:blip r:embed="rId1"/>
            <a:srcRect l="0" t="0" r="0" b="10579"/>
            <a:stretch/>
          </p:blipFill>
          <p:spPr>
            <a:xfrm>
              <a:off x="1332000" y="1068480"/>
              <a:ext cx="3060720" cy="3159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</p:pic>
        <p:grpSp>
          <p:nvGrpSpPr>
            <p:cNvPr id="107" name="椭圆 1"/>
            <p:cNvGrpSpPr/>
            <p:nvPr/>
          </p:nvGrpSpPr>
          <p:grpSpPr>
            <a:xfrm>
              <a:off x="2511360" y="1779840"/>
              <a:ext cx="1926360" cy="1926360"/>
              <a:chOff x="2511360" y="1779840"/>
              <a:chExt cx="1926360" cy="1926360"/>
            </a:xfrm>
          </p:grpSpPr>
          <p:pic>
            <p:nvPicPr>
              <p:cNvPr id="108" name="椭圆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1360" y="1779840"/>
                <a:ext cx="1926360" cy="192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817000" y="2086560"/>
                <a:ext cx="1305000" cy="13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sp>
          <p:nvSpPr>
            <p:cNvPr id="110" name="矩形 5"/>
            <p:cNvSpPr/>
            <p:nvPr/>
          </p:nvSpPr>
          <p:spPr>
            <a:xfrm rot="2635200">
              <a:off x="4000320" y="3571560"/>
              <a:ext cx="95544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3283" t="1787" r="2365" b="1731"/>
          <a:stretch/>
        </p:blipFill>
        <p:spPr>
          <a:xfrm>
            <a:off x="1062000" y="1185840"/>
            <a:ext cx="2835360" cy="38545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2397600" y="76500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哪类简历容易吸引</a:t>
            </a:r>
            <a:r>
              <a:rPr b="0" lang="en-US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1262520" y="76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简历制作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4" name="矩形 11"/>
          <p:cNvSpPr/>
          <p:nvPr/>
        </p:nvSpPr>
        <p:spPr>
          <a:xfrm>
            <a:off x="4087800" y="2212920"/>
            <a:ext cx="4940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内容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清晰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扼要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容易理解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无用语不当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完整地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详列过往的工作记录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没有出现难以解释的空档期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经过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修饰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并能引起阅者的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兴趣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4032360" y="2324160"/>
            <a:ext cx="68040" cy="539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8"/>
          <p:cNvSpPr/>
          <p:nvPr/>
        </p:nvSpPr>
        <p:spPr>
          <a:xfrm>
            <a:off x="2208600" y="765000"/>
            <a:ext cx="8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两个版本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1262520" y="76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简历制作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3301920" y="1214280"/>
            <a:ext cx="455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在明确自己职业定位求职目的前提下，不针对任何企业只针对相关行业和职种而制作的简历。包括：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9433080" y="2544840"/>
            <a:ext cx="68040" cy="54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212840" y="1305000"/>
            <a:ext cx="1935000" cy="99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1212840" y="3174840"/>
            <a:ext cx="1935000" cy="9907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2304000" y="187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通用版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2304000" y="372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特殊版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3413160" y="1697040"/>
            <a:ext cx="4444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职业定位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想要的是什么，自己适合做什么，自己又能做什么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岗位调研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弄清楚该岗位的通用要求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自身相关资质、经历提炼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简洁而重点突出地表达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细节的适当处理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形式美观、版本控制（两页以内）、错别字检查等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3301920" y="3094200"/>
            <a:ext cx="455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找准特定企业的情况下，专门针对该企业而制作的简历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3413160" y="336240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结合你要应聘的特定企业的岗位职责和任职要求，稍作修改就</a:t>
            </a:r>
            <a:r>
              <a:rPr b="0" lang="en-US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ok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了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923760" y="1487520"/>
            <a:ext cx="3151440" cy="386856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3"/>
          <p:cNvGrpSpPr/>
          <p:nvPr/>
        </p:nvGrpSpPr>
        <p:grpSpPr>
          <a:xfrm>
            <a:off x="695160" y="1554120"/>
            <a:ext cx="3870360" cy="499680"/>
            <a:chOff x="695160" y="1554120"/>
            <a:chExt cx="3870360" cy="499680"/>
          </a:xfrm>
        </p:grpSpPr>
        <p:pic>
          <p:nvPicPr>
            <p:cNvPr id="129" name="矩形 3" descr=""/>
            <p:cNvPicPr/>
            <p:nvPr/>
          </p:nvPicPr>
          <p:blipFill>
            <a:blip r:embed="rId2"/>
            <a:stretch/>
          </p:blipFill>
          <p:spPr>
            <a:xfrm>
              <a:off x="695160" y="1555200"/>
              <a:ext cx="38689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5"/>
            <p:cNvSpPr/>
            <p:nvPr/>
          </p:nvSpPr>
          <p:spPr>
            <a:xfrm>
              <a:off x="695160" y="1554120"/>
              <a:ext cx="38703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131" name="Group 6"/>
          <p:cNvGrpSpPr/>
          <p:nvPr/>
        </p:nvGrpSpPr>
        <p:grpSpPr>
          <a:xfrm>
            <a:off x="560520" y="1944360"/>
            <a:ext cx="3878280" cy="3548160"/>
            <a:chOff x="560520" y="1944360"/>
            <a:chExt cx="3878280" cy="3548160"/>
          </a:xfrm>
        </p:grpSpPr>
        <p:pic>
          <p:nvPicPr>
            <p:cNvPr id="132" name="矩形 16" descr=""/>
            <p:cNvPicPr/>
            <p:nvPr/>
          </p:nvPicPr>
          <p:blipFill>
            <a:blip r:embed="rId3"/>
            <a:stretch/>
          </p:blipFill>
          <p:spPr>
            <a:xfrm>
              <a:off x="560520" y="1945800"/>
              <a:ext cx="3878280" cy="35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8"/>
            <p:cNvSpPr/>
            <p:nvPr/>
          </p:nvSpPr>
          <p:spPr>
            <a:xfrm rot="10800000">
              <a:off x="561960" y="1944360"/>
              <a:ext cx="3873600" cy="35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134" name="矩形 21"/>
          <p:cNvSpPr/>
          <p:nvPr/>
        </p:nvSpPr>
        <p:spPr>
          <a:xfrm>
            <a:off x="5615640" y="1803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简历最上方一般只需填姓名、电话、电子邮箱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136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基本信息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137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138" name="矩形 23"/>
          <p:cNvSpPr/>
          <p:nvPr/>
        </p:nvSpPr>
        <p:spPr>
          <a:xfrm>
            <a:off x="4321080" y="20509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如果应聘企业没有具体要求，照片就不用附上，</a:t>
            </a:r>
            <a:r>
              <a:rPr b="0" lang="zh-CN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放照片减分比加分的时候多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lnSpc>
                <a:spcPct val="10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姓名加粗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，因为这是最想让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HR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记住的信息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手机号码通用写法是</a:t>
            </a:r>
            <a:r>
              <a:rPr b="0" lang="en-US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434</a:t>
            </a:r>
            <a:r>
              <a:rPr b="0" lang="zh-CN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原则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1357-xxx-xxxx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邮箱推荐</a:t>
            </a:r>
            <a:r>
              <a:rPr b="0" lang="en-US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Gmail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和</a:t>
            </a:r>
            <a:r>
              <a:rPr b="0" lang="en-US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Yahoo</a:t>
            </a:r>
            <a:r>
              <a:rPr b="0" lang="zh-CN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！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4105440" y="2824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求职意向一定写在简历上方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可以放在个人信息前，或者紧跟着个人信息后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923760" y="855720"/>
            <a:ext cx="3151440" cy="38671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"/>
          <p:cNvGrpSpPr/>
          <p:nvPr/>
        </p:nvGrpSpPr>
        <p:grpSpPr>
          <a:xfrm>
            <a:off x="695160" y="853920"/>
            <a:ext cx="3870360" cy="1200240"/>
            <a:chOff x="695160" y="853920"/>
            <a:chExt cx="3870360" cy="1200240"/>
          </a:xfrm>
        </p:grpSpPr>
        <p:pic>
          <p:nvPicPr>
            <p:cNvPr id="142" name="矩形 3" descr=""/>
            <p:cNvPicPr/>
            <p:nvPr/>
          </p:nvPicPr>
          <p:blipFill>
            <a:blip r:embed="rId2"/>
            <a:stretch/>
          </p:blipFill>
          <p:spPr>
            <a:xfrm>
              <a:off x="695160" y="853920"/>
              <a:ext cx="38689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5"/>
            <p:cNvSpPr/>
            <p:nvPr/>
          </p:nvSpPr>
          <p:spPr>
            <a:xfrm>
              <a:off x="695160" y="855360"/>
              <a:ext cx="387036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144" name="Group 6"/>
          <p:cNvGrpSpPr/>
          <p:nvPr/>
        </p:nvGrpSpPr>
        <p:grpSpPr>
          <a:xfrm>
            <a:off x="560520" y="1804680"/>
            <a:ext cx="3878280" cy="4314600"/>
            <a:chOff x="560520" y="1804680"/>
            <a:chExt cx="3878280" cy="4314600"/>
          </a:xfrm>
        </p:grpSpPr>
        <p:pic>
          <p:nvPicPr>
            <p:cNvPr id="145" name="矩形 16" descr=""/>
            <p:cNvPicPr/>
            <p:nvPr/>
          </p:nvPicPr>
          <p:blipFill>
            <a:blip r:embed="rId3"/>
            <a:stretch/>
          </p:blipFill>
          <p:spPr>
            <a:xfrm>
              <a:off x="560520" y="1806120"/>
              <a:ext cx="3878280" cy="43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8"/>
            <p:cNvSpPr/>
            <p:nvPr/>
          </p:nvSpPr>
          <p:spPr>
            <a:xfrm rot="10800000">
              <a:off x="561960" y="1804680"/>
              <a:ext cx="3873600" cy="43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147" name="矩形 21"/>
          <p:cNvSpPr/>
          <p:nvPr/>
        </p:nvSpPr>
        <p:spPr>
          <a:xfrm>
            <a:off x="4105440" y="1803240"/>
            <a:ext cx="457200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排序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。如果你有不止一个学位，并曾就读于不同的学校，那么你可以从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最近的教育经历开始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按照时间顺序把具体的学习情况介绍清楚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时间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。常用的年月写法（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2010.09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）也可，用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09/2010 – 10/2010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的这种日期写法也可，但如果投的是外企，建议后一种写法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相关课程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。根据你应聘的职位是否有关来决定，如果你是数学系的你要去应聘计算机相关职位，你就应该把计算数学，数学实验，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语言各种和计算机有关的放到相关课程中去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摆放位置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149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教育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150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151" name="TextBox 1"/>
          <p:cNvSpPr/>
          <p:nvPr/>
        </p:nvSpPr>
        <p:spPr>
          <a:xfrm>
            <a:off x="5246640" y="3914640"/>
            <a:ext cx="27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学校较好、学业杰出：个人信息之下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学校稍微差一些、已经毕业的、实习经历较强：实习（实践）经历之下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2"/>
          <p:cNvSpPr/>
          <p:nvPr/>
        </p:nvSpPr>
        <p:spPr>
          <a:xfrm>
            <a:off x="1162080" y="2079720"/>
            <a:ext cx="16365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3" name="矩形 33"/>
          <p:cNvSpPr/>
          <p:nvPr/>
        </p:nvSpPr>
        <p:spPr>
          <a:xfrm>
            <a:off x="1162080" y="2814480"/>
            <a:ext cx="1636560" cy="63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1162080" y="3548160"/>
            <a:ext cx="16365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1162080" y="1349280"/>
            <a:ext cx="1636560" cy="63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157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158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1162080" y="1349280"/>
            <a:ext cx="634680" cy="726480"/>
            <a:chOff x="1162080" y="1349280"/>
            <a:chExt cx="634680" cy="726480"/>
          </a:xfrm>
        </p:grpSpPr>
        <p:sp>
          <p:nvSpPr>
            <p:cNvPr id="160" name="矩形 2"/>
            <p:cNvSpPr/>
            <p:nvPr/>
          </p:nvSpPr>
          <p:spPr>
            <a:xfrm>
              <a:off x="1162080" y="1349280"/>
              <a:ext cx="629640" cy="630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161" name="TextBox 4"/>
            <p:cNvSpPr/>
            <p:nvPr/>
          </p:nvSpPr>
          <p:spPr>
            <a:xfrm>
              <a:off x="1364400" y="143316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1162080" y="2084400"/>
            <a:ext cx="636120" cy="726480"/>
            <a:chOff x="1162080" y="2084400"/>
            <a:chExt cx="636120" cy="726480"/>
          </a:xfrm>
        </p:grpSpPr>
        <p:sp>
          <p:nvSpPr>
            <p:cNvPr id="163" name="矩形 15"/>
            <p:cNvSpPr/>
            <p:nvPr/>
          </p:nvSpPr>
          <p:spPr>
            <a:xfrm>
              <a:off x="1162080" y="2084400"/>
              <a:ext cx="629640" cy="630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164" name="TextBox 17"/>
            <p:cNvSpPr/>
            <p:nvPr/>
          </p:nvSpPr>
          <p:spPr>
            <a:xfrm>
              <a:off x="1362960" y="2168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165" name="Group 15"/>
          <p:cNvGrpSpPr/>
          <p:nvPr/>
        </p:nvGrpSpPr>
        <p:grpSpPr>
          <a:xfrm>
            <a:off x="1162080" y="2817720"/>
            <a:ext cx="673920" cy="726480"/>
            <a:chOff x="1162080" y="2817720"/>
            <a:chExt cx="673920" cy="726480"/>
          </a:xfrm>
        </p:grpSpPr>
        <p:sp>
          <p:nvSpPr>
            <p:cNvPr id="166" name="矩形 19"/>
            <p:cNvSpPr/>
            <p:nvPr/>
          </p:nvSpPr>
          <p:spPr>
            <a:xfrm>
              <a:off x="1162080" y="2817720"/>
              <a:ext cx="630360" cy="630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167" name="TextBox 20"/>
            <p:cNvSpPr/>
            <p:nvPr/>
          </p:nvSpPr>
          <p:spPr>
            <a:xfrm>
              <a:off x="1362600" y="290160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168" name="Group 18"/>
          <p:cNvGrpSpPr/>
          <p:nvPr/>
        </p:nvGrpSpPr>
        <p:grpSpPr>
          <a:xfrm>
            <a:off x="1162080" y="3551400"/>
            <a:ext cx="663840" cy="726480"/>
            <a:chOff x="1162080" y="3551400"/>
            <a:chExt cx="663840" cy="726480"/>
          </a:xfrm>
        </p:grpSpPr>
        <p:sp>
          <p:nvSpPr>
            <p:cNvPr id="169" name="矩形 24"/>
            <p:cNvSpPr/>
            <p:nvPr/>
          </p:nvSpPr>
          <p:spPr>
            <a:xfrm>
              <a:off x="1162080" y="3551400"/>
              <a:ext cx="629280" cy="630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170" name="TextBox 25"/>
            <p:cNvSpPr/>
            <p:nvPr/>
          </p:nvSpPr>
          <p:spPr>
            <a:xfrm>
              <a:off x="1360080" y="363528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171" name="TextBox 6"/>
          <p:cNvSpPr/>
          <p:nvPr/>
        </p:nvSpPr>
        <p:spPr>
          <a:xfrm>
            <a:off x="1773720" y="16653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iragino Sans GB W3"/>
                <a:ea typeface="Hiragino Sans GB W3"/>
              </a:rPr>
              <a:t>ituation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1853280" y="2421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iragino Sans GB W3"/>
                <a:ea typeface="Hiragino Sans GB W3"/>
              </a:rPr>
              <a:t>a   s   k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3" name="TextBox 27"/>
          <p:cNvSpPr/>
          <p:nvPr/>
        </p:nvSpPr>
        <p:spPr>
          <a:xfrm>
            <a:off x="1816200" y="31496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iragino Sans GB W3"/>
                <a:ea typeface="Hiragino Sans GB W3"/>
              </a:rPr>
              <a:t>c t i o n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1817640" y="3867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iragino Sans GB W3"/>
                <a:ea typeface="Hiragino Sans GB W3"/>
              </a:rPr>
              <a:t>e s u l t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2024280" y="13161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情  景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6" name="TextBox 29"/>
          <p:cNvSpPr/>
          <p:nvPr/>
        </p:nvSpPr>
        <p:spPr>
          <a:xfrm>
            <a:off x="2024280" y="206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任  务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7" name="TextBox 30"/>
          <p:cNvSpPr/>
          <p:nvPr/>
        </p:nvSpPr>
        <p:spPr>
          <a:xfrm>
            <a:off x="2024280" y="2817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行  动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8" name="TextBox 31"/>
          <p:cNvSpPr/>
          <p:nvPr/>
        </p:nvSpPr>
        <p:spPr>
          <a:xfrm>
            <a:off x="2024280" y="35481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结  果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3742920" y="1481040"/>
            <a:ext cx="27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什么时候在什么企业</a:t>
            </a:r>
            <a:r>
              <a:rPr b="0" lang="en-US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活动担任什么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职位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0" name="矩形 36"/>
          <p:cNvSpPr/>
          <p:nvPr/>
        </p:nvSpPr>
        <p:spPr>
          <a:xfrm>
            <a:off x="3841560" y="22147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分配的任务是什么，你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负责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做哪部分工作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1" name="矩形 37"/>
          <p:cNvSpPr/>
          <p:nvPr/>
        </p:nvSpPr>
        <p:spPr>
          <a:xfrm>
            <a:off x="3649320" y="2948040"/>
            <a:ext cx="24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你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具体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做了哪些事情（量化</a:t>
            </a:r>
            <a:r>
              <a:rPr b="0" lang="en-US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事实）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2" name="矩形 38"/>
          <p:cNvSpPr/>
          <p:nvPr/>
        </p:nvSpPr>
        <p:spPr>
          <a:xfrm>
            <a:off x="3596400" y="3678120"/>
            <a:ext cx="26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通过这项工作</a:t>
            </a:r>
            <a:r>
              <a:rPr b="0" lang="en-US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活动获得的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经验</a:t>
            </a:r>
            <a:r>
              <a:rPr b="0" lang="en-US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成绩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3" name=""/>
          <p:cNvSpPr/>
          <p:nvPr/>
        </p:nvSpPr>
        <p:spPr>
          <a:xfrm>
            <a:off x="612720" y="430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IKEA Sans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IKEA Sans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44"/>
          <p:cNvSpPr/>
          <p:nvPr/>
        </p:nvSpPr>
        <p:spPr>
          <a:xfrm>
            <a:off x="3492360" y="2981160"/>
            <a:ext cx="5119920" cy="140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186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pic>
        <p:nvPicPr>
          <p:cNvPr id="188" name="Picture 1" descr="C:\Documents and Settings\ljhuang\Application Data\Tencent\Users\9639504\QQ\WinTemp\RichOle\AVHSD_NA`V61]6B]Z8_A9$6.jpg"/>
          <p:cNvPicPr/>
          <p:nvPr/>
        </p:nvPicPr>
        <p:blipFill>
          <a:blip r:embed="rId1"/>
          <a:srcRect l="0" t="0" r="0" b="6207"/>
          <a:stretch/>
        </p:blipFill>
        <p:spPr>
          <a:xfrm>
            <a:off x="3492360" y="1454040"/>
            <a:ext cx="5119920" cy="1405080"/>
          </a:xfrm>
          <a:prstGeom prst="rect">
            <a:avLst/>
          </a:prstGeom>
          <a:ln w="0">
            <a:noFill/>
          </a:ln>
        </p:spPr>
      </p:pic>
      <p:sp>
        <p:nvSpPr>
          <p:cNvPr id="189" name="矩形 1"/>
          <p:cNvSpPr/>
          <p:nvPr/>
        </p:nvSpPr>
        <p:spPr>
          <a:xfrm>
            <a:off x="1150920" y="1454040"/>
            <a:ext cx="2205000" cy="1405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1622520" y="2340000"/>
            <a:ext cx="16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1" name="矩形 42"/>
          <p:cNvSpPr/>
          <p:nvPr/>
        </p:nvSpPr>
        <p:spPr>
          <a:xfrm>
            <a:off x="1150920" y="2970360"/>
            <a:ext cx="2205000" cy="14047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2" name="TextBox 43"/>
          <p:cNvSpPr/>
          <p:nvPr/>
        </p:nvSpPr>
        <p:spPr>
          <a:xfrm>
            <a:off x="1946880" y="38577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3" name="矩形 11"/>
          <p:cNvSpPr/>
          <p:nvPr/>
        </p:nvSpPr>
        <p:spPr>
          <a:xfrm>
            <a:off x="3870360" y="3014640"/>
            <a:ext cx="51195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/2010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今      　ＸＸ社团     　　 主席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并支持社团的整体运转，协助完善社团章程与制度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策划社团ＸＸ活动，获得活动赞助ＸＸ元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了ＸＸ活动，活动开展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参加人数共计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职期间社团招新共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社团被评为“明星社团”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职期间，提高了团队合作能力、组织能力和领导能力．．．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194" name="Group 12"/>
          <p:cNvGrpSpPr/>
          <p:nvPr/>
        </p:nvGrpSpPr>
        <p:grpSpPr>
          <a:xfrm>
            <a:off x="3680640" y="3070080"/>
            <a:ext cx="253800" cy="1205280"/>
            <a:chOff x="3680640" y="3070080"/>
            <a:chExt cx="253800" cy="1205280"/>
          </a:xfrm>
        </p:grpSpPr>
        <p:grpSp>
          <p:nvGrpSpPr>
            <p:cNvPr id="195" name="Group 13"/>
            <p:cNvGrpSpPr/>
            <p:nvPr/>
          </p:nvGrpSpPr>
          <p:grpSpPr>
            <a:xfrm>
              <a:off x="3686040" y="3070080"/>
              <a:ext cx="243360" cy="231120"/>
              <a:chOff x="3686040" y="3070080"/>
              <a:chExt cx="243360" cy="231120"/>
            </a:xfrm>
          </p:grpSpPr>
          <p:sp>
            <p:nvSpPr>
              <p:cNvPr id="196" name="矩形 12"/>
              <p:cNvSpPr/>
              <p:nvPr/>
            </p:nvSpPr>
            <p:spPr>
              <a:xfrm>
                <a:off x="3716280" y="3095280"/>
                <a:ext cx="14436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197" name="TextBox 16"/>
              <p:cNvSpPr/>
              <p:nvPr/>
            </p:nvSpPr>
            <p:spPr>
              <a:xfrm>
                <a:off x="3686040" y="3070080"/>
                <a:ext cx="243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198" name="Group 16"/>
            <p:cNvGrpSpPr/>
            <p:nvPr/>
          </p:nvGrpSpPr>
          <p:grpSpPr>
            <a:xfrm>
              <a:off x="3684960" y="3264840"/>
              <a:ext cx="244800" cy="231120"/>
              <a:chOff x="3684960" y="3264840"/>
              <a:chExt cx="244800" cy="231120"/>
            </a:xfrm>
          </p:grpSpPr>
          <p:sp>
            <p:nvSpPr>
              <p:cNvPr id="199" name="矩形 46"/>
              <p:cNvSpPr/>
              <p:nvPr/>
            </p:nvSpPr>
            <p:spPr>
              <a:xfrm>
                <a:off x="3717000" y="3294720"/>
                <a:ext cx="14400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200" name="TextBox 47"/>
              <p:cNvSpPr/>
              <p:nvPr/>
            </p:nvSpPr>
            <p:spPr>
              <a:xfrm>
                <a:off x="3684960" y="32648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201" name="Group 19"/>
            <p:cNvGrpSpPr/>
            <p:nvPr/>
          </p:nvGrpSpPr>
          <p:grpSpPr>
            <a:xfrm>
              <a:off x="3680640" y="3459600"/>
              <a:ext cx="253800" cy="231120"/>
              <a:chOff x="3680640" y="3459600"/>
              <a:chExt cx="253800" cy="231120"/>
            </a:xfrm>
          </p:grpSpPr>
          <p:sp>
            <p:nvSpPr>
              <p:cNvPr id="202" name="矩形 49"/>
              <p:cNvSpPr/>
              <p:nvPr/>
            </p:nvSpPr>
            <p:spPr>
              <a:xfrm>
                <a:off x="3716280" y="3484800"/>
                <a:ext cx="14400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203" name="TextBox 50"/>
              <p:cNvSpPr/>
              <p:nvPr/>
            </p:nvSpPr>
            <p:spPr>
              <a:xfrm>
                <a:off x="3680640" y="3459600"/>
                <a:ext cx="25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204" name="Group 22"/>
            <p:cNvGrpSpPr/>
            <p:nvPr/>
          </p:nvGrpSpPr>
          <p:grpSpPr>
            <a:xfrm>
              <a:off x="3680640" y="3654360"/>
              <a:ext cx="253800" cy="231120"/>
              <a:chOff x="3680640" y="3654360"/>
              <a:chExt cx="253800" cy="231120"/>
            </a:xfrm>
          </p:grpSpPr>
          <p:sp>
            <p:nvSpPr>
              <p:cNvPr id="205" name="矩形 52"/>
              <p:cNvSpPr/>
              <p:nvPr/>
            </p:nvSpPr>
            <p:spPr>
              <a:xfrm>
                <a:off x="3716280" y="3679560"/>
                <a:ext cx="14400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206" name="TextBox 53"/>
              <p:cNvSpPr/>
              <p:nvPr/>
            </p:nvSpPr>
            <p:spPr>
              <a:xfrm>
                <a:off x="3680640" y="3654360"/>
                <a:ext cx="25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207" name="Group 25"/>
            <p:cNvGrpSpPr/>
            <p:nvPr/>
          </p:nvGrpSpPr>
          <p:grpSpPr>
            <a:xfrm>
              <a:off x="3680640" y="3849480"/>
              <a:ext cx="253800" cy="231120"/>
              <a:chOff x="3680640" y="3849480"/>
              <a:chExt cx="253800" cy="231120"/>
            </a:xfrm>
          </p:grpSpPr>
          <p:sp>
            <p:nvSpPr>
              <p:cNvPr id="208" name="矩形 55"/>
              <p:cNvSpPr/>
              <p:nvPr/>
            </p:nvSpPr>
            <p:spPr>
              <a:xfrm>
                <a:off x="3716280" y="3874680"/>
                <a:ext cx="14400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209" name="TextBox 56"/>
              <p:cNvSpPr/>
              <p:nvPr/>
            </p:nvSpPr>
            <p:spPr>
              <a:xfrm>
                <a:off x="3680640" y="3849480"/>
                <a:ext cx="25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210" name="Group 28"/>
            <p:cNvGrpSpPr/>
            <p:nvPr/>
          </p:nvGrpSpPr>
          <p:grpSpPr>
            <a:xfrm>
              <a:off x="3681360" y="4044240"/>
              <a:ext cx="252360" cy="231120"/>
              <a:chOff x="3681360" y="4044240"/>
              <a:chExt cx="252360" cy="231120"/>
            </a:xfrm>
          </p:grpSpPr>
          <p:sp>
            <p:nvSpPr>
              <p:cNvPr id="211" name="矩形 58"/>
              <p:cNvSpPr/>
              <p:nvPr/>
            </p:nvSpPr>
            <p:spPr>
              <a:xfrm>
                <a:off x="3717720" y="4069440"/>
                <a:ext cx="14436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212" name="TextBox 59"/>
              <p:cNvSpPr/>
              <p:nvPr/>
            </p:nvSpPr>
            <p:spPr>
              <a:xfrm>
                <a:off x="3681360" y="4044240"/>
                <a:ext cx="25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2:50:38Z</dcterms:created>
  <dc:creator>pc</dc:creator>
  <dc:description/>
  <dc:language>en-US</dc:language>
  <cp:lastModifiedBy>微软用户</cp:lastModifiedBy>
  <dcterms:modified xsi:type="dcterms:W3CDTF">2015-08-03T12:33:0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