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F89-4E6C-4396-A9E7-34117D6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EA0-DE86-4914-972E-A30146B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8F0-EFCA-4C04-87D8-D5EC2ED3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C11-5611-4461-A846-EDBD33CE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286-5076-4458-9FC0-F915D98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AB1-F481-4B07-B42E-C7E64863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F3B-8D67-46D8-A672-049E4D9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EE3-A2DE-4782-8E31-3FC49F3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1FF-2878-4F4D-BA13-14685166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D26-595C-4798-A445-A871C00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9DF-93C8-4472-84F0-481BD3B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02A-094F-4172-87B4-7DD5A3E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EC6-9139-4695-87B5-F0790446B78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4A38-E9F3-4C6F-9948-975BD3694D6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0920" y="549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步走做好年终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3718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4B1-415F-43FF-85D3-3BF374002A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xiaoba ba</dc:creator>
  <dc:description/>
  <dc:language>en-US</dc:language>
  <cp:lastModifiedBy>xiaoba ba</cp:lastModifiedBy>
  <dcterms:modified xsi:type="dcterms:W3CDTF">2015-08-03T12:30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