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458A5-941A-438E-BE67-D7DFF9B1C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251460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E1409-8F59-4F6F-A799-CB3B0F70B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E6CBC-9324-4755-A9DE-3D466A241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26DE1-FAA5-4A2D-8522-CCAD91073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F71D5-848F-4B99-92CF-4AB7CE3F0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2514600"/>
            <a:ext cx="8229600" cy="3611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00D91-9B40-4224-879B-5A7874D7F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667EA-8D8D-41F7-A996-DC3FC69BE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A3749-5072-40A8-AEA5-2C5C5714E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AEB59-9FAD-459D-B358-BA8908014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447560"/>
            <a:ext cx="8229600" cy="4592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FF37D-3BBB-4572-BFC5-5DE4701C2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21812-939B-4E01-85E6-FCE64BD8A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2514600"/>
            <a:ext cx="8229600" cy="3611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05755-05FC-4883-8374-985CD9AC9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C4D38-B910-42FB-BDCA-24D80CA02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792EF-7738-4BBB-A8EC-91B0D3F30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251460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4A149-933F-41EF-9E98-4DCF02CC9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49854-C556-48C7-A8FD-EDA1981C6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51460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401360"/>
            <a:ext cx="264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BF8DC-C7FB-4F70-8695-7B2087BCB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2514600"/>
            <a:ext cx="82296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8C103-5677-4DB4-8AFB-30BF1EC2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68D6B-2D26-4F2A-A3B4-429FE3FD5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2C3E4-FE6C-458B-8653-8F4431A32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447560"/>
            <a:ext cx="8229600" cy="4592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0AE39-7288-4249-8179-2B0C52CEB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9B874-FDFF-42D9-8DC3-1E91B565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2514600"/>
            <a:ext cx="4015800" cy="3611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40136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A494-4DF4-4BA0-91D6-24D23AD1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514600"/>
            <a:ext cx="40158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401360"/>
            <a:ext cx="8229600" cy="1722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59FEC-1BCB-4083-B8C1-3FAAE4759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2514600"/>
            <a:ext cx="8229600" cy="3611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00AD-A8B2-4C07-8B5E-453664CF05CB}"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2514600"/>
            <a:ext cx="8229600" cy="36115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4C75-20A5-4CED-864F-FC8BB64B4FF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1pptmoban.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5257800"/>
            <a:ext cx="77724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PMingLiU"/>
              </a:rPr>
              <a:t>Presentation Title</a:t>
            </a:r>
            <a:endParaRPr b="1" lang="en-US" sz="3200" spc="-1" strike="noStrike">
              <a:solidFill>
                <a:srgbClr val="000000"/>
              </a:solidFill>
              <a:latin typeface="Tahoma"/>
            </a:endParaRPr>
          </a:p>
        </p:txBody>
      </p:sp>
      <p:sp>
        <p:nvSpPr>
          <p:cNvPr id="83" name="PlaceHolder 2"/>
          <p:cNvSpPr>
            <a:spLocks noGrp="1"/>
          </p:cNvSpPr>
          <p:nvPr>
            <p:ph type="subTitle"/>
          </p:nvPr>
        </p:nvSpPr>
        <p:spPr>
          <a:xfrm>
            <a:off x="152280" y="5791320"/>
            <a:ext cx="6400800" cy="3808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Presentation Subtitle</a:t>
            </a:r>
            <a:endParaRPr b="0" lang="en-US" sz="2000" spc="-1" strike="noStrike">
              <a:solidFill>
                <a:srgbClr val="000000"/>
              </a:solidFill>
              <a:latin typeface="Calibri"/>
            </a:endParaRPr>
          </a:p>
        </p:txBody>
      </p:sp>
      <p:sp>
        <p:nvSpPr>
          <p:cNvPr id="8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5" name=""/>
          <p:cNvSpPr/>
          <p:nvPr/>
        </p:nvSpPr>
        <p:spPr>
          <a:xfrm>
            <a:off x="1726920" y="62064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适合部门会议的</a:t>
            </a:r>
            <a:r>
              <a:rPr b="0" lang="en-US" sz="4000" spc="-1" strike="noStrike">
                <a:solidFill>
                  <a:srgbClr val="000000"/>
                </a:solidFill>
                <a:latin typeface="Arial"/>
              </a:rPr>
              <a:t>PPT</a:t>
            </a:r>
            <a:r>
              <a:rPr b="0" lang="zh-CN" sz="4000" spc="-1" strike="noStrike">
                <a:solidFill>
                  <a:srgbClr val="000000"/>
                </a:solidFill>
                <a:latin typeface="Arial"/>
              </a:rPr>
              <a:t>模板打包在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44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Slide Master</a:t>
            </a:r>
            <a:endParaRPr b="1" lang="en-US" sz="3600" spc="-1" strike="noStrike">
              <a:solidFill>
                <a:srgbClr val="000000"/>
              </a:solidFill>
              <a:latin typeface="Tahoma"/>
            </a:endParaRPr>
          </a:p>
        </p:txBody>
      </p:sp>
      <p:sp>
        <p:nvSpPr>
          <p:cNvPr id="87" name=""/>
          <p:cNvSpPr txBox="1"/>
          <p:nvPr/>
        </p:nvSpPr>
        <p:spPr>
          <a:xfrm>
            <a:off x="457200" y="2514600"/>
            <a:ext cx="8229600" cy="361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8" name=""/>
          <p:cNvSpPr/>
          <p:nvPr/>
        </p:nvSpPr>
        <p:spPr>
          <a:xfrm>
            <a:off x="3054600" y="2584440"/>
            <a:ext cx="31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9da"/>
                </a:solidFill>
                <a:uFillTx/>
                <a:latin typeface="Arial"/>
                <a:hlinkClick r:id="rId2"/>
              </a:rPr>
              <a:t>www.51pptmoban.com</a:t>
            </a:r>
            <a:r>
              <a:rPr b="0" lang="en-US" sz="1800" spc="-1" strike="noStrike">
                <a:solidFill>
                  <a:srgbClr val="000000"/>
                </a:solidFill>
                <a:latin typeface="Arial"/>
              </a:rPr>
              <a:t>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
        <p:nvSpPr>
          <p:cNvPr id="89" name=""/>
          <p:cNvSpPr/>
          <p:nvPr/>
        </p:nvSpPr>
        <p:spPr>
          <a:xfrm>
            <a:off x="755640" y="1197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9da"/>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使用规范说明</a:t>
            </a:r>
            <a:endParaRPr b="1" lang="en-US" sz="3600" spc="-1" strike="noStrike">
              <a:solidFill>
                <a:srgbClr val="000000"/>
              </a:solidFill>
              <a:latin typeface="Tahoma"/>
            </a:endParaRPr>
          </a:p>
        </p:txBody>
      </p:sp>
      <p:sp>
        <p:nvSpPr>
          <p:cNvPr id="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f9da"/>
                </a:solidFill>
                <a:uFillTx/>
                <a:latin typeface="Calibri"/>
                <a:ea typeface="宋体"/>
                <a:hlinkClick r:id="rId2"/>
              </a:rPr>
              <a:t>http://</a:t>
            </a:r>
            <a:r>
              <a:rPr b="0" lang="en-US" sz="1400" spc="-1" strike="noStrike" u="sng">
                <a:solidFill>
                  <a:srgbClr val="fff9d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f9da"/>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f9da"/>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f9da"/>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f9da"/>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f9da"/>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f9da"/>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f9da"/>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f9da"/>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f9da"/>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f9da"/>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9da"/>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f9da"/>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BFC6814-6DB9-4ECB-BE90-D87BF80BDD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666880" y="380880"/>
            <a:ext cx="6019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Print Master</a:t>
            </a:r>
            <a:endParaRPr b="1" lang="en-US" sz="3600" spc="-1" strike="noStrike">
              <a:solidFill>
                <a:srgbClr val="000000"/>
              </a:solidFill>
              <a:latin typeface="Tahoma"/>
            </a:endParaRPr>
          </a:p>
        </p:txBody>
      </p:sp>
      <p:sp>
        <p:nvSpPr>
          <p:cNvPr id="94" name=""/>
          <p:cNvSpPr txBox="1"/>
          <p:nvPr/>
        </p:nvSpPr>
        <p:spPr>
          <a:xfrm>
            <a:off x="2666880" y="1798560"/>
            <a:ext cx="601992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 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9T15:22:26Z</dcterms:created>
  <dc:creator>pc</dc:creator>
  <dc:description/>
  <dc:language>en-US</dc:language>
  <cp:lastModifiedBy>pc</cp:lastModifiedBy>
  <dcterms:modified xsi:type="dcterms:W3CDTF">2015-08-03T12:35:19Z</dcterms:modified>
  <cp:revision>1</cp:revision>
  <dc:subject/>
  <dc:title>Presentatio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