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92C-ED5D-4E40-B23C-421AEF7B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792-47DC-4541-BE22-160BA911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D7D-0175-4491-963E-3D045B99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1F6-4B7C-49D4-8A81-84A7288B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5BC6-9429-4B36-8DF5-612A7B12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1874-91B4-46A2-AE95-8E786C07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C999-7C26-408D-97AD-BD391BF4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BEED-86C1-4821-9C02-3747EC6F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A266-06A3-47D9-A554-F137F75B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B1FC-8B42-44B7-8F0A-73B789FC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351E-4CE8-4A34-86B6-45BE0DA6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E1C-D027-4C04-A3D4-7999C0D2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BE72-3434-47B6-9E10-0F3BF36D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1895-7C3A-45E6-8D54-C94F5771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0F8B-CEBA-4C94-96D5-E66C7244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CA29-3F7F-4F4F-85A7-3DA9B187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73B2-8CAB-4E39-8C22-24F7496A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C30-B159-4ACB-A659-CC794EC6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759-2C25-4048-B340-1A9BEED6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73D-03B7-4EE7-82DF-F2CE6A30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F8E-17AA-4609-B73B-4AA69DCF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FE6-BE72-4EC1-AB73-E05CC037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DB1-9D37-451E-9801-3D3721F0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660-CB6B-4BF5-B341-37DB6162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1E02-046E-4C0A-86BF-241CF8AE524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83B8-784C-4AEE-8649-0DAA227B34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6480" y="-25560"/>
            <a:ext cx="9137520" cy="1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AB89-CEB7-4FB0-AEE0-E32309EC332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33FF-1C2E-4833-80DC-F1927E019E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hyperlink" Target="http://www.51pptmoban.com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8" descr=""/>
          <p:cNvPicPr/>
          <p:nvPr/>
        </p:nvPicPr>
        <p:blipFill>
          <a:blip r:embed="rId2"/>
          <a:stretch/>
        </p:blipFill>
        <p:spPr>
          <a:xfrm>
            <a:off x="371520" y="1557360"/>
            <a:ext cx="8161200" cy="324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4797360"/>
            <a:ext cx="9144000" cy="93672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250920" y="483228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ranklin Gothic Book"/>
              </a:rPr>
              <a:t>适合科技技术类工作总结</a:t>
            </a:r>
            <a:r>
              <a:rPr b="1" lang="zh-CN" sz="4000" spc="-1" strike="noStrike">
                <a:solidFill>
                  <a:srgbClr val="ffffff"/>
                </a:solidFill>
                <a:latin typeface="Franklin Gothic Book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Franklin Gothic Book"/>
              </a:rPr>
              <a:t>模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EE11-A408-4DC4-A406-9E5FF7E903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4" descr=""/>
          <p:cNvPicPr/>
          <p:nvPr/>
        </p:nvPicPr>
        <p:blipFill>
          <a:blip r:embed="rId2"/>
          <a:stretch/>
        </p:blipFill>
        <p:spPr>
          <a:xfrm>
            <a:off x="466560" y="62064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2"/>
          <p:cNvSpPr/>
          <p:nvPr/>
        </p:nvSpPr>
        <p:spPr>
          <a:xfrm>
            <a:off x="466560" y="1413000"/>
            <a:ext cx="9144000" cy="496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2905200" y="1268280"/>
            <a:ext cx="5627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）末端控制检验方法的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）在现有再生模式下末端废液的规律摸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）置换步骤酸碱液进液速度和再生质量的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）酸碱液浓度、进度对再生效率的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）酸碱液浓度控制过程中的影响因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）再生温度对出水二氧化硅的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从实验情况看，效果良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0"/>
          <p:cNvSpPr/>
          <p:nvPr/>
        </p:nvSpPr>
        <p:spPr>
          <a:xfrm>
            <a:off x="819000" y="3892680"/>
            <a:ext cx="1346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efe"/>
                </a:solidFill>
                <a:latin typeface="微软雅黑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月份下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完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9657-BFBB-4569-8FE0-CB77F044B5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5"/>
          <p:cNvSpPr/>
          <p:nvPr/>
        </p:nvSpPr>
        <p:spPr>
          <a:xfrm rot="10800000">
            <a:off x="323640" y="2342520"/>
            <a:ext cx="8530920" cy="1096920"/>
          </a:xfrm>
          <a:prstGeom prst="rect">
            <a:avLst/>
          </a:prstGeom>
          <a:solidFill>
            <a:srgbClr val="f7f8d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buClr>
                <a:srgbClr val="fdb913"/>
              </a:buClr>
              <a:buSzPct val="95000"/>
              <a:buFont typeface="Arial"/>
              <a:buChar char="•"/>
              <a:tabLst>
                <a:tab algn="l" pos="425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6"/>
          <p:cNvSpPr/>
          <p:nvPr/>
        </p:nvSpPr>
        <p:spPr>
          <a:xfrm rot="10800000">
            <a:off x="323640" y="3417480"/>
            <a:ext cx="8530920" cy="1069920"/>
          </a:xfrm>
          <a:prstGeom prst="rect">
            <a:avLst/>
          </a:prstGeom>
          <a:solidFill>
            <a:srgbClr val="f7f8d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buClr>
                <a:srgbClr val="fdb913"/>
              </a:buClr>
              <a:buSzPct val="95000"/>
              <a:buFont typeface="Arial"/>
              <a:buChar char="•"/>
              <a:tabLst>
                <a:tab algn="l" pos="425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79"/>
          <p:cNvSpPr/>
          <p:nvPr/>
        </p:nvSpPr>
        <p:spPr>
          <a:xfrm rot="5400000">
            <a:off x="4173120" y="-2284560"/>
            <a:ext cx="839880" cy="8542440"/>
          </a:xfrm>
          <a:custGeom>
            <a:avLst/>
            <a:gdLst>
              <a:gd name="textAreaLeft" fmla="*/ 40680 w 839880"/>
              <a:gd name="textAreaRight" fmla="*/ 799200 w 839880"/>
              <a:gd name="textAreaTop" fmla="*/ 40680 h 8542440"/>
              <a:gd name="textAreaBottom" fmla="*/ 8501760 h 8542440"/>
            </a:gdLst>
            <a:ahLst/>
            <a:rect l="textAreaLeft" t="textAreaTop" r="textAreaRight" b="textAreaBottom"/>
            <a:pathLst>
              <a:path w="21600" h="219609">
                <a:moveTo>
                  <a:pt x="3600" y="0"/>
                </a:moveTo>
                <a:arcTo wR="3600" hR="3600" stAng="16200000" swAng="-5400000"/>
                <a:lnTo>
                  <a:pt x="0" y="216009"/>
                </a:lnTo>
                <a:arcTo wR="3600" hR="3600" stAng="10800000" swAng="-5400000"/>
                <a:lnTo>
                  <a:pt x="18000" y="219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703440" y="2630520"/>
            <a:ext cx="3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2"/>
          <p:cNvSpPr/>
          <p:nvPr/>
        </p:nvSpPr>
        <p:spPr>
          <a:xfrm>
            <a:off x="1255680" y="3726000"/>
            <a:ext cx="77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对每个离子交换器再生实行统一的定浓度，定温度，定体积、定浓速、定流速模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703440" y="3652920"/>
            <a:ext cx="3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703440" y="4632480"/>
            <a:ext cx="3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8"/>
          <p:cNvSpPr/>
          <p:nvPr/>
        </p:nvSpPr>
        <p:spPr>
          <a:xfrm>
            <a:off x="1290600" y="2722680"/>
            <a:ext cx="71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对检测酸碱的浓度表进行更换，采用在线形式确保酸碱浓度标准，持续稳定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2"/>
          <p:cNvSpPr/>
          <p:nvPr/>
        </p:nvSpPr>
        <p:spPr>
          <a:xfrm>
            <a:off x="1260360" y="4686480"/>
            <a:ext cx="677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实现对再生废液离子含量的监测，确保再生过程的质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1"/>
          <p:cNvSpPr/>
          <p:nvPr/>
        </p:nvSpPr>
        <p:spPr>
          <a:xfrm>
            <a:off x="3132000" y="1603440"/>
            <a:ext cx="324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Franklin Gothic Book"/>
              </a:rPr>
              <a:t>具体改造思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86BC-7C17-499E-B73F-31B195DCF5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34640" cy="7101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3"/>
          <a:stretch/>
        </p:blipFill>
        <p:spPr>
          <a:xfrm>
            <a:off x="3851280" y="5229360"/>
            <a:ext cx="5283360" cy="18716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2"/>
          <p:cNvSpPr/>
          <p:nvPr/>
        </p:nvSpPr>
        <p:spPr>
          <a:xfrm>
            <a:off x="577800" y="5229360"/>
            <a:ext cx="3633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Franklin Gothic Book"/>
              </a:rPr>
              <a:t>改造前再生系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" descr=""/>
          <p:cNvPicPr/>
          <p:nvPr/>
        </p:nvPicPr>
        <p:blipFill>
          <a:blip r:embed="rId4"/>
          <a:stretch/>
        </p:blipFill>
        <p:spPr>
          <a:xfrm>
            <a:off x="1724040" y="1123920"/>
            <a:ext cx="5697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330A-1406-4545-8784-AF0E35A681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34640" cy="7101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577800" y="5229360"/>
            <a:ext cx="3633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Franklin Gothic Book"/>
              </a:rPr>
              <a:t>改造后再生系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3"/>
          <a:stretch/>
        </p:blipFill>
        <p:spPr>
          <a:xfrm>
            <a:off x="4067280" y="4397400"/>
            <a:ext cx="5067360" cy="291924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8" descr=""/>
          <p:cNvPicPr/>
          <p:nvPr/>
        </p:nvPicPr>
        <p:blipFill>
          <a:blip r:embed="rId4"/>
          <a:stretch/>
        </p:blipFill>
        <p:spPr>
          <a:xfrm>
            <a:off x="1724040" y="1123920"/>
            <a:ext cx="5697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61B4-B62A-417F-B5EB-BDA062DD47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604360" cy="4096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2"/>
          <p:cNvSpPr/>
          <p:nvPr/>
        </p:nvSpPr>
        <p:spPr>
          <a:xfrm>
            <a:off x="466560" y="2276640"/>
            <a:ext cx="8569440" cy="41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Franklin Gothic Medium"/>
              </a:rPr>
              <a:t>改造后的优点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539640" y="3533400"/>
            <a:ext cx="828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6BF1-1D20-4302-8806-15D35FF253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4476240" y="3290760"/>
            <a:ext cx="284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微软雅黑"/>
              </a:rPr>
              <a:t>实施计划及进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3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260352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E9B1-CC74-4AA0-AAB2-DE3C5FE1A1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图示 2"/>
          <p:cNvSpPr/>
          <p:nvPr/>
        </p:nvSpPr>
        <p:spPr>
          <a:xfrm>
            <a:off x="466560" y="907920"/>
            <a:ext cx="799308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4411-562B-4CE0-84A3-8169011E81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2" descr=""/>
          <p:cNvPicPr/>
          <p:nvPr/>
        </p:nvPicPr>
        <p:blipFill>
          <a:blip r:embed="rId2"/>
          <a:stretch/>
        </p:blipFill>
        <p:spPr>
          <a:xfrm>
            <a:off x="1547640" y="2536920"/>
            <a:ext cx="2232360" cy="2232000"/>
          </a:xfrm>
          <a:prstGeom prst="rect">
            <a:avLst/>
          </a:prstGeom>
          <a:ln w="0">
            <a:noFill/>
          </a:ln>
        </p:spPr>
      </p:pic>
      <p:sp>
        <p:nvSpPr>
          <p:cNvPr id="191" name="矩形 3"/>
          <p:cNvSpPr/>
          <p:nvPr/>
        </p:nvSpPr>
        <p:spPr>
          <a:xfrm>
            <a:off x="4589640" y="3290760"/>
            <a:ext cx="170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微软雅黑"/>
              </a:rPr>
              <a:t>效益计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CABC-CF09-48FB-B779-1195383B1F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66560" y="1484280"/>
          <a:ext cx="8209080" cy="5184720"/>
        </p:xfrm>
        <a:graphic>
          <a:graphicData uri="http://schemas.openxmlformats.org/drawingml/2006/table">
            <a:tbl>
              <a:tblPr/>
              <a:tblGrid>
                <a:gridCol w="1612800"/>
                <a:gridCol w="785880"/>
                <a:gridCol w="787320"/>
                <a:gridCol w="785880"/>
                <a:gridCol w="787320"/>
                <a:gridCol w="785880"/>
                <a:gridCol w="787320"/>
                <a:gridCol w="911520"/>
                <a:gridCol w="96516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项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月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合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计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节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（万元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除盐水（吨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单位酸成本（元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单位酸计划成本（元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单位碱成本（元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单位碱计划成本（元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c000"/>
                          </a:solidFill>
                          <a:latin typeface="微软雅黑"/>
                        </a:rPr>
                        <a:t>合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c000"/>
                          </a:solidFill>
                          <a:latin typeface="微软雅黑"/>
                        </a:rPr>
                        <a:t>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000"/>
                          </a:solidFill>
                          <a:latin typeface="微软雅黑"/>
                        </a:rPr>
                        <a:t>14.7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矩形 3"/>
          <p:cNvSpPr/>
          <p:nvPr/>
        </p:nvSpPr>
        <p:spPr>
          <a:xfrm>
            <a:off x="2773080" y="692280"/>
            <a:ext cx="411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微软雅黑"/>
              </a:rPr>
              <a:t>2010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</a:rPr>
              <a:t>年实际运行酸碱耗与计划比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C707-8EE3-40F6-99D7-6CFB2C1D39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26920" y="1123920"/>
          <a:ext cx="7632720" cy="5111640"/>
        </p:xfrm>
        <a:graphic>
          <a:graphicData uri="http://schemas.openxmlformats.org/drawingml/2006/table">
            <a:tbl>
              <a:tblPr/>
              <a:tblGrid>
                <a:gridCol w="3500280"/>
                <a:gridCol w="1378080"/>
                <a:gridCol w="1376280"/>
                <a:gridCol w="1378080"/>
              </a:tblGrid>
              <a:tr h="125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项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碱单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酸单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2009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1~1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201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1~1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4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差额（吨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万吨水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节约额（吨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价格（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吨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c000"/>
                          </a:solidFill>
                          <a:latin typeface="微软雅黑"/>
                        </a:rPr>
                        <a:t>节约成本（万元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000"/>
                          </a:solidFill>
                          <a:latin typeface="微软雅黑"/>
                        </a:rPr>
                        <a:t>10.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000"/>
                          </a:solidFill>
                          <a:latin typeface="微软雅黑"/>
                        </a:rPr>
                        <a:t>10.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000"/>
                          </a:solidFill>
                          <a:latin typeface="微软雅黑"/>
                        </a:rPr>
                        <a:t>20.8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矩形 3"/>
          <p:cNvSpPr/>
          <p:nvPr/>
        </p:nvSpPr>
        <p:spPr>
          <a:xfrm>
            <a:off x="2092680" y="333360"/>
            <a:ext cx="531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微软雅黑"/>
              </a:rPr>
              <a:t>2010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</a:rPr>
              <a:t>年与</a:t>
            </a:r>
            <a:r>
              <a:rPr b="1" lang="en-US" sz="3000" spc="-1" strike="noStrike">
                <a:solidFill>
                  <a:srgbClr val="ffffff"/>
                </a:solidFill>
                <a:latin typeface="微软雅黑"/>
              </a:rPr>
              <a:t>2009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</a:rPr>
              <a:t>年</a:t>
            </a:r>
            <a:r>
              <a:rPr b="1" lang="en-US" sz="3000" spc="-1" strike="noStrike">
                <a:solidFill>
                  <a:srgbClr val="ffffff"/>
                </a:solidFill>
                <a:latin typeface="微软雅黑"/>
              </a:rPr>
              <a:t>1~5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</a:rPr>
              <a:t>月酸碱耗对比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8D57-E52F-4762-B6A8-0610C26AD4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" descr=""/>
          <p:cNvPicPr/>
          <p:nvPr/>
        </p:nvPicPr>
        <p:blipFill>
          <a:blip r:embed="rId2"/>
          <a:stretch/>
        </p:blipFill>
        <p:spPr>
          <a:xfrm>
            <a:off x="2330280" y="308124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89" name="矩形 3"/>
          <p:cNvSpPr/>
          <p:nvPr/>
        </p:nvSpPr>
        <p:spPr>
          <a:xfrm>
            <a:off x="3203640" y="2997360"/>
            <a:ext cx="4032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微软雅黑"/>
              </a:rPr>
              <a:t>课题背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4413-41B0-44BA-8A33-1E78C36923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2"/>
          <p:cNvSpPr/>
          <p:nvPr/>
        </p:nvSpPr>
        <p:spPr>
          <a:xfrm>
            <a:off x="466560" y="1050840"/>
            <a:ext cx="9144000" cy="496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"/>
          <p:cNvSpPr/>
          <p:nvPr/>
        </p:nvSpPr>
        <p:spPr>
          <a:xfrm>
            <a:off x="0" y="106668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酸单耗比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2009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年同期降低了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比计划节约了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6.2%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碱单耗比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2009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年同期降低了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30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比计划节约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47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1-5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月运行成本与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2009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年同期比较节约了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8.19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万元，与计划比较节约运行成本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万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较好的实现了项目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0560-256C-459A-8142-40DC262CCD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"/>
          <p:cNvSpPr/>
          <p:nvPr/>
        </p:nvSpPr>
        <p:spPr>
          <a:xfrm>
            <a:off x="4734000" y="3182760"/>
            <a:ext cx="208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微软雅黑"/>
              </a:rPr>
              <a:t>投资回报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3" descr=""/>
          <p:cNvPicPr/>
          <p:nvPr/>
        </p:nvPicPr>
        <p:blipFill>
          <a:blip r:embed="rId2"/>
          <a:stretch/>
        </p:blipFill>
        <p:spPr>
          <a:xfrm>
            <a:off x="1619280" y="2513160"/>
            <a:ext cx="220176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086B-C607-430B-8D9F-82B24654F5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611280" y="4073400"/>
            <a:ext cx="8037360" cy="1371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项目投资后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1~5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月节约成本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8.19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</a:rPr>
              <a:t>万元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，两个月收回成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611280" y="1755720"/>
            <a:ext cx="8037360" cy="1373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项目总投资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2.56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</a:rPr>
              <a:t>万元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11280" y="1131840"/>
            <a:ext cx="2896920" cy="623880"/>
          </a:xfrm>
          <a:prstGeom prst="rect">
            <a:avLst/>
          </a:prstGeom>
          <a:solidFill>
            <a:srgbClr val="0077b8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1280" y="3449520"/>
            <a:ext cx="2896920" cy="623880"/>
          </a:xfrm>
          <a:prstGeom prst="rect">
            <a:avLst/>
          </a:prstGeom>
          <a:solidFill>
            <a:srgbClr val="f37021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0F89-EB49-4FDA-92E1-9BE19D4B16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2"/>
          <p:cNvSpPr/>
          <p:nvPr/>
        </p:nvSpPr>
        <p:spPr>
          <a:xfrm>
            <a:off x="466560" y="4005360"/>
            <a:ext cx="8569440" cy="23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"/>
          <p:cNvSpPr/>
          <p:nvPr/>
        </p:nvSpPr>
        <p:spPr>
          <a:xfrm>
            <a:off x="466560" y="4321080"/>
            <a:ext cx="8282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Franklin Gothic Book"/>
              </a:rPr>
              <a:t>       </a:t>
            </a:r>
            <a:r>
              <a:rPr b="1" lang="zh-CN" sz="2200" spc="-1" strike="noStrike">
                <a:solidFill>
                  <a:srgbClr val="ffffff"/>
                </a:solidFill>
                <a:latin typeface="Franklin Gothic Book"/>
              </a:rPr>
              <a:t>该项目实施后有效的解决了除盐水再生酸、碱的消耗，同时摸索出了一套完整的操作规程，不仅提高了员工的操作技能，更大的降低了除盐水再生酸、碱耗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3" descr=""/>
          <p:cNvPicPr/>
          <p:nvPr/>
        </p:nvPicPr>
        <p:blipFill>
          <a:blip r:embed="rId2"/>
          <a:stretch/>
        </p:blipFill>
        <p:spPr>
          <a:xfrm>
            <a:off x="2195640" y="2373480"/>
            <a:ext cx="1455480" cy="1454040"/>
          </a:xfrm>
          <a:prstGeom prst="rect">
            <a:avLst/>
          </a:prstGeom>
          <a:ln w="0">
            <a:noFill/>
          </a:ln>
        </p:spPr>
      </p:pic>
      <p:sp>
        <p:nvSpPr>
          <p:cNvPr id="213" name="矩形 5"/>
          <p:cNvSpPr/>
          <p:nvPr/>
        </p:nvSpPr>
        <p:spPr>
          <a:xfrm>
            <a:off x="4280040" y="267012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微软雅黑"/>
              </a:rPr>
              <a:t>结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826-E283-41C1-94DB-51B97456D8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8702-C50A-4482-8B52-4F6F160D11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0" y="4005360"/>
            <a:ext cx="9134640" cy="2833560"/>
          </a:xfrm>
          <a:prstGeom prst="rect">
            <a:avLst/>
          </a:prstGeom>
          <a:ln w="0">
            <a:noFill/>
          </a:ln>
        </p:spPr>
      </p:pic>
      <p:sp>
        <p:nvSpPr>
          <p:cNvPr id="219" name="矩形 5"/>
          <p:cNvSpPr/>
          <p:nvPr/>
        </p:nvSpPr>
        <p:spPr>
          <a:xfrm>
            <a:off x="4951440" y="1090440"/>
            <a:ext cx="32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Franklin Gothic Book"/>
              </a:rPr>
              <a:t>谢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3252600" y="980604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99A9-819E-4A65-BEA1-A8FD6A57B7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3" descr=""/>
          <p:cNvPicPr/>
          <p:nvPr/>
        </p:nvPicPr>
        <p:blipFill>
          <a:blip r:embed="rId2"/>
          <a:stretch/>
        </p:blipFill>
        <p:spPr>
          <a:xfrm>
            <a:off x="1438200" y="26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4" descr=""/>
          <p:cNvPicPr/>
          <p:nvPr/>
        </p:nvPicPr>
        <p:blipFill>
          <a:blip r:embed="rId3"/>
          <a:stretch/>
        </p:blipFill>
        <p:spPr>
          <a:xfrm>
            <a:off x="3670200" y="577800"/>
            <a:ext cx="1717920" cy="1719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" descr=""/>
          <p:cNvPicPr/>
          <p:nvPr/>
        </p:nvPicPr>
        <p:blipFill>
          <a:blip r:embed="rId4"/>
          <a:stretch/>
        </p:blipFill>
        <p:spPr>
          <a:xfrm>
            <a:off x="6407280" y="264636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矩形 6"/>
          <p:cNvSpPr/>
          <p:nvPr/>
        </p:nvSpPr>
        <p:spPr>
          <a:xfrm>
            <a:off x="4041720" y="1943280"/>
            <a:ext cx="13237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</a:rPr>
              <a:t>除盐水系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1218600" y="3710160"/>
            <a:ext cx="1658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微软雅黑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套阳离子交换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9"/>
          <p:cNvSpPr/>
          <p:nvPr/>
        </p:nvSpPr>
        <p:spPr>
          <a:xfrm>
            <a:off x="6076440" y="3710160"/>
            <a:ext cx="1658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微软雅黑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套阴离子交换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虚尾箭头 10"/>
          <p:cNvSpPr/>
          <p:nvPr/>
        </p:nvSpPr>
        <p:spPr>
          <a:xfrm rot="8465400">
            <a:off x="2446200" y="1942920"/>
            <a:ext cx="1224000" cy="631800"/>
          </a:xfrm>
          <a:custGeom>
            <a:avLst/>
            <a:gdLst>
              <a:gd name="textAreaLeft" fmla="*/ 191160 w 1224000"/>
              <a:gd name="textAreaRight" fmla="*/ 1066320 w 1224000"/>
              <a:gd name="textAreaTop" fmla="*/ 158040 h 631800"/>
              <a:gd name="textAreaBottom" fmla="*/ 474120 h 631800"/>
            </a:gdLst>
            <a:ahLst/>
            <a:rect l="textAreaLeft" t="textAreaTop" r="textAreaRight" b="textAreaBottom"/>
            <a:pathLst>
              <a:path w="21600" h="21600">
                <a:moveTo>
                  <a:pt x="16032" y="0"/>
                </a:moveTo>
                <a:lnTo>
                  <a:pt x="16032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032" y="16200"/>
                </a:lnTo>
                <a:lnTo>
                  <a:pt x="16032" y="21600"/>
                </a:lnTo>
                <a:lnTo>
                  <a:pt x="21600" y="10800"/>
                </a:lnTo>
                <a:lnTo>
                  <a:pt x="16032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虚尾箭头 11"/>
          <p:cNvSpPr/>
          <p:nvPr/>
        </p:nvSpPr>
        <p:spPr>
          <a:xfrm rot="2628600">
            <a:off x="5662080" y="1901520"/>
            <a:ext cx="1224000" cy="631800"/>
          </a:xfrm>
          <a:custGeom>
            <a:avLst/>
            <a:gdLst>
              <a:gd name="textAreaLeft" fmla="*/ 191160 w 1224000"/>
              <a:gd name="textAreaRight" fmla="*/ 1066320 w 1224000"/>
              <a:gd name="textAreaTop" fmla="*/ 158040 h 631800"/>
              <a:gd name="textAreaBottom" fmla="*/ 474120 h 631800"/>
            </a:gdLst>
            <a:ahLst/>
            <a:rect l="textAreaLeft" t="textAreaTop" r="textAreaRight" b="textAreaBottom"/>
            <a:pathLst>
              <a:path w="21600" h="21600">
                <a:moveTo>
                  <a:pt x="16032" y="0"/>
                </a:moveTo>
                <a:lnTo>
                  <a:pt x="16032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032" y="16200"/>
                </a:lnTo>
                <a:lnTo>
                  <a:pt x="16032" y="21600"/>
                </a:lnTo>
                <a:lnTo>
                  <a:pt x="21600" y="10800"/>
                </a:lnTo>
                <a:lnTo>
                  <a:pt x="16032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0" y="5373720"/>
            <a:ext cx="9144000" cy="1008360"/>
            <a:chOff x="0" y="5373720"/>
            <a:chExt cx="9144000" cy="1008360"/>
          </a:xfrm>
        </p:grpSpPr>
        <p:sp>
          <p:nvSpPr>
            <p:cNvPr id="100" name="Rectangle 8"/>
            <p:cNvSpPr/>
            <p:nvPr/>
          </p:nvSpPr>
          <p:spPr>
            <a:xfrm rot="10800000">
              <a:off x="0" y="5463360"/>
              <a:ext cx="9144000" cy="9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54720" bIns="41040" anchor="ctr" anchorCtr="1">
              <a:noAutofit/>
            </a:bodyPr>
            <a:p>
              <a:pPr marL="227160" indent="-227160"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5"/>
            <p:cNvSpPr/>
            <p:nvPr/>
          </p:nvSpPr>
          <p:spPr>
            <a:xfrm>
              <a:off x="2411640" y="5373720"/>
              <a:ext cx="4234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2f2f2"/>
                  </a:solidFill>
                  <a:latin typeface="微软雅黑"/>
                </a:rPr>
                <a:t>单套产水量在</a:t>
              </a:r>
              <a:r>
                <a:rPr b="1" lang="en-US" sz="2000" spc="-1" strike="noStrike">
                  <a:solidFill>
                    <a:srgbClr val="f2f2f2"/>
                  </a:solidFill>
                  <a:latin typeface="微软雅黑"/>
                </a:rPr>
                <a:t>80~150m3/h</a:t>
              </a:r>
              <a:r>
                <a:rPr b="1" lang="zh-CN" sz="2000" spc="-1" strike="noStrike">
                  <a:solidFill>
                    <a:srgbClr val="f2f2f2"/>
                  </a:solidFill>
                  <a:latin typeface="微软雅黑"/>
                </a:rPr>
                <a:t>，阳树脂采用氢型阳离子交换树脂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2f2f2"/>
                  </a:solidFill>
                  <a:latin typeface="微软雅黑"/>
                </a:rPr>
                <a:t>阴树脂采用</a:t>
              </a:r>
              <a:r>
                <a:rPr b="1" lang="en-US" sz="2000" spc="-1" strike="noStrike">
                  <a:solidFill>
                    <a:srgbClr val="f2f2f2"/>
                  </a:solidFill>
                  <a:latin typeface="微软雅黑"/>
                </a:rPr>
                <a:t>201×7</a:t>
              </a:r>
              <a:r>
                <a:rPr b="1" lang="zh-CN" sz="2000" spc="-1" strike="noStrike">
                  <a:solidFill>
                    <a:srgbClr val="f2f2f2"/>
                  </a:solidFill>
                  <a:latin typeface="微软雅黑"/>
                </a:rPr>
                <a:t>阴离子交换树脂系统采用并联运行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557A-C565-450A-B749-8769D891C2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图示 4"/>
          <p:cNvSpPr/>
          <p:nvPr/>
        </p:nvSpPr>
        <p:spPr>
          <a:xfrm>
            <a:off x="1547640" y="189000"/>
            <a:ext cx="6696360" cy="56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2191680" y="2133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0" y="6024600"/>
            <a:ext cx="9144000" cy="557280"/>
            <a:chOff x="0" y="6024600"/>
            <a:chExt cx="9144000" cy="557280"/>
          </a:xfrm>
        </p:grpSpPr>
        <p:sp>
          <p:nvSpPr>
            <p:cNvPr id="106" name="Rectangle 8"/>
            <p:cNvSpPr/>
            <p:nvPr/>
          </p:nvSpPr>
          <p:spPr>
            <a:xfrm rot="10800000">
              <a:off x="0" y="6024600"/>
              <a:ext cx="9144000" cy="5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54720" bIns="41040" anchor="ctr" anchorCtr="1">
              <a:noAutofit/>
            </a:bodyPr>
            <a:p>
              <a:pPr marL="227160" indent="-227160"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8"/>
            <p:cNvSpPr/>
            <p:nvPr/>
          </p:nvSpPr>
          <p:spPr>
            <a:xfrm>
              <a:off x="2500200" y="6103080"/>
              <a:ext cx="414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2f2f2"/>
                  </a:solidFill>
                  <a:latin typeface="微软雅黑"/>
                </a:rPr>
                <a:t>系统共有两套再生系统，可以同时供阴床和阳床系统再生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D404-F92C-42D7-A6A1-628B4FACC2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3843360" y="36147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Franklin Gothic Book"/>
              </a:rPr>
              <a:t>再生工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0" y="3794040"/>
            <a:ext cx="889308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114560" y="569880"/>
            <a:ext cx="2819160" cy="907920"/>
            <a:chOff x="1114560" y="569880"/>
            <a:chExt cx="2819160" cy="907920"/>
          </a:xfrm>
        </p:grpSpPr>
        <p:sp>
          <p:nvSpPr>
            <p:cNvPr id="112" name="Rounded Rectangle 14"/>
            <p:cNvSpPr/>
            <p:nvPr/>
          </p:nvSpPr>
          <p:spPr>
            <a:xfrm>
              <a:off x="1114560" y="569880"/>
              <a:ext cx="2819160" cy="907920"/>
            </a:xfrm>
            <a:prstGeom prst="roundRect">
              <a:avLst>
                <a:gd name="adj" fmla="val 0"/>
              </a:avLst>
            </a:prstGeom>
            <a:solidFill>
              <a:srgbClr val="f7964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1"/>
            <p:cNvSpPr/>
            <p:nvPr/>
          </p:nvSpPr>
          <p:spPr>
            <a:xfrm>
              <a:off x="1535040" y="839160"/>
              <a:ext cx="1974960" cy="368280"/>
            </a:xfrm>
            <a:prstGeom prst="rect">
              <a:avLst/>
            </a:prstGeom>
            <a:solidFill>
              <a:srgbClr val="f7964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lvl="1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阳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7"/>
          <p:cNvGrpSpPr/>
          <p:nvPr/>
        </p:nvGrpSpPr>
        <p:grpSpPr>
          <a:xfrm>
            <a:off x="5940360" y="546120"/>
            <a:ext cx="2819520" cy="907920"/>
            <a:chOff x="5940360" y="546120"/>
            <a:chExt cx="2819520" cy="907920"/>
          </a:xfrm>
        </p:grpSpPr>
        <p:sp>
          <p:nvSpPr>
            <p:cNvPr id="115" name="Rounded Rectangle 36"/>
            <p:cNvSpPr/>
            <p:nvPr/>
          </p:nvSpPr>
          <p:spPr>
            <a:xfrm>
              <a:off x="5940360" y="546120"/>
              <a:ext cx="2819520" cy="907920"/>
            </a:xfrm>
            <a:prstGeom prst="roundRect">
              <a:avLst>
                <a:gd name="adj" fmla="val 0"/>
              </a:avLst>
            </a:prstGeom>
            <a:solidFill>
              <a:srgbClr val="f7964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4"/>
            <p:cNvSpPr/>
            <p:nvPr/>
          </p:nvSpPr>
          <p:spPr>
            <a:xfrm>
              <a:off x="6257520" y="815400"/>
              <a:ext cx="2185200" cy="368280"/>
            </a:xfrm>
            <a:prstGeom prst="rect">
              <a:avLst/>
            </a:prstGeom>
            <a:solidFill>
              <a:srgbClr val="f7964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lvl="1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阴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29"/>
          <p:cNvSpPr/>
          <p:nvPr/>
        </p:nvSpPr>
        <p:spPr>
          <a:xfrm>
            <a:off x="0" y="1708200"/>
            <a:ext cx="4446720" cy="91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4"/>
          <p:cNvSpPr/>
          <p:nvPr/>
        </p:nvSpPr>
        <p:spPr>
          <a:xfrm>
            <a:off x="4756320" y="1655640"/>
            <a:ext cx="4446360" cy="91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5473800" y="1898640"/>
            <a:ext cx="3752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常温稀碱液再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0" y="4714920"/>
            <a:ext cx="8893080" cy="10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4"/>
          <p:cNvGrpSpPr/>
          <p:nvPr/>
        </p:nvGrpSpPr>
        <p:grpSpPr>
          <a:xfrm>
            <a:off x="0" y="2664000"/>
            <a:ext cx="8893080" cy="922320"/>
            <a:chOff x="0" y="2664000"/>
            <a:chExt cx="8893080" cy="922320"/>
          </a:xfrm>
        </p:grpSpPr>
        <p:sp>
          <p:nvSpPr>
            <p:cNvPr id="122" name="Rectangle 39"/>
            <p:cNvSpPr/>
            <p:nvPr/>
          </p:nvSpPr>
          <p:spPr>
            <a:xfrm>
              <a:off x="0" y="2669040"/>
              <a:ext cx="4446720" cy="91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0"/>
            <p:cNvSpPr/>
            <p:nvPr/>
          </p:nvSpPr>
          <p:spPr>
            <a:xfrm>
              <a:off x="4446720" y="2664000"/>
              <a:ext cx="4446360" cy="91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22"/>
            <p:cNvSpPr/>
            <p:nvPr/>
          </p:nvSpPr>
          <p:spPr>
            <a:xfrm>
              <a:off x="6046920" y="2857320"/>
              <a:ext cx="2607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lvl="1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正常置换时间为</a:t>
              </a:r>
              <a:r>
                <a:rPr b="0" lang="en-US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90</a:t>
              </a:r>
              <a:r>
                <a:rPr b="0" lang="zh-CN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5"/>
            <p:cNvSpPr/>
            <p:nvPr/>
          </p:nvSpPr>
          <p:spPr>
            <a:xfrm>
              <a:off x="1187280" y="2868480"/>
              <a:ext cx="2747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正常置换时间为</a:t>
              </a:r>
              <a:r>
                <a:rPr b="0" lang="en-US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90</a:t>
              </a:r>
              <a:r>
                <a:rPr b="0" lang="zh-CN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24"/>
          <p:cNvSpPr/>
          <p:nvPr/>
        </p:nvSpPr>
        <p:spPr>
          <a:xfrm>
            <a:off x="108000" y="5051520"/>
            <a:ext cx="88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现在浓度和时间控制都很模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再生工艺控制：无温度控制，无精确浓度控制，有粗略连度控制，无置换末端水质检测标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0"/>
          <p:cNvGrpSpPr/>
          <p:nvPr/>
        </p:nvGrpSpPr>
        <p:grpSpPr>
          <a:xfrm>
            <a:off x="0" y="3624120"/>
            <a:ext cx="8967960" cy="928800"/>
            <a:chOff x="0" y="3624120"/>
            <a:chExt cx="8967960" cy="928800"/>
          </a:xfrm>
        </p:grpSpPr>
        <p:sp>
          <p:nvSpPr>
            <p:cNvPr id="128" name="Rectangle 44"/>
            <p:cNvSpPr/>
            <p:nvPr/>
          </p:nvSpPr>
          <p:spPr>
            <a:xfrm>
              <a:off x="4446000" y="3624120"/>
              <a:ext cx="4446000" cy="91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28"/>
            <p:cNvSpPr/>
            <p:nvPr/>
          </p:nvSpPr>
          <p:spPr>
            <a:xfrm>
              <a:off x="5318280" y="3817800"/>
              <a:ext cx="3649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lvl="1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浓度为</a:t>
              </a:r>
              <a:r>
                <a:rPr b="0" lang="en-US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2%~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5"/>
            <p:cNvSpPr/>
            <p:nvPr/>
          </p:nvSpPr>
          <p:spPr>
            <a:xfrm>
              <a:off x="0" y="3636000"/>
              <a:ext cx="4446000" cy="91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114560" y="3817800"/>
              <a:ext cx="27468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浓度为</a:t>
              </a:r>
              <a:r>
                <a:rPr b="0" lang="en-US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3%~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32"/>
          <p:cNvSpPr/>
          <p:nvPr/>
        </p:nvSpPr>
        <p:spPr>
          <a:xfrm>
            <a:off x="1165320" y="1898640"/>
            <a:ext cx="2746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常温稀盐酸再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0F3F-5C6D-4F7A-AA88-C9455D3DB3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6" descr=""/>
          <p:cNvPicPr/>
          <p:nvPr/>
        </p:nvPicPr>
        <p:blipFill>
          <a:blip r:embed="rId2"/>
          <a:stretch/>
        </p:blipFill>
        <p:spPr>
          <a:xfrm>
            <a:off x="4861080" y="-312840"/>
            <a:ext cx="4876560" cy="4875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2"/>
          <p:cNvSpPr/>
          <p:nvPr/>
        </p:nvSpPr>
        <p:spPr>
          <a:xfrm>
            <a:off x="0" y="5051520"/>
            <a:ext cx="9144000" cy="133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108000" y="5051520"/>
            <a:ext cx="889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再生盐酸消耗</a:t>
            </a:r>
            <a:r>
              <a:rPr b="1" lang="en-US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2.5</a:t>
            </a:r>
            <a:r>
              <a:rPr b="1" lang="zh-CN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吨</a:t>
            </a:r>
            <a:r>
              <a:rPr b="1" lang="en-US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/</a:t>
            </a:r>
            <a:r>
              <a:rPr b="1" lang="zh-CN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万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吨水、碱为</a:t>
            </a:r>
            <a:r>
              <a:rPr b="1" lang="en-US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1.8</a:t>
            </a:r>
            <a:r>
              <a:rPr b="1" lang="zh-CN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吨</a:t>
            </a:r>
            <a:r>
              <a:rPr b="1" lang="en-US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/</a:t>
            </a:r>
            <a:r>
              <a:rPr b="1" lang="zh-CN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万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吨水，冬季由于水温较低而消耗更高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根据现有水硬度情况，还有近</a:t>
            </a:r>
            <a:r>
              <a:rPr b="1" lang="en-US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%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的空间可以降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0"/>
          <p:cNvSpPr/>
          <p:nvPr/>
        </p:nvSpPr>
        <p:spPr>
          <a:xfrm>
            <a:off x="1456560" y="259380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Franklin Gothic Book"/>
              </a:rPr>
              <a:t>再生消耗情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0E99-F720-45CC-8918-CE6AE4A892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2" descr=""/>
          <p:cNvPicPr/>
          <p:nvPr/>
        </p:nvPicPr>
        <p:blipFill>
          <a:blip r:embed="rId2"/>
          <a:stretch/>
        </p:blipFill>
        <p:spPr>
          <a:xfrm>
            <a:off x="2124000" y="2786040"/>
            <a:ext cx="1862280" cy="1862280"/>
          </a:xfrm>
          <a:prstGeom prst="rect">
            <a:avLst/>
          </a:prstGeom>
          <a:ln w="0">
            <a:noFill/>
          </a:ln>
        </p:spPr>
      </p:pic>
      <p:sp>
        <p:nvSpPr>
          <p:cNvPr id="140" name="矩形 3"/>
          <p:cNvSpPr/>
          <p:nvPr/>
        </p:nvSpPr>
        <p:spPr>
          <a:xfrm>
            <a:off x="3780000" y="3068640"/>
            <a:ext cx="4032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微软雅黑"/>
              </a:rPr>
              <a:t>课题目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052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6869-ED70-40F0-914D-77A37CC5AB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-208080" y="1873080"/>
            <a:ext cx="9142560" cy="409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200160" y="1844640"/>
            <a:ext cx="88930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实现除盐水盐酸耗降低</a:t>
            </a: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碱降低</a:t>
            </a: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产水效率提升</a:t>
            </a: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实现效益</a:t>
            </a: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</a:t>
            </a: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万元</a:t>
            </a: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以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通过实验总结出一套较为标准的再生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91DC-FBFF-4B18-B1D2-64FF0B1F46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4" descr=""/>
          <p:cNvPicPr/>
          <p:nvPr/>
        </p:nvPicPr>
        <p:blipFill>
          <a:blip r:embed="rId2"/>
          <a:stretch/>
        </p:blipFill>
        <p:spPr>
          <a:xfrm>
            <a:off x="1332000" y="2708280"/>
            <a:ext cx="1976400" cy="1978200"/>
          </a:xfrm>
          <a:prstGeom prst="rect">
            <a:avLst/>
          </a:prstGeom>
          <a:ln w="0">
            <a:noFill/>
          </a:ln>
        </p:spPr>
      </p:pic>
      <p:sp>
        <p:nvSpPr>
          <p:cNvPr id="147" name="矩形 5"/>
          <p:cNvSpPr/>
          <p:nvPr/>
        </p:nvSpPr>
        <p:spPr>
          <a:xfrm>
            <a:off x="3635280" y="2425680"/>
            <a:ext cx="4032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微软雅黑"/>
              </a:rPr>
              <a:t>技术方案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微软雅黑"/>
              </a:rPr>
              <a:t>技术特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5:03:00Z</dcterms:created>
  <dc:creator>中国龙站长学院</dc:creator>
  <dc:description/>
  <dc:language>en-US</dc:language>
  <cp:lastModifiedBy>YANGS</cp:lastModifiedBy>
  <dcterms:modified xsi:type="dcterms:W3CDTF">2015-08-03T12:35:18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