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475-D30E-4891-BB7E-F9E29F51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543-90CC-4766-AEE3-660D6C4D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CFA-02AC-43DF-A9F5-6D103AF0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3AC-9B36-405E-859C-4C6A062E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0109-DD87-4F8B-87B8-88740CEE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6FC1-21A6-42C9-AD59-17E0E9CE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13AD-B662-477B-B7B2-F0F7B53C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8D74-4506-4B58-98E6-54C4BDBE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E279-1D54-4610-986B-F1913742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6DCA-D3EB-49BD-BD6D-A28231ED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1B30-6DDA-4FEF-ABBA-96AA512C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CF8-2AF1-4A7A-ABF7-1F89447E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2AF9-DA1D-4281-96D9-0DA9DBAF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629A-C245-409C-8C12-0637B1E6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B1A3-BC45-47FD-AEDD-433717B5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C2EE-3F7E-44C0-BE35-C87B8ADE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4874-43ED-4214-9B08-9D844A11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623-A1F1-47C7-8877-C642C717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511-F25D-4CDD-A4EC-37A0114A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4AA-1B78-468D-8346-9E38A0F5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A8C-DC77-410A-AAC8-D6BA4D19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1FF-AFBB-4C94-A960-720F63F0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590-60A7-49C5-80A6-A7E347E0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503-01FB-440B-AD9F-A8409264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2E26-DE96-44DD-B119-8979DA9A2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6A73-6846-420E-B6F1-0C389FEC3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飛機.png"/>
          <p:cNvPicPr/>
          <p:nvPr/>
        </p:nvPicPr>
        <p:blipFill>
          <a:blip r:embed="rId2"/>
          <a:stretch/>
        </p:blipFill>
        <p:spPr>
          <a:xfrm>
            <a:off x="3786120" y="-785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12600" y="4046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世界因我更精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-2.02448 -1.58773 E">
                                      <p:cBhvr>
                                        <p:cTn id="6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56800" y="5071680"/>
            <a:ext cx="8286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地之间只在咫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Content Placeholder 5" descr=""/>
          <p:cNvPicPr/>
          <p:nvPr/>
        </p:nvPicPr>
        <p:blipFill>
          <a:blip r:embed="rId2"/>
          <a:stretch/>
        </p:blipFill>
        <p:spPr>
          <a:xfrm>
            <a:off x="500040" y="1633680"/>
            <a:ext cx="8259840" cy="1938240"/>
          </a:xfrm>
          <a:prstGeom prst="rect">
            <a:avLst/>
          </a:prstGeom>
          <a:ln w="0">
            <a:noFill/>
          </a:ln>
        </p:spPr>
      </p:pic>
      <p:sp>
        <p:nvSpPr>
          <p:cNvPr id="95" name="Content Placeholder 5"/>
          <p:cNvSpPr/>
          <p:nvPr/>
        </p:nvSpPr>
        <p:spPr>
          <a:xfrm>
            <a:off x="571680" y="1000080"/>
            <a:ext cx="8261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f68933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68933"/>
                </a:solidFill>
                <a:latin typeface="Arial"/>
              </a:rPr>
              <a:t>凡人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5" descr=""/>
          <p:cNvPicPr/>
          <p:nvPr/>
        </p:nvPicPr>
        <p:blipFill>
          <a:blip r:embed="rId3"/>
          <a:stretch/>
        </p:blipFill>
        <p:spPr>
          <a:xfrm>
            <a:off x="500040" y="1633680"/>
            <a:ext cx="8259840" cy="193824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5" descr=""/>
          <p:cNvPicPr/>
          <p:nvPr/>
        </p:nvPicPr>
        <p:blipFill>
          <a:blip r:embed="rId4"/>
          <a:stretch/>
        </p:blipFill>
        <p:spPr>
          <a:xfrm>
            <a:off x="500040" y="1633680"/>
            <a:ext cx="8259840" cy="193824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5" descr=""/>
          <p:cNvPicPr/>
          <p:nvPr/>
        </p:nvPicPr>
        <p:blipFill>
          <a:blip r:embed="rId5"/>
          <a:stretch/>
        </p:blipFill>
        <p:spPr>
          <a:xfrm>
            <a:off x="500040" y="1633680"/>
            <a:ext cx="82598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B6F-4000-48AA-81CA-954F50E057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成功尽在咫尺.png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矩形 2"/>
          <p:cNvSpPr/>
          <p:nvPr/>
        </p:nvSpPr>
        <p:spPr>
          <a:xfrm>
            <a:off x="785880" y="52149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宋体"/>
              </a:rPr>
              <a:t>成功盡在有準備的人們掌握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3" descr="飛鷹.png"/>
          <p:cNvPicPr/>
          <p:nvPr/>
        </p:nvPicPr>
        <p:blipFill>
          <a:blip r:embed="rId3"/>
          <a:stretch/>
        </p:blipFill>
        <p:spPr>
          <a:xfrm>
            <a:off x="8501040" y="10000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C -0.01597 -0.0037 -0.03247 -0.00902 -0.04722 -0.02152 C -0.05226 -0.02569 -0.0566 -0.03287 -0.06181 -0.03657 C -0.06459 -0.03819 -0.06736 -0.03796 -0.07014 -0.03935 C -0.07865 -0.04328 -0.08716 -0.05115 -0.09601 -0.05463 C -0.10365 -0.05787 -0.11111 -0.06041 -0.11875 -0.06365 C -0.1257 -0.07245 -0.1316 -0.07314 -0.13993 -0.07569 C -0.14132 -0.07685 -0.14306 -0.07754 -0.14462 -0.07893 C -0.14636 -0.08078 -0.14775 -0.08356 -0.14966 -0.08495 C -0.1625 -0.0949 -0.17795 -0.09884 -0.19184 -0.10277 C -0.20209 -0.10995 -0.22049 -0.11319 -0.22917 -0.1243 C -0.23472 -0.13125 -0.24184 -0.1368 -0.24861 -0.13912 C -0.26702 -0.1456 -0.28525 -0.14884 -0.30382 -0.15139 C -0.34323 -0.16481 -0.38559 -0.14953 -0.4257 -0.14537 C -0.43056 -0.13634 -0.43229 -0.12824 -0.43854 -0.1243 C -0.46216 -0.0956 -0.50052 -0.10254 -0.52639 -0.1 C -0.54827 -0.09259 -0.5382 -0.0956 -0.55556 -0.09074 C -0.57847 -0.07754 -0.63854 -0.09676 -0.66441 -0.1 C -0.67344 -0.11134 -0.68038 -0.11111 -0.69202 -0.11504 C -0.69705 -0.11666 -0.7066 -0.12106 -0.7066 -0.1206 C -0.71875 -0.13564 -0.74219 -0.14375 -0.75695 -0.14814 C -0.77413 -0.15949 -0.79167 -0.16852 -0.80903 -0.17847 C -0.81875 -0.19097 -0.82795 -0.19652 -0.83993 -0.19953 C -0.86285 -0.21481 -0.88368 -0.22685 -0.90799 -0.23287 C -0.99202 -0.22939 -1.07674 -0.22083 -1.16129 -0.22083 E">
                                      <p:cBhvr>
                                        <p:cTn id="47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Baron Wang</dc:creator>
  <dc:description/>
  <dc:language>en-US</dc:language>
  <cp:lastModifiedBy>jccook</cp:lastModifiedBy>
  <dcterms:modified xsi:type="dcterms:W3CDTF">2015-08-03T12:30:28Z</dcterms:modified>
  <cp:revision>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