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E06A-CA24-41C6-A7F8-E41A4EDF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F332-1A20-4044-9CFC-1133BE63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72D-57AA-48CD-9719-9413B8D0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2B3-0940-46F0-84F5-A559A194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3B8-D493-4E7F-97D2-BF35D770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A53-5704-49D1-88C6-C365E683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46A-5DFB-4022-968C-E9ED1ABA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0DA-6CB1-417C-A9F8-49389605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F9AB-511F-4222-9535-C96370F4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182-15CC-4CB2-98AB-FF65967D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2B0-A622-4030-B856-CA6467BC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DA81-04EF-4625-A5A7-82CB47CD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761F-AE5B-4AA1-9B34-8B98E3B68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8320" y="105264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尚炫酷个人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图片2"/>
          <p:cNvPicPr/>
          <p:nvPr/>
        </p:nvPicPr>
        <p:blipFill>
          <a:blip r:embed="rId1"/>
          <a:stretch/>
        </p:blipFill>
        <p:spPr>
          <a:xfrm>
            <a:off x="-255600" y="-431640"/>
            <a:ext cx="9656640" cy="7723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19280" y="5805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21708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4220-B733-42D6-833E-112CCEA5AE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7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6:03:10Z</dcterms:created>
  <dc:creator>番茄花园</dc:creator>
  <dc:description/>
  <dc:language>en-US</dc:language>
  <cp:lastModifiedBy>微软中国</cp:lastModifiedBy>
  <dcterms:modified xsi:type="dcterms:W3CDTF">2015-08-03T12:32:4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