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29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click.wav" ContentType="audio/x-wav"/>
  <Override PartName="/ppt/media/image4.jpeg" ContentType="image/jpeg"/>
  <Override PartName="/ppt/media/image25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media/image30.gif" ContentType="image/gif"/>
  <Override PartName="/ppt/media/image23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26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6AE-A9D9-402C-85DD-2F9149B4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CBD-DBFA-4242-B1AA-5ADD234F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A31-41EF-4749-8921-9A430273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B17-4DF5-4F63-B1F1-10410CBE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62A-CA8A-4E0B-8529-B367E84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45B-4E26-4CF2-ACB0-F4BF66F0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715-2E3C-4A30-8BCB-F7AF94E6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D1D-E79C-4254-9F54-CBD2DE5D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F9A-6C5D-4EAC-94A9-789080CB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7E2-15C7-4F7F-A8E4-42726DB0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1F9-437F-460B-A885-D75DB7B5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BF2-220D-4AB4-8AEF-D3B6F01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7BC3-09CE-4EC3-B1EF-F8D1560D38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0,5,&#32986;&#32974;&#24178;&#32454;&#32990;&#30340;&#27010;&#24565; " TargetMode="External"/><Relationship Id="rId3" Type="http://schemas.openxmlformats.org/officeDocument/2006/relationships/hyperlink" Target="260,5,&#32986;&#32974;&#24178;&#32454;&#32990;&#30340;&#27010;&#24565; " TargetMode="External"/><Relationship Id="rId4" Type="http://schemas.openxmlformats.org/officeDocument/2006/relationships/hyperlink" Target="260,5,&#32986;&#32974;&#24178;&#32454;&#32990;&#30340;&#27010;&#24565; " TargetMode="External"/><Relationship Id="rId5" Type="http://schemas.openxmlformats.org/officeDocument/2006/relationships/hyperlink" Target="260,5,&#32986;&#32974;&#24178;&#32454;&#32990;&#30340;&#27010;&#24565; " TargetMode="External"/><Relationship Id="rId6" Type="http://schemas.openxmlformats.org/officeDocument/2006/relationships/hyperlink" Target="260,5,&#32986;&#32974;&#24178;&#32454;&#32990;&#30340;&#27010;&#24565; " TargetMode="External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hyperlink" Target="http://www.eeppt.com" TargetMode="External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click.wav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file:///tmp/home/.config/libreoffice/4/user/gallery/click.wav" TargetMode="External"/><Relationship Id="rId5" Type="http://schemas.microsoft.com/office/2007/relationships/media" Target="file:///tmp/home/.config/libreoffice/4/user/gallery/click.wav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3,8,&#19968; &#12289;&#32925;&#30284;" TargetMode="External"/><Relationship Id="rId3" Type="http://schemas.openxmlformats.org/officeDocument/2006/relationships/hyperlink" Target="258,10,&#20108;&#12289;&#24178;&#32454;&#32990;&#30340;&#27010;&#24565; " TargetMode="External"/><Relationship Id="rId4" Type="http://schemas.openxmlformats.org/officeDocument/2006/relationships/hyperlink" Target="266,14,&#19977; &#12289;&#32925;&#24178;&#32454;&#32990; " TargetMode="External"/><Relationship Id="rId5" Type="http://schemas.openxmlformats.org/officeDocument/2006/relationships/hyperlink" Target="266,14,&#19977; &#12289;&#32925;&#24178;&#32454;&#32990; " TargetMode="External"/><Relationship Id="rId6" Type="http://schemas.openxmlformats.org/officeDocument/2006/relationships/hyperlink" Target="266,14,&#19977; &#12289;&#32925;&#24178;&#32454;&#32990; " TargetMode="External"/><Relationship Id="rId7" Type="http://schemas.openxmlformats.org/officeDocument/2006/relationships/hyperlink" Target="266,14,&#19977; &#12289;&#32925;&#24178;&#32454;&#32990; " TargetMode="External"/><Relationship Id="rId8" Type="http://schemas.openxmlformats.org/officeDocument/2006/relationships/hyperlink" Target="273,19,&#22235;&#12289; &#20262;&#29702;&#38382;&#39064;" TargetMode="External"/><Relationship Id="rId9" Type="http://schemas.openxmlformats.org/officeDocument/2006/relationships/hyperlink" Target="272,21,&#20116;&#12289; &#24212;&#29992;&#21069;&#26223;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080211152334749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83000" y="762120"/>
            <a:ext cx="54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物医药毕业论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干细胞的概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类具有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复制能力的多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细胞，在一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下，它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化成多种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14479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干细胞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stem cells,SC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Q背景"/>
          <p:cNvPicPr/>
          <p:nvPr/>
        </p:nvPicPr>
        <p:blipFill>
          <a:blip r:embed="rId2"/>
          <a:stretch/>
        </p:blipFill>
        <p:spPr>
          <a:xfrm>
            <a:off x="4495680" y="3809880"/>
            <a:ext cx="3733920" cy="258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Q背景01"/>
          <p:cNvPicPr/>
          <p:nvPr/>
        </p:nvPicPr>
        <p:blipFill>
          <a:blip r:embed="rId3"/>
          <a:stretch/>
        </p:blipFill>
        <p:spPr>
          <a:xfrm>
            <a:off x="5105520" y="1295280"/>
            <a:ext cx="236196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干细胞的分类方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228132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85800" y="479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潜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514600" y="137160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51460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417120" y="3276720"/>
            <a:ext cx="4549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2"/>
              </a:rPr>
              <a:t>胚胎干细胞（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黑体"/>
                <a:hlinkClick r:id="rId3"/>
              </a:rPr>
              <a:t>embryonic stem cell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4"/>
              </a:rPr>
              <a:t>，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黑体"/>
                <a:hlinkClick r:id="rId5"/>
              </a:rPr>
              <a:t>ES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6"/>
              </a:rPr>
              <a:t>细胞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334680" y="19051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成体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somatic stem cell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2590920" y="42670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258360" y="5715000"/>
            <a:ext cx="52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全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totipotent stem cell,TS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333240" y="4952880"/>
            <a:ext cx="47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多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lur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971800" y="4038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单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un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7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10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人类胚胎干细胞"/>
          <p:cNvPicPr/>
          <p:nvPr/>
        </p:nvPicPr>
        <p:blipFill>
          <a:blip r:embed="rId2"/>
          <a:stretch/>
        </p:blipFill>
        <p:spPr>
          <a:xfrm>
            <a:off x="3200400" y="190512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胚胎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从桑椹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细胞团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多潜能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限增殖、自我更新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向分化、分化为所有的细胞类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16292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人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胚胎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0"/>
          <p:cNvSpPr/>
          <p:nvPr/>
        </p:nvSpPr>
        <p:spPr>
          <a:xfrm rot="15456000">
            <a:off x="7200720" y="2323440"/>
            <a:ext cx="1219320" cy="1143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d7dbe"/>
              </a:gs>
              <a:gs pos="100000">
                <a:srgbClr val="333399"/>
              </a:gs>
            </a:gsLst>
            <a:lin ang="16944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-999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-499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90512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胚胎干细胞系的培育过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tup"/>
          <p:cNvPicPr/>
          <p:nvPr/>
        </p:nvPicPr>
        <p:blipFill>
          <a:blip r:embed="rId2"/>
          <a:stretch/>
        </p:blipFill>
        <p:spPr>
          <a:xfrm>
            <a:off x="990720" y="1295280"/>
            <a:ext cx="6933960" cy="517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20070626095306175"/>
          <p:cNvPicPr/>
          <p:nvPr/>
        </p:nvPicPr>
        <p:blipFill>
          <a:blip r:embed="rId3"/>
          <a:stretch/>
        </p:blipFill>
        <p:spPr>
          <a:xfrm>
            <a:off x="6172200" y="3048120"/>
            <a:ext cx="18288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Picture 22" descr="20070507152315731"/>
          <p:cNvPicPr/>
          <p:nvPr/>
        </p:nvPicPr>
        <p:blipFill>
          <a:blip r:embed="rId4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 、肝干细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arber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内可能具有分化潜力的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描述为卵圆细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38080" y="6491160"/>
            <a:ext cx="39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41148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近年来，人们发现肝干细胞移植对急慢性肝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疾病有明确的治疗作用，使之成为研究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此将对肝干细胞移植治疗肝病的研究进展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综述。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" y="327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 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Wils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Ledu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提出肝干细胞的概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肝干细胞的来源与分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3360" y="11430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828800" y="40384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514600" y="1600200"/>
            <a:ext cx="56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化的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管上皮细胞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438280" y="3962520"/>
            <a:ext cx="58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皮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间充质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1828800" y="16765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2" descr="27"/>
          <p:cNvPicPr/>
          <p:nvPr/>
        </p:nvPicPr>
        <p:blipFill>
          <a:blip r:embed="rId2"/>
          <a:stretch/>
        </p:blipFill>
        <p:spPr>
          <a:xfrm>
            <a:off x="4952880" y="1066680"/>
            <a:ext cx="2895840" cy="289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3" name="Picture 13" descr="03"/>
          <p:cNvPicPr/>
          <p:nvPr/>
        </p:nvPicPr>
        <p:blipFill>
          <a:blip r:embed="rId3"/>
          <a:stretch/>
        </p:blipFill>
        <p:spPr>
          <a:xfrm>
            <a:off x="5181480" y="3657600"/>
            <a:ext cx="297180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7" descr="20070612123547962"/>
          <p:cNvPicPr/>
          <p:nvPr/>
        </p:nvPicPr>
        <p:blipFill>
          <a:blip r:embed="rId2"/>
          <a:stretch/>
        </p:blipFill>
        <p:spPr>
          <a:xfrm>
            <a:off x="6019920" y="1219320"/>
            <a:ext cx="167616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5" name="Picture 66" descr="20070507152356836"/>
          <p:cNvPicPr/>
          <p:nvPr/>
        </p:nvPicPr>
        <p:blipFill>
          <a:blip r:embed="rId3"/>
          <a:stretch/>
        </p:blipFill>
        <p:spPr>
          <a:xfrm>
            <a:off x="1295280" y="1523880"/>
            <a:ext cx="1524240" cy="152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6" name="Picture 65" descr="20070609234944568"/>
          <p:cNvPicPr/>
          <p:nvPr/>
        </p:nvPicPr>
        <p:blipFill>
          <a:blip r:embed="rId4"/>
          <a:stretch/>
        </p:blipFill>
        <p:spPr>
          <a:xfrm>
            <a:off x="2438280" y="4191120"/>
            <a:ext cx="1219320" cy="121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7" name="Picture 64" descr="20070609235005324"/>
          <p:cNvPicPr/>
          <p:nvPr/>
        </p:nvPicPr>
        <p:blipFill>
          <a:blip r:embed="rId5"/>
          <a:stretch/>
        </p:blipFill>
        <p:spPr>
          <a:xfrm>
            <a:off x="6781680" y="5181480"/>
            <a:ext cx="1219320" cy="12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Document"/>
          <p:cNvSpPr/>
          <p:nvPr/>
        </p:nvSpPr>
        <p:spPr>
          <a:xfrm>
            <a:off x="457200" y="1219320"/>
            <a:ext cx="8077320" cy="5181480"/>
          </a:xfrm>
          <a:custGeom>
            <a:avLst/>
            <a:gdLst>
              <a:gd name="textAreaLeft" fmla="*/ 365040 w 8077320"/>
              <a:gd name="textAreaRight" fmla="*/ 7711920 w 8077320"/>
              <a:gd name="textAreaTop" fmla="*/ 196200 h 5181480"/>
              <a:gd name="textAreaBottom" fmla="*/ 3941280 h 5181480"/>
            </a:gdLst>
            <a:ahLst/>
            <a:rect l="textAreaLeft" t="textAreaTop" r="textAreaRight" b="textAreaBottom"/>
            <a:pathLst>
              <a:path w="21706" h="21632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706" h="21632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907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</a:rPr>
              <a:t>筛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ES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源性肝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800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荧光示踪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标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334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植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鼠肝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438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5410080" y="5486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进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09480" y="4419720"/>
            <a:ext cx="609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荧光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免疫组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检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清白蛋白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4114800" y="21337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09480" y="13716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00"/>
                </a:solidFill>
                <a:uFillTx/>
                <a:latin typeface="Arial"/>
              </a:rPr>
              <a:t>实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9"/>
          <p:cNvSpPr/>
          <p:nvPr/>
        </p:nvSpPr>
        <p:spPr>
          <a:xfrm>
            <a:off x="6324480" y="2514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0"/>
          <p:cNvSpPr/>
          <p:nvPr/>
        </p:nvSpPr>
        <p:spPr>
          <a:xfrm>
            <a:off x="4495680" y="3429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e6d7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2"/>
          <p:cNvSpPr/>
          <p:nvPr/>
        </p:nvSpPr>
        <p:spPr>
          <a:xfrm flipH="1" flipV="1">
            <a:off x="1904400" y="3351960"/>
            <a:ext cx="609480" cy="1143000"/>
          </a:xfrm>
          <a:custGeom>
            <a:avLst/>
            <a:gdLst>
              <a:gd name="textAreaLeft" fmla="*/ 0 w 609480"/>
              <a:gd name="textAreaRight" fmla="*/ 522360 w 609480"/>
              <a:gd name="textAreaTop" fmla="*/ 76212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5a49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3"/>
          <p:cNvSpPr/>
          <p:nvPr/>
        </p:nvSpPr>
        <p:spPr>
          <a:xfrm flipV="1">
            <a:off x="6172200" y="4495680"/>
            <a:ext cx="609480" cy="990720"/>
          </a:xfrm>
          <a:custGeom>
            <a:avLst/>
            <a:gdLst>
              <a:gd name="textAreaLeft" fmla="*/ 0 w 609480"/>
              <a:gd name="textAreaRight" fmla="*/ 522360 w 60948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3d5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838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7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828800" y="5029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457200" y="2895480"/>
            <a:ext cx="2638080" cy="3809880"/>
            <a:chOff x="457200" y="2895480"/>
            <a:chExt cx="2638080" cy="3809880"/>
          </a:xfrm>
        </p:grpSpPr>
        <p:sp>
          <p:nvSpPr>
            <p:cNvPr id="146" name="AutoShape 5"/>
            <p:cNvSpPr/>
            <p:nvPr/>
          </p:nvSpPr>
          <p:spPr>
            <a:xfrm>
              <a:off x="457200" y="3265920"/>
              <a:ext cx="2638080" cy="3439440"/>
            </a:xfrm>
            <a:custGeom>
              <a:avLst/>
              <a:gdLst>
                <a:gd name="textAreaLeft" fmla="*/ 135000 w 2638080"/>
                <a:gd name="textAreaRight" fmla="*/ 2503080 w 2638080"/>
                <a:gd name="textAreaTop" fmla="*/ 135000 h 3439440"/>
                <a:gd name="textAreaBottom" fmla="*/ 3304440 h 3439440"/>
              </a:gdLst>
              <a:ahLst/>
              <a:rect l="textAreaLeft" t="textAreaTop" r="textAreaRight" b="textAreaBottom"/>
              <a:pathLst>
                <a:path w="21600" h="28160">
                  <a:moveTo>
                    <a:pt x="3782" y="0"/>
                  </a:moveTo>
                  <a:arcTo wR="3782" hR="3782" stAng="16200000" swAng="-5400000"/>
                  <a:lnTo>
                    <a:pt x="0" y="24378"/>
                  </a:lnTo>
                  <a:arcTo wR="3782" hR="3782" stAng="10800000" swAng="-5400000"/>
                  <a:lnTo>
                    <a:pt x="17818" y="2816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1f4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497880" y="3275640"/>
              <a:ext cx="2558880" cy="3373920"/>
            </a:xfrm>
            <a:custGeom>
              <a:avLst/>
              <a:gdLst>
                <a:gd name="textAreaLeft" fmla="*/ 124920 w 2558880"/>
                <a:gd name="textAreaRight" fmla="*/ 2433960 w 2558880"/>
                <a:gd name="textAreaTop" fmla="*/ 124920 h 3373920"/>
                <a:gd name="textAreaBottom" fmla="*/ 3249000 h 3373920"/>
              </a:gdLst>
              <a:ahLst/>
              <a:rect l="textAreaLeft" t="textAreaTop" r="textAreaRight" b="textAreaBottom"/>
              <a:pathLst>
                <a:path w="21600" h="28479">
                  <a:moveTo>
                    <a:pt x="3600" y="0"/>
                  </a:moveTo>
                  <a:arcTo wR="3600" hR="3600" stAng="16200000" swAng="-5400000"/>
                  <a:lnTo>
                    <a:pt x="0" y="24879"/>
                  </a:lnTo>
                  <a:arcTo wR="3600" hR="3600" stAng="10800000" swAng="-5400000"/>
                  <a:lnTo>
                    <a:pt x="18000" y="28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  <a:effectLst>
              <a:outerShdw dist="17819" dir="2700000" blurRad="0" rotWithShape="0">
                <a:srgbClr val="2461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518760" y="5759640"/>
              <a:ext cx="2523960" cy="85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8"/>
            <p:cNvSpPr/>
            <p:nvPr/>
          </p:nvSpPr>
          <p:spPr>
            <a:xfrm>
              <a:off x="518760" y="3302280"/>
              <a:ext cx="2523960" cy="85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9"/>
            <p:cNvGrpSpPr/>
            <p:nvPr/>
          </p:nvGrpSpPr>
          <p:grpSpPr>
            <a:xfrm>
              <a:off x="1364760" y="2895480"/>
              <a:ext cx="783720" cy="773640"/>
              <a:chOff x="1364760" y="2895480"/>
              <a:chExt cx="783720" cy="7736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1364760" y="2895480"/>
                <a:ext cx="783720" cy="77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1f1f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1372680" y="2901240"/>
                <a:ext cx="757800" cy="749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2"/>
              <p:cNvSpPr/>
              <p:nvPr/>
            </p:nvSpPr>
            <p:spPr>
              <a:xfrm>
                <a:off x="1382040" y="2905920"/>
                <a:ext cx="740160" cy="73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3"/>
              <p:cNvSpPr/>
              <p:nvPr/>
            </p:nvSpPr>
            <p:spPr>
              <a:xfrm>
                <a:off x="1390320" y="2912760"/>
                <a:ext cx="703800" cy="681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4"/>
              <p:cNvSpPr/>
              <p:nvPr/>
            </p:nvSpPr>
            <p:spPr>
              <a:xfrm>
                <a:off x="1431360" y="2931120"/>
                <a:ext cx="625320" cy="55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15"/>
            <p:cNvSpPr/>
            <p:nvPr/>
          </p:nvSpPr>
          <p:spPr>
            <a:xfrm>
              <a:off x="1349640" y="3076920"/>
              <a:ext cx="797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结果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550080" y="3812760"/>
              <a:ext cx="250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肝实质内见散在绿色荧光分布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绿色荧光分布区域明显扩大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见类似肝索样结构排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"/>
          <p:cNvGrpSpPr/>
          <p:nvPr/>
        </p:nvGrpSpPr>
        <p:grpSpPr>
          <a:xfrm>
            <a:off x="5791320" y="990720"/>
            <a:ext cx="2631600" cy="3850920"/>
            <a:chOff x="5791320" y="990720"/>
            <a:chExt cx="2631600" cy="3850920"/>
          </a:xfrm>
        </p:grpSpPr>
        <p:sp>
          <p:nvSpPr>
            <p:cNvPr id="159" name="AutoShape 18"/>
            <p:cNvSpPr/>
            <p:nvPr/>
          </p:nvSpPr>
          <p:spPr>
            <a:xfrm>
              <a:off x="5791320" y="1365120"/>
              <a:ext cx="2631600" cy="3476520"/>
            </a:xfrm>
            <a:custGeom>
              <a:avLst/>
              <a:gdLst>
                <a:gd name="textAreaLeft" fmla="*/ 134640 w 2631600"/>
                <a:gd name="textAreaRight" fmla="*/ 2496960 w 2631600"/>
                <a:gd name="textAreaTop" fmla="*/ 134640 h 3476520"/>
                <a:gd name="textAreaBottom" fmla="*/ 3341880 h 3476520"/>
              </a:gdLst>
              <a:ahLst/>
              <a:rect l="textAreaLeft" t="textAreaTop" r="textAreaRight" b="textAreaBottom"/>
              <a:pathLst>
                <a:path w="21600" h="28534">
                  <a:moveTo>
                    <a:pt x="3782" y="0"/>
                  </a:moveTo>
                  <a:arcTo wR="3782" hR="3782" stAng="16200000" swAng="-5400000"/>
                  <a:lnTo>
                    <a:pt x="0" y="24752"/>
                  </a:lnTo>
                  <a:arcTo wR="3782" hR="3782" stAng="10800000" swAng="-5400000"/>
                  <a:lnTo>
                    <a:pt x="17818" y="2853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9"/>
            <p:cNvSpPr/>
            <p:nvPr/>
          </p:nvSpPr>
          <p:spPr>
            <a:xfrm>
              <a:off x="5832000" y="1375200"/>
              <a:ext cx="2552400" cy="3410280"/>
            </a:xfrm>
            <a:custGeom>
              <a:avLst/>
              <a:gdLst>
                <a:gd name="textAreaLeft" fmla="*/ 124560 w 2552400"/>
                <a:gd name="textAreaRight" fmla="*/ 2427840 w 2552400"/>
                <a:gd name="textAreaTop" fmla="*/ 124560 h 3410280"/>
                <a:gd name="textAreaBottom" fmla="*/ 3285720 h 3410280"/>
              </a:gdLst>
              <a:ahLst/>
              <a:rect l="textAreaLeft" t="textAreaTop" r="textAreaRight" b="textAreaBottom"/>
              <a:pathLst>
                <a:path w="21600" h="28859">
                  <a:moveTo>
                    <a:pt x="3600" y="0"/>
                  </a:moveTo>
                  <a:arcTo wR="3600" hR="3600" stAng="16200000" swAng="-5400000"/>
                  <a:lnTo>
                    <a:pt x="0" y="25259"/>
                  </a:lnTo>
                  <a:arcTo wR="3600" hR="3600" stAng="10800000" swAng="-5400000"/>
                  <a:lnTo>
                    <a:pt x="18000" y="28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0"/>
            <p:cNvSpPr/>
            <p:nvPr/>
          </p:nvSpPr>
          <p:spPr>
            <a:xfrm>
              <a:off x="5852880" y="3885480"/>
              <a:ext cx="2517840" cy="86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1"/>
            <p:cNvSpPr/>
            <p:nvPr/>
          </p:nvSpPr>
          <p:spPr>
            <a:xfrm>
              <a:off x="5852880" y="1401840"/>
              <a:ext cx="2517840" cy="86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22"/>
            <p:cNvGrpSpPr/>
            <p:nvPr/>
          </p:nvGrpSpPr>
          <p:grpSpPr>
            <a:xfrm>
              <a:off x="6696720" y="990720"/>
              <a:ext cx="781920" cy="781920"/>
              <a:chOff x="6696720" y="990720"/>
              <a:chExt cx="781920" cy="781920"/>
            </a:xfrm>
          </p:grpSpPr>
          <p:sp>
            <p:nvSpPr>
              <p:cNvPr id="164" name="Oval 23"/>
              <p:cNvSpPr/>
              <p:nvPr/>
            </p:nvSpPr>
            <p:spPr>
              <a:xfrm>
                <a:off x="6696720" y="990720"/>
                <a:ext cx="781920" cy="781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4"/>
              <p:cNvSpPr/>
              <p:nvPr/>
            </p:nvSpPr>
            <p:spPr>
              <a:xfrm>
                <a:off x="6704640" y="996480"/>
                <a:ext cx="756000" cy="757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6714000" y="1001160"/>
                <a:ext cx="738720" cy="738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6"/>
              <p:cNvSpPr/>
              <p:nvPr/>
            </p:nvSpPr>
            <p:spPr>
              <a:xfrm>
                <a:off x="6722280" y="1008000"/>
                <a:ext cx="702360" cy="689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7"/>
              <p:cNvSpPr/>
              <p:nvPr/>
            </p:nvSpPr>
            <p:spPr>
              <a:xfrm>
                <a:off x="6763320" y="1027080"/>
                <a:ext cx="623880" cy="56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28"/>
            <p:cNvSpPr/>
            <p:nvPr/>
          </p:nvSpPr>
          <p:spPr>
            <a:xfrm>
              <a:off x="6837120" y="1133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Arial"/>
                </a:rPr>
                <a:t>结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5883840" y="1917720"/>
              <a:ext cx="2502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移植细胞可有效整合入宿主肝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其安全性较好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3124080" y="1981080"/>
            <a:ext cx="2630160" cy="3777840"/>
            <a:chOff x="3124080" y="1981080"/>
            <a:chExt cx="2630160" cy="3777840"/>
          </a:xfrm>
        </p:grpSpPr>
        <p:sp>
          <p:nvSpPr>
            <p:cNvPr id="172" name="AutoShape 31"/>
            <p:cNvSpPr/>
            <p:nvPr/>
          </p:nvSpPr>
          <p:spPr>
            <a:xfrm>
              <a:off x="3124080" y="2348280"/>
              <a:ext cx="2630160" cy="3410640"/>
            </a:xfrm>
            <a:custGeom>
              <a:avLst/>
              <a:gdLst>
                <a:gd name="textAreaLeft" fmla="*/ 134640 w 2630160"/>
                <a:gd name="textAreaRight" fmla="*/ 2495520 w 2630160"/>
                <a:gd name="textAreaTop" fmla="*/ 134640 h 3410640"/>
                <a:gd name="textAreaBottom" fmla="*/ 3276000 h 3410640"/>
              </a:gdLst>
              <a:ahLst/>
              <a:rect l="textAreaLeft" t="textAreaTop" r="textAreaRight" b="textAreaBottom"/>
              <a:pathLst>
                <a:path w="21600" h="28009">
                  <a:moveTo>
                    <a:pt x="3782" y="0"/>
                  </a:moveTo>
                  <a:arcTo wR="3782" hR="3782" stAng="16200000" swAng="-5400000"/>
                  <a:lnTo>
                    <a:pt x="0" y="24227"/>
                  </a:lnTo>
                  <a:arcTo wR="3782" hR="3782" stAng="10800000" swAng="-5400000"/>
                  <a:lnTo>
                    <a:pt x="17818" y="2800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2"/>
            <p:cNvSpPr/>
            <p:nvPr/>
          </p:nvSpPr>
          <p:spPr>
            <a:xfrm>
              <a:off x="3164760" y="2358000"/>
              <a:ext cx="2550960" cy="3345840"/>
            </a:xfrm>
            <a:custGeom>
              <a:avLst/>
              <a:gdLst>
                <a:gd name="textAreaLeft" fmla="*/ 124200 w 2550960"/>
                <a:gd name="textAreaRight" fmla="*/ 2426760 w 2550960"/>
                <a:gd name="textAreaTop" fmla="*/ 124200 h 3345840"/>
                <a:gd name="textAreaBottom" fmla="*/ 3221640 h 3345840"/>
              </a:gdLst>
              <a:ahLst/>
              <a:rect l="textAreaLeft" t="textAreaTop" r="textAreaRight" b="textAreaBottom"/>
              <a:pathLst>
                <a:path w="21600" h="28330">
                  <a:moveTo>
                    <a:pt x="3600" y="0"/>
                  </a:moveTo>
                  <a:arcTo wR="3600" hR="3600" stAng="16200000" swAng="-5400000"/>
                  <a:lnTo>
                    <a:pt x="0" y="24730"/>
                  </a:lnTo>
                  <a:arcTo wR="3600" hR="3600" stAng="10800000" swAng="-5400000"/>
                  <a:lnTo>
                    <a:pt x="18000" y="28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3"/>
            <p:cNvSpPr/>
            <p:nvPr/>
          </p:nvSpPr>
          <p:spPr>
            <a:xfrm>
              <a:off x="3185640" y="4821120"/>
              <a:ext cx="251640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4"/>
            <p:cNvSpPr/>
            <p:nvPr/>
          </p:nvSpPr>
          <p:spPr>
            <a:xfrm>
              <a:off x="3185640" y="2384280"/>
              <a:ext cx="2516400" cy="84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4029120" y="1981080"/>
              <a:ext cx="781560" cy="767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4037040" y="1986480"/>
              <a:ext cx="756000" cy="74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4046400" y="1990440"/>
              <a:ext cx="739080" cy="725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4053960" y="1998000"/>
              <a:ext cx="702720" cy="676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4096800" y="2017080"/>
              <a:ext cx="62316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0"/>
            <p:cNvSpPr/>
            <p:nvPr/>
          </p:nvSpPr>
          <p:spPr>
            <a:xfrm>
              <a:off x="4137480" y="2132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</a:rPr>
                <a:t>表明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1"/>
            <p:cNvSpPr/>
            <p:nvPr/>
          </p:nvSpPr>
          <p:spPr>
            <a:xfrm>
              <a:off x="3216600" y="2890440"/>
              <a:ext cx="250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受体小鼠细胞表达白蛋白阳性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(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8"/>
          <p:cNvSpPr/>
          <p:nvPr/>
        </p:nvSpPr>
        <p:spPr>
          <a:xfrm>
            <a:off x="5867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在肝内能进一步生长分化并部分表达肝细胞功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源受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外培养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受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发现肝干细胞特异性标志物和相应的检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干细胞用于各种肝病及肝脏相关性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的治疗受到限制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20070507152315731"/>
          <p:cNvPicPr/>
          <p:nvPr/>
        </p:nvPicPr>
        <p:blipFill>
          <a:blip r:embed="rId2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35"/>
          <p:cNvPicPr/>
          <p:nvPr/>
        </p:nvPicPr>
        <p:blipFill>
          <a:blip r:embed="rId3"/>
          <a:stretch/>
        </p:blipFill>
        <p:spPr>
          <a:xfrm>
            <a:off x="5105520" y="1523880"/>
            <a:ext cx="20574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4" descr="20070609235748300"/>
          <p:cNvPicPr/>
          <p:nvPr/>
        </p:nvPicPr>
        <p:blipFill>
          <a:blip r:embed="rId2"/>
          <a:stretch/>
        </p:blipFill>
        <p:spPr>
          <a:xfrm>
            <a:off x="2057400" y="4952880"/>
            <a:ext cx="19051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9" name="Picture 10" descr="20070507152335942"/>
          <p:cNvPicPr/>
          <p:nvPr/>
        </p:nvPicPr>
        <p:blipFill>
          <a:blip r:embed="rId3"/>
          <a:stretch/>
        </p:blipFill>
        <p:spPr>
          <a:xfrm>
            <a:off x="6248520" y="1295280"/>
            <a:ext cx="243828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492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 伦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获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而杀死人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邪恶的手段提供了正当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自自愿终止妊娠的孕妇的干细胞该如何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来自自发或事故流产胚胎的细胞是否恰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体外受精人胚中获得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能否发育成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是否合乎法律及道德，应用是否会引起伦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方正姚体"/>
                <a:ea typeface="方正姚体"/>
              </a:rPr>
              <a:t>     </a:t>
            </a:r>
            <a:r>
              <a:rPr b="1" lang="zh-CN" sz="2000" spc="-1" strike="noStrike">
                <a:solidFill>
                  <a:srgbClr val="cc0066"/>
                </a:solidFill>
                <a:latin typeface="方正姚体"/>
                <a:ea typeface="方正姚体"/>
              </a:rPr>
              <a:t>人胚是从人胚中收集胚胎干细胞是不道德的，因为人的生命没有得到珍重，人的胚胎也是生命的一种形式，无论目的如何高尚，破坏不可想象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cc0066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 rot="20519400">
            <a:off x="1752480" y="1143000"/>
            <a:ext cx="10670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？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28600" y="5867280"/>
            <a:ext cx="9601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家们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并没有杀死细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只是改变了其命运，因而是道德的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"/>
          <p:cNvSpPr txBox="1"/>
          <p:nvPr/>
        </p:nvSpPr>
        <p:spPr>
          <a:xfrm rot="21121800">
            <a:off x="228600" y="51814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支持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5" name="WordArt 7"/>
          <p:cNvSpPr txBox="1"/>
          <p:nvPr/>
        </p:nvSpPr>
        <p:spPr>
          <a:xfrm rot="598800">
            <a:off x="533520" y="1143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困惑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6" name="WordArt 8"/>
          <p:cNvSpPr txBox="1"/>
          <p:nvPr/>
        </p:nvSpPr>
        <p:spPr>
          <a:xfrm>
            <a:off x="1676520" y="4952880"/>
            <a:ext cx="304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的应用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发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762120" y="41148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胚胎干细胞在肝癌中的应用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20070609235908139"/>
          <p:cNvPicPr/>
          <p:nvPr/>
        </p:nvPicPr>
        <p:blipFill>
          <a:blip r:embed="rId2"/>
          <a:stretch/>
        </p:blipFill>
        <p:spPr>
          <a:xfrm rot="21045000">
            <a:off x="6314760" y="4686120"/>
            <a:ext cx="2438280" cy="255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伦理问题的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宣布允许运用联邦资金进行胚胎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研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联邦议院宣布准许胚胎干细胞用于科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的相关法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⑶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科学家发现了分化潜力与胚胎干细胞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干细胞  的消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⑷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科学家宣布利用成人骨髓培育出了可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为神经细胞的干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5"/>
          <p:cNvGrpSpPr/>
          <p:nvPr/>
        </p:nvGrpSpPr>
        <p:grpSpPr>
          <a:xfrm>
            <a:off x="1447920" y="1143000"/>
            <a:ext cx="4342680" cy="5180040"/>
            <a:chOff x="1447920" y="1143000"/>
            <a:chExt cx="4342680" cy="5180040"/>
          </a:xfrm>
        </p:grpSpPr>
        <p:grpSp>
          <p:nvGrpSpPr>
            <p:cNvPr id="201" name="Group 6"/>
            <p:cNvGrpSpPr/>
            <p:nvPr/>
          </p:nvGrpSpPr>
          <p:grpSpPr>
            <a:xfrm>
              <a:off x="1447920" y="1557720"/>
              <a:ext cx="4342680" cy="4765320"/>
              <a:chOff x="1447920" y="1557720"/>
              <a:chExt cx="4342680" cy="4765320"/>
            </a:xfrm>
          </p:grpSpPr>
          <p:sp>
            <p:nvSpPr>
              <p:cNvPr id="202" name="AutoShape 7"/>
              <p:cNvSpPr/>
              <p:nvPr/>
            </p:nvSpPr>
            <p:spPr>
              <a:xfrm>
                <a:off x="1496880" y="1557720"/>
                <a:ext cx="4244400" cy="674640"/>
              </a:xfrm>
              <a:prstGeom prst="roundRect">
                <a:avLst>
                  <a:gd name="adj" fmla="val 50000"/>
                </a:avLst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8"/>
              <p:cNvSpPr/>
              <p:nvPr/>
            </p:nvSpPr>
            <p:spPr>
              <a:xfrm>
                <a:off x="1447920" y="1599480"/>
                <a:ext cx="4342680" cy="4723560"/>
              </a:xfrm>
              <a:custGeom>
                <a:avLst/>
                <a:gdLst>
                  <a:gd name="textAreaLeft" fmla="*/ 90720 w 4342680"/>
                  <a:gd name="textAreaRight" fmla="*/ 4251960 w 4342680"/>
                  <a:gd name="textAreaTop" fmla="*/ 90720 h 4723560"/>
                  <a:gd name="textAreaBottom" fmla="*/ 4632840 h 4723560"/>
                </a:gdLst>
                <a:ahLst/>
                <a:rect l="textAreaLeft" t="textAreaTop" r="textAreaRight" b="textAreaBottom"/>
                <a:pathLst>
                  <a:path w="21600" h="23494">
                    <a:moveTo>
                      <a:pt x="1543" y="0"/>
                    </a:moveTo>
                    <a:arcTo wR="1543" hR="1543" stAng="16200000" swAng="-5400000"/>
                    <a:lnTo>
                      <a:pt x="0" y="21951"/>
                    </a:lnTo>
                    <a:arcTo wR="1543" hR="1543" stAng="10800000" swAng="-5400000"/>
                    <a:lnTo>
                      <a:pt x="20057" y="23494"/>
                    </a:lnTo>
                    <a:arcTo wR="1543" hR="1543" stAng="5400000" swAng="-5400000"/>
                    <a:lnTo>
                      <a:pt x="21600" y="1543"/>
                    </a:lnTo>
                    <a:arcTo wR="1543" hR="1543" stAng="0" swAng="-5400000"/>
                    <a:close/>
                  </a:path>
                </a:pathLst>
              </a:custGeom>
              <a:solidFill>
                <a:srgbClr val="ffcc99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9"/>
              <p:cNvGrpSpPr/>
              <p:nvPr/>
            </p:nvGrpSpPr>
            <p:grpSpPr>
              <a:xfrm>
                <a:off x="2530800" y="1723680"/>
                <a:ext cx="2173320" cy="170640"/>
                <a:chOff x="2530800" y="1723680"/>
                <a:chExt cx="2173320" cy="170640"/>
              </a:xfrm>
            </p:grpSpPr>
            <p:sp>
              <p:nvSpPr>
                <p:cNvPr id="205" name="Freeform 10"/>
                <p:cNvSpPr/>
                <p:nvPr/>
              </p:nvSpPr>
              <p:spPr>
                <a:xfrm>
                  <a:off x="41094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0" y="0"/>
                      </a:moveTo>
                      <a:lnTo>
                        <a:pt x="22" y="2"/>
                      </a:lnTo>
                      <a:lnTo>
                        <a:pt x="42" y="5"/>
                      </a:lnTo>
                      <a:lnTo>
                        <a:pt x="62" y="7"/>
                      </a:lnTo>
                      <a:lnTo>
                        <a:pt x="80" y="10"/>
                      </a:lnTo>
                      <a:lnTo>
                        <a:pt x="97" y="12"/>
                      </a:lnTo>
                      <a:lnTo>
                        <a:pt x="112" y="15"/>
                      </a:lnTo>
                      <a:lnTo>
                        <a:pt x="126" y="17"/>
                      </a:lnTo>
                      <a:lnTo>
                        <a:pt x="140" y="20"/>
                      </a:lnTo>
                      <a:lnTo>
                        <a:pt x="151" y="23"/>
                      </a:lnTo>
                      <a:lnTo>
                        <a:pt x="162" y="26"/>
                      </a:lnTo>
                      <a:lnTo>
                        <a:pt x="171" y="29"/>
                      </a:lnTo>
                      <a:lnTo>
                        <a:pt x="179" y="32"/>
                      </a:lnTo>
                      <a:lnTo>
                        <a:pt x="186" y="35"/>
                      </a:lnTo>
                      <a:lnTo>
                        <a:pt x="191" y="38"/>
                      </a:lnTo>
                      <a:lnTo>
                        <a:pt x="195" y="42"/>
                      </a:lnTo>
                      <a:lnTo>
                        <a:pt x="198" y="45"/>
                      </a:lnTo>
                      <a:lnTo>
                        <a:pt x="200" y="48"/>
                      </a:lnTo>
                      <a:lnTo>
                        <a:pt x="202" y="51"/>
                      </a:lnTo>
                      <a:lnTo>
                        <a:pt x="204" y="54"/>
                      </a:lnTo>
                      <a:lnTo>
                        <a:pt x="206" y="57"/>
                      </a:lnTo>
                      <a:lnTo>
                        <a:pt x="207" y="59"/>
                      </a:lnTo>
                      <a:lnTo>
                        <a:pt x="209" y="61"/>
                      </a:lnTo>
                      <a:lnTo>
                        <a:pt x="210" y="63"/>
                      </a:lnTo>
                      <a:lnTo>
                        <a:pt x="211" y="65"/>
                      </a:lnTo>
                      <a:lnTo>
                        <a:pt x="213" y="67"/>
                      </a:lnTo>
                      <a:lnTo>
                        <a:pt x="213" y="68"/>
                      </a:lnTo>
                      <a:lnTo>
                        <a:pt x="214" y="69"/>
                      </a:lnTo>
                      <a:lnTo>
                        <a:pt x="215" y="70"/>
                      </a:lnTo>
                      <a:lnTo>
                        <a:pt x="215" y="71"/>
                      </a:lnTo>
                      <a:lnTo>
                        <a:pt x="216" y="72"/>
                      </a:lnTo>
                      <a:lnTo>
                        <a:pt x="214" y="72"/>
                      </a:lnTo>
                      <a:lnTo>
                        <a:pt x="212" y="72"/>
                      </a:lnTo>
                      <a:lnTo>
                        <a:pt x="209" y="72"/>
                      </a:lnTo>
                      <a:lnTo>
                        <a:pt x="205" y="72"/>
                      </a:lnTo>
                      <a:lnTo>
                        <a:pt x="201" y="72"/>
                      </a:lnTo>
                      <a:lnTo>
                        <a:pt x="195" y="72"/>
                      </a:lnTo>
                      <a:lnTo>
                        <a:pt x="189" y="72"/>
                      </a:lnTo>
                      <a:lnTo>
                        <a:pt x="182" y="72"/>
                      </a:lnTo>
                      <a:lnTo>
                        <a:pt x="174" y="72"/>
                      </a:lnTo>
                      <a:lnTo>
                        <a:pt x="165" y="72"/>
                      </a:lnTo>
                      <a:lnTo>
                        <a:pt x="155" y="72"/>
                      </a:lnTo>
                      <a:lnTo>
                        <a:pt x="145" y="72"/>
                      </a:lnTo>
                      <a:lnTo>
                        <a:pt x="133" y="72"/>
                      </a:lnTo>
                      <a:lnTo>
                        <a:pt x="121" y="72"/>
                      </a:lnTo>
                      <a:lnTo>
                        <a:pt x="108" y="72"/>
                      </a:lnTo>
                      <a:lnTo>
                        <a:pt x="95" y="72"/>
                      </a:lnTo>
                      <a:lnTo>
                        <a:pt x="83" y="72"/>
                      </a:lnTo>
                      <a:lnTo>
                        <a:pt x="71" y="72"/>
                      </a:lnTo>
                      <a:lnTo>
                        <a:pt x="61" y="72"/>
                      </a:lnTo>
                      <a:lnTo>
                        <a:pt x="51" y="72"/>
                      </a:lnTo>
                      <a:lnTo>
                        <a:pt x="42" y="72"/>
                      </a:lnTo>
                      <a:lnTo>
                        <a:pt x="34" y="72"/>
                      </a:lnTo>
                      <a:lnTo>
                        <a:pt x="27" y="72"/>
                      </a:lnTo>
                      <a:lnTo>
                        <a:pt x="21" y="72"/>
                      </a:lnTo>
                      <a:lnTo>
                        <a:pt x="15" y="72"/>
                      </a:lnTo>
                      <a:lnTo>
                        <a:pt x="11" y="72"/>
                      </a:lnTo>
                      <a:lnTo>
                        <a:pt x="7" y="72"/>
                      </a:lnTo>
                      <a:lnTo>
                        <a:pt x="4" y="72"/>
                      </a:lnTo>
                      <a:lnTo>
                        <a:pt x="2" y="72"/>
                      </a:lnTo>
                      <a:lnTo>
                        <a:pt x="0" y="72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1"/>
                <p:cNvSpPr/>
                <p:nvPr/>
              </p:nvSpPr>
              <p:spPr>
                <a:xfrm>
                  <a:off x="25308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216" y="0"/>
                      </a:moveTo>
                      <a:lnTo>
                        <a:pt x="194" y="2"/>
                      </a:lnTo>
                      <a:lnTo>
                        <a:pt x="174" y="5"/>
                      </a:lnTo>
                      <a:lnTo>
                        <a:pt x="154" y="7"/>
                      </a:lnTo>
                      <a:lnTo>
                        <a:pt x="136" y="10"/>
                      </a:lnTo>
                      <a:lnTo>
                        <a:pt x="119" y="12"/>
                      </a:lnTo>
                      <a:lnTo>
                        <a:pt x="104" y="15"/>
                      </a:lnTo>
                      <a:lnTo>
                        <a:pt x="90" y="17"/>
                      </a:lnTo>
                      <a:lnTo>
                        <a:pt x="77" y="20"/>
                      </a:lnTo>
                      <a:lnTo>
                        <a:pt x="65" y="23"/>
                      </a:lnTo>
                      <a:lnTo>
                        <a:pt x="54" y="26"/>
                      </a:lnTo>
                      <a:lnTo>
                        <a:pt x="45" y="29"/>
                      </a:lnTo>
                      <a:lnTo>
                        <a:pt x="37" y="32"/>
                      </a:lnTo>
                      <a:lnTo>
                        <a:pt x="30" y="35"/>
                      </a:lnTo>
                      <a:lnTo>
                        <a:pt x="25" y="38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6" y="48"/>
                      </a:lnTo>
                      <a:lnTo>
                        <a:pt x="14" y="51"/>
                      </a:lnTo>
                      <a:lnTo>
                        <a:pt x="12" y="54"/>
                      </a:lnTo>
                      <a:lnTo>
                        <a:pt x="10" y="57"/>
                      </a:lnTo>
                      <a:lnTo>
                        <a:pt x="9" y="59"/>
                      </a:lnTo>
                      <a:lnTo>
                        <a:pt x="7" y="61"/>
                      </a:lnTo>
                      <a:lnTo>
                        <a:pt x="6" y="63"/>
                      </a:lnTo>
                      <a:lnTo>
                        <a:pt x="5" y="65"/>
                      </a:lnTo>
                      <a:lnTo>
                        <a:pt x="3" y="67"/>
                      </a:lnTo>
                      <a:lnTo>
                        <a:pt x="3" y="68"/>
                      </a:lnTo>
                      <a:lnTo>
                        <a:pt x="2" y="69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4" y="72"/>
                      </a:lnTo>
                      <a:lnTo>
                        <a:pt x="7" y="72"/>
                      </a:lnTo>
                      <a:lnTo>
                        <a:pt x="11" y="72"/>
                      </a:lnTo>
                      <a:lnTo>
                        <a:pt x="15" y="72"/>
                      </a:lnTo>
                      <a:lnTo>
                        <a:pt x="21" y="72"/>
                      </a:lnTo>
                      <a:lnTo>
                        <a:pt x="27" y="72"/>
                      </a:lnTo>
                      <a:lnTo>
                        <a:pt x="34" y="72"/>
                      </a:lnTo>
                      <a:lnTo>
                        <a:pt x="42" y="72"/>
                      </a:lnTo>
                      <a:lnTo>
                        <a:pt x="51" y="72"/>
                      </a:lnTo>
                      <a:lnTo>
                        <a:pt x="61" y="72"/>
                      </a:lnTo>
                      <a:lnTo>
                        <a:pt x="71" y="72"/>
                      </a:lnTo>
                      <a:lnTo>
                        <a:pt x="83" y="72"/>
                      </a:lnTo>
                      <a:lnTo>
                        <a:pt x="95" y="72"/>
                      </a:lnTo>
                      <a:lnTo>
                        <a:pt x="108" y="72"/>
                      </a:lnTo>
                      <a:lnTo>
                        <a:pt x="121" y="72"/>
                      </a:lnTo>
                      <a:lnTo>
                        <a:pt x="133" y="72"/>
                      </a:lnTo>
                      <a:lnTo>
                        <a:pt x="145" y="72"/>
                      </a:lnTo>
                      <a:lnTo>
                        <a:pt x="155" y="72"/>
                      </a:lnTo>
                      <a:lnTo>
                        <a:pt x="165" y="72"/>
                      </a:lnTo>
                      <a:lnTo>
                        <a:pt x="174" y="72"/>
                      </a:lnTo>
                      <a:lnTo>
                        <a:pt x="182" y="72"/>
                      </a:lnTo>
                      <a:lnTo>
                        <a:pt x="189" y="72"/>
                      </a:lnTo>
                      <a:lnTo>
                        <a:pt x="195" y="72"/>
                      </a:lnTo>
                      <a:lnTo>
                        <a:pt x="201" y="72"/>
                      </a:lnTo>
                      <a:lnTo>
                        <a:pt x="205" y="72"/>
                      </a:lnTo>
                      <a:lnTo>
                        <a:pt x="209" y="72"/>
                      </a:lnTo>
                      <a:lnTo>
                        <a:pt x="212" y="72"/>
                      </a:lnTo>
                      <a:lnTo>
                        <a:pt x="214" y="72"/>
                      </a:lnTo>
                      <a:lnTo>
                        <a:pt x="216" y="72"/>
                      </a:lnTo>
                      <a:lnTo>
                        <a:pt x="216" y="71"/>
                      </a:lnTo>
                      <a:lnTo>
                        <a:pt x="216" y="69"/>
                      </a:lnTo>
                      <a:lnTo>
                        <a:pt x="216" y="68"/>
                      </a:lnTo>
                      <a:lnTo>
                        <a:pt x="216" y="65"/>
                      </a:lnTo>
                      <a:lnTo>
                        <a:pt x="216" y="62"/>
                      </a:lnTo>
                      <a:lnTo>
                        <a:pt x="216" y="58"/>
                      </a:lnTo>
                      <a:lnTo>
                        <a:pt x="216" y="54"/>
                      </a:lnTo>
                      <a:lnTo>
                        <a:pt x="216" y="49"/>
                      </a:lnTo>
                      <a:lnTo>
                        <a:pt x="216" y="44"/>
                      </a:lnTo>
                      <a:lnTo>
                        <a:pt x="216" y="38"/>
                      </a:lnTo>
                      <a:lnTo>
                        <a:pt x="216" y="32"/>
                      </a:lnTo>
                      <a:lnTo>
                        <a:pt x="216" y="24"/>
                      </a:lnTo>
                      <a:lnTo>
                        <a:pt x="216" y="17"/>
                      </a:lnTo>
                      <a:lnTo>
                        <a:pt x="216" y="9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Group 12"/>
            <p:cNvGrpSpPr/>
            <p:nvPr/>
          </p:nvGrpSpPr>
          <p:grpSpPr>
            <a:xfrm>
              <a:off x="1733040" y="1819800"/>
              <a:ext cx="3771720" cy="4250880"/>
              <a:chOff x="1733040" y="1819800"/>
              <a:chExt cx="3771720" cy="4250880"/>
            </a:xfrm>
          </p:grpSpPr>
          <p:sp>
            <p:nvSpPr>
              <p:cNvPr id="208" name="Rectangle 13"/>
              <p:cNvSpPr/>
              <p:nvPr/>
            </p:nvSpPr>
            <p:spPr>
              <a:xfrm>
                <a:off x="1820520" y="1819800"/>
                <a:ext cx="3596400" cy="37944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1776960" y="1852560"/>
                <a:ext cx="3683520" cy="37944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1733040" y="1894680"/>
                <a:ext cx="3771720" cy="4176000"/>
              </a:xfrm>
              <a:prstGeom prst="rect">
                <a:avLst/>
              </a:prstGeom>
              <a:solidFill>
                <a:srgbClr val="ffcc6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6"/>
            <p:cNvGrpSpPr/>
            <p:nvPr/>
          </p:nvGrpSpPr>
          <p:grpSpPr>
            <a:xfrm>
              <a:off x="2231640" y="1143000"/>
              <a:ext cx="2768400" cy="960120"/>
              <a:chOff x="2231640" y="1143000"/>
              <a:chExt cx="2768400" cy="960120"/>
            </a:xfrm>
          </p:grpSpPr>
          <p:sp>
            <p:nvSpPr>
              <p:cNvPr id="212" name="Freeform 17"/>
              <p:cNvSpPr/>
              <p:nvPr/>
            </p:nvSpPr>
            <p:spPr>
              <a:xfrm>
                <a:off x="2233800" y="1143000"/>
                <a:ext cx="276624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2" y="397"/>
                    </a:lnTo>
                    <a:lnTo>
                      <a:pt x="3" y="395"/>
                    </a:lnTo>
                    <a:lnTo>
                      <a:pt x="4" y="392"/>
                    </a:lnTo>
                    <a:lnTo>
                      <a:pt x="5" y="390"/>
                    </a:lnTo>
                    <a:lnTo>
                      <a:pt x="7" y="387"/>
                    </a:lnTo>
                    <a:lnTo>
                      <a:pt x="8" y="383"/>
                    </a:lnTo>
                    <a:lnTo>
                      <a:pt x="10" y="379"/>
                    </a:lnTo>
                    <a:lnTo>
                      <a:pt x="12" y="374"/>
                    </a:lnTo>
                    <a:lnTo>
                      <a:pt x="15" y="370"/>
                    </a:lnTo>
                    <a:lnTo>
                      <a:pt x="17" y="364"/>
                    </a:lnTo>
                    <a:lnTo>
                      <a:pt x="20" y="359"/>
                    </a:lnTo>
                    <a:lnTo>
                      <a:pt x="23" y="353"/>
                    </a:lnTo>
                    <a:lnTo>
                      <a:pt x="26" y="346"/>
                    </a:lnTo>
                    <a:lnTo>
                      <a:pt x="30" y="339"/>
                    </a:lnTo>
                    <a:lnTo>
                      <a:pt x="34" y="333"/>
                    </a:lnTo>
                    <a:lnTo>
                      <a:pt x="40" y="328"/>
                    </a:lnTo>
                    <a:lnTo>
                      <a:pt x="46" y="322"/>
                    </a:lnTo>
                    <a:lnTo>
                      <a:pt x="53" y="318"/>
                    </a:lnTo>
                    <a:lnTo>
                      <a:pt x="61" y="313"/>
                    </a:lnTo>
                    <a:lnTo>
                      <a:pt x="70" y="309"/>
                    </a:lnTo>
                    <a:lnTo>
                      <a:pt x="80" y="306"/>
                    </a:lnTo>
                    <a:lnTo>
                      <a:pt x="90" y="302"/>
                    </a:lnTo>
                    <a:lnTo>
                      <a:pt x="101" y="300"/>
                    </a:lnTo>
                    <a:lnTo>
                      <a:pt x="114" y="297"/>
                    </a:lnTo>
                    <a:lnTo>
                      <a:pt x="127" y="295"/>
                    </a:lnTo>
                    <a:lnTo>
                      <a:pt x="141" y="294"/>
                    </a:lnTo>
                    <a:lnTo>
                      <a:pt x="156" y="293"/>
                    </a:lnTo>
                    <a:lnTo>
                      <a:pt x="171" y="292"/>
                    </a:lnTo>
                    <a:lnTo>
                      <a:pt x="188" y="292"/>
                    </a:lnTo>
                    <a:lnTo>
                      <a:pt x="204" y="292"/>
                    </a:lnTo>
                    <a:lnTo>
                      <a:pt x="220" y="292"/>
                    </a:lnTo>
                    <a:lnTo>
                      <a:pt x="234" y="292"/>
                    </a:lnTo>
                    <a:lnTo>
                      <a:pt x="248" y="292"/>
                    </a:lnTo>
                    <a:lnTo>
                      <a:pt x="260" y="292"/>
                    </a:lnTo>
                    <a:lnTo>
                      <a:pt x="271" y="292"/>
                    </a:lnTo>
                    <a:lnTo>
                      <a:pt x="281" y="292"/>
                    </a:lnTo>
                    <a:lnTo>
                      <a:pt x="290" y="292"/>
                    </a:lnTo>
                    <a:lnTo>
                      <a:pt x="298" y="292"/>
                    </a:lnTo>
                    <a:lnTo>
                      <a:pt x="305" y="292"/>
                    </a:lnTo>
                    <a:lnTo>
                      <a:pt x="311" y="292"/>
                    </a:lnTo>
                    <a:lnTo>
                      <a:pt x="316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5" y="290"/>
                    </a:lnTo>
                    <a:lnTo>
                      <a:pt x="325" y="289"/>
                    </a:lnTo>
                    <a:lnTo>
                      <a:pt x="325" y="288"/>
                    </a:lnTo>
                    <a:lnTo>
                      <a:pt x="326" y="287"/>
                    </a:lnTo>
                    <a:lnTo>
                      <a:pt x="326" y="285"/>
                    </a:lnTo>
                    <a:lnTo>
                      <a:pt x="327" y="283"/>
                    </a:lnTo>
                    <a:lnTo>
                      <a:pt x="327" y="281"/>
                    </a:lnTo>
                    <a:lnTo>
                      <a:pt x="328" y="279"/>
                    </a:lnTo>
                    <a:lnTo>
                      <a:pt x="329" y="277"/>
                    </a:lnTo>
                    <a:lnTo>
                      <a:pt x="329" y="274"/>
                    </a:lnTo>
                    <a:lnTo>
                      <a:pt x="330" y="271"/>
                    </a:lnTo>
                    <a:lnTo>
                      <a:pt x="331" y="268"/>
                    </a:lnTo>
                    <a:lnTo>
                      <a:pt x="332" y="265"/>
                    </a:lnTo>
                    <a:lnTo>
                      <a:pt x="333" y="262"/>
                    </a:lnTo>
                    <a:lnTo>
                      <a:pt x="334" y="259"/>
                    </a:lnTo>
                    <a:lnTo>
                      <a:pt x="335" y="256"/>
                    </a:lnTo>
                    <a:lnTo>
                      <a:pt x="336" y="253"/>
                    </a:lnTo>
                    <a:lnTo>
                      <a:pt x="336" y="251"/>
                    </a:lnTo>
                    <a:lnTo>
                      <a:pt x="337" y="249"/>
                    </a:lnTo>
                    <a:lnTo>
                      <a:pt x="337" y="247"/>
                    </a:lnTo>
                    <a:lnTo>
                      <a:pt x="338" y="245"/>
                    </a:lnTo>
                    <a:lnTo>
                      <a:pt x="338" y="243"/>
                    </a:lnTo>
                    <a:lnTo>
                      <a:pt x="339" y="242"/>
                    </a:lnTo>
                    <a:lnTo>
                      <a:pt x="339" y="241"/>
                    </a:lnTo>
                    <a:lnTo>
                      <a:pt x="340" y="240"/>
                    </a:lnTo>
                    <a:lnTo>
                      <a:pt x="340" y="239"/>
                    </a:lnTo>
                    <a:lnTo>
                      <a:pt x="340" y="238"/>
                    </a:lnTo>
                    <a:lnTo>
                      <a:pt x="341" y="238"/>
                    </a:lnTo>
                    <a:lnTo>
                      <a:pt x="342" y="238"/>
                    </a:lnTo>
                    <a:lnTo>
                      <a:pt x="343" y="238"/>
                    </a:lnTo>
                    <a:lnTo>
                      <a:pt x="344" y="238"/>
                    </a:lnTo>
                    <a:lnTo>
                      <a:pt x="345" y="238"/>
                    </a:lnTo>
                    <a:lnTo>
                      <a:pt x="347" y="238"/>
                    </a:lnTo>
                    <a:lnTo>
                      <a:pt x="349" y="238"/>
                    </a:lnTo>
                    <a:lnTo>
                      <a:pt x="351" y="238"/>
                    </a:lnTo>
                    <a:lnTo>
                      <a:pt x="353" y="238"/>
                    </a:lnTo>
                    <a:lnTo>
                      <a:pt x="356" y="238"/>
                    </a:lnTo>
                    <a:lnTo>
                      <a:pt x="358" y="238"/>
                    </a:lnTo>
                    <a:lnTo>
                      <a:pt x="361" y="238"/>
                    </a:lnTo>
                    <a:lnTo>
                      <a:pt x="365" y="238"/>
                    </a:lnTo>
                    <a:lnTo>
                      <a:pt x="368" y="238"/>
                    </a:lnTo>
                    <a:lnTo>
                      <a:pt x="372" y="238"/>
                    </a:lnTo>
                    <a:lnTo>
                      <a:pt x="375" y="238"/>
                    </a:lnTo>
                    <a:lnTo>
                      <a:pt x="379" y="237"/>
                    </a:lnTo>
                    <a:lnTo>
                      <a:pt x="383" y="237"/>
                    </a:lnTo>
                    <a:lnTo>
                      <a:pt x="386" y="236"/>
                    </a:lnTo>
                    <a:lnTo>
                      <a:pt x="390" y="235"/>
                    </a:lnTo>
                    <a:lnTo>
                      <a:pt x="394" y="235"/>
                    </a:lnTo>
                    <a:lnTo>
                      <a:pt x="398" y="234"/>
                    </a:lnTo>
                    <a:lnTo>
                      <a:pt x="402" y="232"/>
                    </a:lnTo>
                    <a:lnTo>
                      <a:pt x="406" y="231"/>
                    </a:lnTo>
                    <a:lnTo>
                      <a:pt x="410" y="229"/>
                    </a:lnTo>
                    <a:lnTo>
                      <a:pt x="415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0" y="222"/>
                    </a:lnTo>
                    <a:lnTo>
                      <a:pt x="585" y="224"/>
                    </a:lnTo>
                    <a:lnTo>
                      <a:pt x="589" y="226"/>
                    </a:lnTo>
                    <a:lnTo>
                      <a:pt x="594" y="228"/>
                    </a:lnTo>
                    <a:lnTo>
                      <a:pt x="598" y="229"/>
                    </a:lnTo>
                    <a:lnTo>
                      <a:pt x="602" y="231"/>
                    </a:lnTo>
                    <a:lnTo>
                      <a:pt x="606" y="232"/>
                    </a:lnTo>
                    <a:lnTo>
                      <a:pt x="610" y="234"/>
                    </a:lnTo>
                    <a:lnTo>
                      <a:pt x="614" y="235"/>
                    </a:lnTo>
                    <a:lnTo>
                      <a:pt x="618" y="235"/>
                    </a:lnTo>
                    <a:lnTo>
                      <a:pt x="622" y="236"/>
                    </a:lnTo>
                    <a:lnTo>
                      <a:pt x="626" y="237"/>
                    </a:lnTo>
                    <a:lnTo>
                      <a:pt x="629" y="237"/>
                    </a:lnTo>
                    <a:lnTo>
                      <a:pt x="633" y="238"/>
                    </a:lnTo>
                    <a:lnTo>
                      <a:pt x="636" y="238"/>
                    </a:lnTo>
                    <a:lnTo>
                      <a:pt x="640" y="238"/>
                    </a:lnTo>
                    <a:lnTo>
                      <a:pt x="643" y="238"/>
                    </a:lnTo>
                    <a:lnTo>
                      <a:pt x="647" y="238"/>
                    </a:lnTo>
                    <a:lnTo>
                      <a:pt x="650" y="238"/>
                    </a:lnTo>
                    <a:lnTo>
                      <a:pt x="652" y="238"/>
                    </a:lnTo>
                    <a:lnTo>
                      <a:pt x="655" y="238"/>
                    </a:lnTo>
                    <a:lnTo>
                      <a:pt x="657" y="238"/>
                    </a:lnTo>
                    <a:lnTo>
                      <a:pt x="659" y="238"/>
                    </a:lnTo>
                    <a:lnTo>
                      <a:pt x="661" y="238"/>
                    </a:lnTo>
                    <a:lnTo>
                      <a:pt x="663" y="238"/>
                    </a:lnTo>
                    <a:lnTo>
                      <a:pt x="664" y="238"/>
                    </a:lnTo>
                    <a:lnTo>
                      <a:pt x="665" y="238"/>
                    </a:lnTo>
                    <a:lnTo>
                      <a:pt x="666" y="238"/>
                    </a:lnTo>
                    <a:lnTo>
                      <a:pt x="667" y="238"/>
                    </a:lnTo>
                    <a:lnTo>
                      <a:pt x="668" y="238"/>
                    </a:lnTo>
                    <a:lnTo>
                      <a:pt x="668" y="239"/>
                    </a:lnTo>
                    <a:lnTo>
                      <a:pt x="669" y="240"/>
                    </a:lnTo>
                    <a:lnTo>
                      <a:pt x="669" y="241"/>
                    </a:lnTo>
                    <a:lnTo>
                      <a:pt x="669" y="242"/>
                    </a:lnTo>
                    <a:lnTo>
                      <a:pt x="670" y="243"/>
                    </a:lnTo>
                    <a:lnTo>
                      <a:pt x="670" y="245"/>
                    </a:lnTo>
                    <a:lnTo>
                      <a:pt x="671" y="247"/>
                    </a:lnTo>
                    <a:lnTo>
                      <a:pt x="671" y="249"/>
                    </a:lnTo>
                    <a:lnTo>
                      <a:pt x="672" y="251"/>
                    </a:lnTo>
                    <a:lnTo>
                      <a:pt x="673" y="253"/>
                    </a:lnTo>
                    <a:lnTo>
                      <a:pt x="673" y="256"/>
                    </a:lnTo>
                    <a:lnTo>
                      <a:pt x="674" y="259"/>
                    </a:lnTo>
                    <a:lnTo>
                      <a:pt x="675" y="262"/>
                    </a:lnTo>
                    <a:lnTo>
                      <a:pt x="676" y="265"/>
                    </a:lnTo>
                    <a:lnTo>
                      <a:pt x="677" y="268"/>
                    </a:lnTo>
                    <a:lnTo>
                      <a:pt x="678" y="271"/>
                    </a:lnTo>
                    <a:lnTo>
                      <a:pt x="679" y="274"/>
                    </a:lnTo>
                    <a:lnTo>
                      <a:pt x="680" y="277"/>
                    </a:lnTo>
                    <a:lnTo>
                      <a:pt x="680" y="279"/>
                    </a:lnTo>
                    <a:lnTo>
                      <a:pt x="681" y="281"/>
                    </a:lnTo>
                    <a:lnTo>
                      <a:pt x="681" y="283"/>
                    </a:lnTo>
                    <a:lnTo>
                      <a:pt x="682" y="285"/>
                    </a:lnTo>
                    <a:lnTo>
                      <a:pt x="682" y="287"/>
                    </a:lnTo>
                    <a:lnTo>
                      <a:pt x="683" y="288"/>
                    </a:lnTo>
                    <a:lnTo>
                      <a:pt x="683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7" y="292"/>
                    </a:lnTo>
                    <a:lnTo>
                      <a:pt x="703" y="292"/>
                    </a:lnTo>
                    <a:lnTo>
                      <a:pt x="710" y="292"/>
                    </a:lnTo>
                    <a:lnTo>
                      <a:pt x="718" y="292"/>
                    </a:lnTo>
                    <a:lnTo>
                      <a:pt x="727" y="292"/>
                    </a:lnTo>
                    <a:lnTo>
                      <a:pt x="737" y="292"/>
                    </a:lnTo>
                    <a:lnTo>
                      <a:pt x="748" y="292"/>
                    </a:lnTo>
                    <a:lnTo>
                      <a:pt x="760" y="292"/>
                    </a:lnTo>
                    <a:lnTo>
                      <a:pt x="774" y="292"/>
                    </a:lnTo>
                    <a:lnTo>
                      <a:pt x="788" y="292"/>
                    </a:lnTo>
                    <a:lnTo>
                      <a:pt x="804" y="292"/>
                    </a:lnTo>
                    <a:lnTo>
                      <a:pt x="820" y="292"/>
                    </a:lnTo>
                    <a:lnTo>
                      <a:pt x="837" y="292"/>
                    </a:lnTo>
                    <a:lnTo>
                      <a:pt x="852" y="293"/>
                    </a:lnTo>
                    <a:lnTo>
                      <a:pt x="867" y="294"/>
                    </a:lnTo>
                    <a:lnTo>
                      <a:pt x="881" y="295"/>
                    </a:lnTo>
                    <a:lnTo>
                      <a:pt x="894" y="297"/>
                    </a:lnTo>
                    <a:lnTo>
                      <a:pt x="907" y="300"/>
                    </a:lnTo>
                    <a:lnTo>
                      <a:pt x="918" y="302"/>
                    </a:lnTo>
                    <a:lnTo>
                      <a:pt x="928" y="306"/>
                    </a:lnTo>
                    <a:lnTo>
                      <a:pt x="938" y="309"/>
                    </a:lnTo>
                    <a:lnTo>
                      <a:pt x="947" y="313"/>
                    </a:lnTo>
                    <a:lnTo>
                      <a:pt x="955" y="318"/>
                    </a:lnTo>
                    <a:lnTo>
                      <a:pt x="962" y="322"/>
                    </a:lnTo>
                    <a:lnTo>
                      <a:pt x="968" y="328"/>
                    </a:lnTo>
                    <a:lnTo>
                      <a:pt x="974" y="333"/>
                    </a:lnTo>
                    <a:lnTo>
                      <a:pt x="978" y="339"/>
                    </a:lnTo>
                    <a:lnTo>
                      <a:pt x="982" y="346"/>
                    </a:lnTo>
                    <a:lnTo>
                      <a:pt x="985" y="353"/>
                    </a:lnTo>
                    <a:lnTo>
                      <a:pt x="988" y="359"/>
                    </a:lnTo>
                    <a:lnTo>
                      <a:pt x="991" y="364"/>
                    </a:lnTo>
                    <a:lnTo>
                      <a:pt x="993" y="370"/>
                    </a:lnTo>
                    <a:lnTo>
                      <a:pt x="996" y="374"/>
                    </a:lnTo>
                    <a:lnTo>
                      <a:pt x="998" y="379"/>
                    </a:lnTo>
                    <a:lnTo>
                      <a:pt x="1000" y="383"/>
                    </a:lnTo>
                    <a:lnTo>
                      <a:pt x="1001" y="387"/>
                    </a:lnTo>
                    <a:lnTo>
                      <a:pt x="1003" y="390"/>
                    </a:lnTo>
                    <a:lnTo>
                      <a:pt x="1004" y="392"/>
                    </a:lnTo>
                    <a:lnTo>
                      <a:pt x="1005" y="395"/>
                    </a:lnTo>
                    <a:lnTo>
                      <a:pt x="1006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>
                <a:off x="2231640" y="1164240"/>
                <a:ext cx="276552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2" y="395"/>
                    </a:lnTo>
                    <a:lnTo>
                      <a:pt x="3" y="392"/>
                    </a:lnTo>
                    <a:lnTo>
                      <a:pt x="3" y="390"/>
                    </a:lnTo>
                    <a:lnTo>
                      <a:pt x="5" y="387"/>
                    </a:lnTo>
                    <a:lnTo>
                      <a:pt x="6" y="383"/>
                    </a:lnTo>
                    <a:lnTo>
                      <a:pt x="7" y="379"/>
                    </a:lnTo>
                    <a:lnTo>
                      <a:pt x="9" y="374"/>
                    </a:lnTo>
                    <a:lnTo>
                      <a:pt x="10" y="370"/>
                    </a:lnTo>
                    <a:lnTo>
                      <a:pt x="12" y="364"/>
                    </a:lnTo>
                    <a:lnTo>
                      <a:pt x="14" y="359"/>
                    </a:lnTo>
                    <a:lnTo>
                      <a:pt x="16" y="353"/>
                    </a:lnTo>
                    <a:lnTo>
                      <a:pt x="18" y="346"/>
                    </a:lnTo>
                    <a:lnTo>
                      <a:pt x="21" y="339"/>
                    </a:lnTo>
                    <a:lnTo>
                      <a:pt x="24" y="333"/>
                    </a:lnTo>
                    <a:lnTo>
                      <a:pt x="29" y="328"/>
                    </a:lnTo>
                    <a:lnTo>
                      <a:pt x="35" y="322"/>
                    </a:lnTo>
                    <a:lnTo>
                      <a:pt x="42" y="318"/>
                    </a:lnTo>
                    <a:lnTo>
                      <a:pt x="49" y="313"/>
                    </a:lnTo>
                    <a:lnTo>
                      <a:pt x="58" y="309"/>
                    </a:lnTo>
                    <a:lnTo>
                      <a:pt x="68" y="306"/>
                    </a:lnTo>
                    <a:lnTo>
                      <a:pt x="78" y="302"/>
                    </a:lnTo>
                    <a:lnTo>
                      <a:pt x="90" y="300"/>
                    </a:lnTo>
                    <a:lnTo>
                      <a:pt x="102" y="297"/>
                    </a:lnTo>
                    <a:lnTo>
                      <a:pt x="116" y="295"/>
                    </a:lnTo>
                    <a:lnTo>
                      <a:pt x="130" y="294"/>
                    </a:lnTo>
                    <a:lnTo>
                      <a:pt x="146" y="293"/>
                    </a:lnTo>
                    <a:lnTo>
                      <a:pt x="163" y="292"/>
                    </a:lnTo>
                    <a:lnTo>
                      <a:pt x="180" y="292"/>
                    </a:lnTo>
                    <a:lnTo>
                      <a:pt x="197" y="292"/>
                    </a:lnTo>
                    <a:lnTo>
                      <a:pt x="214" y="292"/>
                    </a:lnTo>
                    <a:lnTo>
                      <a:pt x="229" y="292"/>
                    </a:lnTo>
                    <a:lnTo>
                      <a:pt x="243" y="292"/>
                    </a:lnTo>
                    <a:lnTo>
                      <a:pt x="256" y="292"/>
                    </a:lnTo>
                    <a:lnTo>
                      <a:pt x="268" y="292"/>
                    </a:lnTo>
                    <a:lnTo>
                      <a:pt x="278" y="292"/>
                    </a:lnTo>
                    <a:lnTo>
                      <a:pt x="288" y="292"/>
                    </a:lnTo>
                    <a:lnTo>
                      <a:pt x="296" y="292"/>
                    </a:lnTo>
                    <a:lnTo>
                      <a:pt x="304" y="292"/>
                    </a:lnTo>
                    <a:lnTo>
                      <a:pt x="310" y="292"/>
                    </a:lnTo>
                    <a:lnTo>
                      <a:pt x="315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4" y="290"/>
                    </a:lnTo>
                    <a:lnTo>
                      <a:pt x="324" y="289"/>
                    </a:lnTo>
                    <a:lnTo>
                      <a:pt x="324" y="288"/>
                    </a:lnTo>
                    <a:lnTo>
                      <a:pt x="324" y="287"/>
                    </a:lnTo>
                    <a:lnTo>
                      <a:pt x="324" y="285"/>
                    </a:lnTo>
                    <a:lnTo>
                      <a:pt x="324" y="283"/>
                    </a:lnTo>
                    <a:lnTo>
                      <a:pt x="324" y="281"/>
                    </a:lnTo>
                    <a:lnTo>
                      <a:pt x="324" y="279"/>
                    </a:lnTo>
                    <a:lnTo>
                      <a:pt x="324" y="277"/>
                    </a:lnTo>
                    <a:lnTo>
                      <a:pt x="324" y="274"/>
                    </a:lnTo>
                    <a:lnTo>
                      <a:pt x="324" y="271"/>
                    </a:lnTo>
                    <a:lnTo>
                      <a:pt x="324" y="268"/>
                    </a:lnTo>
                    <a:lnTo>
                      <a:pt x="324" y="265"/>
                    </a:lnTo>
                    <a:lnTo>
                      <a:pt x="324" y="262"/>
                    </a:lnTo>
                    <a:lnTo>
                      <a:pt x="324" y="259"/>
                    </a:lnTo>
                    <a:lnTo>
                      <a:pt x="324" y="256"/>
                    </a:lnTo>
                    <a:lnTo>
                      <a:pt x="324" y="253"/>
                    </a:lnTo>
                    <a:lnTo>
                      <a:pt x="324" y="251"/>
                    </a:lnTo>
                    <a:lnTo>
                      <a:pt x="324" y="249"/>
                    </a:lnTo>
                    <a:lnTo>
                      <a:pt x="324" y="247"/>
                    </a:lnTo>
                    <a:lnTo>
                      <a:pt x="324" y="245"/>
                    </a:lnTo>
                    <a:lnTo>
                      <a:pt x="324" y="243"/>
                    </a:lnTo>
                    <a:lnTo>
                      <a:pt x="324" y="242"/>
                    </a:lnTo>
                    <a:lnTo>
                      <a:pt x="324" y="241"/>
                    </a:lnTo>
                    <a:lnTo>
                      <a:pt x="324" y="240"/>
                    </a:lnTo>
                    <a:lnTo>
                      <a:pt x="324" y="239"/>
                    </a:lnTo>
                    <a:lnTo>
                      <a:pt x="324" y="238"/>
                    </a:lnTo>
                    <a:lnTo>
                      <a:pt x="325" y="238"/>
                    </a:lnTo>
                    <a:lnTo>
                      <a:pt x="326" y="238"/>
                    </a:lnTo>
                    <a:lnTo>
                      <a:pt x="328" y="238"/>
                    </a:lnTo>
                    <a:lnTo>
                      <a:pt x="329" y="238"/>
                    </a:lnTo>
                    <a:lnTo>
                      <a:pt x="331" y="238"/>
                    </a:lnTo>
                    <a:lnTo>
                      <a:pt x="333" y="238"/>
                    </a:lnTo>
                    <a:lnTo>
                      <a:pt x="335" y="238"/>
                    </a:lnTo>
                    <a:lnTo>
                      <a:pt x="338" y="238"/>
                    </a:lnTo>
                    <a:lnTo>
                      <a:pt x="341" y="238"/>
                    </a:lnTo>
                    <a:lnTo>
                      <a:pt x="344" y="238"/>
                    </a:lnTo>
                    <a:lnTo>
                      <a:pt x="348" y="238"/>
                    </a:lnTo>
                    <a:lnTo>
                      <a:pt x="352" y="238"/>
                    </a:lnTo>
                    <a:lnTo>
                      <a:pt x="356" y="238"/>
                    </a:lnTo>
                    <a:lnTo>
                      <a:pt x="360" y="238"/>
                    </a:lnTo>
                    <a:lnTo>
                      <a:pt x="365" y="238"/>
                    </a:lnTo>
                    <a:lnTo>
                      <a:pt x="369" y="238"/>
                    </a:lnTo>
                    <a:lnTo>
                      <a:pt x="374" y="237"/>
                    </a:lnTo>
                    <a:lnTo>
                      <a:pt x="378" y="237"/>
                    </a:lnTo>
                    <a:lnTo>
                      <a:pt x="383" y="236"/>
                    </a:lnTo>
                    <a:lnTo>
                      <a:pt x="387" y="235"/>
                    </a:lnTo>
                    <a:lnTo>
                      <a:pt x="392" y="235"/>
                    </a:lnTo>
                    <a:lnTo>
                      <a:pt x="396" y="234"/>
                    </a:lnTo>
                    <a:lnTo>
                      <a:pt x="401" y="232"/>
                    </a:lnTo>
                    <a:lnTo>
                      <a:pt x="405" y="231"/>
                    </a:lnTo>
                    <a:lnTo>
                      <a:pt x="410" y="229"/>
                    </a:lnTo>
                    <a:lnTo>
                      <a:pt x="414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1" y="222"/>
                    </a:lnTo>
                    <a:lnTo>
                      <a:pt x="585" y="224"/>
                    </a:lnTo>
                    <a:lnTo>
                      <a:pt x="590" y="226"/>
                    </a:lnTo>
                    <a:lnTo>
                      <a:pt x="594" y="228"/>
                    </a:lnTo>
                    <a:lnTo>
                      <a:pt x="599" y="229"/>
                    </a:lnTo>
                    <a:lnTo>
                      <a:pt x="603" y="231"/>
                    </a:lnTo>
                    <a:lnTo>
                      <a:pt x="608" y="232"/>
                    </a:lnTo>
                    <a:lnTo>
                      <a:pt x="612" y="234"/>
                    </a:lnTo>
                    <a:lnTo>
                      <a:pt x="617" y="235"/>
                    </a:lnTo>
                    <a:lnTo>
                      <a:pt x="621" y="235"/>
                    </a:lnTo>
                    <a:lnTo>
                      <a:pt x="626" y="236"/>
                    </a:lnTo>
                    <a:lnTo>
                      <a:pt x="630" y="237"/>
                    </a:lnTo>
                    <a:lnTo>
                      <a:pt x="635" y="237"/>
                    </a:lnTo>
                    <a:lnTo>
                      <a:pt x="639" y="238"/>
                    </a:lnTo>
                    <a:lnTo>
                      <a:pt x="644" y="238"/>
                    </a:lnTo>
                    <a:lnTo>
                      <a:pt x="648" y="238"/>
                    </a:lnTo>
                    <a:lnTo>
                      <a:pt x="652" y="238"/>
                    </a:lnTo>
                    <a:lnTo>
                      <a:pt x="656" y="238"/>
                    </a:lnTo>
                    <a:lnTo>
                      <a:pt x="660" y="238"/>
                    </a:lnTo>
                    <a:lnTo>
                      <a:pt x="664" y="238"/>
                    </a:lnTo>
                    <a:lnTo>
                      <a:pt x="667" y="238"/>
                    </a:lnTo>
                    <a:lnTo>
                      <a:pt x="670" y="238"/>
                    </a:lnTo>
                    <a:lnTo>
                      <a:pt x="673" y="238"/>
                    </a:lnTo>
                    <a:lnTo>
                      <a:pt x="675" y="238"/>
                    </a:lnTo>
                    <a:lnTo>
                      <a:pt x="677" y="238"/>
                    </a:lnTo>
                    <a:lnTo>
                      <a:pt x="679" y="238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3" y="238"/>
                    </a:lnTo>
                    <a:lnTo>
                      <a:pt x="684" y="238"/>
                    </a:lnTo>
                    <a:lnTo>
                      <a:pt x="684" y="239"/>
                    </a:lnTo>
                    <a:lnTo>
                      <a:pt x="684" y="240"/>
                    </a:lnTo>
                    <a:lnTo>
                      <a:pt x="684" y="241"/>
                    </a:lnTo>
                    <a:lnTo>
                      <a:pt x="684" y="242"/>
                    </a:lnTo>
                    <a:lnTo>
                      <a:pt x="684" y="243"/>
                    </a:lnTo>
                    <a:lnTo>
                      <a:pt x="684" y="245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4" y="253"/>
                    </a:lnTo>
                    <a:lnTo>
                      <a:pt x="684" y="256"/>
                    </a:lnTo>
                    <a:lnTo>
                      <a:pt x="684" y="259"/>
                    </a:lnTo>
                    <a:lnTo>
                      <a:pt x="684" y="262"/>
                    </a:lnTo>
                    <a:lnTo>
                      <a:pt x="684" y="265"/>
                    </a:lnTo>
                    <a:lnTo>
                      <a:pt x="684" y="268"/>
                    </a:lnTo>
                    <a:lnTo>
                      <a:pt x="684" y="271"/>
                    </a:lnTo>
                    <a:lnTo>
                      <a:pt x="684" y="274"/>
                    </a:lnTo>
                    <a:lnTo>
                      <a:pt x="684" y="277"/>
                    </a:lnTo>
                    <a:lnTo>
                      <a:pt x="684" y="279"/>
                    </a:lnTo>
                    <a:lnTo>
                      <a:pt x="684" y="281"/>
                    </a:lnTo>
                    <a:lnTo>
                      <a:pt x="684" y="283"/>
                    </a:lnTo>
                    <a:lnTo>
                      <a:pt x="684" y="285"/>
                    </a:lnTo>
                    <a:lnTo>
                      <a:pt x="684" y="287"/>
                    </a:lnTo>
                    <a:lnTo>
                      <a:pt x="684" y="288"/>
                    </a:lnTo>
                    <a:lnTo>
                      <a:pt x="684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8" y="292"/>
                    </a:lnTo>
                    <a:lnTo>
                      <a:pt x="704" y="292"/>
                    </a:lnTo>
                    <a:lnTo>
                      <a:pt x="712" y="292"/>
                    </a:lnTo>
                    <a:lnTo>
                      <a:pt x="720" y="292"/>
                    </a:lnTo>
                    <a:lnTo>
                      <a:pt x="730" y="292"/>
                    </a:lnTo>
                    <a:lnTo>
                      <a:pt x="740" y="292"/>
                    </a:lnTo>
                    <a:lnTo>
                      <a:pt x="752" y="292"/>
                    </a:lnTo>
                    <a:lnTo>
                      <a:pt x="765" y="292"/>
                    </a:lnTo>
                    <a:lnTo>
                      <a:pt x="779" y="292"/>
                    </a:lnTo>
                    <a:lnTo>
                      <a:pt x="794" y="292"/>
                    </a:lnTo>
                    <a:lnTo>
                      <a:pt x="811" y="292"/>
                    </a:lnTo>
                    <a:lnTo>
                      <a:pt x="828" y="292"/>
                    </a:lnTo>
                    <a:lnTo>
                      <a:pt x="846" y="292"/>
                    </a:lnTo>
                    <a:lnTo>
                      <a:pt x="862" y="293"/>
                    </a:lnTo>
                    <a:lnTo>
                      <a:pt x="878" y="294"/>
                    </a:lnTo>
                    <a:lnTo>
                      <a:pt x="892" y="295"/>
                    </a:lnTo>
                    <a:lnTo>
                      <a:pt x="906" y="297"/>
                    </a:lnTo>
                    <a:lnTo>
                      <a:pt x="918" y="300"/>
                    </a:lnTo>
                    <a:lnTo>
                      <a:pt x="930" y="302"/>
                    </a:lnTo>
                    <a:lnTo>
                      <a:pt x="940" y="306"/>
                    </a:lnTo>
                    <a:lnTo>
                      <a:pt x="950" y="309"/>
                    </a:lnTo>
                    <a:lnTo>
                      <a:pt x="959" y="313"/>
                    </a:lnTo>
                    <a:lnTo>
                      <a:pt x="966" y="318"/>
                    </a:lnTo>
                    <a:lnTo>
                      <a:pt x="973" y="322"/>
                    </a:lnTo>
                    <a:lnTo>
                      <a:pt x="979" y="328"/>
                    </a:lnTo>
                    <a:lnTo>
                      <a:pt x="984" y="333"/>
                    </a:lnTo>
                    <a:lnTo>
                      <a:pt x="987" y="339"/>
                    </a:lnTo>
                    <a:lnTo>
                      <a:pt x="990" y="346"/>
                    </a:lnTo>
                    <a:lnTo>
                      <a:pt x="992" y="353"/>
                    </a:lnTo>
                    <a:lnTo>
                      <a:pt x="994" y="359"/>
                    </a:lnTo>
                    <a:lnTo>
                      <a:pt x="996" y="364"/>
                    </a:lnTo>
                    <a:lnTo>
                      <a:pt x="998" y="370"/>
                    </a:lnTo>
                    <a:lnTo>
                      <a:pt x="999" y="374"/>
                    </a:lnTo>
                    <a:lnTo>
                      <a:pt x="1001" y="379"/>
                    </a:lnTo>
                    <a:lnTo>
                      <a:pt x="1002" y="383"/>
                    </a:lnTo>
                    <a:lnTo>
                      <a:pt x="1003" y="387"/>
                    </a:lnTo>
                    <a:lnTo>
                      <a:pt x="1005" y="390"/>
                    </a:lnTo>
                    <a:lnTo>
                      <a:pt x="1005" y="392"/>
                    </a:lnTo>
                    <a:lnTo>
                      <a:pt x="1006" y="395"/>
                    </a:lnTo>
                    <a:lnTo>
                      <a:pt x="1007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19"/>
              <p:cNvSpPr/>
              <p:nvPr/>
            </p:nvSpPr>
            <p:spPr>
              <a:xfrm>
                <a:off x="3470400" y="1276200"/>
                <a:ext cx="295560" cy="253080"/>
              </a:xfrm>
              <a:prstGeom prst="ellipse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 应用前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工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新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克肝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防肝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01"/>
          <p:cNvPicPr/>
          <p:nvPr/>
        </p:nvPicPr>
        <p:blipFill>
          <a:blip r:embed="rId2"/>
          <a:stretch/>
        </p:blipFill>
        <p:spPr>
          <a:xfrm>
            <a:off x="5943600" y="2514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防肝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48769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戒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慎用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限制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接种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输血、献血要防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08"/>
          <p:cNvPicPr/>
          <p:nvPr/>
        </p:nvPicPr>
        <p:blipFill>
          <a:blip r:embed="rId2"/>
          <a:stretch/>
        </p:blipFill>
        <p:spPr>
          <a:xfrm>
            <a:off x="5334120" y="2209680"/>
            <a:ext cx="2819160" cy="281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1" name="Text Box 6"/>
          <p:cNvSpPr/>
          <p:nvPr/>
        </p:nvSpPr>
        <p:spPr>
          <a:xfrm>
            <a:off x="1600200" y="4114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良好生活习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BD0-7FBE-4600-9CA8-655D699E1D07}" type="slidenum">
              <a:t>23</a:t>
            </a:fld>
          </a:p>
        </p:txBody>
      </p:sp>
    </p:spTree>
  </p:cSld>
  <p:transition spd="med">
    <p:random/>
    <p:sndAc>
      <p:stSnd>
        <p:snd r:embed="rId26" name="click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1447920" y="18288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彩云"/>
              </a:rPr>
              <a:t>The   End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478200" y="5946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9"/>
          <p:cNvSpPr txBox="1"/>
          <p:nvPr/>
        </p:nvSpPr>
        <p:spPr>
          <a:xfrm rot="21432600">
            <a:off x="685440" y="426672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祝大家身体健康！</a:t>
            </a:r>
            <a:endParaRPr b="1" lang="en-US" sz="32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9" name="WordArt 9"/>
          <p:cNvSpPr txBox="1"/>
          <p:nvPr/>
        </p:nvSpPr>
        <p:spPr>
          <a:xfrm>
            <a:off x="762120" y="4572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胚胎干细胞在肝癌中的应用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0" name="Picture 28" descr="79"/>
          <p:cNvPicPr/>
          <p:nvPr/>
        </p:nvPicPr>
        <p:blipFill>
          <a:blip r:embed="rId2"/>
          <a:stretch/>
        </p:blipFill>
        <p:spPr>
          <a:xfrm>
            <a:off x="3352680" y="1600200"/>
            <a:ext cx="24004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98"/>
          <p:cNvPicPr/>
          <p:nvPr/>
        </p:nvPicPr>
        <p:blipFill>
          <a:blip r:embed="rId2"/>
          <a:stretch/>
        </p:blipFill>
        <p:spPr>
          <a:xfrm>
            <a:off x="533520" y="457200"/>
            <a:ext cx="8839080" cy="708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1背景"/>
          <p:cNvPicPr/>
          <p:nvPr/>
        </p:nvPicPr>
        <p:blipFill>
          <a:blip r:embed="rId3"/>
          <a:stretch/>
        </p:blipFill>
        <p:spPr>
          <a:xfrm>
            <a:off x="4724280" y="1981080"/>
            <a:ext cx="3733920" cy="284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泌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尿素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素灭活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磷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固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血糖浓度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及处理多种血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脂类的消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吸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与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肝脏的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318960"/>
            <a:ext cx="82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见肝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09480" y="510552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肝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：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或胆管细胞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发生过度增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导致正常结构遭受破坏而形成的一种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肿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9480" y="3962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硬化是各种原因所致的肝脏慢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进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性的弥漫性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143080" y="2286000"/>
            <a:ext cx="493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脂肪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是指由于各种原因引起的肝脏脂肪代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失调，过量的脂肪堆积在肝细胞内，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时又是加重肝脏损伤的致病因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60948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炎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毒引起的肝脏炎性损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3" descr="140"/>
          <p:cNvPicPr/>
          <p:nvPr/>
        </p:nvPicPr>
        <p:blipFill>
          <a:blip r:embed="rId2"/>
          <a:stretch/>
        </p:blipFill>
        <p:spPr>
          <a:xfrm>
            <a:off x="1371600" y="533520"/>
            <a:ext cx="5715000" cy="890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肝癌的治疗及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38080" y="1828800"/>
          <a:ext cx="7620120" cy="4191120"/>
        </p:xfrm>
        <a:graphic>
          <a:graphicData uri="http://schemas.openxmlformats.org/drawingml/2006/table">
            <a:tbl>
              <a:tblPr/>
              <a:tblGrid>
                <a:gridCol w="2424240"/>
                <a:gridCol w="51958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方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  <a:ea typeface="黑体"/>
                        </a:rPr>
                        <a:t>不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局部肝切除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肝功能衰竭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消融治疗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延缓肿瘤的进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毒副反应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毒副反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目前还没有有效方案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random/>
    <p:sndAc>
      <p:stSnd>
        <p:snd r:embed="rId13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125"/>
          <p:cNvPicPr/>
          <p:nvPr/>
        </p:nvPicPr>
        <p:blipFill>
          <a:blip r:embed="rId2"/>
          <a:stretch/>
        </p:blipFill>
        <p:spPr>
          <a:xfrm>
            <a:off x="6248520" y="304920"/>
            <a:ext cx="1692000" cy="1234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Picture 8" descr="视屏外表"/>
          <p:cNvPicPr/>
          <p:nvPr/>
        </p:nvPicPr>
        <p:blipFill>
          <a:blip r:embed="rId3"/>
          <a:stretch/>
        </p:blipFill>
        <p:spPr>
          <a:xfrm>
            <a:off x="304920" y="1143000"/>
            <a:ext cx="5486400" cy="5060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880" y="137160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523880" y="30492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世界首例人造肝脏诞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943600" y="348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国媒体报道，英国科学家用脐带血干细胞，培育出了世界上第一颗人造肝脏。尽管这个人造肝脏只有硬币大小，但它将使许多药物实验从此不必再在人体上进行。预计制造出正常大小的肝脏，大约还需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时间。届时这种人造肝脏移植将成为现实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7" name="click.wav"/>
      </p:stSnd>
    </p:sndAc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990720" y="2209680"/>
            <a:ext cx="7086600" cy="3833640"/>
            <a:chOff x="990720" y="2209680"/>
            <a:chExt cx="7086600" cy="3833640"/>
          </a:xfrm>
        </p:grpSpPr>
        <p:sp>
          <p:nvSpPr>
            <p:cNvPr id="66" name="AutoShape 4"/>
            <p:cNvSpPr/>
            <p:nvPr/>
          </p:nvSpPr>
          <p:spPr>
            <a:xfrm>
              <a:off x="990720" y="2209680"/>
              <a:ext cx="3833640" cy="383364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3640"/>
                <a:gd name="textAreaBottom" fmla="*/ 3271680 h 383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181847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5"/>
            <p:cNvSpPr/>
            <p:nvPr/>
          </p:nvSpPr>
          <p:spPr>
            <a:xfrm>
              <a:off x="1295640" y="25146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d9ede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6"/>
            <p:cNvSpPr/>
            <p:nvPr/>
          </p:nvSpPr>
          <p:spPr>
            <a:xfrm>
              <a:off x="3700440" y="25398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0f9f9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一、 肝 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4030920" y="32018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cf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二、 干细胞的概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>
              <a:off x="4297320" y="38624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0f9f9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 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三、 肝干细胞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VS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肝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>
              <a:off x="4030920" y="4522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cf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四、 伦理之争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>
              <a:off x="3700440" y="51847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0f9f9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五、 展望前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2124360" y="3200400"/>
              <a:ext cx="15523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黑体"/>
                </a:rPr>
                <a:t>胚胎干细胞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00"/>
                  </a:solidFill>
                  <a:latin typeface="黑体"/>
                </a:rPr>
                <a:t>V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黑体"/>
                </a:rPr>
                <a:t>肝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16"/>
          <p:cNvPicPr/>
          <p:nvPr/>
        </p:nvPicPr>
        <p:blipFill>
          <a:blip r:embed="rId2"/>
          <a:stretch/>
        </p:blipFill>
        <p:spPr>
          <a:xfrm>
            <a:off x="5257800" y="3657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 、肝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身体其他脏器的癌肿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转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肝脏而形成继发性肝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24400" y="4267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继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447920" y="3733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肝细胞或肝内胆管上皮细胞的恶性肿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24400" y="31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295280" y="1447920"/>
            <a:ext cx="7620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由于肝脏的各种有害因素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致癌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期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肝细胞发生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过度增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导致正常结构遭受破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而形成的一种恶性肿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起肝癌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43000" y="1600200"/>
          <a:ext cx="6532560" cy="4354560"/>
        </p:xfrm>
        <a:graphic>
          <a:graphicData uri="http://schemas.openxmlformats.org/drawingml/2006/table">
            <a:tbl>
              <a:tblPr/>
              <a:tblGrid>
                <a:gridCol w="2790720"/>
                <a:gridCol w="3741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  <a:ea typeface="黑体"/>
                        </a:rPr>
                        <a:t>例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病毒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乙型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源污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沟渠水、河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致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亚硝酸胺、农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基因突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点突变、基因易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免疫状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甲胎蛋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AFP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曲霉毒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AFT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霉变食物和谷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84" name="Picture 476" descr="20070507152315731"/>
          <p:cNvPicPr/>
          <p:nvPr/>
        </p:nvPicPr>
        <p:blipFill>
          <a:blip r:embed="rId2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8:13:17Z</dcterms:created>
  <dc:creator>徐云均 李文聪 刘礼文 钟庆和</dc:creator>
  <dc:description/>
  <dc:language>en-US</dc:language>
  <cp:lastModifiedBy>SUNNY-PC</cp:lastModifiedBy>
  <dcterms:modified xsi:type="dcterms:W3CDTF">2015-08-03T12:33:23Z</dcterms:modified>
  <cp:revision>111</cp:revision>
  <dc:subject>医学</dc:subject>
  <dc:title>肝癌VS胚胎干细胞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