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9B8-48DF-4A42-A52E-36135AF7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E25-A2FD-424A-AEFA-30E45D18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948-7A45-4735-8A25-94D12AC5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8FF-501F-458F-B38A-61C0EB4A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B83C-BED8-4F24-9FA3-55EFB96E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A954-9D07-4C38-9CE5-9AD6115E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789D-6CA3-496E-9A4E-A2E4FA95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3DCF-C0ED-41CD-B1BC-1A6CA3C7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A33D-6455-4BCF-A08D-181227A2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A6BD-CEBE-4B5A-82B0-DC07E29B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2C5D-6B13-4A96-9B03-5054F7E1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264-C7DD-4A3E-AB8F-B62EEF07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5CD5-4584-4623-A125-2B5668AD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8273-9BCC-4949-84DC-B1647E61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D730-741C-421B-9F6A-F897BB62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F471-7D88-4BF9-BCC1-4DCF4393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160E-7836-4FA0-A827-989BFA48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92D-F647-43AC-811C-86AEBE13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DBA-83FA-4464-A17F-8FBA72A5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CF8-4297-42AA-9916-73889F59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A23-4904-4E45-B366-93EEAFF7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1F5-57E8-4A7D-B554-3C75C1DD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13D-4286-40C2-AFAB-F956C41C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418-64A3-4A08-93CD-971B870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38FA-2E27-41E4-AA84-063017C112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985D-0841-4642-9A65-48F61F3DBA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25280" y="981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商务圆桌会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11440"/>
            <a:ext cx="7859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2000160" y="1571760"/>
            <a:ext cx="660240" cy="656640"/>
            <a:chOff x="2000160" y="1571760"/>
            <a:chExt cx="660240" cy="656640"/>
          </a:xfrm>
        </p:grpSpPr>
        <p:grpSp>
          <p:nvGrpSpPr>
            <p:cNvPr id="89" name="Group 5"/>
            <p:cNvGrpSpPr/>
            <p:nvPr/>
          </p:nvGrpSpPr>
          <p:grpSpPr>
            <a:xfrm>
              <a:off x="2000160" y="1571760"/>
              <a:ext cx="660240" cy="656640"/>
              <a:chOff x="2000160" y="1571760"/>
              <a:chExt cx="660240" cy="656640"/>
            </a:xfrm>
          </p:grpSpPr>
          <p:sp>
            <p:nvSpPr>
              <p:cNvPr id="90" name="Oval 35"/>
              <p:cNvSpPr/>
              <p:nvPr/>
            </p:nvSpPr>
            <p:spPr>
              <a:xfrm>
                <a:off x="2000160" y="1574640"/>
                <a:ext cx="66024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60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2000160" y="2419200"/>
            <a:ext cx="660240" cy="657360"/>
            <a:chOff x="2000160" y="2419200"/>
            <a:chExt cx="660240" cy="657360"/>
          </a:xfrm>
        </p:grpSpPr>
        <p:grpSp>
          <p:nvGrpSpPr>
            <p:cNvPr id="96" name="Group 12"/>
            <p:cNvGrpSpPr/>
            <p:nvPr/>
          </p:nvGrpSpPr>
          <p:grpSpPr>
            <a:xfrm>
              <a:off x="2000160" y="2419200"/>
              <a:ext cx="660240" cy="657360"/>
              <a:chOff x="2000160" y="2419200"/>
              <a:chExt cx="660240" cy="657360"/>
            </a:xfrm>
          </p:grpSpPr>
          <p:sp>
            <p:nvSpPr>
              <p:cNvPr id="97" name="Oval 35"/>
              <p:cNvSpPr/>
              <p:nvPr/>
            </p:nvSpPr>
            <p:spPr>
              <a:xfrm>
                <a:off x="2000160" y="2422440"/>
                <a:ext cx="660240" cy="654120"/>
              </a:xfrm>
              <a:prstGeom prst="ellipse">
                <a:avLst/>
              </a:prstGeom>
              <a:solidFill>
                <a:srgbClr val="003366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2000160" y="3265560"/>
            <a:ext cx="660240" cy="656640"/>
            <a:chOff x="2000160" y="3265560"/>
            <a:chExt cx="660240" cy="656640"/>
          </a:xfrm>
        </p:grpSpPr>
        <p:grpSp>
          <p:nvGrpSpPr>
            <p:cNvPr id="103" name="Group 19"/>
            <p:cNvGrpSpPr/>
            <p:nvPr/>
          </p:nvGrpSpPr>
          <p:grpSpPr>
            <a:xfrm>
              <a:off x="2000160" y="3265560"/>
              <a:ext cx="660240" cy="656640"/>
              <a:chOff x="2000160" y="3265560"/>
              <a:chExt cx="660240" cy="656640"/>
            </a:xfrm>
          </p:grpSpPr>
          <p:sp>
            <p:nvSpPr>
              <p:cNvPr id="104" name="Oval 35"/>
              <p:cNvSpPr/>
              <p:nvPr/>
            </p:nvSpPr>
            <p:spPr>
              <a:xfrm>
                <a:off x="2000160" y="3268440"/>
                <a:ext cx="660240" cy="65376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60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2000160" y="4113360"/>
            <a:ext cx="660240" cy="656640"/>
            <a:chOff x="2000160" y="4113360"/>
            <a:chExt cx="660240" cy="656640"/>
          </a:xfrm>
        </p:grpSpPr>
        <p:grpSp>
          <p:nvGrpSpPr>
            <p:cNvPr id="110" name="Group 26"/>
            <p:cNvGrpSpPr/>
            <p:nvPr/>
          </p:nvGrpSpPr>
          <p:grpSpPr>
            <a:xfrm>
              <a:off x="2000160" y="4113360"/>
              <a:ext cx="660240" cy="656640"/>
              <a:chOff x="2000160" y="4113360"/>
              <a:chExt cx="660240" cy="656640"/>
            </a:xfrm>
          </p:grpSpPr>
          <p:sp>
            <p:nvSpPr>
              <p:cNvPr id="111" name="Oval 35"/>
              <p:cNvSpPr/>
              <p:nvPr/>
            </p:nvSpPr>
            <p:spPr>
              <a:xfrm>
                <a:off x="2000160" y="4116240"/>
                <a:ext cx="660240" cy="653760"/>
              </a:xfrm>
              <a:prstGeom prst="ellipse">
                <a:avLst/>
              </a:prstGeom>
              <a:solidFill>
                <a:srgbClr val="0066ff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2"/>
          <p:cNvGrpSpPr/>
          <p:nvPr/>
        </p:nvGrpSpPr>
        <p:grpSpPr>
          <a:xfrm>
            <a:off x="2000160" y="4960800"/>
            <a:ext cx="660240" cy="657360"/>
            <a:chOff x="2000160" y="4960800"/>
            <a:chExt cx="660240" cy="657360"/>
          </a:xfrm>
        </p:grpSpPr>
        <p:grpSp>
          <p:nvGrpSpPr>
            <p:cNvPr id="117" name="Group 33"/>
            <p:cNvGrpSpPr/>
            <p:nvPr/>
          </p:nvGrpSpPr>
          <p:grpSpPr>
            <a:xfrm>
              <a:off x="2000160" y="4960800"/>
              <a:ext cx="660240" cy="657360"/>
              <a:chOff x="2000160" y="4960800"/>
              <a:chExt cx="660240" cy="657360"/>
            </a:xfrm>
          </p:grpSpPr>
          <p:sp>
            <p:nvSpPr>
              <p:cNvPr id="118" name="Oval 35"/>
              <p:cNvSpPr/>
              <p:nvPr/>
            </p:nvSpPr>
            <p:spPr>
              <a:xfrm>
                <a:off x="2000160" y="4964040"/>
                <a:ext cx="660240" cy="65412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60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 flipH="1">
            <a:off x="650880" y="1562040"/>
            <a:ext cx="7502400" cy="2606760"/>
          </a:xfrm>
          <a:prstGeom prst="roundRect">
            <a:avLst>
              <a:gd name="adj" fmla="val 6968"/>
            </a:avLst>
          </a:prstGeom>
          <a:solidFill>
            <a:srgbClr val="003366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5"/>
          <p:cNvSpPr/>
          <p:nvPr/>
        </p:nvSpPr>
        <p:spPr>
          <a:xfrm flipH="1">
            <a:off x="1004760" y="3905280"/>
            <a:ext cx="7454880" cy="2187720"/>
          </a:xfrm>
          <a:prstGeom prst="roundRect">
            <a:avLst>
              <a:gd name="adj" fmla="val 10935"/>
            </a:avLst>
          </a:prstGeom>
          <a:solidFill>
            <a:srgbClr val="0066ff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6"/>
          <p:cNvSpPr/>
          <p:nvPr/>
        </p:nvSpPr>
        <p:spPr>
          <a:xfrm>
            <a:off x="3198960" y="1616040"/>
            <a:ext cx="4905360" cy="2208240"/>
          </a:xfrm>
          <a:prstGeom prst="roundRect">
            <a:avLst>
              <a:gd name="adj" fmla="val 7843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7"/>
          <p:cNvSpPr/>
          <p:nvPr/>
        </p:nvSpPr>
        <p:spPr>
          <a:xfrm>
            <a:off x="3516480" y="3957480"/>
            <a:ext cx="4871880" cy="205452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40" descr=""/>
          <p:cNvPicPr/>
          <p:nvPr/>
        </p:nvPicPr>
        <p:blipFill>
          <a:blip r:embed="rId2"/>
          <a:stretch/>
        </p:blipFill>
        <p:spPr>
          <a:xfrm>
            <a:off x="1249200" y="4334040"/>
            <a:ext cx="2129040" cy="141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28" name="Picture 241" descr=""/>
          <p:cNvPicPr/>
          <p:nvPr/>
        </p:nvPicPr>
        <p:blipFill>
          <a:blip r:embed="rId3"/>
          <a:srcRect l="0" t="11159" r="19808" b="6852"/>
          <a:stretch/>
        </p:blipFill>
        <p:spPr>
          <a:xfrm>
            <a:off x="893880" y="2058840"/>
            <a:ext cx="2173320" cy="1479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29" name="Rectangle 31"/>
          <p:cNvSpPr/>
          <p:nvPr/>
        </p:nvSpPr>
        <p:spPr>
          <a:xfrm>
            <a:off x="3321000" y="1851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3678120" y="4103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60720" y="404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DAE-EC7D-4794-BC15-49836DA7F6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3218040" y="6969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7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3695760" y="14112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7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21:05:31Z</dcterms:created>
  <dc:creator>ppt宝藏</dc:creator>
  <dc:description/>
  <dc:language>en-US</dc:language>
  <cp:lastModifiedBy>Windows 用户</cp:lastModifiedBy>
  <dcterms:modified xsi:type="dcterms:W3CDTF">2015-08-03T12:31:30Z</dcterms:modified>
  <cp:revision>34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