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058760" y="3588480"/>
            <a:ext cx="71215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58760" y="358848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08080" y="358848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6800" y="120960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74480" y="120960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058760" y="358848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6800" y="358848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874480" y="358848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185840" y="128520"/>
            <a:ext cx="78487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058760" y="358848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08080" y="358848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58760" y="3588480"/>
            <a:ext cx="71215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058760" y="3588480"/>
            <a:ext cx="71215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58760" y="358848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08080" y="358848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66800" y="120960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874480" y="120960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058760" y="358848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66800" y="358848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874480" y="358848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85840" y="128520"/>
            <a:ext cx="78487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058760" y="358848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08080" y="358848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58760" y="3588480"/>
            <a:ext cx="71215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29"/>
          <p:cNvSpPr/>
          <p:nvPr/>
        </p:nvSpPr>
        <p:spPr>
          <a:xfrm>
            <a:off x="7516080" y="612144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524280"/>
            <a:ext cx="21337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452400" y="6494400"/>
            <a:ext cx="289548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5078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078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80"/>
          <p:cNvSpPr/>
          <p:nvPr/>
        </p:nvSpPr>
        <p:spPr>
          <a:xfrm>
            <a:off x="3630600" y="3095640"/>
            <a:ext cx="4219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07800"/>
                </a:solidFill>
                <a:latin typeface="Verdana"/>
              </a:rPr>
              <a:t>指导教师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6800" y="2282760"/>
            <a:ext cx="6624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13b41"/>
                </a:solidFill>
                <a:latin typeface="Verdana"/>
                <a:ea typeface="Gulim"/>
              </a:rPr>
              <a:t>论文题目</a:t>
            </a:r>
            <a:endParaRPr b="1" lang="en-US" sz="36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3530520" y="4762440"/>
            <a:ext cx="490068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a2009"/>
                </a:solidFill>
                <a:latin typeface="Verdana"/>
                <a:ea typeface="Gulim"/>
              </a:rPr>
              <a:t>班级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a2009"/>
                </a:solidFill>
                <a:latin typeface="Verdana"/>
                <a:ea typeface="Gulim"/>
              </a:rPr>
              <a:t>学生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a2009"/>
                </a:solidFill>
                <a:latin typeface="Verdana"/>
                <a:ea typeface="Gulim"/>
              </a:rPr>
              <a:t>学号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椭圆形标注 7"/>
          <p:cNvSpPr/>
          <p:nvPr/>
        </p:nvSpPr>
        <p:spPr>
          <a:xfrm>
            <a:off x="1676520" y="3200400"/>
            <a:ext cx="1066680" cy="114300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11111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111111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111760" y="635040"/>
            <a:ext cx="556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素雅严谨风格论文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模板在线下载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</a:rPr>
              <a:t>使用规范说明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5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5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5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1" lang="en-US" sz="13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1" lang="en-US" sz="13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1" lang="en-US" sz="13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1" lang="en-US" sz="13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1" lang="en-US" sz="13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3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1" lang="en-US" sz="13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1" lang="en-US" sz="13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1" lang="en-US" sz="13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3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1" lang="en-US" sz="13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057320" y="492120"/>
            <a:ext cx="6154560" cy="32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Verdana"/>
                <a:ea typeface="宋体"/>
              </a:rPr>
              <a:t> </a:t>
            </a:r>
            <a:r>
              <a:rPr b="0" lang="zh-CN" sz="2400" spc="-1" strike="noStrike">
                <a:solidFill>
                  <a:srgbClr val="4d4d4d"/>
                </a:solidFill>
                <a:latin typeface="Verdana"/>
                <a:ea typeface="宋体"/>
              </a:rPr>
              <a:t>背景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d4d4d"/>
                </a:solidFill>
                <a:latin typeface="Verdana"/>
                <a:ea typeface="宋体"/>
              </a:rPr>
              <a:t>意义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系统的背景及意义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4156200" y="2746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bad16f"/>
                </a:solidFill>
                <a:uFillTx/>
                <a:latin typeface="Times New Roman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0T14:55:55Z</dcterms:created>
  <dc:creator>吴忠毅</dc:creator>
  <dc:description/>
  <dc:language>en-US</dc:language>
  <cp:lastModifiedBy>微软中国</cp:lastModifiedBy>
  <dcterms:modified xsi:type="dcterms:W3CDTF">2015-08-03T12:34:18Z</dcterms:modified>
  <cp:revision>81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