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102.jpeg" ContentType="image/jpe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70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64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97.png" ContentType="image/png"/>
  <Override PartName="/ppt/media/image60.png" ContentType="image/png"/>
  <Override PartName="/ppt/media/image96.png" ContentType="image/png"/>
  <Override PartName="/ppt/media/image89.png" ContentType="image/png"/>
  <Override PartName="/ppt/media/image95.png" ContentType="image/png"/>
  <Override PartName="/ppt/media/image103.jpeg" ContentType="image/jpeg"/>
  <Override PartName="/ppt/media/image77.png" ContentType="image/png"/>
  <Override PartName="/ppt/media/image88.png" ContentType="image/png"/>
  <Override PartName="/ppt/media/image101.png" ContentType="image/png"/>
  <Override PartName="/ppt/media/image79.png" ContentType="image/png"/>
  <Override PartName="/ppt/media/image78.png" ContentType="image/png"/>
  <Override PartName="/ppt/media/image9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4.png" ContentType="image/png"/>
  <Override PartName="/ppt/media/image16.png" ContentType="image/png"/>
  <Override PartName="/ppt/media/image8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A7D8-3D3A-4597-9DA5-AFFCE705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6A20-343E-4D3C-83F8-24444884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9B65-F786-43AF-9C88-3C95C8A5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DBCB-3E43-475E-9A80-E66B6DF3B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1358-5274-4B31-8122-B00176EB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7C4E-F015-4977-AED2-AC827E1D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D1A5-114C-4916-9F3D-D9F8445F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8651-D8EB-4BA7-A1FB-7E016B85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B5B9-09CF-4734-BFB6-9E7594AC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D6CF-659D-4971-9BC0-BEB4A124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29EA-8BB4-4D30-AEBA-0455539B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F9FC-0A5E-48C4-9F1D-34FC152C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A330-65F5-4614-969D-5E0417921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67,9,&#24187;&#28783;&#29255; 9" TargetMode="External"/><Relationship Id="rId3" Type="http://schemas.openxmlformats.org/officeDocument/2006/relationships/hyperlink" Target="267,9,&#24187;&#28783;&#29255; 9" TargetMode="External"/><Relationship Id="rId4" Type="http://schemas.openxmlformats.org/officeDocument/2006/relationships/hyperlink" Target="267,9,&#24187;&#28783;&#29255; 9" TargetMode="External"/><Relationship Id="rId5" Type="http://schemas.openxmlformats.org/officeDocument/2006/relationships/hyperlink" Target="267,9,&#24187;&#28783;&#29255; 9" TargetMode="External"/><Relationship Id="rId6" Type="http://schemas.openxmlformats.org/officeDocument/2006/relationships/hyperlink" Target="294,11,&#24187;&#28783;&#29255; 11" TargetMode="External"/><Relationship Id="rId7" Type="http://schemas.openxmlformats.org/officeDocument/2006/relationships/hyperlink" Target="294,11,&#24187;&#28783;&#29255; 11" TargetMode="External"/><Relationship Id="rId8" Type="http://schemas.openxmlformats.org/officeDocument/2006/relationships/hyperlink" Target="292,13,&#24187;&#28783;&#29255; 13" TargetMode="External"/><Relationship Id="rId9" Type="http://schemas.openxmlformats.org/officeDocument/2006/relationships/hyperlink" Target="292,13,&#24187;&#28783;&#29255; 13" TargetMode="External"/><Relationship Id="rId10" Type="http://schemas.openxmlformats.org/officeDocument/2006/relationships/hyperlink" Target="296,15,&#24187;&#28783;&#29255; 15" TargetMode="External"/><Relationship Id="rId11" Type="http://schemas.openxmlformats.org/officeDocument/2006/relationships/hyperlink" Target="296,15,&#24187;&#28783;&#29255; 15" TargetMode="External"/><Relationship Id="rId12" Type="http://schemas.openxmlformats.org/officeDocument/2006/relationships/hyperlink" Target="324,18,&#24187;&#28783;&#29255; 18" TargetMode="External"/><Relationship Id="rId13" Type="http://schemas.openxmlformats.org/officeDocument/2006/relationships/hyperlink" Target="324,18,&#24187;&#28783;&#29255; 18" TargetMode="External"/><Relationship Id="rId14" Type="http://schemas.openxmlformats.org/officeDocument/2006/relationships/hyperlink" Target="298,20,&#24187;&#28783;&#29255; 20" TargetMode="External"/><Relationship Id="rId15" Type="http://schemas.openxmlformats.org/officeDocument/2006/relationships/hyperlink" Target="298,20,&#24187;&#28783;&#29255; 20" TargetMode="External"/><Relationship Id="rId16" Type="http://schemas.openxmlformats.org/officeDocument/2006/relationships/hyperlink" Target="304,22,&#24187;&#28783;&#29255; 22" TargetMode="External"/><Relationship Id="rId17" Type="http://schemas.openxmlformats.org/officeDocument/2006/relationships/hyperlink" Target="304,22,&#24187;&#28783;&#29255; 22" TargetMode="External"/><Relationship Id="rId18" Type="http://schemas.openxmlformats.org/officeDocument/2006/relationships/hyperlink" Target="326,24,&#24187;&#28783;&#29255; 24" TargetMode="External"/><Relationship Id="rId19" Type="http://schemas.openxmlformats.org/officeDocument/2006/relationships/hyperlink" Target="326,24,&#24187;&#28783;&#29255; 24" TargetMode="External"/><Relationship Id="rId20" Type="http://schemas.openxmlformats.org/officeDocument/2006/relationships/hyperlink" Target="326,24,&#24187;&#28783;&#29255; 24" TargetMode="External"/><Relationship Id="rId21" Type="http://schemas.openxmlformats.org/officeDocument/2006/relationships/hyperlink" Target="326,24,&#24187;&#28783;&#29255; 24" TargetMode="External"/><Relationship Id="rId22" Type="http://schemas.openxmlformats.org/officeDocument/2006/relationships/hyperlink" Target="328,26,&#24187;&#28783;&#29255; 26" TargetMode="External"/><Relationship Id="rId23" Type="http://schemas.openxmlformats.org/officeDocument/2006/relationships/hyperlink" Target="328,26,&#24187;&#28783;&#29255; 26" TargetMode="External"/><Relationship Id="rId24" Type="http://schemas.openxmlformats.org/officeDocument/2006/relationships/hyperlink" Target="328,26,&#24187;&#28783;&#29255; 26" TargetMode="External"/><Relationship Id="rId25" Type="http://schemas.openxmlformats.org/officeDocument/2006/relationships/hyperlink" Target="328,26,&#24187;&#28783;&#29255; 26" TargetMode="External"/><Relationship Id="rId26" Type="http://schemas.openxmlformats.org/officeDocument/2006/relationships/hyperlink" Target="330,28,&#24187;&#28783;&#29255; 28" TargetMode="External"/><Relationship Id="rId27" Type="http://schemas.openxmlformats.org/officeDocument/2006/relationships/hyperlink" Target="330,28,&#24187;&#28783;&#29255; 28" TargetMode="External"/><Relationship Id="rId28" Type="http://schemas.openxmlformats.org/officeDocument/2006/relationships/hyperlink" Target="332,30,&#24187;&#28783;&#29255; 30" TargetMode="External"/><Relationship Id="rId29" Type="http://schemas.openxmlformats.org/officeDocument/2006/relationships/hyperlink" Target="332,30,&#24187;&#28783;&#29255; 30" TargetMode="External"/><Relationship Id="rId30" Type="http://schemas.openxmlformats.org/officeDocument/2006/relationships/hyperlink" Target="334,32,&#24187;&#28783;&#29255; 32" TargetMode="External"/><Relationship Id="rId31" Type="http://schemas.openxmlformats.org/officeDocument/2006/relationships/hyperlink" Target="334,32,&#24187;&#28783;&#29255; 32" TargetMode="External"/><Relationship Id="rId32" Type="http://schemas.openxmlformats.org/officeDocument/2006/relationships/hyperlink" Target="336,34,&#24187;&#28783;&#29255; 34" TargetMode="External"/><Relationship Id="rId33" Type="http://schemas.openxmlformats.org/officeDocument/2006/relationships/hyperlink" Target="336,34,&#24187;&#28783;&#29255; 34" TargetMode="External"/><Relationship Id="rId34" Type="http://schemas.openxmlformats.org/officeDocument/2006/relationships/hyperlink" Target="338,36,&#24187;&#28783;&#29255; 36" TargetMode="External"/><Relationship Id="rId35" Type="http://schemas.openxmlformats.org/officeDocument/2006/relationships/hyperlink" Target="338,36,&#24187;&#28783;&#29255; 36" TargetMode="External"/><Relationship Id="rId36" Type="http://schemas.openxmlformats.org/officeDocument/2006/relationships/hyperlink" Target="340,38,&#24187;&#28783;&#29255; 38" TargetMode="External"/><Relationship Id="rId37" Type="http://schemas.openxmlformats.org/officeDocument/2006/relationships/hyperlink" Target="340,38,&#24187;&#28783;&#29255; 38" TargetMode="External"/><Relationship Id="rId38" Type="http://schemas.openxmlformats.org/officeDocument/2006/relationships/hyperlink" Target="342,40,&#24187;&#28783;&#29255; 40" TargetMode="External"/><Relationship Id="rId39" Type="http://schemas.openxmlformats.org/officeDocument/2006/relationships/hyperlink" Target="342,40,&#24187;&#28783;&#29255; 40" TargetMode="External"/><Relationship Id="rId40" Type="http://schemas.openxmlformats.org/officeDocument/2006/relationships/hyperlink" Target="344,42,&#24187;&#28783;&#29255; 42" TargetMode="External"/><Relationship Id="rId41" Type="http://schemas.openxmlformats.org/officeDocument/2006/relationships/hyperlink" Target="344,42,&#24187;&#28783;&#29255; 42" TargetMode="External"/><Relationship Id="rId42" Type="http://schemas.openxmlformats.org/officeDocument/2006/relationships/hyperlink" Target="346,44,&#24187;&#28783;&#29255; 44" TargetMode="External"/><Relationship Id="rId43" Type="http://schemas.openxmlformats.org/officeDocument/2006/relationships/hyperlink" Target="346,44,&#24187;&#28783;&#29255; 44" TargetMode="External"/><Relationship Id="rId44" Type="http://schemas.openxmlformats.org/officeDocument/2006/relationships/hyperlink" Target="348,46,&#24187;&#28783;&#29255; 46" TargetMode="External"/><Relationship Id="rId45" Type="http://schemas.openxmlformats.org/officeDocument/2006/relationships/hyperlink" Target="348,46,&#24187;&#28783;&#29255; 46" TargetMode="External"/><Relationship Id="rId46" Type="http://schemas.openxmlformats.org/officeDocument/2006/relationships/hyperlink" Target="350,48,&#24187;&#28783;&#29255; 48" TargetMode="External"/><Relationship Id="rId47" Type="http://schemas.openxmlformats.org/officeDocument/2006/relationships/hyperlink" Target="350,48,&#24187;&#28783;&#29255; 48" TargetMode="External"/><Relationship Id="rId48" Type="http://schemas.openxmlformats.org/officeDocument/2006/relationships/hyperlink" Target="350,48,&#24187;&#28783;&#29255; 48" TargetMode="External"/><Relationship Id="rId49" Type="http://schemas.openxmlformats.org/officeDocument/2006/relationships/hyperlink" Target="350,48,&#24187;&#28783;&#29255; 48" TargetMode="External"/><Relationship Id="rId50" Type="http://schemas.openxmlformats.org/officeDocument/2006/relationships/hyperlink" Target="352,50,&#24187;&#28783;&#29255; 50" TargetMode="External"/><Relationship Id="rId51" Type="http://schemas.openxmlformats.org/officeDocument/2006/relationships/hyperlink" Target="352,50,&#24187;&#28783;&#29255; 50" TargetMode="External"/><Relationship Id="rId52" Type="http://schemas.openxmlformats.org/officeDocument/2006/relationships/hyperlink" Target="354,52,&#24187;&#28783;&#29255; 52" TargetMode="External"/><Relationship Id="rId53" Type="http://schemas.openxmlformats.org/officeDocument/2006/relationships/hyperlink" Target="354,52,&#24187;&#28783;&#29255; 52" TargetMode="External"/><Relationship Id="rId5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xiazai/" TargetMode="External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0.png"/><Relationship Id="rId3" Type="http://schemas.openxmlformats.org/officeDocument/2006/relationships/image" Target="../media/image91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6.png"/><Relationship Id="rId3" Type="http://schemas.openxmlformats.org/officeDocument/2006/relationships/image" Target="../media/image97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8.png"/><Relationship Id="rId3" Type="http://schemas.openxmlformats.org/officeDocument/2006/relationships/image" Target="../media/image99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0.png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B4C2-7ACB-4E67-B289-02EDC5276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457200" y="182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淘宝类目成交数据分析报告幻灯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1"/>
          <p:cNvSpPr/>
          <p:nvPr/>
        </p:nvSpPr>
        <p:spPr>
          <a:xfrm>
            <a:off x="3581280" y="30481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钟展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整合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3581280" y="3581280"/>
            <a:ext cx="4876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.1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女装</a:t>
            </a:r>
            <a:r>
              <a:rPr b="1" lang="en-US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/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女士精品”类成交量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468360" y="121140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女装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女士精品”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年度在淘宝全网成交量高达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383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亿元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3.5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亿笔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其中在淘宝商城的成交量也达到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8.1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亿元（占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7.3%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、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202.6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万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3" descr=""/>
          <p:cNvPicPr/>
          <p:nvPr/>
        </p:nvPicPr>
        <p:blipFill>
          <a:blip r:embed="rId2"/>
          <a:stretch/>
        </p:blipFill>
        <p:spPr>
          <a:xfrm>
            <a:off x="108000" y="2205000"/>
            <a:ext cx="4944960" cy="2879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"/>
          <p:cNvPicPr/>
          <p:nvPr/>
        </p:nvPicPr>
        <p:blipFill>
          <a:blip r:embed="rId3"/>
          <a:stretch/>
        </p:blipFill>
        <p:spPr>
          <a:xfrm>
            <a:off x="4094280" y="3789360"/>
            <a:ext cx="4941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女装</a:t>
            </a:r>
            <a:r>
              <a:rPr b="1" lang="en-US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/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女士精品”类成交量</a:t>
            </a:r>
            <a:r>
              <a:rPr b="1" lang="en-US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TOP10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品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"/>
          <p:cNvPicPr/>
          <p:nvPr/>
        </p:nvPicPr>
        <p:blipFill>
          <a:blip r:embed="rId2"/>
          <a:stretch/>
        </p:blipFill>
        <p:spPr>
          <a:xfrm>
            <a:off x="395280" y="2052720"/>
            <a:ext cx="4114800" cy="2752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3"/>
          <a:stretch/>
        </p:blipFill>
        <p:spPr>
          <a:xfrm>
            <a:off x="4643280" y="2052720"/>
            <a:ext cx="41148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男装”类成交量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4869000" cy="2879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3"/>
          <a:stretch/>
        </p:blipFill>
        <p:spPr>
          <a:xfrm>
            <a:off x="4140360" y="3789360"/>
            <a:ext cx="4862520" cy="2879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468360" y="121140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男装”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年度在淘宝全网成交量高达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142.5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亿元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1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亿笔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其中在淘宝商城的成交量也达到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1.3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亿元（占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4.9%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、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394.2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万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男装”类成交量</a:t>
            </a:r>
            <a:r>
              <a:rPr b="1" lang="en-US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TOP10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品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484200" y="2052720"/>
            <a:ext cx="3943440" cy="2752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4643280" y="2052720"/>
            <a:ext cx="394344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手机”类成交量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68360" y="121140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手机”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年度在淘宝全网成交量高达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210.4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亿元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1917.5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万笔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其中在淘宝商城的成交量也达到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4.7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亿元（占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7.0%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、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38.2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万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4741920" cy="2880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3"/>
          <a:stretch/>
        </p:blipFill>
        <p:spPr>
          <a:xfrm>
            <a:off x="4211640" y="3718080"/>
            <a:ext cx="47372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手机”类成交量</a:t>
            </a:r>
            <a:r>
              <a:rPr b="1" lang="en-US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TOP10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品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539640" y="2052720"/>
            <a:ext cx="3943440" cy="2752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3"/>
          <a:stretch/>
        </p:blipFill>
        <p:spPr>
          <a:xfrm>
            <a:off x="4660920" y="2052720"/>
            <a:ext cx="3943440" cy="2752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美容护肤”类成交量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68360" y="121140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美容护肤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美体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精油”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年度在淘宝全网成交量高达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126.2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亿元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1.3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亿笔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其中在淘宝商城的成交量也达到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8.4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亿元（占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6.6%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、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380.9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万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4741920" cy="2879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4156200" y="3718080"/>
            <a:ext cx="47368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美容护肤”类成交量</a:t>
            </a:r>
            <a:r>
              <a:rPr b="1" lang="en-US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TOP10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品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539640" y="2052720"/>
            <a:ext cx="3943440" cy="2752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4716360" y="2052720"/>
            <a:ext cx="394344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彩妆”类成交量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468360" y="121140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彩妆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香水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美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工具”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年度在淘宝全网成交量高达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41.7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亿元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7250.7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万笔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其中在淘宝商城的成交量也达到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.1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亿元（占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5.0%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、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436.7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万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4741920" cy="2879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3"/>
          <a:stretch/>
        </p:blipFill>
        <p:spPr>
          <a:xfrm>
            <a:off x="4156200" y="3718080"/>
            <a:ext cx="47368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彩妆”类成交量</a:t>
            </a:r>
            <a:r>
              <a:rPr b="1" lang="en-US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TOP10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品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468360" y="2052720"/>
            <a:ext cx="3943440" cy="2752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4660920" y="2052720"/>
            <a:ext cx="394344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468360" y="1428840"/>
            <a:ext cx="417492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类目成交总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点类目成交量变化及</a:t>
            </a:r>
            <a:r>
              <a:rPr b="1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P10</a:t>
            </a: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牌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2"/>
              </a:rPr>
              <a:t>女装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3"/>
              </a:rPr>
              <a:t>/</a:t>
            </a:r>
            <a:r>
              <a:rPr b="0" lang="zh-CN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4"/>
              </a:rPr>
              <a:t>女士精品                          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5"/>
              </a:rPr>
              <a:t>P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6"/>
              </a:rPr>
              <a:t>男装                                            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7"/>
              </a:rPr>
              <a:t>P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8"/>
              </a:rPr>
              <a:t>手机                                            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9"/>
              </a:rPr>
              <a:t>P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10"/>
              </a:rPr>
              <a:t>美容护肤                                    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11"/>
              </a:rPr>
              <a:t>P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12"/>
              </a:rPr>
              <a:t>彩妆                                            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13"/>
              </a:rPr>
              <a:t>P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14"/>
              </a:rPr>
              <a:t>家用电器                                    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15"/>
              </a:rPr>
              <a:t>P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16"/>
              </a:rPr>
              <a:t>笔记本电脑                                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17"/>
              </a:rPr>
              <a:t>P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18"/>
              </a:rPr>
              <a:t>电脑硬件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19"/>
              </a:rPr>
              <a:t>/</a:t>
            </a:r>
            <a:r>
              <a:rPr b="0" lang="zh-CN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20"/>
              </a:rPr>
              <a:t>配件                          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21"/>
              </a:rPr>
              <a:t>P2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22"/>
              </a:rPr>
              <a:t>内衣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23"/>
              </a:rPr>
              <a:t>/</a:t>
            </a:r>
            <a:r>
              <a:rPr b="0" lang="zh-CN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24"/>
              </a:rPr>
              <a:t>家居服                              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25"/>
              </a:rPr>
              <a:t>P2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26"/>
              </a:rPr>
              <a:t>童装                                            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27"/>
              </a:rPr>
              <a:t>P2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28"/>
              </a:rPr>
              <a:t>女鞋                                            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29"/>
              </a:rPr>
              <a:t>P3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788000" y="1916280"/>
            <a:ext cx="3816360" cy="33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30"/>
              </a:rPr>
              <a:t>男鞋                                      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31"/>
              </a:rPr>
              <a:t>P3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32"/>
              </a:rPr>
              <a:t>运动鞋                                  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33"/>
              </a:rPr>
              <a:t>P3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34"/>
              </a:rPr>
              <a:t>运动服                                  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35"/>
              </a:rPr>
              <a:t>P3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36"/>
              </a:rPr>
              <a:t>箱包皮具                              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37"/>
              </a:rPr>
              <a:t>P3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38"/>
              </a:rPr>
              <a:t>数码摄影                              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39"/>
              </a:rPr>
              <a:t>P4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40"/>
              </a:rPr>
              <a:t>汽车相关                              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41"/>
              </a:rPr>
              <a:t>P4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42"/>
              </a:rPr>
              <a:t>手表                                      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43"/>
              </a:rPr>
              <a:t>P4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44"/>
              </a:rPr>
              <a:t>零食特产                               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45"/>
              </a:rPr>
              <a:t>P4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46"/>
              </a:rPr>
              <a:t>奶粉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47"/>
              </a:rPr>
              <a:t>/</a:t>
            </a:r>
            <a:r>
              <a:rPr b="0" lang="zh-CN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48"/>
              </a:rPr>
              <a:t>辅食                             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49"/>
              </a:rPr>
              <a:t>P4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50"/>
              </a:rPr>
              <a:t>居家日用                               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51"/>
              </a:rPr>
              <a:t>P5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52"/>
              </a:rPr>
              <a:t>装修建材                               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华文细黑"/>
                <a:ea typeface="华文细黑"/>
                <a:hlinkClick r:id="rId53"/>
              </a:rPr>
              <a:t>P5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家用电器”类成交量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68360" y="121140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家用电器”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年度在淘宝全网成交量高达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103.7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亿元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3017.5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万笔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其中在淘宝商城的成交量也达到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2.5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亿元（占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2.1%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、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473.8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万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324000" y="1989000"/>
            <a:ext cx="4740120" cy="2880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3"/>
          <a:stretch/>
        </p:blipFill>
        <p:spPr>
          <a:xfrm>
            <a:off x="4227480" y="3645000"/>
            <a:ext cx="47372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家用电器”类成交量</a:t>
            </a:r>
            <a:r>
              <a:rPr b="1" lang="en-US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TOP10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品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539640" y="2052720"/>
            <a:ext cx="3943440" cy="2752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3"/>
          <a:stretch/>
        </p:blipFill>
        <p:spPr>
          <a:xfrm>
            <a:off x="4732200" y="2052720"/>
            <a:ext cx="394344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笔记本电脑”类成交量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68360" y="121140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笔记本电脑”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年度在淘宝全网成交量高达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71.6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亿元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180.7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万笔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其中在淘宝商城的成交量也达到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8.7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亿元（占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2.1%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、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9.6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万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4741920" cy="2880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3"/>
          <a:stretch/>
        </p:blipFill>
        <p:spPr>
          <a:xfrm>
            <a:off x="4227480" y="3645000"/>
            <a:ext cx="47372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笔记本电脑”类成交量</a:t>
            </a:r>
            <a:r>
              <a:rPr b="1" lang="en-US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TOP10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品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468360" y="2052720"/>
            <a:ext cx="3943440" cy="2752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3"/>
          <a:stretch/>
        </p:blipFill>
        <p:spPr>
          <a:xfrm>
            <a:off x="4660920" y="2052720"/>
            <a:ext cx="394344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电脑硬件</a:t>
            </a:r>
            <a:r>
              <a:rPr b="1" lang="en-US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/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配件”类成交量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68360" y="121140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电脑硬件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显示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电脑周边”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年度在淘宝全网成交量高达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81.4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亿元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2167.9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万笔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其中在淘宝商城的成交量也达到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4.9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亿元（占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6.1%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、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68.1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万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4741920" cy="2880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3"/>
          <a:stretch/>
        </p:blipFill>
        <p:spPr>
          <a:xfrm>
            <a:off x="4156200" y="3645000"/>
            <a:ext cx="47368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电脑硬件</a:t>
            </a:r>
            <a:r>
              <a:rPr b="1" lang="en-US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/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配件”类成交量</a:t>
            </a:r>
            <a:r>
              <a:rPr b="1" lang="en-US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TOP10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品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468360" y="2052720"/>
            <a:ext cx="3943440" cy="2752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3"/>
          <a:stretch/>
        </p:blipFill>
        <p:spPr>
          <a:xfrm>
            <a:off x="4660920" y="2052720"/>
            <a:ext cx="394344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内衣</a:t>
            </a:r>
            <a:r>
              <a:rPr b="1" lang="en-US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/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家居服”类成交量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468360" y="121140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女士内衣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男士内衣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家居服”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年度在淘宝全网成交量高达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51.9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亿元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9277.1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万笔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其中在淘宝商城的成交量也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亿元（占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7.2%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、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120.9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万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324000" y="1916280"/>
            <a:ext cx="4740120" cy="2881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3"/>
          <a:stretch/>
        </p:blipFill>
        <p:spPr>
          <a:xfrm>
            <a:off x="4211640" y="3645000"/>
            <a:ext cx="47372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内衣</a:t>
            </a:r>
            <a:r>
              <a:rPr b="1" lang="en-US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/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家居服”类成交量</a:t>
            </a:r>
            <a:r>
              <a:rPr b="1" lang="en-US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TOP10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品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484200" y="2052720"/>
            <a:ext cx="3943440" cy="2752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4716360" y="2052720"/>
            <a:ext cx="394344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童装”类成交量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468360" y="121140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童装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童鞋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孕妇装”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年度在淘宝全网成交量高达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58.9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亿元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9839.4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万笔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其中在淘宝商城的成交量也达到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4.8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亿元（占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8.1%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、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584.9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万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2"/>
          <a:stretch/>
        </p:blipFill>
        <p:spPr>
          <a:xfrm>
            <a:off x="263520" y="2060640"/>
            <a:ext cx="4740120" cy="2881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3"/>
          <a:stretch/>
        </p:blipFill>
        <p:spPr>
          <a:xfrm>
            <a:off x="4156200" y="3645000"/>
            <a:ext cx="47368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童装”类成交量</a:t>
            </a:r>
            <a:r>
              <a:rPr b="1" lang="en-US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TOP10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品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468360" y="2052720"/>
            <a:ext cx="3943440" cy="2752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3"/>
          <a:stretch/>
        </p:blipFill>
        <p:spPr>
          <a:xfrm>
            <a:off x="4660920" y="2052720"/>
            <a:ext cx="394344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ext Box 3" descr=""/>
          <p:cNvPicPr/>
          <p:nvPr/>
        </p:nvPicPr>
        <p:blipFill>
          <a:blip r:embed="rId2"/>
          <a:stretch/>
        </p:blipFill>
        <p:spPr>
          <a:xfrm>
            <a:off x="-6480" y="2793960"/>
            <a:ext cx="9156960" cy="1378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1620720" y="3087720"/>
            <a:ext cx="57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全类目成交总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女鞋”类成交量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468360" y="121140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女鞋”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年度在淘宝全网成交量高达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95.7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亿元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7038.7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万笔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其中在淘宝商城的成交量也达到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0.6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亿元（占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1.1%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、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773.8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万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4741920" cy="2881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3"/>
          <a:stretch/>
        </p:blipFill>
        <p:spPr>
          <a:xfrm>
            <a:off x="4156200" y="3718080"/>
            <a:ext cx="47368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女鞋”类成交量</a:t>
            </a:r>
            <a:r>
              <a:rPr b="1" lang="en-US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TOP10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品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539640" y="2052720"/>
            <a:ext cx="3943440" cy="2752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4732200" y="2052720"/>
            <a:ext cx="394344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男鞋”类成交量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468360" y="121140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男鞋”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年度在淘宝全网成交量高达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29.4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亿元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1838.8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万笔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其中在淘宝商城的成交量也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亿元（占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6.9%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、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80.2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万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4740120" cy="2881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3"/>
          <a:stretch/>
        </p:blipFill>
        <p:spPr>
          <a:xfrm>
            <a:off x="4227480" y="3718080"/>
            <a:ext cx="47372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男鞋”类成交量</a:t>
            </a:r>
            <a:r>
              <a:rPr b="1" lang="en-US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TOP10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品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2"/>
          <a:stretch/>
        </p:blipFill>
        <p:spPr>
          <a:xfrm>
            <a:off x="539640" y="2052720"/>
            <a:ext cx="3943440" cy="2752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3"/>
          <a:stretch/>
        </p:blipFill>
        <p:spPr>
          <a:xfrm>
            <a:off x="4732200" y="2052720"/>
            <a:ext cx="394344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运动鞋”类成交量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468360" y="121140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运动鞋”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年度在淘宝全网成交量高达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65.1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亿元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3645.9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万笔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其中在淘宝商城的成交量也达到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7.8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亿元（占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2.0%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、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392.5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万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4741920" cy="2879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3"/>
          <a:stretch/>
        </p:blipFill>
        <p:spPr>
          <a:xfrm>
            <a:off x="4156200" y="3789360"/>
            <a:ext cx="47368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运动鞋”类成交量</a:t>
            </a:r>
            <a:r>
              <a:rPr b="1" lang="en-US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TOP10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品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539640" y="2052720"/>
            <a:ext cx="3943440" cy="2752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4732200" y="2052720"/>
            <a:ext cx="394344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运动服”类成交量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468360" y="121140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运动服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运动包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颈环配件”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年度在淘宝全网成交量高达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24.4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亿元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1661.2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万笔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其中在淘宝商城的成交量也达到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3.3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亿元（占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3.6%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、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87.4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万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4741920" cy="2881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3"/>
          <a:stretch/>
        </p:blipFill>
        <p:spPr>
          <a:xfrm>
            <a:off x="4156200" y="3718080"/>
            <a:ext cx="47368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运动服”类成交量</a:t>
            </a:r>
            <a:r>
              <a:rPr b="1" lang="en-US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TOP10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品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2"/>
          <a:stretch/>
        </p:blipFill>
        <p:spPr>
          <a:xfrm>
            <a:off x="468360" y="2052720"/>
            <a:ext cx="3943440" cy="2752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3"/>
          <a:stretch/>
        </p:blipFill>
        <p:spPr>
          <a:xfrm>
            <a:off x="4660920" y="2052720"/>
            <a:ext cx="3943440" cy="27525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箱包皮具”类成交量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468360" y="121140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箱包皮具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热销女包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男包”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年度在淘宝全网成交量高达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84.2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亿元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5953.5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万笔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其中在淘宝商城的成交量也达到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7.5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亿元（占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8.9%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、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752.4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万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334800" y="2060640"/>
            <a:ext cx="4741920" cy="2879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3"/>
          <a:stretch/>
        </p:blipFill>
        <p:spPr>
          <a:xfrm>
            <a:off x="4227480" y="3645000"/>
            <a:ext cx="47372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箱包皮具”类成交量</a:t>
            </a:r>
            <a:r>
              <a:rPr b="1" lang="en-US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TOP10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品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468360" y="2052720"/>
            <a:ext cx="3943440" cy="2752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"/>
          <p:cNvPicPr/>
          <p:nvPr/>
        </p:nvPicPr>
        <p:blipFill>
          <a:blip r:embed="rId3"/>
          <a:stretch/>
        </p:blipFill>
        <p:spPr>
          <a:xfrm>
            <a:off x="4660920" y="2052720"/>
            <a:ext cx="394344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淘宝商城</a:t>
            </a:r>
            <a:r>
              <a:rPr b="1" lang="en-US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2010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年成交额增长远比集市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68360" y="113184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据淘宝内部数据显示：</a:t>
            </a:r>
            <a:r>
              <a:rPr b="1" lang="zh-CN" sz="1800" spc="-1" strike="noStrike">
                <a:solidFill>
                  <a:srgbClr val="ff3300"/>
                </a:solidFill>
                <a:latin typeface="华文细黑"/>
                <a:ea typeface="华文细黑"/>
              </a:rPr>
              <a:t>淘宝商城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010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年度交易额同比增长了近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倍，大大高于集市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80%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的增长率；其中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010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下半年的增长拉动更为强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4583160" y="1989000"/>
            <a:ext cx="4309920" cy="3600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250920" y="1989000"/>
            <a:ext cx="4302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数码摄影”类成交量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468360" y="121140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数码相机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摄像机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摄影器材”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年度在淘宝全网成交量高达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63.5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亿元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564.3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万笔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其中在淘宝商城的成交量也达到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7.6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亿元（占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2.0%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、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57.8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万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4741920" cy="2879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3"/>
          <a:stretch/>
        </p:blipFill>
        <p:spPr>
          <a:xfrm>
            <a:off x="4140360" y="3645000"/>
            <a:ext cx="4735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数码摄影”类成交量</a:t>
            </a:r>
            <a:r>
              <a:rPr b="1" lang="en-US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TOP10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品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2"/>
          <a:stretch/>
        </p:blipFill>
        <p:spPr>
          <a:xfrm>
            <a:off x="484200" y="2052720"/>
            <a:ext cx="3943440" cy="2752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3"/>
          <a:stretch/>
        </p:blipFill>
        <p:spPr>
          <a:xfrm>
            <a:off x="4660920" y="2052720"/>
            <a:ext cx="394344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汽车相关”类成交量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68360" y="121140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汽车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用品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配件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改装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摩托”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年度在淘宝全网成交量高达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67.5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亿元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4246.4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万笔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其中在淘宝商城的成交量也达到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7.8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亿元（占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1.5%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、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823.6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万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4740120" cy="2879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3"/>
          <a:stretch/>
        </p:blipFill>
        <p:spPr>
          <a:xfrm>
            <a:off x="4211640" y="3645000"/>
            <a:ext cx="47372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矩形 1"/>
          <p:cNvSpPr/>
          <p:nvPr/>
        </p:nvSpPr>
        <p:spPr>
          <a:xfrm>
            <a:off x="690840" y="3933720"/>
            <a:ext cx="369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4a452a"/>
                </a:solidFill>
                <a:latin typeface="Arial"/>
              </a:rPr>
              <a:t>作品下载：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xiazai/</a:t>
            </a:r>
            <a:r>
              <a:rPr b="0" lang="en-US" sz="18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汽车相关”类成交量</a:t>
            </a:r>
            <a:r>
              <a:rPr b="1" lang="en-US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TOP10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品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3"/>
          <a:stretch/>
        </p:blipFill>
        <p:spPr>
          <a:xfrm>
            <a:off x="484200" y="2052720"/>
            <a:ext cx="3943440" cy="2752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4"/>
          <a:stretch/>
        </p:blipFill>
        <p:spPr>
          <a:xfrm>
            <a:off x="4732200" y="2052720"/>
            <a:ext cx="394344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手表”类成交量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468360" y="121140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品牌手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流行手表”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年度在淘宝全网成交量高达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44.5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亿元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982.3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万笔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其中在淘宝商城的成交量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亿元（占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6.7%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、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05.8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万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4740120" cy="2879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3"/>
          <a:stretch/>
        </p:blipFill>
        <p:spPr>
          <a:xfrm>
            <a:off x="4227480" y="3645000"/>
            <a:ext cx="47372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手表”类成交量</a:t>
            </a:r>
            <a:r>
              <a:rPr b="1" lang="en-US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TOP10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品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2"/>
          <a:stretch/>
        </p:blipFill>
        <p:spPr>
          <a:xfrm>
            <a:off x="484200" y="2052720"/>
            <a:ext cx="3943440" cy="2752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"/>
          <p:cNvPicPr/>
          <p:nvPr/>
        </p:nvPicPr>
        <p:blipFill>
          <a:blip r:embed="rId3"/>
          <a:stretch/>
        </p:blipFill>
        <p:spPr>
          <a:xfrm>
            <a:off x="4660920" y="2052720"/>
            <a:ext cx="394344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零食</a:t>
            </a:r>
            <a:r>
              <a:rPr b="1" lang="en-US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/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特产”类成交量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468360" y="121140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零食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坚果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茶叶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特产”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年度在淘宝全网成交量高达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56.9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亿元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8850.6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万笔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其中在淘宝商城的成交量也达到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5.8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亿元（占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0.2%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、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958.9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万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250920" y="2000160"/>
            <a:ext cx="4741920" cy="2879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4156200" y="3645000"/>
            <a:ext cx="47368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零食</a:t>
            </a:r>
            <a:r>
              <a:rPr b="1" lang="en-US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/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特产”类成交量</a:t>
            </a:r>
            <a:r>
              <a:rPr b="1" lang="en-US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TOP10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品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539640" y="2052720"/>
            <a:ext cx="3943440" cy="2752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3"/>
          <a:stretch/>
        </p:blipFill>
        <p:spPr>
          <a:xfrm>
            <a:off x="4716360" y="2052720"/>
            <a:ext cx="394344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奶粉</a:t>
            </a:r>
            <a:r>
              <a:rPr b="1" lang="en-US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/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辅食”类成交量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468360" y="121140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奶粉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辅食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营养品”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年度在淘宝全网成交量高达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43.2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亿元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1245.1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万笔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其中在淘宝商城的成交量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5697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万元（占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.3%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、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7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万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2"/>
          <a:stretch/>
        </p:blipFill>
        <p:spPr>
          <a:xfrm>
            <a:off x="250920" y="2000160"/>
            <a:ext cx="4741920" cy="2879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3"/>
          <a:stretch/>
        </p:blipFill>
        <p:spPr>
          <a:xfrm>
            <a:off x="4156200" y="3718080"/>
            <a:ext cx="47368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奶粉</a:t>
            </a:r>
            <a:r>
              <a:rPr b="1" lang="en-US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/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辅食”类成交量</a:t>
            </a:r>
            <a:r>
              <a:rPr b="1" lang="en-US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TOP10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品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484200" y="2052720"/>
            <a:ext cx="3943440" cy="2752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3"/>
          <a:stretch/>
        </p:blipFill>
        <p:spPr>
          <a:xfrm>
            <a:off x="4732200" y="2052720"/>
            <a:ext cx="394344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淘宝商城</a:t>
            </a:r>
            <a:r>
              <a:rPr b="1" lang="en-US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2010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年成交份额进一步扩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68360" y="113184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华文细黑"/>
                <a:ea typeface="华文细黑"/>
              </a:rPr>
              <a:t>淘宝商城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010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年度交易额占全网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7.8%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的份额（其中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010Q4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已接近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1%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，较去年增长了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4.7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个百分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2"/>
          <a:stretch/>
        </p:blipFill>
        <p:spPr>
          <a:xfrm>
            <a:off x="4140360" y="1989000"/>
            <a:ext cx="4752720" cy="3961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"/>
          <p:cNvPicPr/>
          <p:nvPr/>
        </p:nvPicPr>
        <p:blipFill>
          <a:blip r:embed="rId3"/>
          <a:stretch/>
        </p:blipFill>
        <p:spPr>
          <a:xfrm>
            <a:off x="320760" y="1989000"/>
            <a:ext cx="3746520" cy="3167280"/>
          </a:xfrm>
          <a:prstGeom prst="rect">
            <a:avLst/>
          </a:prstGeom>
          <a:ln w="0">
            <a:noFill/>
          </a:ln>
        </p:spPr>
      </p:pic>
      <p:sp>
        <p:nvSpPr>
          <p:cNvPr id="59" name="右箭头 7"/>
          <p:cNvSpPr/>
          <p:nvPr/>
        </p:nvSpPr>
        <p:spPr>
          <a:xfrm>
            <a:off x="3780000" y="3429000"/>
            <a:ext cx="647640" cy="36036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居家日用”类成交量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468360" y="121140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居家日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收纳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礼品”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年度在淘宝全网成交量高达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31.6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亿元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7503.2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万笔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其中在淘宝商城的成交量也达到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.4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亿元（占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7.6%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、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606.6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万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4741920" cy="2880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3"/>
          <a:stretch/>
        </p:blipFill>
        <p:spPr>
          <a:xfrm>
            <a:off x="4156200" y="3716280"/>
            <a:ext cx="47368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居家日用”类成交量</a:t>
            </a:r>
            <a:r>
              <a:rPr b="1" lang="en-US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TOP10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品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539640" y="2052720"/>
            <a:ext cx="3943440" cy="2752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3"/>
          <a:stretch/>
        </p:blipFill>
        <p:spPr>
          <a:xfrm>
            <a:off x="4732200" y="2052720"/>
            <a:ext cx="394344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装修建材”类成交量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468360" y="121140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装潢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灯具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五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安防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卫浴”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年度在淘宝全网成交量高达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72.9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亿元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3770.3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万笔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其中在淘宝商城的成交量也达到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6.1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亿元（占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8.4%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、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467.1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万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2"/>
          <a:stretch/>
        </p:blipFill>
        <p:spPr>
          <a:xfrm>
            <a:off x="295200" y="2060640"/>
            <a:ext cx="4564080" cy="2879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"/>
          <p:cNvPicPr/>
          <p:nvPr/>
        </p:nvPicPr>
        <p:blipFill>
          <a:blip r:embed="rId3"/>
          <a:stretch/>
        </p:blipFill>
        <p:spPr>
          <a:xfrm>
            <a:off x="4284720" y="3645000"/>
            <a:ext cx="45594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装修建材”类成交量</a:t>
            </a:r>
            <a:r>
              <a:rPr b="1" lang="en-US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TOP10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品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468360" y="2052720"/>
            <a:ext cx="3943440" cy="2752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3"/>
          <a:stretch/>
        </p:blipFill>
        <p:spPr>
          <a:xfrm>
            <a:off x="4732200" y="2052720"/>
            <a:ext cx="394344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8750-EE3B-4F7F-A033-5458C89E1D9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2010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年淘宝平台成交额</a:t>
            </a:r>
            <a:r>
              <a:rPr b="1" lang="en-US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TOP10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类目占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468360" y="105264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010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年度“</a:t>
            </a:r>
            <a:r>
              <a:rPr b="1" lang="zh-CN" sz="1800" spc="-1" strike="noStrike">
                <a:solidFill>
                  <a:srgbClr val="ff3300"/>
                </a:solidFill>
                <a:latin typeface="华文细黑"/>
                <a:ea typeface="华文细黑"/>
              </a:rPr>
              <a:t>女装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” 仍居淘宝各平台交易份额首位（占比均在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0%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以上），“</a:t>
            </a:r>
            <a:r>
              <a:rPr b="1" lang="zh-CN" sz="1800" spc="-1" strike="noStrike">
                <a:solidFill>
                  <a:srgbClr val="ff3300"/>
                </a:solidFill>
                <a:latin typeface="华文细黑"/>
                <a:ea typeface="华文细黑"/>
              </a:rPr>
              <a:t>手机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</a:t>
            </a:r>
            <a:r>
              <a:rPr b="1" lang="zh-CN" sz="1800" spc="-1" strike="noStrike">
                <a:solidFill>
                  <a:srgbClr val="ff3300"/>
                </a:solidFill>
                <a:latin typeface="华文细黑"/>
                <a:ea typeface="华文细黑"/>
              </a:rPr>
              <a:t>男装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</a:t>
            </a:r>
            <a:r>
              <a:rPr b="1" lang="zh-CN" sz="1800" spc="-1" strike="noStrike">
                <a:solidFill>
                  <a:srgbClr val="ff3300"/>
                </a:solidFill>
                <a:latin typeface="华文细黑"/>
                <a:ea typeface="华文细黑"/>
              </a:rPr>
              <a:t>美容护肤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</a:t>
            </a:r>
            <a:r>
              <a:rPr b="1" lang="zh-CN" sz="1800" spc="-1" strike="noStrike">
                <a:solidFill>
                  <a:srgbClr val="ff3300"/>
                </a:solidFill>
                <a:latin typeface="华文细黑"/>
                <a:ea typeface="华文细黑"/>
              </a:rPr>
              <a:t>家电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</a:t>
            </a:r>
            <a:r>
              <a:rPr b="1" lang="zh-CN" sz="1800" spc="-1" strike="noStrike">
                <a:solidFill>
                  <a:srgbClr val="ff3300"/>
                </a:solidFill>
                <a:latin typeface="华文细黑"/>
                <a:ea typeface="华文细黑"/>
              </a:rPr>
              <a:t>女鞋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”也均在各平台中排名前十强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"/>
          <p:cNvPicPr/>
          <p:nvPr/>
        </p:nvPicPr>
        <p:blipFill>
          <a:blip r:embed="rId2"/>
          <a:stretch/>
        </p:blipFill>
        <p:spPr>
          <a:xfrm>
            <a:off x="270000" y="1844640"/>
            <a:ext cx="5670360" cy="324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"/>
          <p:cNvPicPr/>
          <p:nvPr/>
        </p:nvPicPr>
        <p:blipFill>
          <a:blip r:embed="rId3"/>
          <a:stretch/>
        </p:blipFill>
        <p:spPr>
          <a:xfrm>
            <a:off x="3227400" y="3284640"/>
            <a:ext cx="56656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468360" y="1058760"/>
            <a:ext cx="813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010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年度</a:t>
            </a:r>
            <a:r>
              <a:rPr b="1" lang="zh-CN" sz="1800" spc="-1" strike="noStrike">
                <a:solidFill>
                  <a:srgbClr val="ff3300"/>
                </a:solidFill>
                <a:latin typeface="华文细黑"/>
                <a:ea typeface="华文细黑"/>
              </a:rPr>
              <a:t>淘宝商城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成交额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TOP10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类目的季度增长性明显高于集市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010Q4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受益于用户的集中消费，“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服装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”类在各平台均呈现暴发式增长，表现最为抢眼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2010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年淘宝平台成交额</a:t>
            </a:r>
            <a:r>
              <a:rPr b="1" lang="en-US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TOP10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类目成长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5" descr=""/>
          <p:cNvPicPr/>
          <p:nvPr/>
        </p:nvPicPr>
        <p:blipFill>
          <a:blip r:embed="rId2"/>
          <a:stretch/>
        </p:blipFill>
        <p:spPr>
          <a:xfrm>
            <a:off x="4067280" y="3286080"/>
            <a:ext cx="4863960" cy="3238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"/>
          <p:cNvPicPr/>
          <p:nvPr/>
        </p:nvPicPr>
        <p:blipFill>
          <a:blip r:embed="rId3"/>
          <a:stretch/>
        </p:blipFill>
        <p:spPr>
          <a:xfrm>
            <a:off x="284040" y="2278080"/>
            <a:ext cx="48643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标题 1"/>
          <p:cNvSpPr/>
          <p:nvPr/>
        </p:nvSpPr>
        <p:spPr>
          <a:xfrm>
            <a:off x="1187280" y="260280"/>
            <a:ext cx="6624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2010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年淘宝平台增长最快的</a:t>
            </a:r>
            <a:r>
              <a:rPr b="1" lang="en-US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TOP10</a:t>
            </a:r>
            <a:r>
              <a:rPr b="1" lang="zh-CN" sz="2400" spc="-1" strike="noStrike">
                <a:solidFill>
                  <a:srgbClr val="4a452a"/>
                </a:solidFill>
                <a:latin typeface="微软雅黑"/>
                <a:ea typeface="微软雅黑"/>
              </a:rPr>
              <a:t>类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5364000" y="2351160"/>
            <a:ext cx="3456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010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淘宝集市成交额同比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TOP10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类目的增长率在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1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倍以上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；淘宝商城成交额同比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TOP10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类目的增长率则在</a:t>
            </a:r>
            <a:r>
              <a:rPr b="1" lang="en-US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8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倍以上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华文细黑"/>
                <a:ea typeface="华文细黑"/>
              </a:rPr>
              <a:t>“</a:t>
            </a:r>
            <a:r>
              <a:rPr b="1" lang="zh-CN" sz="1800" spc="-1" strike="noStrike">
                <a:solidFill>
                  <a:srgbClr val="ff3300"/>
                </a:solidFill>
                <a:latin typeface="华文细黑"/>
                <a:ea typeface="华文细黑"/>
              </a:rPr>
              <a:t>网络</a:t>
            </a:r>
            <a:r>
              <a:rPr b="1" lang="en-US" sz="1800" spc="-1" strike="noStrike">
                <a:solidFill>
                  <a:srgbClr val="ff3300"/>
                </a:solidFill>
                <a:latin typeface="华文细黑"/>
                <a:ea typeface="华文细黑"/>
              </a:rPr>
              <a:t>/</a:t>
            </a:r>
            <a:r>
              <a:rPr b="1" lang="zh-CN" sz="1800" spc="-1" strike="noStrike">
                <a:solidFill>
                  <a:srgbClr val="ff3300"/>
                </a:solidFill>
                <a:latin typeface="华文细黑"/>
                <a:ea typeface="华文细黑"/>
              </a:rPr>
              <a:t>软件”、“酒店</a:t>
            </a:r>
            <a:r>
              <a:rPr b="1" lang="en-US" sz="1800" spc="-1" strike="noStrike">
                <a:solidFill>
                  <a:srgbClr val="ff3300"/>
                </a:solidFill>
                <a:latin typeface="华文细黑"/>
                <a:ea typeface="华文细黑"/>
              </a:rPr>
              <a:t>/</a:t>
            </a:r>
            <a:r>
              <a:rPr b="1" lang="zh-CN" sz="1800" spc="-1" strike="noStrike">
                <a:solidFill>
                  <a:srgbClr val="ff3300"/>
                </a:solidFill>
                <a:latin typeface="华文细黑"/>
                <a:ea typeface="华文细黑"/>
              </a:rPr>
              <a:t>旅游”、“建材</a:t>
            </a:r>
            <a:r>
              <a:rPr b="1" lang="en-US" sz="1800" spc="-1" strike="noStrike">
                <a:solidFill>
                  <a:srgbClr val="ff3300"/>
                </a:solidFill>
                <a:latin typeface="华文细黑"/>
                <a:ea typeface="华文细黑"/>
              </a:rPr>
              <a:t>/</a:t>
            </a:r>
            <a:r>
              <a:rPr b="1" lang="zh-CN" sz="1800" spc="-1" strike="noStrike">
                <a:solidFill>
                  <a:srgbClr val="ff3300"/>
                </a:solidFill>
                <a:latin typeface="华文细黑"/>
                <a:ea typeface="华文细黑"/>
              </a:rPr>
              <a:t>五金”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均是淘宝各平台</a:t>
            </a:r>
            <a:r>
              <a:rPr b="1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010</a:t>
            </a:r>
            <a:r>
              <a:rPr b="1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年度同比增长率较快的类目 ；而各平台其它增长较快的类目则存在明显差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4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4956120" cy="3240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6" descr=""/>
          <p:cNvPicPr/>
          <p:nvPr/>
        </p:nvPicPr>
        <p:blipFill>
          <a:blip r:embed="rId3"/>
          <a:stretch/>
        </p:blipFill>
        <p:spPr>
          <a:xfrm>
            <a:off x="179280" y="3573360"/>
            <a:ext cx="49467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ext Box 3" descr=""/>
          <p:cNvPicPr/>
          <p:nvPr/>
        </p:nvPicPr>
        <p:blipFill>
          <a:blip r:embed="rId2"/>
          <a:stretch/>
        </p:blipFill>
        <p:spPr>
          <a:xfrm>
            <a:off x="-6480" y="2793960"/>
            <a:ext cx="9156960" cy="13780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1620720" y="2886120"/>
            <a:ext cx="57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各平台重点类目成交量变化及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OP10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6T10:10:57Z</dcterms:created>
  <dc:creator>User</dc:creator>
  <dc:description/>
  <dc:language>en-US</dc:language>
  <cp:lastModifiedBy>jccook</cp:lastModifiedBy>
  <dcterms:modified xsi:type="dcterms:W3CDTF">2015-08-03T12:33:10Z</dcterms:modified>
  <cp:revision>38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文档</vt:lpwstr>
  </property>
  <property fmtid="{D5CDD505-2E9C-101B-9397-08002B2CF9AE}" pid="3" name="KSOProductBuildVer">
    <vt:lpwstr>2052-9.1.0.5132</vt:lpwstr>
  </property>
  <property fmtid="{D5CDD505-2E9C-101B-9397-08002B2CF9AE}" pid="4" name="Version">
    <vt:r8>1</vt:r8>
  </property>
</Properties>
</file>