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DADF-8B3B-4D83-B931-24C27F7F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CED9-7877-4D49-8285-025B28A2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39A0-24C9-42A3-94EA-F2D6971E4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AE58-77B2-49C6-ADA2-444ECC66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9DEE-5E89-4881-A5A8-3976B52F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9CAF-5CBD-477D-846E-A88669CB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6EAA-419B-4C5C-8740-01F3A247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54F4-A6B4-4611-8D78-7FD3E370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CD7B-6B79-411B-947E-9C51964F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B1B9-4AFE-4E16-9405-B6C19A96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CDB7-EB62-47F1-A69F-C2A99DA6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8B50-D757-4DD2-B5FF-A7FDF14A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E75B-7292-433F-9B48-14C5E7830883}" type="slidenum"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7.png"/><Relationship Id="rId5" Type="http://schemas.openxmlformats.org/officeDocument/2006/relationships/image" Target="../media/image9.jpeg"/><Relationship Id="rId6" Type="http://schemas.openxmlformats.org/officeDocument/2006/relationships/image" Target="../media/image7.png"/><Relationship Id="rId7" Type="http://schemas.openxmlformats.org/officeDocument/2006/relationships/image" Target="../media/image10.jpeg"/><Relationship Id="rId8" Type="http://schemas.openxmlformats.org/officeDocument/2006/relationships/image" Target="../media/image7.pn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419112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i="1" lang="en-US" sz="5400" spc="-1" strike="noStrike">
                <a:solidFill>
                  <a:srgbClr val="ff6600"/>
                </a:solidFill>
                <a:latin typeface="Impact"/>
                <a:ea typeface="宋体"/>
              </a:rPr>
              <a:t>MICROSCOPE CIRCLES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05120" y="5181120"/>
            <a:ext cx="5029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SzPct val="200000"/>
              <a:buFont typeface="Microstyle Bold Extended ATT"/>
              <a:buChar char="•"/>
            </a:pPr>
            <a:r>
              <a:rPr b="0" i="1" lang="en-US" sz="2400" spc="-1" strike="noStrike">
                <a:solidFill>
                  <a:srgbClr val="ff6600"/>
                </a:solidFill>
                <a:latin typeface="Microstyle Bold Extended ATT"/>
                <a:ea typeface="宋体"/>
              </a:rPr>
              <a:t>Your Subtitle Goes He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320" y="228600"/>
            <a:ext cx="3581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Impact"/>
                <a:ea typeface="宋体"/>
              </a:rPr>
              <a:t>Your Topic Goes Here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" y="9144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SzPct val="200000"/>
              <a:buFont typeface="Impact"/>
              <a:buChar char="•"/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  <a:ea typeface="宋体"/>
              </a:rPr>
              <a:t>Your subtopic goes he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510552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2286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240" y="9144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200000"/>
              <a:buFont typeface="Impact"/>
              <a:buChar char="•"/>
            </a:pPr>
            <a:r>
              <a:rPr b="0" lang="en-US" sz="1400" spc="-1" strike="noStrike">
                <a:solidFill>
                  <a:srgbClr val="ff6600"/>
                </a:solidFill>
                <a:latin typeface="Impact"/>
                <a:ea typeface="宋体"/>
              </a:rPr>
              <a:t>Your subtopic goes he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D84B-A735-4AFE-A0D0-4FFA01695E5A}" type="slidenum">
              <a:t>5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52280" y="944640"/>
            <a:ext cx="243864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double click them and size it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animfactory_logo"/>
          <p:cNvPicPr/>
          <p:nvPr/>
        </p:nvPicPr>
        <p:blipFill>
          <a:blip r:embed="rId1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-456120" y="700200"/>
            <a:ext cx="3336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438280" y="2286000"/>
            <a:ext cx="6477120" cy="360"/>
            <a:chOff x="2438280" y="2286000"/>
            <a:chExt cx="6477120" cy="360"/>
          </a:xfrm>
        </p:grpSpPr>
        <p:sp>
          <p:nvSpPr>
            <p:cNvPr id="57" name="Line 8"/>
            <p:cNvSpPr/>
            <p:nvPr/>
          </p:nvSpPr>
          <p:spPr>
            <a:xfrm>
              <a:off x="2438280" y="22860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 txBox="1"/>
            <p:nvPr/>
          </p:nvSpPr>
          <p:spPr>
            <a:xfrm>
              <a:off x="2438280" y="2286000"/>
              <a:ext cx="6477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56"/>
          <p:cNvSpPr/>
          <p:nvPr/>
        </p:nvSpPr>
        <p:spPr>
          <a:xfrm>
            <a:off x="228600" y="2209680"/>
            <a:ext cx="24382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Ima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Most of these .gifs, .jpgs, and .png images can be scaled up to fit your need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7"/>
          <p:cNvSpPr/>
          <p:nvPr/>
        </p:nvSpPr>
        <p:spPr>
          <a:xfrm>
            <a:off x="1753560" y="639720"/>
            <a:ext cx="307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8"/>
          <p:cNvSpPr/>
          <p:nvPr/>
        </p:nvSpPr>
        <p:spPr>
          <a:xfrm>
            <a:off x="3354840" y="639720"/>
            <a:ext cx="312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9"/>
          <p:cNvSpPr/>
          <p:nvPr/>
        </p:nvSpPr>
        <p:spPr>
          <a:xfrm>
            <a:off x="4953600" y="639720"/>
            <a:ext cx="31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0"/>
          <p:cNvSpPr/>
          <p:nvPr/>
        </p:nvSpPr>
        <p:spPr>
          <a:xfrm>
            <a:off x="6283800" y="639720"/>
            <a:ext cx="362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5146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5" name="Picture 152" descr="mircroscope_circles_qx"/>
          <p:cNvPicPr/>
          <p:nvPr/>
        </p:nvPicPr>
        <p:blipFill>
          <a:blip r:embed="rId3"/>
          <a:stretch/>
        </p:blipFill>
        <p:spPr>
          <a:xfrm>
            <a:off x="25146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148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7" name="Picture 153" descr="microscope_circles_sld"/>
          <p:cNvPicPr/>
          <p:nvPr/>
        </p:nvPicPr>
        <p:blipFill>
          <a:blip r:embed="rId5"/>
          <a:stretch/>
        </p:blipFill>
        <p:spPr>
          <a:xfrm>
            <a:off x="41148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57150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9" name="Picture 154" descr="microscope_circles_prt"/>
          <p:cNvPicPr/>
          <p:nvPr/>
        </p:nvPicPr>
        <p:blipFill>
          <a:blip r:embed="rId7"/>
          <a:stretch/>
        </p:blipFill>
        <p:spPr>
          <a:xfrm>
            <a:off x="57150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73152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71" name="Picture 155" descr="microscope_circles_trs"/>
          <p:cNvPicPr/>
          <p:nvPr/>
        </p:nvPicPr>
        <p:blipFill>
          <a:blip r:embed="rId9"/>
          <a:stretch/>
        </p:blipFill>
        <p:spPr>
          <a:xfrm>
            <a:off x="73152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4T04:54:00Z</dcterms:created>
  <dc:creator>YANGS</dc:creator>
  <dc:description/>
  <dc:language>en-US</dc:language>
  <cp:lastModifiedBy>YANGS</cp:lastModifiedBy>
  <dcterms:modified xsi:type="dcterms:W3CDTF">2015-08-03T12:31:52Z</dcterms:modified>
  <cp:revision>1</cp:revision>
  <dc:subject/>
  <dc:title>MICROSCOPE CIRC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