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D62-FDAA-40B1-B1EC-A3278A36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15F-D499-4189-AED6-936DDDFF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221-5E9B-43FC-9693-38D9CFB0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385-0BA3-460B-8F32-6BD8C6AB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273-C3B2-4EB1-89FC-E016CAF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31F-4E23-4849-BEE8-F8113BE9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602-C656-4115-8636-809D9F79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C84-BC38-40CE-AE26-B9EC16CC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603-6A11-46A7-A4CE-7327483C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1AA-C62B-48E0-9251-1E126E2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21C-52B7-494C-8639-45377E5E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E50-4C13-4719-AA96-68A574FC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C5EB-9EA1-43FF-BE00-FE945E19AB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C21A-0862-461B-A893-EEB603947D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3"/>
          <p:cNvSpPr/>
          <p:nvPr/>
        </p:nvSpPr>
        <p:spPr>
          <a:xfrm>
            <a:off x="-863640" y="-631800"/>
            <a:ext cx="790560" cy="79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4"/>
          <p:cNvSpPr/>
          <p:nvPr/>
        </p:nvSpPr>
        <p:spPr>
          <a:xfrm>
            <a:off x="1476360" y="-1011240"/>
            <a:ext cx="790560" cy="79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5"/>
          <p:cNvSpPr/>
          <p:nvPr/>
        </p:nvSpPr>
        <p:spPr>
          <a:xfrm>
            <a:off x="8313840" y="5195880"/>
            <a:ext cx="792000" cy="79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"/>
          <p:cNvSpPr/>
          <p:nvPr/>
        </p:nvSpPr>
        <p:spPr>
          <a:xfrm>
            <a:off x="9252000" y="4083120"/>
            <a:ext cx="792000" cy="792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9468000" y="1012680"/>
            <a:ext cx="792000" cy="792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9264600" y="-395280"/>
            <a:ext cx="792360" cy="792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-252360" y="5380200"/>
            <a:ext cx="792000" cy="7920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-961920" y="3940200"/>
            <a:ext cx="790560" cy="792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-1044720" y="700200"/>
            <a:ext cx="792360" cy="792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1871640" y="5208480"/>
            <a:ext cx="792360" cy="792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7812000" y="-1012680"/>
            <a:ext cx="792360" cy="7905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4"/>
          <p:cNvSpPr/>
          <p:nvPr/>
        </p:nvSpPr>
        <p:spPr>
          <a:xfrm>
            <a:off x="5099040" y="-1011240"/>
            <a:ext cx="792000" cy="7920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5"/>
          <p:cNvSpPr/>
          <p:nvPr/>
        </p:nvSpPr>
        <p:spPr>
          <a:xfrm>
            <a:off x="4356000" y="5380200"/>
            <a:ext cx="792360" cy="7920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6"/>
          <p:cNvSpPr/>
          <p:nvPr/>
        </p:nvSpPr>
        <p:spPr>
          <a:xfrm>
            <a:off x="6372360" y="5380200"/>
            <a:ext cx="792000" cy="7920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F:\ppt素材\ppt图片\烟大校徽.jpg"/>
          <p:cNvPicPr/>
          <p:nvPr/>
        </p:nvPicPr>
        <p:blipFill>
          <a:blip r:embed="rId15"/>
          <a:srcRect l="4913" t="1938" r="4913" b="3924"/>
          <a:stretch/>
        </p:blipFill>
        <p:spPr>
          <a:xfrm>
            <a:off x="3203640" y="1262160"/>
            <a:ext cx="2643120" cy="2604960"/>
          </a:xfrm>
          <a:prstGeom prst="rect">
            <a:avLst/>
          </a:prstGeom>
          <a:ln w="0">
            <a:noFill/>
          </a:ln>
        </p:spPr>
      </p:pic>
      <p:sp>
        <p:nvSpPr>
          <p:cNvPr id="56" name="矩形 1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8480" y="4842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烟台大学开题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23" presetSubtype="54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7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7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23" presetSubtype="544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7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75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5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3" presetSubtype="54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7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23" presetSubtype="544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75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75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23" presetSubtype="54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7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23" presetSubtype="544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75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75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75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23" presetSubtype="54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75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75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5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5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23" presetSubtype="544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dur="indefinite" nodeType="after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66667E-006 3.20988E-006 L -0.39635 -0.36235 E">
                                      <p:cBhvr>
                                        <p:cTn id="96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98" dur="750" fill="hold"/>
                                        <p:tgtEl>
                                          <p:spTgt spid="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ppt素材\ppt图片\烟大校徽.jpg"/>
          <p:cNvPicPr/>
          <p:nvPr/>
        </p:nvPicPr>
        <p:blipFill>
          <a:blip r:embed="rId1"/>
          <a:srcRect l="4913" t="1938" r="4913" b="3924"/>
          <a:stretch/>
        </p:blipFill>
        <p:spPr>
          <a:xfrm>
            <a:off x="231840" y="50760"/>
            <a:ext cx="1333440" cy="1314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2411280" y="7002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烟台大学</a:t>
            </a:r>
            <a:r>
              <a:rPr b="0" lang="en-US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年开题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-1547640" y="1441440"/>
            <a:ext cx="21458160" cy="54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/>
          <p:cNvSpPr/>
          <p:nvPr/>
        </p:nvSpPr>
        <p:spPr>
          <a:xfrm flipV="1" rot="5400000">
            <a:off x="9901080" y="2930760"/>
            <a:ext cx="3095640" cy="216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rcRect l="0" t="20565" r="0" b="3459"/>
          <a:stretch/>
        </p:blipFill>
        <p:spPr>
          <a:xfrm>
            <a:off x="-34920" y="1492200"/>
            <a:ext cx="11447280" cy="3095640"/>
          </a:xfrm>
          <a:prstGeom prst="rect">
            <a:avLst/>
          </a:prstGeom>
          <a:ln w="0">
            <a:noFill/>
          </a:ln>
        </p:spPr>
      </p:pic>
      <p:sp>
        <p:nvSpPr>
          <p:cNvPr id="64" name="矩形 12"/>
          <p:cNvSpPr/>
          <p:nvPr/>
        </p:nvSpPr>
        <p:spPr>
          <a:xfrm>
            <a:off x="7093080" y="1446120"/>
            <a:ext cx="4464000" cy="31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-34920" y="4587840"/>
            <a:ext cx="9360000" cy="46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-252360" y="1473120"/>
            <a:ext cx="9577440" cy="66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"/>
                            </p:stCondLst>
                            <p:childTnLst>
                              <p:par>
                                <p:cTn id="107" dur="indefinite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autoRev="1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8.64198E-007 L 0.00399 -0.32747 E">
                                      <p:cBhvr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5399940">
                                      <p:cBhvr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750"/>
                            </p:stCondLst>
                            <p:childTnLst>
                              <p:par>
                                <p:cTn id="13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46914E-007 L -1.29531 0.00648 E">
                                      <p:cBhvr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38889E-006 6.17284E-007 L -0.18507 0.0071 E">
                                      <p:cBhvr>
                                        <p:cTn id="140" dur="8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8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3"/>
          <p:cNvSpPr/>
          <p:nvPr/>
        </p:nvSpPr>
        <p:spPr>
          <a:xfrm>
            <a:off x="2700360" y="339840"/>
            <a:ext cx="61563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 rot="5400000">
            <a:off x="-896760" y="3503520"/>
            <a:ext cx="2630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395280" y="4819680"/>
            <a:ext cx="84614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 rot="5400000">
            <a:off x="6592680" y="2558880"/>
            <a:ext cx="448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等腰三角形 8"/>
          <p:cNvSpPr/>
          <p:nvPr/>
        </p:nvSpPr>
        <p:spPr>
          <a:xfrm rot="5400000">
            <a:off x="405720" y="-442080"/>
            <a:ext cx="2571840" cy="345600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0066cc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 rot="5400000">
            <a:off x="37080" y="1805760"/>
            <a:ext cx="762120" cy="48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 rot="10800000">
            <a:off x="1692360" y="348480"/>
            <a:ext cx="1224000" cy="41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1"/>
          <p:cNvGrpSpPr/>
          <p:nvPr/>
        </p:nvGrpSpPr>
        <p:grpSpPr>
          <a:xfrm>
            <a:off x="7740720" y="3436920"/>
            <a:ext cx="799920" cy="1325520"/>
            <a:chOff x="7740720" y="3436920"/>
            <a:chExt cx="799920" cy="1325520"/>
          </a:xfrm>
        </p:grpSpPr>
        <p:sp>
          <p:nvSpPr>
            <p:cNvPr id="76" name="Freeform 19"/>
            <p:cNvSpPr/>
            <p:nvPr/>
          </p:nvSpPr>
          <p:spPr>
            <a:xfrm>
              <a:off x="8137800" y="3755520"/>
              <a:ext cx="684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>
              <a:off x="8058240" y="3502800"/>
              <a:ext cx="13968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1"/>
            <p:cNvSpPr/>
            <p:nvPr/>
          </p:nvSpPr>
          <p:spPr>
            <a:xfrm>
              <a:off x="8284680" y="3554280"/>
              <a:ext cx="141120" cy="20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2"/>
            <p:cNvSpPr/>
            <p:nvPr/>
          </p:nvSpPr>
          <p:spPr>
            <a:xfrm>
              <a:off x="7898040" y="3962520"/>
              <a:ext cx="166680" cy="26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3"/>
            <p:cNvSpPr/>
            <p:nvPr/>
          </p:nvSpPr>
          <p:spPr>
            <a:xfrm>
              <a:off x="7740720" y="3436920"/>
              <a:ext cx="799920" cy="119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4"/>
            <p:cNvSpPr/>
            <p:nvPr/>
          </p:nvSpPr>
          <p:spPr>
            <a:xfrm>
              <a:off x="7841880" y="4421160"/>
              <a:ext cx="81360" cy="7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5"/>
            <p:cNvSpPr/>
            <p:nvPr/>
          </p:nvSpPr>
          <p:spPr>
            <a:xfrm>
              <a:off x="7752960" y="4551120"/>
              <a:ext cx="53388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2"/>
          <p:cNvGrpSpPr/>
          <p:nvPr/>
        </p:nvGrpSpPr>
        <p:grpSpPr>
          <a:xfrm>
            <a:off x="2266920" y="2216160"/>
            <a:ext cx="878040" cy="909720"/>
            <a:chOff x="2266920" y="2216160"/>
            <a:chExt cx="878040" cy="909720"/>
          </a:xfrm>
        </p:grpSpPr>
        <p:sp>
          <p:nvSpPr>
            <p:cNvPr id="84" name="矩形 23"/>
            <p:cNvSpPr/>
            <p:nvPr/>
          </p:nvSpPr>
          <p:spPr>
            <a:xfrm>
              <a:off x="2275920" y="2216160"/>
              <a:ext cx="86544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4"/>
            <p:cNvSpPr/>
            <p:nvPr/>
          </p:nvSpPr>
          <p:spPr>
            <a:xfrm>
              <a:off x="2266920" y="2936160"/>
              <a:ext cx="8780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25"/>
          <p:cNvGrpSpPr/>
          <p:nvPr/>
        </p:nvGrpSpPr>
        <p:grpSpPr>
          <a:xfrm>
            <a:off x="2274840" y="915840"/>
            <a:ext cx="876240" cy="909720"/>
            <a:chOff x="2274840" y="915840"/>
            <a:chExt cx="876240" cy="909720"/>
          </a:xfrm>
        </p:grpSpPr>
        <p:sp>
          <p:nvSpPr>
            <p:cNvPr id="87" name="矩形 26"/>
            <p:cNvSpPr/>
            <p:nvPr/>
          </p:nvSpPr>
          <p:spPr>
            <a:xfrm>
              <a:off x="2283840" y="915840"/>
              <a:ext cx="86364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27"/>
            <p:cNvSpPr/>
            <p:nvPr/>
          </p:nvSpPr>
          <p:spPr>
            <a:xfrm>
              <a:off x="2274840" y="1635840"/>
              <a:ext cx="8762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28"/>
          <p:cNvGrpSpPr/>
          <p:nvPr/>
        </p:nvGrpSpPr>
        <p:grpSpPr>
          <a:xfrm>
            <a:off x="2266920" y="3508200"/>
            <a:ext cx="876240" cy="909720"/>
            <a:chOff x="2266920" y="3508200"/>
            <a:chExt cx="876240" cy="909720"/>
          </a:xfrm>
        </p:grpSpPr>
        <p:sp>
          <p:nvSpPr>
            <p:cNvPr id="90" name="矩形 29"/>
            <p:cNvSpPr/>
            <p:nvPr/>
          </p:nvSpPr>
          <p:spPr>
            <a:xfrm>
              <a:off x="2269800" y="3508200"/>
              <a:ext cx="86472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30"/>
            <p:cNvSpPr/>
            <p:nvPr/>
          </p:nvSpPr>
          <p:spPr>
            <a:xfrm>
              <a:off x="2266920" y="4228200"/>
              <a:ext cx="8762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1"/>
          <p:cNvSpPr/>
          <p:nvPr/>
        </p:nvSpPr>
        <p:spPr>
          <a:xfrm>
            <a:off x="3151080" y="911160"/>
            <a:ext cx="42753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2"/>
          <p:cNvSpPr/>
          <p:nvPr/>
        </p:nvSpPr>
        <p:spPr>
          <a:xfrm>
            <a:off x="3146400" y="2211480"/>
            <a:ext cx="42800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3"/>
          <p:cNvSpPr/>
          <p:nvPr/>
        </p:nvSpPr>
        <p:spPr>
          <a:xfrm>
            <a:off x="3124080" y="3503520"/>
            <a:ext cx="43023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60720" y="484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4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8">
                                  <p:stCondLst>
                                    <p:cond delay="14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4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7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7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75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7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1"/>
          <p:cNvSpPr/>
          <p:nvPr/>
        </p:nvSpPr>
        <p:spPr>
          <a:xfrm>
            <a:off x="-34920" y="0"/>
            <a:ext cx="9178920" cy="51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2700360" y="339840"/>
            <a:ext cx="61563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 rot="5400000">
            <a:off x="-896760" y="3503520"/>
            <a:ext cx="2630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395280" y="4819680"/>
            <a:ext cx="84614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 rot="5400000">
            <a:off x="6592680" y="2558880"/>
            <a:ext cx="448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8"/>
          <p:cNvSpPr/>
          <p:nvPr/>
        </p:nvSpPr>
        <p:spPr>
          <a:xfrm rot="5400000">
            <a:off x="405720" y="-442080"/>
            <a:ext cx="2571840" cy="345600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0066cc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 rot="5400000">
            <a:off x="37080" y="1805760"/>
            <a:ext cx="762120" cy="48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 rot="10800000">
            <a:off x="1692360" y="348480"/>
            <a:ext cx="1224000" cy="41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1"/>
          <p:cNvGrpSpPr/>
          <p:nvPr/>
        </p:nvGrpSpPr>
        <p:grpSpPr>
          <a:xfrm>
            <a:off x="7740720" y="3436920"/>
            <a:ext cx="799920" cy="1325520"/>
            <a:chOff x="7740720" y="3436920"/>
            <a:chExt cx="799920" cy="1325520"/>
          </a:xfrm>
        </p:grpSpPr>
        <p:sp>
          <p:nvSpPr>
            <p:cNvPr id="106" name="Freeform 19"/>
            <p:cNvSpPr/>
            <p:nvPr/>
          </p:nvSpPr>
          <p:spPr>
            <a:xfrm>
              <a:off x="8137800" y="3755520"/>
              <a:ext cx="684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058240" y="3502800"/>
              <a:ext cx="13968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284680" y="3554280"/>
              <a:ext cx="141120" cy="20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7898040" y="3962520"/>
              <a:ext cx="166680" cy="26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7740720" y="3436920"/>
              <a:ext cx="799920" cy="119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7841880" y="4421160"/>
              <a:ext cx="81360" cy="7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7752960" y="4551120"/>
              <a:ext cx="53388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2266920" y="2216160"/>
            <a:ext cx="878040" cy="909720"/>
            <a:chOff x="2266920" y="2216160"/>
            <a:chExt cx="878040" cy="909720"/>
          </a:xfrm>
        </p:grpSpPr>
        <p:sp>
          <p:nvSpPr>
            <p:cNvPr id="114" name="矩形 23"/>
            <p:cNvSpPr/>
            <p:nvPr/>
          </p:nvSpPr>
          <p:spPr>
            <a:xfrm>
              <a:off x="2275920" y="2216160"/>
              <a:ext cx="86544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24"/>
            <p:cNvSpPr/>
            <p:nvPr/>
          </p:nvSpPr>
          <p:spPr>
            <a:xfrm>
              <a:off x="2266920" y="2936160"/>
              <a:ext cx="8780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8"/>
          <p:cNvGrpSpPr/>
          <p:nvPr/>
        </p:nvGrpSpPr>
        <p:grpSpPr>
          <a:xfrm>
            <a:off x="2266920" y="3508200"/>
            <a:ext cx="876240" cy="909720"/>
            <a:chOff x="2266920" y="3508200"/>
            <a:chExt cx="876240" cy="909720"/>
          </a:xfrm>
        </p:grpSpPr>
        <p:sp>
          <p:nvSpPr>
            <p:cNvPr id="117" name="矩形 29"/>
            <p:cNvSpPr/>
            <p:nvPr/>
          </p:nvSpPr>
          <p:spPr>
            <a:xfrm>
              <a:off x="2269800" y="3508200"/>
              <a:ext cx="86472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30"/>
            <p:cNvSpPr/>
            <p:nvPr/>
          </p:nvSpPr>
          <p:spPr>
            <a:xfrm>
              <a:off x="2266920" y="4228200"/>
              <a:ext cx="8762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9"/>
          <p:cNvGrpSpPr/>
          <p:nvPr/>
        </p:nvGrpSpPr>
        <p:grpSpPr>
          <a:xfrm>
            <a:off x="2274840" y="911160"/>
            <a:ext cx="5151600" cy="914400"/>
            <a:chOff x="2274840" y="911160"/>
            <a:chExt cx="5151600" cy="914400"/>
          </a:xfrm>
        </p:grpSpPr>
        <p:grpSp>
          <p:nvGrpSpPr>
            <p:cNvPr id="120" name="组合 25"/>
            <p:cNvGrpSpPr/>
            <p:nvPr/>
          </p:nvGrpSpPr>
          <p:grpSpPr>
            <a:xfrm>
              <a:off x="2274840" y="915480"/>
              <a:ext cx="876600" cy="910080"/>
              <a:chOff x="2274840" y="915480"/>
              <a:chExt cx="876600" cy="910080"/>
            </a:xfrm>
          </p:grpSpPr>
          <p:sp>
            <p:nvSpPr>
              <p:cNvPr id="121" name="矩形 26"/>
              <p:cNvSpPr/>
              <p:nvPr/>
            </p:nvSpPr>
            <p:spPr>
              <a:xfrm>
                <a:off x="2283840" y="915480"/>
                <a:ext cx="864000" cy="864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27"/>
              <p:cNvSpPr/>
              <p:nvPr/>
            </p:nvSpPr>
            <p:spPr>
              <a:xfrm>
                <a:off x="2274840" y="1635840"/>
                <a:ext cx="876600" cy="18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矩形 31"/>
            <p:cNvSpPr/>
            <p:nvPr/>
          </p:nvSpPr>
          <p:spPr>
            <a:xfrm>
              <a:off x="3151440" y="911160"/>
              <a:ext cx="427500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cc"/>
                  </a:solidFill>
                  <a:latin typeface="微软雅黑"/>
                  <a:ea typeface="微软雅黑"/>
                </a:rPr>
                <a:t>开题报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矩形 32"/>
          <p:cNvSpPr/>
          <p:nvPr/>
        </p:nvSpPr>
        <p:spPr>
          <a:xfrm>
            <a:off x="3146400" y="2211480"/>
            <a:ext cx="42800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3"/>
          <p:cNvSpPr/>
          <p:nvPr/>
        </p:nvSpPr>
        <p:spPr>
          <a:xfrm>
            <a:off x="3124080" y="3503520"/>
            <a:ext cx="43023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 rot="19401000">
            <a:off x="-9012240" y="-11216880"/>
            <a:ext cx="28059120" cy="896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34"/>
          <p:cNvGrpSpPr/>
          <p:nvPr/>
        </p:nvGrpSpPr>
        <p:grpSpPr>
          <a:xfrm>
            <a:off x="7740720" y="3435480"/>
            <a:ext cx="799920" cy="1326960"/>
            <a:chOff x="7740720" y="3435480"/>
            <a:chExt cx="799920" cy="1326960"/>
          </a:xfrm>
        </p:grpSpPr>
        <p:sp>
          <p:nvSpPr>
            <p:cNvPr id="128" name="Freeform 19"/>
            <p:cNvSpPr/>
            <p:nvPr/>
          </p:nvSpPr>
          <p:spPr>
            <a:xfrm>
              <a:off x="8137800" y="3754440"/>
              <a:ext cx="68400" cy="529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058240" y="3501360"/>
              <a:ext cx="139680" cy="2181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284680" y="3552840"/>
              <a:ext cx="141120" cy="20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7898040" y="3961800"/>
              <a:ext cx="166680" cy="2617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7740720" y="3435480"/>
              <a:ext cx="799920" cy="119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7841880" y="4420800"/>
              <a:ext cx="81360" cy="734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7752960" y="4550760"/>
              <a:ext cx="533880" cy="21168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42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9"/>
          <p:cNvSpPr/>
          <p:nvPr/>
        </p:nvSpPr>
        <p:spPr>
          <a:xfrm>
            <a:off x="7020000" y="438120"/>
            <a:ext cx="1844640" cy="4464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0"/>
          <p:cNvSpPr/>
          <p:nvPr/>
        </p:nvSpPr>
        <p:spPr>
          <a:xfrm rot="5400000">
            <a:off x="6634800" y="2623320"/>
            <a:ext cx="4416480" cy="46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1"/>
          <p:cNvSpPr/>
          <p:nvPr/>
        </p:nvSpPr>
        <p:spPr>
          <a:xfrm>
            <a:off x="395280" y="4803840"/>
            <a:ext cx="8461440" cy="46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2"/>
          <p:cNvSpPr/>
          <p:nvPr/>
        </p:nvSpPr>
        <p:spPr>
          <a:xfrm rot="5400000">
            <a:off x="-896760" y="3503520"/>
            <a:ext cx="2630520" cy="46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3"/>
          <p:cNvSpPr/>
          <p:nvPr/>
        </p:nvSpPr>
        <p:spPr>
          <a:xfrm>
            <a:off x="3635280" y="21744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cc"/>
                </a:solidFill>
                <a:latin typeface="汉仪菱心体简"/>
                <a:ea typeface="汉仪菱心体简"/>
              </a:rPr>
              <a:t>开题报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1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42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74399E-006 L 0.00104 -0.17181 E">
                                      <p:cBhvr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5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21"/>
          <p:cNvSpPr/>
          <p:nvPr/>
        </p:nvSpPr>
        <p:spPr>
          <a:xfrm>
            <a:off x="-34920" y="0"/>
            <a:ext cx="9178920" cy="51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0"/>
          <p:cNvSpPr/>
          <p:nvPr/>
        </p:nvSpPr>
        <p:spPr>
          <a:xfrm rot="19401000">
            <a:off x="-1819440" y="-828720"/>
            <a:ext cx="5185080" cy="252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4"/>
          <p:cNvGrpSpPr/>
          <p:nvPr/>
        </p:nvGrpSpPr>
        <p:grpSpPr>
          <a:xfrm>
            <a:off x="7740720" y="3435480"/>
            <a:ext cx="799920" cy="1326960"/>
            <a:chOff x="7740720" y="3435480"/>
            <a:chExt cx="799920" cy="1326960"/>
          </a:xfrm>
        </p:grpSpPr>
        <p:sp>
          <p:nvSpPr>
            <p:cNvPr id="144" name="Freeform 19"/>
            <p:cNvSpPr/>
            <p:nvPr/>
          </p:nvSpPr>
          <p:spPr>
            <a:xfrm>
              <a:off x="8137800" y="3754440"/>
              <a:ext cx="68400" cy="529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8058240" y="3501360"/>
              <a:ext cx="139680" cy="2181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8284680" y="3552840"/>
              <a:ext cx="141120" cy="20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7898040" y="3961800"/>
              <a:ext cx="166680" cy="2617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7740720" y="3435480"/>
              <a:ext cx="799920" cy="119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7841880" y="4420800"/>
              <a:ext cx="81360" cy="734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7752960" y="4550760"/>
              <a:ext cx="533880" cy="21168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42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9"/>
          <p:cNvSpPr/>
          <p:nvPr/>
        </p:nvSpPr>
        <p:spPr>
          <a:xfrm>
            <a:off x="7007400" y="450720"/>
            <a:ext cx="1842840" cy="19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0"/>
          <p:cNvSpPr/>
          <p:nvPr/>
        </p:nvSpPr>
        <p:spPr>
          <a:xfrm rot="5400000">
            <a:off x="6656400" y="2622600"/>
            <a:ext cx="4371840" cy="1584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1"/>
          <p:cNvSpPr/>
          <p:nvPr/>
        </p:nvSpPr>
        <p:spPr>
          <a:xfrm>
            <a:off x="395280" y="4813200"/>
            <a:ext cx="8461440" cy="2700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2"/>
          <p:cNvSpPr/>
          <p:nvPr/>
        </p:nvSpPr>
        <p:spPr>
          <a:xfrm rot="5400000">
            <a:off x="-912240" y="3502800"/>
            <a:ext cx="2631960" cy="2052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3635280" y="21744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cc"/>
                </a:solidFill>
                <a:latin typeface="汉仪菱心体简"/>
                <a:ea typeface="汉仪菱心体简"/>
              </a:rPr>
              <a:t>开题报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1"/>
          <p:cNvSpPr/>
          <p:nvPr/>
        </p:nvSpPr>
        <p:spPr>
          <a:xfrm>
            <a:off x="-34920" y="0"/>
            <a:ext cx="9178920" cy="51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0"/>
          <p:cNvSpPr/>
          <p:nvPr/>
        </p:nvSpPr>
        <p:spPr>
          <a:xfrm rot="19401000">
            <a:off x="-1819440" y="-828720"/>
            <a:ext cx="5185080" cy="252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34"/>
          <p:cNvGrpSpPr/>
          <p:nvPr/>
        </p:nvGrpSpPr>
        <p:grpSpPr>
          <a:xfrm>
            <a:off x="7740720" y="3435480"/>
            <a:ext cx="799920" cy="1326960"/>
            <a:chOff x="7740720" y="3435480"/>
            <a:chExt cx="799920" cy="1326960"/>
          </a:xfrm>
        </p:grpSpPr>
        <p:sp>
          <p:nvSpPr>
            <p:cNvPr id="160" name="Freeform 19"/>
            <p:cNvSpPr/>
            <p:nvPr/>
          </p:nvSpPr>
          <p:spPr>
            <a:xfrm>
              <a:off x="8137800" y="3754440"/>
              <a:ext cx="68400" cy="529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8058240" y="3501360"/>
              <a:ext cx="139680" cy="2181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8284680" y="3552840"/>
              <a:ext cx="141120" cy="20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7898040" y="3961800"/>
              <a:ext cx="166680" cy="2617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3"/>
            <p:cNvSpPr/>
            <p:nvPr/>
          </p:nvSpPr>
          <p:spPr>
            <a:xfrm>
              <a:off x="7740720" y="3435480"/>
              <a:ext cx="799920" cy="119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"/>
            <p:cNvSpPr/>
            <p:nvPr/>
          </p:nvSpPr>
          <p:spPr>
            <a:xfrm>
              <a:off x="7841880" y="4420800"/>
              <a:ext cx="81360" cy="734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5"/>
            <p:cNvSpPr/>
            <p:nvPr/>
          </p:nvSpPr>
          <p:spPr>
            <a:xfrm>
              <a:off x="7752960" y="4550760"/>
              <a:ext cx="533880" cy="21168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42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9"/>
          <p:cNvSpPr/>
          <p:nvPr/>
        </p:nvSpPr>
        <p:spPr>
          <a:xfrm>
            <a:off x="7007400" y="450720"/>
            <a:ext cx="1842840" cy="19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0"/>
          <p:cNvSpPr/>
          <p:nvPr/>
        </p:nvSpPr>
        <p:spPr>
          <a:xfrm rot="5400000">
            <a:off x="6656400" y="2622600"/>
            <a:ext cx="4371840" cy="1584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1"/>
          <p:cNvSpPr/>
          <p:nvPr/>
        </p:nvSpPr>
        <p:spPr>
          <a:xfrm>
            <a:off x="395280" y="4813200"/>
            <a:ext cx="8461440" cy="2700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2"/>
          <p:cNvSpPr/>
          <p:nvPr/>
        </p:nvSpPr>
        <p:spPr>
          <a:xfrm rot="5400000">
            <a:off x="-912240" y="3502800"/>
            <a:ext cx="2631960" cy="2052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3"/>
          <p:cNvSpPr/>
          <p:nvPr/>
        </p:nvSpPr>
        <p:spPr>
          <a:xfrm>
            <a:off x="3635280" y="21744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cc"/>
                </a:solidFill>
                <a:latin typeface="汉仪菱心体简"/>
                <a:ea typeface="汉仪菱心体简"/>
              </a:rPr>
              <a:t>一页纸年终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1835280" y="1492200"/>
            <a:ext cx="59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微软雅黑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在论坛每个人都是学习者，我们一块学习一块进步，这样的一个小型的活动，旨在提高大家的动手能力，论坛为大家提供一个这么好的环境，你还在等什么，一起来</a:t>
            </a:r>
            <a:r>
              <a:rPr b="0" lang="en-US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PK</a:t>
            </a:r>
            <a:r>
              <a:rPr b="0" lang="zh-CN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微软雅黑"/>
                <a:ea typeface="微软雅黑"/>
              </a:rPr>
              <a:t>                          ——</a:t>
            </a:r>
            <a:r>
              <a:rPr b="0" lang="zh-CN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长征</a:t>
            </a:r>
            <a:r>
              <a:rPr b="0" lang="ja-JP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しき</a:t>
            </a:r>
            <a:r>
              <a:rPr b="0" lang="en-US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3"/>
          <p:cNvGrpSpPr/>
          <p:nvPr/>
        </p:nvGrpSpPr>
        <p:grpSpPr>
          <a:xfrm>
            <a:off x="-2052720" y="-92160"/>
            <a:ext cx="11449080" cy="5235840"/>
            <a:chOff x="-2052720" y="-92160"/>
            <a:chExt cx="11449080" cy="5235840"/>
          </a:xfrm>
        </p:grpSpPr>
        <p:sp>
          <p:nvSpPr>
            <p:cNvPr id="175" name="矩形 2"/>
            <p:cNvSpPr/>
            <p:nvPr/>
          </p:nvSpPr>
          <p:spPr>
            <a:xfrm>
              <a:off x="-36360" y="-92160"/>
              <a:ext cx="9180360" cy="523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9"/>
            <p:cNvSpPr/>
            <p:nvPr/>
          </p:nvSpPr>
          <p:spPr>
            <a:xfrm>
              <a:off x="2411640" y="699840"/>
              <a:ext cx="56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66cc"/>
                  </a:solidFill>
                  <a:latin typeface="方正综艺简体"/>
                  <a:ea typeface="方正综艺简体"/>
                </a:rPr>
                <a:t>烟台大学</a:t>
              </a:r>
              <a:r>
                <a:rPr b="0" lang="en-US" sz="3200" spc="-1" strike="noStrike">
                  <a:solidFill>
                    <a:srgbClr val="0066cc"/>
                  </a:solidFill>
                  <a:latin typeface="方正综艺简体"/>
                  <a:ea typeface="方正综艺简体"/>
                </a:rPr>
                <a:t>2013</a:t>
              </a:r>
              <a:r>
                <a:rPr b="0" lang="zh-CN" sz="3200" spc="-1" strike="noStrike">
                  <a:solidFill>
                    <a:srgbClr val="0066cc"/>
                  </a:solidFill>
                  <a:latin typeface="方正综艺简体"/>
                  <a:ea typeface="方正综艺简体"/>
                </a:rPr>
                <a:t>年开题报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2" descr=""/>
            <p:cNvPicPr/>
            <p:nvPr/>
          </p:nvPicPr>
          <p:blipFill>
            <a:blip r:embed="rId1"/>
            <a:srcRect l="0" t="20565" r="0" b="3459"/>
            <a:stretch/>
          </p:blipFill>
          <p:spPr>
            <a:xfrm>
              <a:off x="-2052720" y="1491840"/>
              <a:ext cx="11449080" cy="30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矩形 23"/>
            <p:cNvSpPr/>
            <p:nvPr/>
          </p:nvSpPr>
          <p:spPr>
            <a:xfrm>
              <a:off x="0" y="1458000"/>
              <a:ext cx="9144000" cy="979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4"/>
            <p:cNvSpPr/>
            <p:nvPr/>
          </p:nvSpPr>
          <p:spPr>
            <a:xfrm>
              <a:off x="36360" y="4505400"/>
              <a:ext cx="9144000" cy="889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EFC-404D-40FE-BA13-3FE5F1992C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:\ppt素材\ppt图片\烟大校徽.jpg"/>
          <p:cNvPicPr/>
          <p:nvPr/>
        </p:nvPicPr>
        <p:blipFill>
          <a:blip r:embed="rId1"/>
          <a:srcRect l="4913" t="1938" r="4913" b="3924"/>
          <a:stretch/>
        </p:blipFill>
        <p:spPr>
          <a:xfrm>
            <a:off x="231840" y="50760"/>
            <a:ext cx="1333440" cy="13143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8"/>
          <p:cNvSpPr/>
          <p:nvPr/>
        </p:nvSpPr>
        <p:spPr>
          <a:xfrm>
            <a:off x="2411280" y="7002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烟台大学</a:t>
            </a:r>
            <a:r>
              <a:rPr b="0" lang="en-US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年开题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rcRect l="0" t="20565" r="0" b="3459"/>
          <a:stretch/>
        </p:blipFill>
        <p:spPr>
          <a:xfrm>
            <a:off x="-2052720" y="1492200"/>
            <a:ext cx="11449080" cy="3095640"/>
          </a:xfrm>
          <a:prstGeom prst="rect">
            <a:avLst/>
          </a:prstGeom>
          <a:ln w="0">
            <a:noFill/>
          </a:ln>
        </p:spPr>
      </p:pic>
      <p:sp>
        <p:nvSpPr>
          <p:cNvPr id="186" name="矩形 6"/>
          <p:cNvSpPr/>
          <p:nvPr/>
        </p:nvSpPr>
        <p:spPr>
          <a:xfrm>
            <a:off x="0" y="1457280"/>
            <a:ext cx="9144000" cy="98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36360" y="4505400"/>
            <a:ext cx="9144000" cy="88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3"/>
          <p:cNvGrpSpPr/>
          <p:nvPr/>
        </p:nvGrpSpPr>
        <p:grpSpPr>
          <a:xfrm>
            <a:off x="-539640" y="0"/>
            <a:ext cx="3690720" cy="5143680"/>
            <a:chOff x="-539640" y="0"/>
            <a:chExt cx="3690720" cy="5143680"/>
          </a:xfrm>
        </p:grpSpPr>
        <p:sp>
          <p:nvSpPr>
            <p:cNvPr id="189" name="矩形 2"/>
            <p:cNvSpPr/>
            <p:nvPr/>
          </p:nvSpPr>
          <p:spPr>
            <a:xfrm>
              <a:off x="2719080" y="0"/>
              <a:ext cx="432000" cy="51436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"/>
            <p:cNvSpPr/>
            <p:nvPr/>
          </p:nvSpPr>
          <p:spPr>
            <a:xfrm>
              <a:off x="-539640" y="0"/>
              <a:ext cx="3600000" cy="51436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4"/>
          <p:cNvSpPr/>
          <p:nvPr/>
        </p:nvSpPr>
        <p:spPr>
          <a:xfrm>
            <a:off x="3276720" y="2282760"/>
            <a:ext cx="27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 rot="16200000">
            <a:off x="703440" y="279000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烟台大学</a:t>
            </a: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开题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3276720" y="32194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Edwardian Script ITC"/>
              </a:rPr>
              <a:t>2012.12.14</a:t>
            </a:r>
            <a:r>
              <a:rPr b="1" lang="zh-CN" sz="3600" spc="-1" strike="noStrike">
                <a:solidFill>
                  <a:srgbClr val="0066cc"/>
                </a:solidFill>
                <a:latin typeface="Edwardian Script ITC"/>
              </a:rPr>
              <a:t>  </a:t>
            </a:r>
            <a:r>
              <a:rPr b="1" lang="en-US" sz="3600" spc="-1" strike="noStrike">
                <a:solidFill>
                  <a:srgbClr val="0066cc"/>
                </a:solidFill>
                <a:latin typeface="Edwardian Script ITC"/>
              </a:rPr>
              <a:t>by break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84214E-006 L 0.15365 -0.00711 E">
                                      <p:cBhvr>
                                        <p:cTn id="271" dur="8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16" presetSubtype="26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3" dur="1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1.23457E-006 L 0 0.30525 E">
                                      <p:cBhvr>
                                        <p:cTn id="276" dur="175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00399 0.00371 L -0.00399 -0.29012 E">
                                      <p:cBhvr>
                                        <p:cTn id="278" dur="175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16" presetSubtype="21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16" presetSubtype="21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2" presetSubtype="8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2" presetSubtype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3:22:00Z</dcterms:created>
  <dc:creator>song_bing</dc:creator>
  <dc:description/>
  <dc:language>en-US</dc:language>
  <cp:lastModifiedBy>lenovo</cp:lastModifiedBy>
  <dcterms:modified xsi:type="dcterms:W3CDTF">2015-08-03T12:33:16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