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745-973E-4426-9006-1A377834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273-CC49-4EAF-95BF-E4DF6404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D56-FA2C-485F-B718-A923A59A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420-BEA5-43D1-8FE4-0AB218DD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DD34-10F6-4CBF-8B88-74DE86E8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66AE-E0C3-4BDD-BC42-2BCB8792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363A-A219-48DD-91C1-54905247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5896-3D8D-4FCB-A7FC-CE8DF67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4911-5424-4AFD-9049-5FD3E05C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A69F-7A52-416D-BCE0-E839ABC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16FD-BE60-4665-895A-8BD35D7A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AF2-1063-468D-B68D-31D21677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8770-A8C4-4C13-80E5-69E78E7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56BB-A784-4913-8DA6-7A2328BF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C306-0B5B-41CF-B2E7-F35C8C2D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C3EF-630E-4DC9-9DD2-4595CE0D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0322-B09F-4D76-933E-41CEA0BC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6AE8-2521-4663-BD37-620D1A40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FFCE-0DDF-489B-9013-BA5A2D40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9906-329C-47CD-ABD6-19412E32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BEB5-26B9-4CB7-B9EB-136534CF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77EB-62BB-4D68-9151-7AAB0895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745-6D21-4FAC-A7B6-C95E6673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6D3E-3C1A-43A7-815D-1D2C6B55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96F7-296B-4F3E-BEE6-3B786FCF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DF0E-A8E4-451A-B339-EB7ED81F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384E-43A0-4B30-8A9E-D12D054F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A802-9A9D-42CA-9E02-9185EE16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98CF-A0C1-4EBD-87D2-F45345A0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D7B8-5D86-4C45-8ACA-74046755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239-1260-4B2B-B649-647CFF17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DAD-CD80-45CD-98D5-D9BF32B1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7FD-07DC-40DF-8CAC-73B27CA6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93F-4A43-4089-A3B4-F2BA7EC1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89B-C4C7-48CD-8D68-5870093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68D-C14C-44A4-9752-4E20FB0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38EA-793D-4AE0-8AF2-53E4B7EA7F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9F0B-1A87-47FC-B162-19E13775DB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12F3-D22B-4444-A66E-1891D6E16F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630440" y="1746360"/>
            <a:ext cx="5883120" cy="33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36912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炫彩幻灯片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7873920" y="0"/>
            <a:ext cx="1279440" cy="94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7873920" y="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5222-0837-4488-A798-F2A30FED7E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ppt宝藏</dc:creator>
  <dc:description/>
  <dc:language>en-US</dc:language>
  <cp:lastModifiedBy>Windows 用户</cp:lastModifiedBy>
  <dcterms:modified xsi:type="dcterms:W3CDTF">2015-08-03T12:33:15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0c08000000000001024100</vt:lpwstr>
  </property>
</Properties>
</file>