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F84-B061-48F4-A333-ACCE30FB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EC0-E3A2-4D56-9FB1-EDA8A52A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8BD-A06D-4B26-B7BB-5FFF4CD2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6AF-35B4-4018-97C9-9E07B218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244-2CC3-43CB-8B3F-EAFFB84A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11E-B335-4BA1-B1FE-21DAD167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7ED-BFA8-4B31-89B9-B97E192F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B4B-D3B3-4AD0-AFFE-70EBA618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7BA-BD7D-4D9D-B928-54E5B6DC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1E9-77A7-4A50-BE5B-307FECE2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43E-62E3-4DC8-A864-694C7963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E4F-A88F-41D5-A407-AAF32D0C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5013-2F4A-4947-B6F2-D36846BA7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hyperlink" Target="http://www.eeppt.com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085400" y="3807720"/>
            <a:ext cx="606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姓名</a:t>
            </a:r>
            <a:r>
              <a:rPr b="0" lang="en-US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5" descr=""/>
          <p:cNvPicPr/>
          <p:nvPr/>
        </p:nvPicPr>
        <p:blipFill>
          <a:blip r:embed="rId2"/>
          <a:stretch/>
        </p:blipFill>
        <p:spPr>
          <a:xfrm>
            <a:off x="1692360" y="971640"/>
            <a:ext cx="939600" cy="454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69760" y="1890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通用模板免费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"/>
          <p:cNvPicPr/>
          <p:nvPr/>
        </p:nvPicPr>
        <p:blipFill>
          <a:blip r:embed="rId2"/>
          <a:stretch/>
        </p:blipFill>
        <p:spPr>
          <a:xfrm>
            <a:off x="3564000" y="795240"/>
            <a:ext cx="5056200" cy="508176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2"/>
          <p:cNvGrpSpPr/>
          <p:nvPr/>
        </p:nvGrpSpPr>
        <p:grpSpPr>
          <a:xfrm>
            <a:off x="0" y="0"/>
            <a:ext cx="9144000" cy="1574640"/>
            <a:chOff x="0" y="0"/>
            <a:chExt cx="9144000" cy="1574640"/>
          </a:xfrm>
        </p:grpSpPr>
        <p:sp>
          <p:nvSpPr>
            <p:cNvPr id="47" name="矩形 14"/>
            <p:cNvSpPr/>
            <p:nvPr/>
          </p:nvSpPr>
          <p:spPr>
            <a:xfrm>
              <a:off x="5076000" y="71532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7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18"/>
          <p:cNvGrpSpPr/>
          <p:nvPr/>
        </p:nvGrpSpPr>
        <p:grpSpPr>
          <a:xfrm>
            <a:off x="1023840" y="404640"/>
            <a:ext cx="2031840" cy="2502000"/>
            <a:chOff x="1023840" y="404640"/>
            <a:chExt cx="2031840" cy="2502000"/>
          </a:xfrm>
        </p:grpSpPr>
        <p:pic>
          <p:nvPicPr>
            <p:cNvPr id="50" name="Picture 10" descr=""/>
            <p:cNvPicPr/>
            <p:nvPr/>
          </p:nvPicPr>
          <p:blipFill>
            <a:blip r:embed="rId19"/>
            <a:stretch/>
          </p:blipFill>
          <p:spPr>
            <a:xfrm>
              <a:off x="1023840" y="404640"/>
              <a:ext cx="203184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2" descr=""/>
            <p:cNvPicPr/>
            <p:nvPr/>
          </p:nvPicPr>
          <p:blipFill>
            <a:blip r:embed="rId20"/>
            <a:stretch/>
          </p:blipFill>
          <p:spPr>
            <a:xfrm>
              <a:off x="1239840" y="620640"/>
              <a:ext cx="158436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 Box 13"/>
          <p:cNvSpPr/>
          <p:nvPr/>
        </p:nvSpPr>
        <p:spPr>
          <a:xfrm>
            <a:off x="324000" y="2930400"/>
            <a:ext cx="9554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1044720" y="328464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044720" y="371628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044720" y="414972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1044720" y="465300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851280" y="1773360"/>
            <a:ext cx="4537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尊敬的各位领导，老师，亲爱的同学们，大家晚上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天很荣幸能够参加这样一个很有意义的活动。在大家看过刚才的视频之后，大家应该会对我有了一个初步的认识，在此，我向大家介绍一下自己，我是来自计算机学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的刘婧。我虽然学习工科，但我确深深的爱上了艺术，在我很小的时候就孕育着对艺术的热情，直到大学，我将我小小的梦想逐渐放大，走上了理工大的舞台，从此开始我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梦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7080" y="1413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43C-ED35-4D97-87D6-6DDB320101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74640"/>
          </a:xfrm>
          <a:prstGeom prst="rect">
            <a:avLst/>
          </a:prstGeom>
          <a:ln w="0">
            <a:noFill/>
          </a:ln>
        </p:spPr>
      </p:pic>
      <p:pic>
        <p:nvPicPr>
          <p:cNvPr id="63" name="矩形 4" descr=""/>
          <p:cNvPicPr/>
          <p:nvPr/>
        </p:nvPicPr>
        <p:blipFill>
          <a:blip r:embed="rId3"/>
          <a:stretch/>
        </p:blipFill>
        <p:spPr>
          <a:xfrm>
            <a:off x="2498760" y="2255760"/>
            <a:ext cx="4852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admin</dc:creator>
  <dc:description/>
  <dc:language>en-US</dc:language>
  <cp:lastModifiedBy>lenovo</cp:lastModifiedBy>
  <dcterms:modified xsi:type="dcterms:W3CDTF">2015-08-03T12:34:39Z</dcterms:modified>
  <cp:revision>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