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760-2602-4403-AAEA-D795A4DA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507-E76B-40FE-806C-4A6DC94C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57B-E975-49ED-8436-90A8A700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1D0-10E2-4574-A87E-9D4A3E2E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7484-0E09-4347-A824-C5F55A60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383B-DBE3-44A7-B2F8-DCA56149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5290-98CA-4DFE-B0CD-D6AB567A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1650-C2F7-4AB8-9CB7-FF599FA0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8456-5EF5-4536-9B56-7B28CE2A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4A27-0BBA-4215-9FA8-182EC295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1CE2-9403-470D-B95D-535CE5FE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9E3-3E1F-42EA-86B6-735C41CE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DB57-A316-4061-9567-6F202FB1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1F54-DAD8-4E8E-A16F-4ED8834D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DCDF-D7A3-4F95-B129-0FB01166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2DBE-4B18-46F5-B229-637C16DD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F6D4-5673-4D49-81BA-DDBBA256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E67-FD21-4473-B980-EF3A02DD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23D-3A5E-4B30-99E5-94973CB2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58E-DAB2-4355-B2A4-F44F03EF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314-0C8A-4AE0-A60B-ED9650DD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514-5F40-4075-A1EC-6E7798CC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787-81F9-445C-AF19-1524FFF9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2C3-E51E-4522-98C9-EC251A1F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A54FB4-3999-449B-951C-97268386BBB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060EC5-88CE-400D-8A1A-2ADB8833ED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504800" y="2286000"/>
            <a:ext cx="1137960" cy="314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214720" y="1857240"/>
            <a:ext cx="738000" cy="3428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简约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2342520" y="581400"/>
            <a:ext cx="4458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薄荷色小清新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149688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6211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42116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61405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29973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256860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796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87660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428328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571176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29973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  <Words>212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5:00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