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33D-CB04-4412-A40D-09C3F5ED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B7B-F098-4F6C-ABDE-7559D8B0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B8F-2FAB-4BD0-A8ED-5DD00F69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3F6-0F7C-41BE-8CA3-5D535F1B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0BF3-4E9B-43B8-9CD6-B42C1352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4848-01F5-4CA4-B31C-C4F21A63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F62F-AA5C-4D19-ABA3-B7D2F295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3ED4-B219-4BF5-B738-206AF65D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4A5D-63CF-49DE-BBCF-46198501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3149-8EF5-4286-A9D5-91734E7D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EF5E-C0F7-46EB-B60A-9D883678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990-D2B2-4DE7-8EE9-95F3DB69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B670-D0B2-4343-AD94-433906B6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4257-6754-4A09-A96B-9175FF19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CD11-8E45-4E3C-9D66-AFED5959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475D-5A34-4F66-BD9A-B42A1837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3A34-2057-421A-B9FE-E8F87482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44A-B31A-4979-B41F-46482451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9B1-E6B3-4623-AE73-41E788C4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408-6DD3-45D5-B908-F9420BE3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AB4-2808-49AE-9696-DDC238B4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A74-A5AD-4EB4-9396-428AD348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586-151A-4992-880D-D7166DD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CD7-A739-4C86-9DA4-A3FEA6A5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336600"/>
                </a:solidFill>
                <a:latin typeface="Arial Rounded MT Bold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 Rounded MT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896D76-081E-4FEC-8F2C-0756055A6578}" type="slidenum">
              <a:rPr b="0" lang="en-US" sz="14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336600"/>
                </a:solidFill>
                <a:latin typeface="Arial Rounded MT Bold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 Rounded MT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A6B871-47CD-4A52-A7B2-F5D017386038}" type="slidenum">
              <a:rPr b="0" lang="en-US" sz="14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hyperlink" Target="http://www.eeppt.com/moban/shangwu/" TargetMode="External"/><Relationship Id="rId4" Type="http://schemas.openxmlformats.org/officeDocument/2006/relationships/hyperlink" Target="http://www.eeppt.com/moban/shangwu/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684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336600"/>
                </a:solidFill>
                <a:latin typeface="Arial Rounded MT Bold"/>
                <a:ea typeface="宋体"/>
              </a:rPr>
              <a:t>背景流线条设计</a:t>
            </a:r>
            <a:r>
              <a:rPr b="0" lang="en-US" sz="4000" spc="-1" strike="noStrike">
                <a:solidFill>
                  <a:srgbClr val="336600"/>
                </a:solidFill>
                <a:latin typeface="Arial Rounded MT Bold"/>
                <a:ea typeface="宋体"/>
              </a:rPr>
              <a:t>PPT</a:t>
            </a:r>
            <a:r>
              <a:rPr b="0" lang="zh-CN" sz="4000" spc="-1" strike="noStrike">
                <a:solidFill>
                  <a:srgbClr val="336600"/>
                </a:solidFill>
                <a:latin typeface="Arial Rounded MT Bold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Your 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36600"/>
                </a:solidFill>
                <a:latin typeface="Arial Rounded MT Bold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Your subtopics go her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28600" y="2035080"/>
            <a:ext cx="59432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6600"/>
                </a:solidFill>
                <a:latin typeface="Arial Rounded MT Bold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57200" y="3886200"/>
            <a:ext cx="54860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Your 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36600"/>
                </a:solidFill>
                <a:latin typeface="Arial Rounded MT Bold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Your subtopics go her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07640" y="6492960"/>
            <a:ext cx="6251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商务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336600"/>
                </a:solidFill>
                <a:latin typeface="Arial Rounded MT Bold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 Rounded MT Bold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 Rounded MT Bold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 Rounded MT Bold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 Rounded MT Bold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 Rounded MT Bold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 Rounded MT Bold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 Rounded MT Bold"/>
              </a:rPr>
              <a:t> 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 Rounded MT Bold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Rounded MT Bold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Rounded MT Bold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Rounded MT Bold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kids_day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kids_day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kids_day</Template>
  <TotalTime>3</TotalTime>
  <Application>LibreOffice/7.4.7.2$Linux_X86_64 LibreOffice_project/40$Build-2</Application>
  <AppVersion>15.0000</AppVersion>
  <Words>197</Words>
  <Paragraphs>39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6:37:52Z</dcterms:created>
  <dc:creator>微软中国</dc:creator>
  <dc:description/>
  <dc:language>en-US</dc:language>
  <cp:lastModifiedBy>yu wang</cp:lastModifiedBy>
  <dcterms:modified xsi:type="dcterms:W3CDTF">2015-08-03T12:24:42Z</dcterms:modified>
  <cp:revision>3</cp:revision>
  <dc:subject/>
  <dc:title>Kid’s 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