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7472-2476-4C48-8408-8453DBCB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52332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84B-6587-4FD1-A8C6-E1D84C9E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52332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52332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29C-A807-45D5-8CAA-CE55DBC5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42236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42236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52332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52332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52332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AEA4-E989-4421-9755-BFB171E8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7D88-ED7D-472F-B811-BE87BB22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3435-33CA-4BB6-B83E-255F93A9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8038-A277-4A1E-9983-76F703C2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6992-9A1D-4FBB-B6E0-AEC176C8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B81D-E47A-4554-BB28-3FF21A1E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5438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B89A-02F4-47EA-B36A-07B67CED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352332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CDD2-527B-4ACE-8D7E-BA1B360D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2F5-9B0A-47DB-BF7B-211841DF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3400" y="352332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CFAE-E1A7-4368-9281-F4439C7C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352332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6885-554D-482B-9A68-385EE07A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352332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8888-1CD5-4FAE-B26D-BA4B437D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352332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3400" y="352332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072B-E0E3-4C63-93EE-A46FD7E6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8320" y="142236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9280" y="142236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352332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8320" y="352332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9280" y="352332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896B-CB38-4571-9D95-188C666D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EE7-6BA4-4F1D-9107-FC34674F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118-8B98-44B0-AF58-6EBC8784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977-C19B-450F-8E94-8C7787D6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5438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91A5-F784-41E1-A58C-B7720B22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52332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384-9BA5-4BFD-8456-A683B94D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52332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4DC-7348-4DCA-AE81-51586B49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52332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736-16BD-48C0-A8EF-E0805FE5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5624280"/>
            <a:ext cx="16765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624280"/>
            <a:ext cx="2895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624280"/>
            <a:ext cx="1752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BD96-B494-4388-A902-37C2A8687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56720" y="5609880"/>
            <a:ext cx="21337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609880"/>
            <a:ext cx="2895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609880"/>
            <a:ext cx="1828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2958-F14D-43B3-956A-512231512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2400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笔墨卷香中国风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模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52120" y="3606480"/>
            <a:ext cx="571500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663480" y="5562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一下添加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标题和文本格式的设置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默认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首页主标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加粗；副标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加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页标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加粗；内页内容文字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宋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752480" y="240048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谢谢关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94000" y="61740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24000" y="142884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608880" y="72540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hea</dc:creator>
  <dc:description>www.nordridesign.cn
</dc:description>
  <dc:language>en-US</dc:language>
  <cp:lastModifiedBy>yu wang</cp:lastModifiedBy>
  <dcterms:modified xsi:type="dcterms:W3CDTF">2015-08-03T12:23:39Z</dcterms:modified>
  <cp:revision>22</cp:revision>
  <dc:subject>China</dc:subject>
  <dc:title>中國風_筆墨卷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