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8AD-ECA7-4604-8F85-6AE3ACB2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1A6-2503-4D52-BC06-C1DDDF45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81E-FD79-402F-90B9-A78F2F85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B2D-B0FB-4DFB-9A2C-10C1B309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498-9AC4-4D51-9C70-30C1E4A3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1AA-C506-4A75-AE2A-E5F4184C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BF8-BB37-4EBC-8559-66DA8D6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F43-AC0B-4BF9-AAE6-B134A6F0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F06-E911-4454-AFBD-C89B2D3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4EF-CC34-4C6D-825C-1DAC4B2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2E8-CB55-4B25-A137-66CAC4C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B20-A5B2-4283-967E-27BC26B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81A-7524-49B7-BECA-AA1DA343C5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71640" y="861840"/>
            <a:ext cx="71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毕业论文答辩实用主题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论文答辩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500960" y="6000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14072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713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5640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98868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19875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83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571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42656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694908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283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54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09200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714840" y="1357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283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640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6480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694908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783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092000" y="607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2283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926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3:06Z</dcterms:modified>
  <cp:revision>43</cp:revision>
  <dc:subject/>
  <dc:title>幻灯片 1</dc:title>
</cp:coreProperties>
</file>