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AEB-257F-42B5-8639-633FFF9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336-5E08-4FAA-9AFE-E669C8A8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860-A3A0-454D-93A2-69717DD3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167-3535-4C20-A02A-81D00857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2E5-774E-403F-BA9F-240E02A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DCF-30C4-497E-B98A-5BE31245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B3A-CA3F-4777-A1A9-E6CEB9F2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C58-67A6-42AA-A5DB-007EB92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002-446B-48C3-AEA8-A2249F0D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574-8872-44F5-9E2C-96E3099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036-5756-4CAE-82A4-38C2464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D5E-CC84-48D2-ACD9-6904700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0C44-9AEF-477E-AAFC-A6C4543DEFA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0"/>
          <p:cNvSpPr/>
          <p:nvPr/>
        </p:nvSpPr>
        <p:spPr>
          <a:xfrm>
            <a:off x="716040" y="4869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  <a:ea typeface="宋体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1268280" y="357336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船舵领导向心力企业文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u wang</cp:lastModifiedBy>
  <dcterms:modified xsi:type="dcterms:W3CDTF">2015-08-03T12:24:45Z</dcterms:modified>
  <cp:revision>763</cp:revision>
  <dc:subject/>
  <dc:title>Diapositiva 1</dc:title>
</cp:coreProperties>
</file>