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B24-1AB6-473C-BF13-53086D19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4B1-5E02-472D-8E7C-27C4528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94A-BC00-4560-8C53-06A964F7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F48-6807-4421-A429-91115202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826-0B04-4983-918E-D0960F43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7BC-0BE8-4655-8022-2D7F7166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41B-7C7D-45B7-9EE7-A7546D2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35F4-FD33-47C1-8523-847648BF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10AD-9E4D-42A5-BB95-1412CD7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698-7649-4E99-B298-7BB0D4D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AFDF-EE8B-41B0-B286-8555F92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F2B-5092-4DA2-B7F2-BC87D97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3AE-C5A2-4972-AAD9-AAF0228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42BD-C60F-40DF-8AAB-D2241F9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950-164B-496D-A0F1-17077395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491-4701-45C0-9B08-0816F421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D40-0E5B-4CB3-8A58-6B7E19A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0DC-E007-49BB-9E50-110C5190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742-598D-4C2E-AB63-DD3398EE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EB0-1288-4A25-9AEC-554A357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ACE-6165-4FCB-BD23-9A527FA2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559-C937-454A-96BB-DF783F1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17E-78AB-485A-AFC8-3833FE9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908-A4B6-4D7A-9D12-7CC491E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0CB-DAE7-4466-94F6-17A829AAE5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0B6-C4E3-4456-8FCD-57F0768F12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6.png"/><Relationship Id="rId13" Type="http://schemas.openxmlformats.org/officeDocument/2006/relationships/image" Target="../media/image13.png"/><Relationship Id="rId14" Type="http://schemas.openxmlformats.org/officeDocument/2006/relationships/image" Target="../media/image17.png"/><Relationship Id="rId15" Type="http://schemas.openxmlformats.org/officeDocument/2006/relationships/image" Target="../media/image13.png"/><Relationship Id="rId16" Type="http://schemas.openxmlformats.org/officeDocument/2006/relationships/image" Target="../media/image17.png"/><Relationship Id="rId17" Type="http://schemas.openxmlformats.org/officeDocument/2006/relationships/image" Target="../media/image13.png"/><Relationship Id="rId18" Type="http://schemas.openxmlformats.org/officeDocument/2006/relationships/image" Target="../media/image17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707920"/>
            <a:ext cx="792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橙黄简洁风格工作总结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图片 4" descr=""/>
          <p:cNvPicPr/>
          <p:nvPr/>
        </p:nvPicPr>
        <p:blipFill>
          <a:blip r:embed="rId1"/>
          <a:stretch/>
        </p:blipFill>
        <p:spPr>
          <a:xfrm>
            <a:off x="611280" y="415800"/>
            <a:ext cx="1439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9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4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5" name="圆角矩形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100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1" name="圆角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6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7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2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9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20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7" descr=""/>
          <p:cNvPicPr/>
          <p:nvPr/>
        </p:nvPicPr>
        <p:blipFill>
          <a:blip r:embed="rId2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>
              <a:gd name="textAreaLeft" fmla="*/ 0 w 981000"/>
              <a:gd name="textAreaRight" fmla="*/ 981360 w 981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92c2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3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6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6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41" descr=""/>
          <p:cNvPicPr/>
          <p:nvPr/>
        </p:nvPicPr>
        <p:blipFill>
          <a:blip r:embed="rId3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2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4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8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2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5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6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7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91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3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4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9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201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3" name="图片 28" descr=""/>
          <p:cNvPicPr/>
          <p:nvPr/>
        </p:nvPicPr>
        <p:blipFill>
          <a:blip r:embed="rId5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6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11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10"/>
              <p:cNvSpPr/>
              <p:nvPr/>
            </p:nvSpPr>
            <p:spPr>
              <a:xfrm rot="13500000">
                <a:off x="81288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3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4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8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9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18"/>
              <p:cNvSpPr/>
              <p:nvPr/>
            </p:nvSpPr>
            <p:spPr>
              <a:xfrm rot="13500000">
                <a:off x="514980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1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22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5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8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31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4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7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40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3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6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9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52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5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8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61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4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7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图片 31" descr=""/>
          <p:cNvPicPr/>
          <p:nvPr/>
        </p:nvPicPr>
        <p:blipFill>
          <a:blip r:embed="rId19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72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5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8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81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4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7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90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93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6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图片 12" descr=""/>
          <p:cNvPicPr/>
          <p:nvPr/>
        </p:nvPicPr>
        <p:blipFill>
          <a:blip r:embed="rId10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302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5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9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13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7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20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23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6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22" descr=""/>
          <p:cNvPicPr/>
          <p:nvPr/>
        </p:nvPicPr>
        <p:blipFill>
          <a:blip r:embed="rId10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  <p:sp>
        <p:nvSpPr>
          <p:cNvPr id="3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35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6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7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8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9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44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7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50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53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6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9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62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65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8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71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3" name="图片 33" descr=""/>
          <p:cNvPicPr/>
          <p:nvPr/>
        </p:nvPicPr>
        <p:blipFill>
          <a:blip r:embed="rId16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王琳</dc:creator>
  <dc:description/>
  <dc:language>en-US</dc:language>
  <cp:lastModifiedBy>yu wang</cp:lastModifiedBy>
  <cp:lastPrinted>1899-12-30T00:00:00Z</cp:lastPrinted>
  <dcterms:modified xsi:type="dcterms:W3CDTF">2015-08-03T12:22:52Z</dcterms:modified>
  <cp:revision>12</cp:revision>
  <dc:subject/>
  <dc:title>橙黄工作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