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E84-E691-4541-AED7-48439D84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14D-52CE-4F28-8187-0127C8BD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C5D-8F61-4090-85AE-D9B0054E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A4B-511C-4B75-9274-FD7C6FDD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7CDF-91F0-41A8-BD71-461312D7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9FD6-F1D3-4559-89BF-56CEEB26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A370-2A38-48A9-8D4D-001F7D89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FB30-02EB-41F4-A85B-4FCC3139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72B8-BECA-4080-9220-00A0963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4D1B-DB8B-4ED4-919E-E4D7249F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6177-6B77-4929-969A-924A42A1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FE3-A801-4797-B262-C23C8CD2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05BA-CCEC-408E-B7D1-8BFF2B7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2707-9CB9-4725-8D4C-857153D0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8319-D95D-4111-93BC-12DB0CB7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D4F2-15DA-4C9E-95A9-80A66A19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55DC-6A3C-4995-8136-CC9084B9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0E9-06BA-4590-91C1-85A34145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F2E-FF45-4213-8C3F-95486E3D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58F-E5EE-453A-A387-A78AB9F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30F-E683-4AED-A4C3-9B3FC2E2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8B5-7558-482B-9C01-294CE5A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9E2-982F-45D0-A3AD-AD86D81F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BBA-7BB6-4A26-A98E-AECC62EA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FA41-23DA-4D36-8453-B9C13F2F655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45AC-C5A9-429F-A3BE-823BFA9504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3851280" y="2492280"/>
            <a:ext cx="1549440" cy="1584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838160" y="909720"/>
            <a:ext cx="3024360" cy="302400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1477800" y="2744640"/>
            <a:ext cx="187344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4321080" y="1413000"/>
            <a:ext cx="1079640" cy="1079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445080" y="4078440"/>
            <a:ext cx="1297080" cy="129672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013440" y="4545000"/>
            <a:ext cx="792000" cy="82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079720" y="1413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6920" y="334800"/>
            <a:ext cx="86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橙黄圆圈简洁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6732720" y="443880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201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468360" y="404640"/>
            <a:ext cx="1511280" cy="15130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/>
          <p:cNvSpPr/>
          <p:nvPr/>
        </p:nvSpPr>
        <p:spPr>
          <a:xfrm>
            <a:off x="468360" y="1449360"/>
            <a:ext cx="952560" cy="936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1706400" y="512640"/>
            <a:ext cx="547920" cy="541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8520" y="809640"/>
            <a:ext cx="185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2556000" y="193680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967120" y="19368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2556000" y="249228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967120" y="2523960"/>
            <a:ext cx="15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3081240" y="3035160"/>
            <a:ext cx="125640" cy="1112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206880" y="2921040"/>
            <a:ext cx="10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3081240" y="3230640"/>
            <a:ext cx="125640" cy="1094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3081240" y="3441600"/>
            <a:ext cx="125640" cy="1098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2556000" y="386244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978640" y="38606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Beni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2556000" y="4402080"/>
            <a:ext cx="360360" cy="360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980080" y="436464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2916360" y="1557360"/>
            <a:ext cx="2952720" cy="29512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087640" y="2852640"/>
            <a:ext cx="1655640" cy="1656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5508720" y="2276640"/>
            <a:ext cx="1152360" cy="1152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192480" y="3063960"/>
            <a:ext cx="231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36760" y="2089800"/>
            <a:ext cx="233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9040" y="313848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5653080" y="4076640"/>
            <a:ext cx="431640" cy="432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179280" y="189000"/>
            <a:ext cx="2016360" cy="201600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179280" y="1665360"/>
            <a:ext cx="1081080" cy="1081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1619280" y="189000"/>
            <a:ext cx="576360" cy="57600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81080" y="6381720"/>
            <a:ext cx="287280" cy="28728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8677440" y="6381720"/>
            <a:ext cx="285480" cy="28728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8677440" y="189000"/>
            <a:ext cx="285480" cy="28872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95640" y="1953360"/>
            <a:ext cx="576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幼圆"/>
              </a:rPr>
              <a:t>   </a:t>
            </a:r>
            <a:r>
              <a:rPr b="0" lang="en-US" sz="1800" spc="-1" strike="noStrike">
                <a:solidFill>
                  <a:srgbClr val="fb9d17"/>
                </a:solidFill>
                <a:latin typeface="Arial"/>
                <a:ea typeface="幼圆"/>
              </a:rPr>
              <a:t>      </a:t>
            </a: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The political purpose of the event, in order to have guaranteed rights. A new working environment, the first thing you should do is to understand the real people in power </a:t>
            </a:r>
            <a:r>
              <a:rPr b="0" lang="en-US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 </a:t>
            </a:r>
            <a:r>
              <a:rPr b="0" lang="en-US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9d17"/>
                </a:solidFill>
                <a:latin typeface="Arial Rounded MT Bold"/>
                <a:ea typeface="幼圆"/>
              </a:rPr>
              <a:t>         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In addition to all levels of management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titles boss list may also include a number of titles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.   </a:t>
            </a:r>
            <a:r>
              <a:rPr b="0" lang="zh-CN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Rounded MT Bold"/>
                <a:ea typeface="幼圆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49560" y="763920"/>
            <a:ext cx="17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6307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4824360" y="1211400"/>
            <a:ext cx="1655640" cy="1726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3132000" y="1714680"/>
            <a:ext cx="2521080" cy="2519280"/>
          </a:xfrm>
          <a:prstGeom prst="ellipse">
            <a:avLst/>
          </a:prstGeom>
          <a:solidFill>
            <a:srgbClr val="fb9d17"/>
          </a:solidFill>
          <a:ln w="9360">
            <a:solidFill>
              <a:srgbClr val="fb9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2197080" y="2938320"/>
            <a:ext cx="1295280" cy="129564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6156360" y="3657600"/>
            <a:ext cx="576360" cy="576360"/>
          </a:xfrm>
          <a:prstGeom prst="ellipse">
            <a:avLst/>
          </a:prstGeom>
          <a:solidFill>
            <a:srgbClr val="fbe655"/>
          </a:solidFill>
          <a:ln w="9360">
            <a:solidFill>
              <a:srgbClr val="fbe6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276720" y="2216160"/>
            <a:ext cx="2468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幼圆"/>
              </a:rPr>
              <a:t>for wat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www.pptbz.com</dc:creator>
  <dc:description/>
  <dc:language>en-US</dc:language>
  <cp:lastModifiedBy>yu wang</cp:lastModifiedBy>
  <dcterms:modified xsi:type="dcterms:W3CDTF">2015-08-03T12:22:49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