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45B-F195-4FFC-85B5-0C072D07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D22-859F-4A11-BEEE-E537556F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D83-ED90-4397-A13F-0D00231F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D11-309C-4A8F-90CA-79A18497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4C1-D38A-4657-89F6-9605609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D20-6961-444D-A899-D8AB8DE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4C07-4238-4591-B939-CF33A2EA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B4C-83CF-4FCE-B7F9-FA70DFD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82F4-8866-4DDB-8A74-CD85F1D0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D1B-5628-4F14-8212-4F7F015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AC77-939E-4ADA-AD87-C27AEF2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FF5-6F9D-41B9-8E0A-64C68FA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B1C-C776-49F1-966E-AF5CB78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7746-C4C3-4BEB-866E-B0E491D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636-582D-4C60-97A1-B95B812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B0D6-5BF0-47DB-8EEC-8720A0B5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030D-8FD6-44D6-B6EB-8F35C520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A50-B56C-4E77-B9E3-8201486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E1D-17DB-4B9D-B908-44B5066E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749-B05F-4489-ADA0-AF582F2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8CD-56C7-49DA-952F-E28A03B8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419-DFE2-4BA4-AD80-E245D17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065-2432-4C1D-BA62-226662D2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ECA-F992-42C0-BCE6-F7D609A1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9D2DE9-0599-4B6B-96A0-9BB4292FAF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56794-E151-4067-9387-404F4D0D0D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729480" y="928800"/>
            <a:ext cx="119988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904080" y="4214880"/>
            <a:ext cx="953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500880" y="1000080"/>
            <a:ext cx="76968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77280" y="2566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城市简约创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5140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06880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1418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354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7116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2832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854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5286240" y="22147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140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35448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5140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072040" y="185724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4068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8546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354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6261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354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140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3140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2854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568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28544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  <Words>260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0:1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