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0AE-7154-4F9F-AB3F-A17FBFA3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F2E-3E35-4F12-BB9B-ADDE1F30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512-F29B-430A-9E4B-58287C3E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6DE-95C8-4CFF-ADCC-5E0A599E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F72-67C9-4D7C-ABB9-C31263E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5A9-4AEC-4D37-949F-F8554C28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37B-41B9-4AD6-9FA5-5F37CD60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F05-365D-4ECC-A5FD-76D70917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E6F-3255-4F6A-ACA7-F2DD6FB1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192-4695-4A8F-942D-89BF75C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F73-B615-4546-A707-35B7655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24D-38BB-4D52-9AB8-C075E17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b8aa"/>
            </a:gs>
            <a:gs pos="100000">
              <a:srgbClr val="efde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58B5-EA47-4E0B-A98B-9823438FA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创意广告设计</a:t>
            </a:r>
            <a:r>
              <a:rPr b="0" lang="en-US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禁烟广告"/>
          <p:cNvPicPr/>
          <p:nvPr/>
        </p:nvPicPr>
        <p:blipFill>
          <a:blip r:embed="rId1"/>
          <a:stretch/>
        </p:blipFill>
        <p:spPr>
          <a:xfrm>
            <a:off x="0" y="8827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95280" y="4428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微软雅黑"/>
              </a:rPr>
              <a:t>禁烟广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2010518103441859"/>
          <p:cNvPicPr/>
          <p:nvPr/>
        </p:nvPicPr>
        <p:blipFill>
          <a:blip r:embed="rId1"/>
          <a:stretch/>
        </p:blipFill>
        <p:spPr>
          <a:xfrm>
            <a:off x="34920" y="469800"/>
            <a:ext cx="91076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10518103453317"/>
          <p:cNvPicPr/>
          <p:nvPr/>
        </p:nvPicPr>
        <p:blipFill>
          <a:blip r:embed="rId1"/>
          <a:stretch/>
        </p:blipFill>
        <p:spPr>
          <a:xfrm>
            <a:off x="34920" y="830160"/>
            <a:ext cx="9109080" cy="5694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95280" y="4428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微软雅黑"/>
              </a:rPr>
              <a:t>饮料广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20105181034594"/>
          <p:cNvPicPr/>
          <p:nvPr/>
        </p:nvPicPr>
        <p:blipFill>
          <a:blip r:embed="rId1"/>
          <a:stretch/>
        </p:blipFill>
        <p:spPr>
          <a:xfrm>
            <a:off x="34920" y="333360"/>
            <a:ext cx="9099720" cy="568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4752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10518103552179"/>
          <p:cNvPicPr/>
          <p:nvPr/>
        </p:nvPicPr>
        <p:blipFill>
          <a:blip r:embed="rId1"/>
          <a:stretch/>
        </p:blipFill>
        <p:spPr>
          <a:xfrm>
            <a:off x="34920" y="907920"/>
            <a:ext cx="9099720" cy="5689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95280" y="4428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微软雅黑"/>
              </a:rPr>
              <a:t>环保广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1051810352787"/>
          <p:cNvPicPr/>
          <p:nvPr/>
        </p:nvPicPr>
        <p:blipFill>
          <a:blip r:embed="rId1"/>
          <a:stretch/>
        </p:blipFill>
        <p:spPr>
          <a:xfrm>
            <a:off x="34920" y="692280"/>
            <a:ext cx="9099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1:00:12Z</dcterms:created>
  <dc:creator>ppt宝藏</dc:creator>
  <dc:description/>
  <dc:language>en-US</dc:language>
  <cp:lastModifiedBy>yu wang</cp:lastModifiedBy>
  <cp:lastPrinted>1899-12-30T00:00:00Z</cp:lastPrinted>
  <dcterms:modified xsi:type="dcterms:W3CDTF">2015-08-03T12:19:00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