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0F8E-917D-4071-BD51-BD29FFA4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EA7-5E70-4B79-A27E-83F4C509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33B-A33B-4C41-9601-9390D3B4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218-DE91-43E9-B42F-202E220A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EE8-186B-427B-98DB-1EE6CFF5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1D5-BE02-4334-A6AB-990857C6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33C-8A09-4F4A-B474-97E9466B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C89A-312B-449E-B784-DA8D721D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B5E-8ED5-4274-B9AF-5AAA0B2D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FD9-95BC-4BE0-B08A-2ABCB376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55C-179D-45E4-94C6-329601C2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338-3C33-4C47-9C88-A954EC20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DFC6-4116-40F4-87B1-D9727217AA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242080" y="54936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意绿色心形主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0" y="6504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cp:keywords/>
  <dc:language>en-US</dc:language>
  <cp:lastModifiedBy>yu wang</cp:lastModifiedBy>
  <dcterms:modified xsi:type="dcterms:W3CDTF">2015-08-03T12:19:14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