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7B2-88CB-4A1B-B47D-0BB20A6C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6C9-B8C7-4F1C-BD63-C2F5ECE8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0F0-DBA9-48CA-9F94-C70FADD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BA2-914A-4F15-A158-5FEF3052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D16-B469-440A-AE77-E48CFD7E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E1AF-D060-4B98-A94A-4B7C43F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5F5-9D4D-4983-A1C8-6DEAFCD9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22BB-4944-43C0-A72B-00CFCB8F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02AE-0FEA-4AE2-924F-6F5A90D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45E5-F36E-4BBF-B1B1-628F760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310-9EE4-4317-A5BC-EAC03F5E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E52-0942-438C-B111-2206B76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3A2E-2607-438A-96D0-FEC6A78A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6A34-EE5F-4486-B7C7-244A66E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0644-DF9B-4AC0-BFD4-A38D7F28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F60A-3451-41DB-A023-20EFA60D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E68-43CD-45B9-903A-EA2ED38D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0BA-01C6-45FF-BE99-2DB9B0E5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6A9-0B76-4D85-AA6C-720DE7B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0AC-294B-4F0A-BCE8-F6265921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603-B911-4FEE-A419-E3DA1E3B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D85-43B3-40D3-8463-292B862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219-3A59-4F63-AE7E-861257E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0E5-9342-4897-AD7C-0DA3F80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68C501-ECFA-4BD0-BA61-137BDC54002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D24E55-2701-4A39-877C-153A1D23CF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yanj.cn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slide-1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2680920" y="204120"/>
            <a:ext cx="424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多彩创意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图表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slide-10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slide-11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slide-12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slide-13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slide-14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slide-15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slide-16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slide-17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slide-18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slide-19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slide-2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slide-20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slide-21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slide-22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slide-23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slide-24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slide-25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slide-26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slide-27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slide-28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slide-29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slide-3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slide-30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slide-31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slide-4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slide-5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slide-6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slide-7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slide-8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slide-9-102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255680" y="10440"/>
            <a:ext cx="1165536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2</TotalTime>
  <Application>LibreOffice/7.4.7.2$Linux_X86_64 LibreOffice_project/40$Build-2</Application>
  <AppVersion>15.0000</AppVersion>
  <Words>155</Words>
  <Paragraphs>31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7:36:19Z</dcterms:created>
  <dc:creator>www.pptbz.com</dc:creator>
  <dc:description/>
  <dc:language>en-US</dc:language>
  <cp:lastModifiedBy>yu wang</cp:lastModifiedBy>
  <dcterms:modified xsi:type="dcterms:W3CDTF">2015-08-03T12:20:20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2</vt:r8>
  </property>
</Properties>
</file>