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69F-A0BC-4FF3-86C8-8029FEB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344-B82E-41D2-9C95-41045B7F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CD1-6938-4372-B230-851AFE44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195-E647-49CC-BBC7-D450ADDA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ADAF-8B34-4A9F-BB3D-5DE21D8A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3D7-C552-40E4-97BF-4DF388D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A695-C671-4821-A201-5A29FE9B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BB6A-F314-48FF-BFDD-030D6977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1DC3-9B90-4798-A131-D2082CA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B22-1093-45F7-8E22-6AD06E3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77E-0103-455C-B1D1-94E2909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2A3-1342-4E76-B1A5-E8B49F6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6DB6-052F-4E80-9702-83FDA74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8E5-1CF0-496E-8F38-E3EB543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80F2-82EA-44E8-8AF4-7C1EB3B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CC17-862F-48B8-A86A-0B0F2585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C0A-D52B-4D72-8590-A44B197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DB3-E631-47AB-9FA0-D442BA6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735-E28E-4E12-8930-4E5D29D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544-043C-471B-9840-4D868CB7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A69-DA63-4A3D-82C0-7B23764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D7E-6CC0-4369-90F0-4F4F782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D01-8107-4EBA-9F79-DD7BA4B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736-5190-4ABD-B308-73A7847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C6F-494F-466B-A781-09C91B1EEE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1A7-442C-412D-89F6-1CEDC0E688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460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方正综艺简体"/>
                <a:ea typeface="方正综艺简体"/>
              </a:rPr>
              <a:t>多彩水滴简洁</a:t>
            </a:r>
            <a:r>
              <a:rPr b="0" lang="en-US" sz="4000" spc="-1" strike="noStrike">
                <a:solidFill>
                  <a:srgbClr val="cc3300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cc3300"/>
                </a:solidFill>
                <a:latin typeface="方正综艺简体"/>
                <a:ea typeface="方正综艺简体"/>
              </a:rPr>
              <a:t>模板在线下载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ff616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1147680" y="2422440"/>
            <a:ext cx="3106800" cy="3076200"/>
            <a:chOff x="1147680" y="2422440"/>
            <a:chExt cx="3106800" cy="3076200"/>
          </a:xfrm>
        </p:grpSpPr>
        <p:sp>
          <p:nvSpPr>
            <p:cNvPr id="145" name="Rectangle 6"/>
            <p:cNvSpPr/>
            <p:nvPr/>
          </p:nvSpPr>
          <p:spPr>
            <a:xfrm>
              <a:off x="3757680" y="24253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1147680" y="26208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4444"/>
                </a:gs>
                <a:gs pos="5000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1147680" y="31539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3939"/>
                </a:gs>
                <a:gs pos="50000">
                  <a:srgbClr val="ff6161"/>
                </a:gs>
                <a:gs pos="100000">
                  <a:srgbClr val="97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0"/>
            <p:cNvSpPr/>
            <p:nvPr/>
          </p:nvSpPr>
          <p:spPr>
            <a:xfrm>
              <a:off x="1147680" y="368748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4444"/>
                </a:gs>
                <a:gs pos="5000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1147680" y="4221000"/>
              <a:ext cx="310680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3939"/>
                </a:gs>
                <a:gs pos="50000">
                  <a:srgbClr val="ff6161"/>
                </a:gs>
                <a:gs pos="100000">
                  <a:srgbClr val="97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1147680" y="475416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4444"/>
                </a:gs>
                <a:gs pos="5000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13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4668840" y="2417760"/>
            <a:ext cx="3191040" cy="3080880"/>
            <a:chOff x="4668840" y="2417760"/>
            <a:chExt cx="3191040" cy="3080880"/>
          </a:xfrm>
        </p:grpSpPr>
        <p:sp>
          <p:nvSpPr>
            <p:cNvPr id="154" name="Rectangle 15"/>
            <p:cNvSpPr/>
            <p:nvPr/>
          </p:nvSpPr>
          <p:spPr>
            <a:xfrm>
              <a:off x="7399440" y="2417760"/>
              <a:ext cx="120600" cy="3072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5006880" y="24253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7"/>
            <p:cNvSpPr/>
            <p:nvPr/>
          </p:nvSpPr>
          <p:spPr>
            <a:xfrm>
              <a:off x="4668840" y="26254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5911d"/>
                </a:gs>
                <a:gs pos="5000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8"/>
            <p:cNvSpPr/>
            <p:nvPr/>
          </p:nvSpPr>
          <p:spPr>
            <a:xfrm>
              <a:off x="4668840" y="31590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37b19"/>
                </a:gs>
                <a:gs pos="50000">
                  <a:srgbClr val="a8d02a"/>
                </a:gs>
                <a:gs pos="100000">
                  <a:srgbClr val="637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9"/>
            <p:cNvSpPr/>
            <p:nvPr/>
          </p:nvSpPr>
          <p:spPr>
            <a:xfrm>
              <a:off x="4668840" y="369216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5911d"/>
                </a:gs>
                <a:gs pos="5000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0"/>
            <p:cNvSpPr/>
            <p:nvPr/>
          </p:nvSpPr>
          <p:spPr>
            <a:xfrm>
              <a:off x="4668840" y="422568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37b19"/>
                </a:gs>
                <a:gs pos="50000">
                  <a:srgbClr val="a8d02a"/>
                </a:gs>
                <a:gs pos="100000">
                  <a:srgbClr val="637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1"/>
            <p:cNvSpPr/>
            <p:nvPr/>
          </p:nvSpPr>
          <p:spPr>
            <a:xfrm>
              <a:off x="4668840" y="4759200"/>
              <a:ext cx="3191040" cy="3805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75911d"/>
                </a:gs>
                <a:gs pos="5000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22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a8d02a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0:26:23Z</dcterms:created>
  <dc:creator>微软用户</dc:creator>
  <dc:description/>
  <dc:language>en-US</dc:language>
  <cp:lastModifiedBy>yu wang</cp:lastModifiedBy>
  <dcterms:modified xsi:type="dcterms:W3CDTF">2015-08-03T12:20:24Z</dcterms:modified>
  <cp:revision>11</cp:revision>
  <dc:subject/>
  <dc:title>ThemeGallery PowerTemplate</dc:title>
</cp:coreProperties>
</file>