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6DB-1C15-41E0-AB25-1C936771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C9C-14BB-48DF-B7DD-B9BA7371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6A6-53D6-4AF8-A2B1-067EA510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A42-E1BC-4AFF-A3AB-97B2EA80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6D57-058A-4D37-B8FD-9DBB1C2A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FC6D-15A5-4133-9F17-C156B130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744C-4A76-4E94-B742-FD1E5238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B667-6BA6-4415-8CB8-76B911D3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8A33-A4CE-4313-B491-DCB519E3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4D7B-4E08-45D2-A815-91C7C138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D868-8AC8-4BDD-8E46-4EB933FA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CA1C-C890-4B2E-8AF0-56CB2E63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4308-3E87-4CC7-A5DB-36C4120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4269-A643-4431-8843-D9F534EB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9551-4513-4EBE-84AB-999C9D7A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A1F7-84D5-4E3D-A4EA-88323D7D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0750-8BF8-440F-9740-3D5AF6E9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44643-69EC-417B-9115-72930408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D281-D272-4EB3-B4E2-14D6E2C7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5481-B466-4648-B102-6B5F3156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7B05-CEE2-4885-87B5-49313DBD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91D7D-73DF-4D79-AFD2-9063A973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7BB-D0D8-467A-A9AC-B6E95FF1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1A71-EEBD-495E-A70D-7133393C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E7434-8DAF-488A-9E86-C91D3E9F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BB49-3B12-4803-B33F-89D9505B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32B6-66A1-4177-A56E-505A86C3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7E144-2A02-4237-B656-6841FDF5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9234B-96A9-456B-917A-04D84BA8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6B0AC-A325-407F-9232-FF5CC83A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90218-661F-44B8-BB16-AB849FEE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95566-B173-4CEC-B0B9-3B1C2E0C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0197D-AA91-433A-AE55-1B535BDD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0CA-AFD8-4EAB-974F-DBE35051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6FA56-189F-404D-BC29-406DB220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DB87-DE2B-452D-A168-76EB3A21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BBA0F-D844-41EA-92AC-FD73D7AE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B0A67-047F-4F84-B3E9-57837EB9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508A-9BAE-4304-8961-702AAEAD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DA3D3-B61E-4F9D-B856-8266A55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7CC2B-C6A3-48B2-9821-C1F57AAC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A0D28-389A-4D70-97C7-05E7A74E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8C03-5639-4488-AC2C-F4929A9F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DBE4B-E288-4778-AC9D-D054079B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582-EB4D-4E09-9405-6130784C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909B5-B388-4AD5-9302-664E81EE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2B38A-8C46-4104-BC38-03E781A9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FA7FA-41D7-4D3A-9CE1-E437DA6F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D9C1-5682-4953-BA50-18897B57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5F3D4-529A-4F06-88E1-8B7D164B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6FC06-0837-4FEB-94BE-DAF82CE8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3F9AE-A9BC-4179-AAF7-1105C0F2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E2841-9F64-4AF5-92DC-657182DE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F0386-77D7-430D-90BB-1F623C9E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307F4-D617-4703-BF68-E2302C34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AF1-30A4-4A83-BFFB-A514FFB4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A874F-0823-4789-8AD8-61146384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F91-6AD8-470B-ACA9-B9227A5D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E73-DF62-41E3-AC2C-230603CC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D6E-B31A-421D-B271-9D05DB39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3240" y="549360"/>
            <a:ext cx="9144000" cy="57600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6550-F4F1-422E-97CA-F9B5AB3A2E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7489800" y="-131400"/>
            <a:ext cx="162864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4329000"/>
            <a:ext cx="9144000" cy="64764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3578040" y="534960"/>
            <a:ext cx="5121000" cy="506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79DC-05E9-4F28-A052-778CAA7BF9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2124000" y="2708280"/>
            <a:ext cx="3834000" cy="68724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5064120" y="1620360"/>
            <a:ext cx="2136960" cy="2116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7974-4B2B-435F-89DF-E068BF75CE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0" y="4329000"/>
            <a:ext cx="9144000" cy="64764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4197240" y="1123920"/>
            <a:ext cx="4380120" cy="433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549E-0B91-4515-98E3-8FC4D441C1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6"/>
          <p:cNvSpPr/>
          <p:nvPr/>
        </p:nvSpPr>
        <p:spPr>
          <a:xfrm>
            <a:off x="3240" y="549360"/>
            <a:ext cx="9144000" cy="57600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7489800" y="-131400"/>
            <a:ext cx="1628640" cy="161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D954-784F-44D2-B1F6-F7C067EDC4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2852640"/>
            <a:ext cx="7452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64009"/>
                </a:solidFill>
                <a:latin typeface="Adobe Caslon Pro Bold"/>
              </a:rPr>
              <a:t>多彩叶子简洁</a:t>
            </a:r>
            <a:r>
              <a:rPr b="0" lang="en-US" sz="4000" spc="-1" strike="noStrike">
                <a:solidFill>
                  <a:srgbClr val="c64009"/>
                </a:solidFill>
                <a:latin typeface="Adobe Caslon Pro Bold"/>
              </a:rPr>
              <a:t>PPT</a:t>
            </a:r>
            <a:r>
              <a:rPr b="0" lang="zh-CN" sz="4000" spc="-1" strike="noStrike">
                <a:solidFill>
                  <a:srgbClr val="c64009"/>
                </a:solidFill>
                <a:latin typeface="Adobe Caslon Pro Bold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4000" y="3395160"/>
            <a:ext cx="3416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a6a6a6"/>
                </a:solidFill>
                <a:latin typeface="Calibri"/>
              </a:rPr>
              <a:t>您的章节副标题章节副标题章节副标题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123640" y="2717640"/>
            <a:ext cx="32022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您的章节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327280" y="2836440"/>
            <a:ext cx="46836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500800" y="2460240"/>
            <a:ext cx="5032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64009"/>
                </a:solidFill>
                <a:latin typeface="Adobe Caslon Pro Bold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011640" y="2852280"/>
            <a:ext cx="4330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40720" y="549360"/>
            <a:ext cx="1008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64009"/>
              </a:solidFill>
              <a:latin typeface="Adobe Caslon Pro Bold"/>
            </a:endParaRPr>
          </a:p>
        </p:txBody>
      </p:sp>
      <p:sp>
        <p:nvSpPr>
          <p:cNvPr id="224" name="任意多边形 15"/>
          <p:cNvSpPr/>
          <p:nvPr/>
        </p:nvSpPr>
        <p:spPr>
          <a:xfrm>
            <a:off x="0" y="1506600"/>
            <a:ext cx="9144000" cy="496800"/>
          </a:xfrm>
          <a:custGeom>
            <a:avLst/>
            <a:gdLst/>
            <a:ahLst/>
            <a:rect l="l" t="t" r="r" b="b"/>
            <a:pathLst>
              <a:path w="9117106" h="497742">
                <a:moveTo>
                  <a:pt x="0" y="0"/>
                </a:moveTo>
                <a:cubicBezTo>
                  <a:pt x="458320" y="160244"/>
                  <a:pt x="916641" y="320488"/>
                  <a:pt x="1398494" y="349623"/>
                </a:cubicBezTo>
                <a:cubicBezTo>
                  <a:pt x="1880347" y="378758"/>
                  <a:pt x="2456330" y="183776"/>
                  <a:pt x="2891118" y="174811"/>
                </a:cubicBezTo>
                <a:cubicBezTo>
                  <a:pt x="3325906" y="165846"/>
                  <a:pt x="3637430" y="280147"/>
                  <a:pt x="4007224" y="295835"/>
                </a:cubicBezTo>
                <a:cubicBezTo>
                  <a:pt x="4377018" y="311523"/>
                  <a:pt x="4755776" y="235323"/>
                  <a:pt x="5109882" y="268941"/>
                </a:cubicBezTo>
                <a:cubicBezTo>
                  <a:pt x="5463988" y="302559"/>
                  <a:pt x="5748618" y="490817"/>
                  <a:pt x="6131859" y="497541"/>
                </a:cubicBezTo>
                <a:cubicBezTo>
                  <a:pt x="6515100" y="504265"/>
                  <a:pt x="7048501" y="340658"/>
                  <a:pt x="7409330" y="309282"/>
                </a:cubicBezTo>
                <a:cubicBezTo>
                  <a:pt x="7770159" y="277906"/>
                  <a:pt x="8012206" y="336176"/>
                  <a:pt x="8296835" y="309282"/>
                </a:cubicBezTo>
                <a:cubicBezTo>
                  <a:pt x="8581464" y="282388"/>
                  <a:pt x="8978153" y="181535"/>
                  <a:pt x="9117106" y="147917"/>
                </a:cubicBezTo>
              </a:path>
            </a:pathLst>
          </a:custGeom>
          <a:noFill/>
          <a:ln w="25560">
            <a:solidFill>
              <a:srgbClr val="c640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16"/>
          <p:cNvSpPr/>
          <p:nvPr/>
        </p:nvSpPr>
        <p:spPr>
          <a:xfrm>
            <a:off x="-1440" y="1566720"/>
            <a:ext cx="9144000" cy="497160"/>
          </a:xfrm>
          <a:custGeom>
            <a:avLst/>
            <a:gdLst/>
            <a:ahLst/>
            <a:rect l="l" t="t" r="r" b="b"/>
            <a:pathLst>
              <a:path w="9117106" h="497742">
                <a:moveTo>
                  <a:pt x="0" y="0"/>
                </a:moveTo>
                <a:cubicBezTo>
                  <a:pt x="458320" y="160244"/>
                  <a:pt x="916641" y="320488"/>
                  <a:pt x="1398494" y="349623"/>
                </a:cubicBezTo>
                <a:cubicBezTo>
                  <a:pt x="1880347" y="378758"/>
                  <a:pt x="2456330" y="183776"/>
                  <a:pt x="2891118" y="174811"/>
                </a:cubicBezTo>
                <a:cubicBezTo>
                  <a:pt x="3325906" y="165846"/>
                  <a:pt x="3637430" y="280147"/>
                  <a:pt x="4007224" y="295835"/>
                </a:cubicBezTo>
                <a:cubicBezTo>
                  <a:pt x="4377018" y="311523"/>
                  <a:pt x="4755776" y="235323"/>
                  <a:pt x="5109882" y="268941"/>
                </a:cubicBezTo>
                <a:cubicBezTo>
                  <a:pt x="5463988" y="302559"/>
                  <a:pt x="5748618" y="490817"/>
                  <a:pt x="6131859" y="497541"/>
                </a:cubicBezTo>
                <a:cubicBezTo>
                  <a:pt x="6515100" y="504265"/>
                  <a:pt x="7048501" y="340658"/>
                  <a:pt x="7409330" y="309282"/>
                </a:cubicBezTo>
                <a:cubicBezTo>
                  <a:pt x="7770159" y="277906"/>
                  <a:pt x="8012206" y="336176"/>
                  <a:pt x="8296835" y="309282"/>
                </a:cubicBezTo>
                <a:cubicBezTo>
                  <a:pt x="8581464" y="282388"/>
                  <a:pt x="8978153" y="181535"/>
                  <a:pt x="9117106" y="147917"/>
                </a:cubicBez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8"/>
          <p:cNvSpPr/>
          <p:nvPr/>
        </p:nvSpPr>
        <p:spPr>
          <a:xfrm rot="465600">
            <a:off x="809640" y="1854000"/>
            <a:ext cx="1733400" cy="19922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8"/>
          <p:cNvGrpSpPr/>
          <p:nvPr/>
        </p:nvGrpSpPr>
        <p:grpSpPr>
          <a:xfrm>
            <a:off x="1865160" y="1577880"/>
            <a:ext cx="84240" cy="338400"/>
            <a:chOff x="1865160" y="1577880"/>
            <a:chExt cx="84240" cy="338400"/>
          </a:xfrm>
        </p:grpSpPr>
        <p:pic>
          <p:nvPicPr>
            <p:cNvPr id="228" name="Group 65" descr=""/>
            <p:cNvPicPr/>
            <p:nvPr/>
          </p:nvPicPr>
          <p:blipFill>
            <a:blip r:embed="rId2"/>
            <a:stretch/>
          </p:blipFill>
          <p:spPr>
            <a:xfrm>
              <a:off x="1865160" y="1577880"/>
              <a:ext cx="84240" cy="33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" name="Donut 10"/>
            <p:cNvGrpSpPr/>
            <p:nvPr/>
          </p:nvGrpSpPr>
          <p:grpSpPr>
            <a:xfrm>
              <a:off x="1891440" y="1728720"/>
              <a:ext cx="19080" cy="36360"/>
              <a:chOff x="1891440" y="1728720"/>
              <a:chExt cx="19080" cy="36360"/>
            </a:xfrm>
          </p:grpSpPr>
          <p:pic>
            <p:nvPicPr>
              <p:cNvPr id="230" name="Donut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91440" y="1728720"/>
                <a:ext cx="19080" cy="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 rot="360600">
                <a:off x="1899000" y="1743480"/>
                <a:ext cx="324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矩形 24"/>
          <p:cNvSpPr/>
          <p:nvPr/>
        </p:nvSpPr>
        <p:spPr>
          <a:xfrm rot="20878800">
            <a:off x="3367080" y="1850760"/>
            <a:ext cx="2070000" cy="159552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3"/>
          <p:cNvGrpSpPr/>
          <p:nvPr/>
        </p:nvGrpSpPr>
        <p:grpSpPr>
          <a:xfrm>
            <a:off x="4132440" y="1542960"/>
            <a:ext cx="83880" cy="338400"/>
            <a:chOff x="4132440" y="1542960"/>
            <a:chExt cx="83880" cy="338400"/>
          </a:xfrm>
        </p:grpSpPr>
        <p:pic>
          <p:nvPicPr>
            <p:cNvPr id="234" name="Group 65" descr=""/>
            <p:cNvPicPr/>
            <p:nvPr/>
          </p:nvPicPr>
          <p:blipFill>
            <a:blip r:embed="rId5"/>
            <a:stretch/>
          </p:blipFill>
          <p:spPr>
            <a:xfrm rot="21599400">
              <a:off x="4132440" y="1542600"/>
              <a:ext cx="83880" cy="33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Donut 15"/>
            <p:cNvGrpSpPr/>
            <p:nvPr/>
          </p:nvGrpSpPr>
          <p:grpSpPr>
            <a:xfrm>
              <a:off x="4163400" y="1702440"/>
              <a:ext cx="18360" cy="36360"/>
              <a:chOff x="4163400" y="1702440"/>
              <a:chExt cx="18360" cy="36360"/>
            </a:xfrm>
          </p:grpSpPr>
          <p:pic>
            <p:nvPicPr>
              <p:cNvPr id="236" name="Donut 15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4163400" y="1702080"/>
                <a:ext cx="18360" cy="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165600">
                <a:off x="4170960" y="1714320"/>
                <a:ext cx="324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矩形 30"/>
          <p:cNvSpPr/>
          <p:nvPr/>
        </p:nvSpPr>
        <p:spPr>
          <a:xfrm>
            <a:off x="6300720" y="1892160"/>
            <a:ext cx="2276640" cy="1752840"/>
          </a:xfrm>
          <a:prstGeom prst="rect">
            <a:avLst/>
          </a:prstGeom>
          <a:blipFill rotWithShape="0">
            <a:blip r:embed="rId7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8"/>
          <p:cNvGrpSpPr/>
          <p:nvPr/>
        </p:nvGrpSpPr>
        <p:grpSpPr>
          <a:xfrm>
            <a:off x="7093080" y="1593720"/>
            <a:ext cx="83880" cy="339840"/>
            <a:chOff x="7093080" y="1593720"/>
            <a:chExt cx="83880" cy="339840"/>
          </a:xfrm>
        </p:grpSpPr>
        <p:pic>
          <p:nvPicPr>
            <p:cNvPr id="240" name="Group 65" descr=""/>
            <p:cNvPicPr/>
            <p:nvPr/>
          </p:nvPicPr>
          <p:blipFill>
            <a:blip r:embed="rId8"/>
            <a:stretch/>
          </p:blipFill>
          <p:spPr>
            <a:xfrm>
              <a:off x="7093080" y="1593720"/>
              <a:ext cx="83880" cy="33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1" name="Donut 20"/>
            <p:cNvGrpSpPr/>
            <p:nvPr/>
          </p:nvGrpSpPr>
          <p:grpSpPr>
            <a:xfrm>
              <a:off x="7120440" y="1743840"/>
              <a:ext cx="16560" cy="40680"/>
              <a:chOff x="7120440" y="1743840"/>
              <a:chExt cx="16560" cy="40680"/>
            </a:xfrm>
          </p:grpSpPr>
          <p:pic>
            <p:nvPicPr>
              <p:cNvPr id="242" name="Donut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7120440" y="1743840"/>
                <a:ext cx="16560" cy="4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 rot="600600">
                <a:off x="7127280" y="1760040"/>
                <a:ext cx="288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TextBox 36"/>
          <p:cNvSpPr/>
          <p:nvPr/>
        </p:nvSpPr>
        <p:spPr>
          <a:xfrm>
            <a:off x="777960" y="4853160"/>
            <a:ext cx="237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的内容打在这里，或者通过复制您的文本后，在此框中选择粘贴，并选择只保留文字。这样格式就不会变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1"/>
          <p:cNvSpPr/>
          <p:nvPr/>
        </p:nvSpPr>
        <p:spPr>
          <a:xfrm>
            <a:off x="851040" y="4484520"/>
            <a:ext cx="19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Administrator\桌面\1-01.png"/>
          <p:cNvPicPr/>
          <p:nvPr/>
        </p:nvPicPr>
        <p:blipFill>
          <a:blip r:embed="rId10"/>
          <a:stretch/>
        </p:blipFill>
        <p:spPr>
          <a:xfrm flipH="1" rot="19871400">
            <a:off x="468000" y="4300200"/>
            <a:ext cx="522360" cy="7365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6"/>
          <p:cNvSpPr/>
          <p:nvPr/>
        </p:nvSpPr>
        <p:spPr>
          <a:xfrm>
            <a:off x="3419640" y="4486320"/>
            <a:ext cx="237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的内容打在这里，或者通过复制您的文本后，在此框中选择粘贴，并选择只保留文字。这样格式就不会变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7"/>
          <p:cNvSpPr/>
          <p:nvPr/>
        </p:nvSpPr>
        <p:spPr>
          <a:xfrm>
            <a:off x="3492360" y="411804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C:\Documents and Settings\Administrator\桌面\1-01.png"/>
          <p:cNvPicPr/>
          <p:nvPr/>
        </p:nvPicPr>
        <p:blipFill>
          <a:blip r:embed="rId11"/>
          <a:stretch/>
        </p:blipFill>
        <p:spPr>
          <a:xfrm flipH="1" rot="19871400">
            <a:off x="3134880" y="3933360"/>
            <a:ext cx="455760" cy="6429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9"/>
          <p:cNvSpPr/>
          <p:nvPr/>
        </p:nvSpPr>
        <p:spPr>
          <a:xfrm>
            <a:off x="6178680" y="4807080"/>
            <a:ext cx="237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的内容打在这里，或者通过复制您的文本后，在此框中选择粘贴，并选择只保留文字。这样格式就不会变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0"/>
          <p:cNvSpPr/>
          <p:nvPr/>
        </p:nvSpPr>
        <p:spPr>
          <a:xfrm>
            <a:off x="6251400" y="44388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C:\Documents and Settings\Administrator\桌面\1-01.png"/>
          <p:cNvPicPr/>
          <p:nvPr/>
        </p:nvPicPr>
        <p:blipFill>
          <a:blip r:embed="rId12"/>
          <a:stretch/>
        </p:blipFill>
        <p:spPr>
          <a:xfrm flipH="1" rot="19871400">
            <a:off x="5806440" y="4221000"/>
            <a:ext cx="554400" cy="782640"/>
          </a:xfrm>
          <a:prstGeom prst="rect">
            <a:avLst/>
          </a:prstGeom>
          <a:ln w="0">
            <a:noFill/>
          </a:ln>
        </p:spPr>
      </p:pic>
      <p:sp>
        <p:nvSpPr>
          <p:cNvPr id="253" name="矩形 52"/>
          <p:cNvSpPr/>
          <p:nvPr/>
        </p:nvSpPr>
        <p:spPr>
          <a:xfrm>
            <a:off x="0" y="6524640"/>
            <a:ext cx="851040" cy="144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54"/>
          <p:cNvSpPr/>
          <p:nvPr/>
        </p:nvSpPr>
        <p:spPr>
          <a:xfrm>
            <a:off x="-1440" y="6381720"/>
            <a:ext cx="9144000" cy="0"/>
          </a:xfrm>
          <a:prstGeom prst="line">
            <a:avLst/>
          </a:prstGeom>
          <a:ln w="28440">
            <a:solidFill>
              <a:srgbClr val="fac0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7"/>
          <p:cNvSpPr/>
          <p:nvPr/>
        </p:nvSpPr>
        <p:spPr>
          <a:xfrm>
            <a:off x="826920" y="6464160"/>
            <a:ext cx="184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公司的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LOGO</a:t>
            </a: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和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燕尾形 58"/>
          <p:cNvSpPr/>
          <p:nvPr/>
        </p:nvSpPr>
        <p:spPr>
          <a:xfrm>
            <a:off x="8699400" y="6524640"/>
            <a:ext cx="120600" cy="217440"/>
          </a:xfrm>
          <a:custGeom>
            <a:avLst/>
            <a:gdLst>
              <a:gd name="textAreaLeft" fmla="*/ 0 w 120600"/>
              <a:gd name="textAreaRight" fmla="*/ 120960 w 1206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64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燕尾形 61"/>
          <p:cNvSpPr/>
          <p:nvPr/>
        </p:nvSpPr>
        <p:spPr>
          <a:xfrm flipH="1">
            <a:off x="8387640" y="6524640"/>
            <a:ext cx="120600" cy="217440"/>
          </a:xfrm>
          <a:custGeom>
            <a:avLst/>
            <a:gdLst>
              <a:gd name="textAreaLeft" fmla="*/ -360 w 120600"/>
              <a:gd name="textAreaRight" fmla="*/ 120600 w 1206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64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43280" y="342900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64009"/>
                </a:solidFill>
                <a:latin typeface="Adobe Caslon Pro Bold"/>
              </a:rPr>
              <a:t>谢谢观看！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0" y="6524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8:36:58Z</dcterms:created>
  <dc:creator>www.pptbz.com</dc:creator>
  <dc:description/>
  <dc:language>en-US</dc:language>
  <cp:lastModifiedBy>yu wang</cp:lastModifiedBy>
  <dcterms:modified xsi:type="dcterms:W3CDTF">2015-08-03T12:20:23Z</dcterms:modified>
  <cp:revision>19</cp:revision>
  <dc:subject/>
  <dc:title>PowerPoint 演示文稿</dc:title>
</cp:coreProperties>
</file>