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B99-646D-4F27-BD5C-7E055E77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277-4B47-4B38-A136-DB3C4DFB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03804-DF3D-4BF1-B394-9A1150C9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90E4D-FA1D-4626-8411-12DD7B1A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2091A-2891-4E6E-B479-D379B32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2436B-72E5-4B44-8FA4-C017A95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7B3A4-ECDC-4396-9059-6952171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87A31-C4FA-46C2-B678-5022CD1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C99C7-69C5-4F8F-AA40-B9C77655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8BC5F-50B3-42AF-A544-A39B2005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C8B52-FB69-448D-9948-15BA9896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AF181-1AE4-4C59-8BA9-3BC55E19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D71-CD69-4589-ACA6-E8EFC00F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D61BD-A5BF-48DD-80F2-AF8CBFE0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98BEE-D99A-42F3-A2AA-D9AFBB24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4BABE-7046-48BF-90C4-DAA6A089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0B5B7-FD23-4C84-8132-5D214DCB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590D6-DB9F-4524-8B4E-A51AD37D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A9673-C719-4BCB-9849-AFC4DF0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76C17-8F5D-4DFB-A773-2A3D551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B43E2-6ADA-4C4C-8AA3-4867348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8B187-F5AE-4A83-98BF-C0547069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56354-6EA6-454D-A180-DDB3D411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B86-7603-4E9C-920E-95E9E837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0E430-24ED-4060-9958-83F76C76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6340D-62C2-4177-AC16-5D785B3E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176E6-1B8F-49D4-801F-C6453BF6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60721-A33D-48EE-B61A-B63C0906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83DD9-7A6E-4F05-88B3-AFAA275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23F29-6D21-4854-9FDF-A6A6517D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288C6-5381-4A76-955A-BFF0E76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BC58E-02AB-48E4-9ECF-17E2CF0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FFF20-A3BA-4056-BDDF-BE73F981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CC824-8B3B-436D-B2CE-C97C684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1654-4EB7-4842-8233-806253A1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23D2D-1BBF-4522-95B3-1160791C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8FC83-5D8E-495E-A540-DAE3035C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42624-844D-49BB-AC90-4AF9FC1B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54157-33BD-4B11-B403-6A428E96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EFBC6-4013-4536-8F68-C54C4A44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185B6-0B04-46D3-A2FD-E0E4C56C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07838-20EA-46AE-B70A-CD752714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13A00-B977-47AB-A03F-E0845FD3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E54DD-E040-45F7-8CD2-4BA12A75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06D22-6A91-484B-B962-1927770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8FF7-FA07-4AFC-BEC8-B8E5CA3F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2C1EE-73E4-41CB-B5DA-9CD88D4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072B1-339A-4B86-A8FE-96A6874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E8CB8-C7DD-4C38-BE8D-FDBCBE2B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76D57-734C-43A9-A1A9-35F5711D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122CD-79A4-4BDC-BF22-FB1B932B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FF97-5574-46D4-A268-1ADA231A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41F9-8BF5-4A3A-8426-A781C100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2583-1F1A-4F6D-BC30-49C5CFB8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7AA6-5865-4EA8-872F-D4DA460B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B969-52C4-415C-8895-6ED71C80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907-9F90-4001-860A-9E32E707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8C57-97CD-4608-851B-3A1D00B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C718-1B16-4FB2-8D49-A57FACD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1C6E-CF00-4DF1-ABF2-CDE6901E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73CD-4785-484B-9DD5-A5B2F896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1534-959F-499C-AB19-CF7A446F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C131-6190-43A1-B860-8AF856DC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0232-F1D9-4FC6-BC6C-B1D097E3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94B7-6F98-4410-A077-2FEBAB7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A754-F389-4396-8B08-63CEA503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8341-F717-49F9-88D3-D95CC701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F54-6ABD-4CE8-ABEF-82C5F655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EFDF-D068-4E8D-B776-BDAFFD8F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EA23-630C-4560-B6E0-755CBB1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3EA4-0102-4ACC-B782-06BF6D5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651B-F0D2-4D69-AA8C-9955F5A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690B-08B0-467E-989F-700B1FD0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DD25-D37B-46B7-857F-1D55AC54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26A9-6960-4E06-BB61-B6418A47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6B1B-A8E0-4326-B7C1-F264CAD8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CE60-F02E-43F1-886A-48864797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F260-99F6-42AC-97ED-43236E8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DAA-3B18-45BA-837A-0BA6A82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2743-20C5-4C1F-9830-82057780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F887-976C-486C-BE31-93A2B1BD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B3FE-F310-4AD4-8E4A-EBF9C243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9983-5A2F-4B84-8672-85624FE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C949-8E44-46AF-AE7A-C7BB7B3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A3EE2-7611-4483-9D9F-9D30379D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1A5D-D86E-4BC7-A7D1-0B164990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7BF6-5CD7-4165-A479-C35B6B71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EF64-B02F-4DB5-AC00-17BD7628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A0E2-96D2-4C6A-B4AB-E9787E0C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A81-80E1-406E-84CC-5F85DDC4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4E331-CA46-4193-AF88-D9D1C167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E07B-1406-44C5-B93F-5AC4DE5F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D7EAC-F2CE-42EB-8C06-1823B69E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1296C-E38A-48D6-9746-E535C81C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095B-CB9B-4E80-A0F7-A01102EF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B996-CB29-481D-89F5-74F4408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6ADE-676C-4E0E-A58B-6287ADEE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AD378-E508-48CE-98B1-125E831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81E9-5881-4962-A904-3256A51E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3535C-B869-4923-BD9F-9EA07F0D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470-0609-4446-BD78-6F16E3E6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AC3B0-0B7C-4D11-B562-34509559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84804-275A-49CA-9E08-831BF538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3D05A-4FAE-4CF9-9D0E-09ECD74A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AD69B-EE74-4D27-8EE0-DFEC3A65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DEBE2-0F47-4947-9714-A49D036D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1154-38C5-48D9-9714-33109157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F50B-876C-4320-971B-42CB3AAB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BE47C-180F-4D67-9256-819DD04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0C9AC-7131-4B5C-8973-6AAFD83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C407-7933-4176-92B2-B08F8C0C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217-3FCE-4B7D-A208-E5D48A0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AB89D-5500-4510-BAA9-29983F87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8CCF4-3C41-457B-A7EE-B3FB5A6C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73D7E-578E-4EB4-A1E8-2E7E33E9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27AD-8DB7-47AB-95EC-A57C58B8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7576B-B80D-4AE5-A7A8-867B954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97E73-F66C-478A-9190-34EB25CF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A88F4-4738-49F5-B1B1-854B784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D9C05-A6BF-4DCF-AFFE-80D36B57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924A1-98CC-4169-B7CB-162201DE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040B8-1698-43E5-947C-5F95F90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1E9-698A-40C6-AAD2-460006C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97BC6-DE40-4FE3-8C1B-2415369F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9D239-6FB4-4B90-BB98-E2FB2D6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21A43-8C2A-4CF1-8725-D8D73CDA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6E6D3-034A-4FF9-9699-B825900B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08FF3-300C-4D4C-AEFF-26F25801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E320-BC27-438C-B811-793014CE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A6F12-E002-47BB-AB3B-E1646B3E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3C8D2-F1C0-4490-8F9A-178CB032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B84F-AFB8-4F91-B310-66C7C113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4FF5C-CD01-409F-B7C8-0B802D98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AB5-2EA8-4261-B464-4E0E863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5B1AE-E01D-4449-B137-7DD9B590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B4410-882B-4892-AE8A-CF4144D5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1B4D7-1038-46F5-B52D-A19BDBCB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A589-2310-428D-8238-7E36DBA4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B19E-8A09-4C7F-8963-0F7B3583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2157-0B1E-4498-9191-83B7C096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0728-03E9-4360-B171-DA12BD6A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482F9-7E27-466B-B3F0-8428CAAF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A8E61-D647-4AE6-9FE0-51A8CDEB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2D745-FBEE-46D1-9AC6-7C65FCC1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DD52-557A-42B8-82B2-98527BBF23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B4D-8F7F-47B3-A47B-BD459D285A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517-593A-4106-A8FC-713563BF1D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5CD9-5654-4F67-80F0-A2C59E4196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8CF-A94B-400D-B37F-5A20623962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2BCA-D0DB-43B3-8D85-4EC14809A8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80CC-013A-4D6F-808A-AB5D493CC5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C27B-9306-4033-9E44-E4A32894F7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3C7-14FC-4555-BA51-92B86FAC9E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449B-0C21-40FA-A3E2-2A09526456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D8C-70A8-4EDA-8406-B34816FFBF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D11-10E5-4CBB-9050-9C658A1C93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"/>
          <p:cNvSpPr/>
          <p:nvPr/>
        </p:nvSpPr>
        <p:spPr>
          <a:xfrm>
            <a:off x="1737360" y="4460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定风波古典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3" descr="图片1.png"/>
          <p:cNvPicPr/>
          <p:nvPr/>
        </p:nvPicPr>
        <p:blipFill>
          <a:blip r:embed="rId2"/>
          <a:stretch/>
        </p:blipFill>
        <p:spPr>
          <a:xfrm>
            <a:off x="385776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2" descr="图片1.png"/>
          <p:cNvPicPr/>
          <p:nvPr/>
        </p:nvPicPr>
        <p:blipFill>
          <a:blip r:embed="rId2"/>
          <a:stretch/>
        </p:blipFill>
        <p:spPr>
          <a:xfrm>
            <a:off x="385776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3" descr="图片1.png"/>
          <p:cNvPicPr/>
          <p:nvPr/>
        </p:nvPicPr>
        <p:blipFill>
          <a:blip r:embed="rId2"/>
          <a:stretch/>
        </p:blipFill>
        <p:spPr>
          <a:xfrm>
            <a:off x="3857760" y="0"/>
            <a:ext cx="9144000" cy="67086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"/>
          <p:cNvSpPr/>
          <p:nvPr/>
        </p:nvSpPr>
        <p:spPr>
          <a:xfrm>
            <a:off x="755640" y="6373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矩形 4"/>
          <p:cNvSpPr/>
          <p:nvPr/>
        </p:nvSpPr>
        <p:spPr>
          <a:xfrm>
            <a:off x="3710160" y="5300640"/>
            <a:ext cx="5014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图片 3" descr="图片2.png"/>
          <p:cNvPicPr/>
          <p:nvPr/>
        </p:nvPicPr>
        <p:blipFill>
          <a:blip r:embed="rId17"/>
          <a:stretch/>
        </p:blipFill>
        <p:spPr>
          <a:xfrm>
            <a:off x="0" y="77760"/>
            <a:ext cx="9144000" cy="670248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4" descr="图片1.png"/>
          <p:cNvPicPr/>
          <p:nvPr/>
        </p:nvPicPr>
        <p:blipFill>
          <a:blip r:embed="rId18"/>
          <a:stretch/>
        </p:blipFill>
        <p:spPr>
          <a:xfrm>
            <a:off x="2071800" y="0"/>
            <a:ext cx="9144000" cy="6708600"/>
          </a:xfrm>
          <a:prstGeom prst="rect">
            <a:avLst/>
          </a:prstGeom>
          <a:ln w="0">
            <a:noFill/>
          </a:ln>
        </p:spPr>
      </p:pic>
      <p:sp>
        <p:nvSpPr>
          <p:cNvPr id="501" name="矩形 3"/>
          <p:cNvSpPr/>
          <p:nvPr/>
        </p:nvSpPr>
        <p:spPr>
          <a:xfrm>
            <a:off x="3212640" y="350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敬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"/>
          <p:cNvSpPr/>
          <p:nvPr/>
        </p:nvSpPr>
        <p:spPr>
          <a:xfrm>
            <a:off x="163188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dd9c3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dd9c3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/>
  <dc:description/>
  <cp:keywords/>
  <dc:language>en-US</dc:language>
  <cp:lastModifiedBy>yu wang</cp:lastModifiedBy>
  <cp:lastPrinted>1899-12-30T00:00:00Z</cp:lastPrinted>
  <dcterms:modified xsi:type="dcterms:W3CDTF">2015-08-03T12:21:15Z</dcterms:modified>
  <cp:revision>2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