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B38D-6E74-465F-9187-01139EE6C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2ABC-E6B7-4F40-8C42-C8EEFF5D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6A27-E642-41C9-A52E-44B5C34CA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A6B6-0D58-43E6-BB06-072F43ADD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6D75-7873-490A-8452-22854135C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0918-30D6-480E-AEC1-243900BD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39AB-344E-49DB-9E84-48C028E6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8B833-1820-429D-A862-F587458D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1643-0519-41E5-91BD-A95ACC86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3CFD-0623-4EB9-87C1-020FA1A0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94F6-91C4-4546-8E01-AD1C3060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7222-0AAF-488B-AB4F-446609DE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82A9-1E9C-492A-9D41-57385FA7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FF46-8D79-4CF3-A538-3258991A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E4D8-7E43-4742-8F58-B8ADBE00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E67C-5511-42C9-A959-3D774E233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18BC8-8D5A-4B00-BE05-A2EFB205A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DEBCC-0BEE-4A47-8197-5542C5310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CC75B-4638-4CEF-8B78-22633538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360D3-41FF-4E9C-9276-F8C255B7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46BC9-28E3-41A5-A380-6F682995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2AE9C-8167-43F9-B321-EEF85AD2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B263-E530-48FB-9A98-65A90B5D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C1207-A76C-4A47-A0B8-27C229ED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2F62C-DAED-459D-954C-53839873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3C0A5-3714-44B8-852C-44901D58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174F8-BF21-4905-8374-CCDD8C60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7B2DC-B70B-4E0B-A266-963EE240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ED676-8A90-4462-8DBE-AE38DE91B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F5270-4658-450A-B993-A8A0A88C4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48E22-46AD-462A-BF39-BA9EA9499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1F667-2B8B-4159-8877-F2CB6D6D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675CC-DFE1-4E04-B70E-2B980AE2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0219-B5E6-4D83-8040-8E016EB5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F3D38-9221-4D6B-85D5-12A5743B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9AC30-3BF6-4B5C-B205-42031F07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E65F3-BCA7-41CE-B670-E27CFDA4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09E95-ED9D-497C-AB31-41288F7A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C1746-D013-4BE8-B24F-00C73942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82DA0-7E77-4F77-97B5-6F3323B0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42FE6-B669-46E8-8390-7597E9F3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E6230-FD86-4FD0-BB27-04C6DD134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8CB7B-9AE2-471A-8F8F-5221837CA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32AC7-5EFC-4516-AC8C-DCFDA2896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73C6-AB92-46F4-ADAC-82B2802A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11D7A-44A6-4777-9696-27DBBEBC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5D861-945F-422F-A6C0-041233AA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7F99C-65E0-4F4E-932E-C1A11C22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6DBAB-32D8-49D3-A0D8-12157F38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362AD-423F-412E-8BE6-0F200BD4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FDA08-20BF-4F11-B861-51930B4C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C4D40-48F9-4D3A-963B-AF7E5ED3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162C9-8751-4DC6-A4DB-D4133204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56255-F2A5-485C-BFD3-99E3E1DC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33B9F-DC26-4305-8DEB-651AD92D3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F072-4D75-4FB2-AF5C-4A11EB01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0F165-0057-4FA5-A485-8EEF37C3F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7C1D6-4243-4A65-91C4-52D06EC00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77257-7006-4F75-BBF3-1B690394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55BA9-9DFB-4668-B61D-F4031712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98A6A-238B-46F2-8713-877681A2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EF4E1-009D-4693-B72A-41AD77C6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BB85F-AF9F-4D1B-AC9E-B8E11ABA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25DA7-8844-434E-B7A5-BB74D97C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1F454-F2A1-4B84-8041-461B5273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E3B21-0C76-4FA7-ABCE-AF7172C3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72F2-66A8-44B6-8839-6F4D5C7E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10176-2D00-4605-8B55-EE284E4B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05BEB-1230-44E9-880D-BC06FE69B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23A1D-0DB5-4554-8E55-DF6DFE7D4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117E-1DFE-46F4-A16A-EF7421FD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A21A-34D8-4E73-8348-BDF08598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771B-9CB9-462D-A112-F5144ABD3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moban1-2副本"/>
          <p:cNvPicPr/>
          <p:nvPr/>
        </p:nvPicPr>
        <p:blipFill>
          <a:blip r:embed="rId2"/>
          <a:stretch/>
        </p:blipFill>
        <p:spPr>
          <a:xfrm>
            <a:off x="-433440" y="0"/>
            <a:ext cx="9577440" cy="719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3589-F3BF-4DDB-8039-FB1B2B67C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" descr="moban1-1副本"/>
          <p:cNvPicPr/>
          <p:nvPr/>
        </p:nvPicPr>
        <p:blipFill>
          <a:blip r:embed="rId2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FBCF-EC18-418F-B069-760B075D5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7" descr="moban1-3副本"/>
          <p:cNvPicPr/>
          <p:nvPr/>
        </p:nvPicPr>
        <p:blipFill>
          <a:blip r:embed="rId2"/>
          <a:stretch/>
        </p:blipFill>
        <p:spPr>
          <a:xfrm>
            <a:off x="-18108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moban1-2副本"/>
          <p:cNvPicPr/>
          <p:nvPr/>
        </p:nvPicPr>
        <p:blipFill>
          <a:blip r:embed="rId2"/>
          <a:stretch/>
        </p:blipFill>
        <p:spPr>
          <a:xfrm>
            <a:off x="-433440" y="0"/>
            <a:ext cx="9577440" cy="71960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0D64-8D68-4838-921F-EFFDAE805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moban1-1副本"/>
          <p:cNvPicPr/>
          <p:nvPr/>
        </p:nvPicPr>
        <p:blipFill>
          <a:blip r:embed="rId2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9772-8599-4CB1-9B0E-8F58F907A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moban1-3副本"/>
          <p:cNvPicPr/>
          <p:nvPr/>
        </p:nvPicPr>
        <p:blipFill>
          <a:blip r:embed="rId2"/>
          <a:stretch/>
        </p:blipFill>
        <p:spPr>
          <a:xfrm>
            <a:off x="-18108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8450-08A7-425B-9F30-EE0DFF578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矩形 1"/>
          <p:cNvSpPr/>
          <p:nvPr/>
        </p:nvSpPr>
        <p:spPr>
          <a:xfrm>
            <a:off x="2145960" y="119700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杜甫古典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moban1-2副本"/>
          <p:cNvPicPr/>
          <p:nvPr/>
        </p:nvPicPr>
        <p:blipFill>
          <a:blip r:embed="rId1"/>
          <a:stretch/>
        </p:blipFill>
        <p:spPr>
          <a:xfrm>
            <a:off x="-433440" y="0"/>
            <a:ext cx="9577440" cy="71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09:45:28Z</dcterms:created>
  <dc:creator>Lenovo User</dc:creator>
  <dc:description/>
  <dc:language>en-US</dc:language>
  <cp:lastModifiedBy>yu wang</cp:lastModifiedBy>
  <dcterms:modified xsi:type="dcterms:W3CDTF">2015-08-03T12:22:43Z</dcterms:modified>
  <cp:revision>7</cp:revision>
  <dc:subject/>
  <dc:title>幻灯片 1</dc:title>
</cp:coreProperties>
</file>