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56D-5712-4986-AC4F-FD3A83F6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" y="3768840"/>
            <a:ext cx="829152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7EB-BAE9-48E7-BE44-6B303C30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56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528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9245-6AFE-4697-85A1-BBF99ED2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0240" y="126828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3920" y="126828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560" y="376884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3920" y="376884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FB5C-00DE-4080-A4E3-D9988BC5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F112-45EA-4019-AB93-5EC08131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5D6A-5F49-4E54-852C-8E30B05D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0ADF-BAF6-4250-9DB8-A0B5F40A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AF89-B73B-4DC2-BB18-EAA1C068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33BD-64A1-44A1-BFB0-987F2A00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24000" y="260280"/>
            <a:ext cx="48243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201A-A66A-4939-92CB-1FC412CD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DBB4-DDE2-4964-9E69-099DD4EF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18A-9BEE-414C-B40A-F6EF1C28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528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D0A5-E881-4878-83C4-039D33BD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60" y="3768840"/>
            <a:ext cx="829152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04EF-8AFF-43AE-B43E-6A10E147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60" y="3768840"/>
            <a:ext cx="829152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2D8B-507A-43C6-BBAF-E01FF8D6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56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528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388F-87F2-4548-8909-0EE76694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0240" y="126828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3920" y="126828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560" y="376884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3920" y="376884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9081-6175-47EC-99D5-ACCF4E12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CD1-0CD6-4758-857B-3DA31C70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BBD-7C8E-40AD-8A01-535D2CFA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E2A7-2EF4-45FF-8434-41684890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24000" y="260280"/>
            <a:ext cx="48243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495-DEAD-493E-BF06-5371E4EA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56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F1D4-0EAB-4C4C-BA23-BA88F96D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528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161-8D3D-42CC-8972-3FD97CF6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560" y="3768840"/>
            <a:ext cx="829152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2512-4D1B-4DA4-887E-198B0649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920" y="-25560"/>
            <a:ext cx="9286920" cy="6909120"/>
            <a:chOff x="-34920" y="-25560"/>
            <a:chExt cx="9286920" cy="6909120"/>
          </a:xfrm>
        </p:grpSpPr>
        <p:pic>
          <p:nvPicPr>
            <p:cNvPr id="1" name="Picture 3" descr="140404fqc90f.4594a1"/>
            <p:cNvPicPr/>
            <p:nvPr/>
          </p:nvPicPr>
          <p:blipFill>
            <a:blip r:embed="rId2"/>
            <a:srcRect l="8323" t="9665" r="15674" b="0"/>
            <a:stretch/>
          </p:blipFill>
          <p:spPr>
            <a:xfrm>
              <a:off x="2160" y="-25560"/>
              <a:ext cx="9249840" cy="69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-34920" y="1081080"/>
              <a:ext cx="9247320" cy="507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C7DF-5AF5-4215-B8AF-460CA412D9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140404fqc90f.4594a1"/>
          <p:cNvPicPr/>
          <p:nvPr/>
        </p:nvPicPr>
        <p:blipFill>
          <a:blip r:embed="rId2"/>
          <a:srcRect l="9018" t="0" r="7573" b="0"/>
          <a:stretch/>
        </p:blipFill>
        <p:spPr>
          <a:xfrm>
            <a:off x="-6480" y="1440"/>
            <a:ext cx="9186840" cy="688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DD24-10D6-40F7-A7DB-B2B88FEAD5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8459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蝶恋花水墨中国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71640" y="5589360"/>
            <a:ext cx="40320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9:04:15Z</dcterms:created>
  <dc:creator/>
  <dc:description/>
  <cp:keywords/>
  <dc:language>en-US</dc:language>
  <cp:lastModifiedBy>yu wang</cp:lastModifiedBy>
  <cp:lastPrinted>1899-12-30T00:00:00Z</cp:lastPrinted>
  <dcterms:modified xsi:type="dcterms:W3CDTF">2015-08-03T12:25:03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870</vt:lpwstr>
  </property>
</Properties>
</file>