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772920-0816-498C-94C5-F658B969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B9AC5-D0EE-4A30-87BC-0E97458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FB8FD-8A86-49F3-A721-286F6625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4151D-6B1B-48CE-B9D3-1B6BB37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57A39D-6185-4588-AE16-F3FAA300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EAC27-21E1-4E75-9145-D9FA047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16966-D588-4693-AA72-F44EF51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B7AEB-3798-4D42-9730-5D6B83D2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446A4-ABDD-4A72-A3DD-0C17A17A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D7639-DA50-4F1C-973B-8DABD54E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FD378-A640-4747-AA3D-2DD5C3A7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44992-515C-4172-9240-33907CC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3BAAF-5500-493A-9217-0B28F27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0D502-693A-4BCC-9523-302831C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D2E21-B498-4AC5-B1A5-32BC3F8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0D5A1-A7AF-421C-B8BC-A62F6E1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429BF-EE20-4C7F-ABE5-F63C5BC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BECF2-1AB8-4571-A305-1D3C66C0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3AB0E-4EF8-49D7-A45A-FC522E98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66BC2-2C94-4461-8ACC-7A60E4CC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22870-91A5-4849-8CC6-08D031FC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7A6EC-819E-476A-BB70-4238BFE3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029C4-5822-4189-9E1D-8E022EC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D42D9-DCF0-451C-A808-C9BF95A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86B25-BBE0-4EDC-BC93-335CC049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42FDF-4548-4FBE-9C15-11E5D1F5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C263E-6C3C-4837-8A9F-248A511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CAD66-3987-4D33-B50A-7196588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25044-3F58-41E4-8EEB-55589E30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55223-8B46-46F1-95D5-5D7ECE3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E6F75-0E23-4FAA-83BE-AA1CFB61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3808F-01C8-421E-B065-26B4B060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4B633-3EB8-43BA-AAD5-432A1C6B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8B53E8-6A95-42F2-9140-4FD34CB1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63325A-2ED9-48CA-94A1-956323F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6CB388-0D62-4A8E-9FE3-6744084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0784C7-30B9-479A-A9CB-B61D477E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B303A4-BB9F-466D-9328-37FD180E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E56432-F2CC-45B6-9562-2E5BFF68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053BBB-7AA0-4B25-913B-A723438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5E1EBB-5EE7-42CC-94A5-B83F3C7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718ACE-FBC1-41B9-AC44-2EBE5A2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3A837E-AD8F-4DB1-99FD-5590E9B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FDF504-99FF-4D29-BFF6-4D5B7DF7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6B76C4-5A15-4B3C-8B56-DE4A01C3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7CB47-BA3E-4D73-800F-E949F923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9C6ED-D717-4EE9-9868-A7DD8B58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6B31F-6807-4AF8-A030-06EC621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99CB4-533C-464D-9DF0-D5EAFD1E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16D12-6DBA-4DB1-B0D1-51EA29E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0D831-7BED-4CE3-8638-8314FA75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64BB9-BE7B-484B-838D-446181CC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50AA0-2A3E-4EF8-B422-BE44BD5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32A90-09AA-4954-85D5-7A9FEE5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15BAD-0315-47B0-BB48-75A11E3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10E74-E319-430F-B6AD-797451F2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65AC4-32FB-465F-BEAE-1D8276DD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F087CB-AA55-4087-B8E8-3E659A75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21324B-10FB-4733-936A-76127C2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3EA71B-3C4E-493A-BEEC-EB18C63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B9E60A-977F-4C08-9AF9-31856490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B6C7B0-F91E-4BA6-A829-C9BB87D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0F9DE7-5E6E-4FF9-9B6F-7BF5EA98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4B6B3F-4305-4376-9C49-64499BD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FEE8CA-8BF1-4B21-BA32-0D6A01C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341782-FB1F-45F3-9DFB-6E9DFAF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EFB041-AD44-4F1E-B3B1-6DDD80D7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64BDA8-98DB-41BE-B104-C854F045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555D92-CEBA-4C60-AE60-9C11713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B66FE-D0BE-4C91-9858-E1BC1EF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D32B-E5D5-4AFE-871B-B2E4DAF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0D2A-0571-4451-8C62-A28F0277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3CEA7-0382-4C59-B2A4-8C885B19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16BE5-19C6-42C1-A345-F6E4422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85372-AF5D-40E9-8344-C5D2CB0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CC13-E45A-45E9-BCA0-618A363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E76F-039E-4BAE-82D6-6FC9C76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768EC-493B-49F2-8854-A7B02FA8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5E554-B999-430B-9FF4-737FEE3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2A435-3376-433D-AE22-ADE9BA0C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16B1-FF30-443E-9DD6-5AFF6321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A6617-E690-4CDC-9C14-2C2B699C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4055F-16FB-4CAD-AA16-548B3D4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EA4D9-9F61-43FE-85E3-C95E3E8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7E675-0E57-4E1D-83E5-551E986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1B40F-0AA6-4A82-B9E6-7C6A657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75614-131F-4FFE-9632-5C9EDAA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C736D-A8E1-4E34-A333-DC109B92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26646-7B78-478E-B1BE-AE68D1F5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7F325-414A-4F06-B7F1-2B3492E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F4F404-8AC4-4324-B062-CD92250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CC1C2-FF32-48BC-AE8C-570F554D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9EDFF-3315-4130-B87B-E804464D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8E2CD-CB25-4889-AE31-2075D3AE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48BFE-B043-41A6-A6C7-DD8CFB8A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C5174-C982-4695-88EF-3DA3F5DE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2A2E5E-140C-4E99-87E9-7C92D36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4940C-C04B-4E42-BAEB-3A59B09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19F09-307C-484C-8A13-FC44409E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6CE7E-0E4D-4108-AE04-3C93EDB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51AC7-7A71-4C82-8E2F-90FF832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DE90B-B65C-4C19-8DD2-1BDE47D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26AF2-FEE0-41E8-BF69-833E83C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D6960-EEF7-4A1E-B21A-B301FF6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62532-4AF2-4D2E-9EE8-9C5E68CF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707C4-B8AF-49FA-9A62-1C3D35A9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BF964-7359-4C05-86CF-E6AD534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60B279-E44A-4CAE-B44E-012B76B1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38A6D2-B598-41AE-85C7-300608D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940EF-8E90-41FA-BA70-82460AD9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9ABE5-FF7E-4EB5-AAF1-873342CE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91340-A2B3-47F2-9C04-1EB9812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BFEF7-7F9F-473D-B4A3-082A59F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B1E79-1006-490C-B6E1-4A056D0C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57998-239D-4E37-8C8C-8CCC26A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72AB9-5CF2-4AD8-A9BF-16D89E8F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C9FC3-8719-42EF-84AC-A8AA5F8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65E2C-1A47-4F35-881D-3633DD7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8D8E5-294A-4B78-B0B7-5A453A4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0BC49-2AA1-44E9-86E5-612B2C11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F25A2-6145-4EE7-8267-AAFCEEA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A6551-A123-4E12-9885-B912B25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E1A70-2EF2-47B3-A769-64C41EB0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FB8BC-1035-4136-A81E-7098943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FC2D4-36D8-42E4-A7A6-361FCA9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95548-8CD1-443B-8D51-3B4AD7A7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E246B-2020-419B-927E-08366EB4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B5BFD2-E397-42F7-95F5-C01587A3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D8549-9F3A-4507-BB64-3A3B036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88FF1-6B15-407B-B298-D51205A6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A72323-9E81-4642-BBD6-66C5509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8AEF90-A6F2-4D91-B5BF-9FD112E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E64EBF-1826-4A26-9643-AB1E705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31EAB7-FD8A-4DE5-9E87-346F4B3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3017BB-AEDF-42DA-9A3D-42D713B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35E4F8-C11D-474B-9723-24913F5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AE5E79-627B-4264-B875-2CFB0BE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427EC0-8841-4084-B21E-FA3E396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D1F54-A1DE-4052-9A68-071B443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12696F-BBDE-45F3-B10F-82806868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BE3974-4AE1-40E6-AD6B-386F1DD0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21E1C4-DD05-4E31-8452-E9876F6D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8F62B-DE11-4222-B41D-B6E2649C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6B9E18-3FD8-40BD-89B0-32946B7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2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25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B68-BA60-4B11-99AE-F9321A5AA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Num" idx="28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AEBE-21C3-4D16-BAB4-1A47A6E36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dt" idx="30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31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0975-D367-4176-A67E-85C23EF4A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dt" idx="3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Num" idx="3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D9D4-C3A9-41FE-9331-9E68646FA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dt" idx="3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Num" idx="37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4CC-B3C0-4012-8604-5707C8F29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8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dt" idx="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Num" idx="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C2C-1293-4B18-9A7F-6540AA73E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7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BD5-8AB9-41CE-87D9-0119C85EB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9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10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3E9D-D0AE-4D30-9562-B21EF265C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2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1BAE-6EAF-4D1E-ADE2-FCE044AA16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5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946-5696-49C3-9DC4-B1494AECA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dt" idx="18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1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F01-499F-4E43-907C-4128F43B9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dt" idx="2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Num" idx="22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DE6-698E-4FDE-86F9-C2C74B0F4B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1287000"/>
            <a:ext cx="61214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  <a:ea typeface="黑体"/>
              </a:rPr>
              <a:t>在此输入文字标题</a:t>
            </a:r>
            <a:endParaRPr b="0" lang="en-US" sz="40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684360" y="1288800"/>
            <a:ext cx="66960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动态简洁</a:t>
            </a:r>
            <a:r>
              <a:rPr b="1" lang="en-US" sz="4000" spc="-1" strike="noStrike">
                <a:solidFill>
                  <a:srgbClr val="eeeff3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3"/>
          <p:cNvSpPr/>
          <p:nvPr/>
        </p:nvSpPr>
        <p:spPr>
          <a:xfrm>
            <a:off x="10112400" y="2684520"/>
            <a:ext cx="213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A94F-10B9-48EE-A18B-0C6A13F93B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-1603440" y="2957400"/>
            <a:ext cx="11963520" cy="24577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箭头连接符 4"/>
          <p:cNvCxnSpPr/>
          <p:nvPr/>
        </p:nvCxnSpPr>
        <p:spPr>
          <a:xfrm flipV="1">
            <a:off x="-1298880" y="2910600"/>
            <a:ext cx="10706760" cy="19800"/>
          </a:xfrm>
          <a:prstGeom prst="straightConnector1">
            <a:avLst/>
          </a:prstGeom>
          <a:ln w="57240">
            <a:solidFill>
              <a:srgbClr val="3a73be"/>
            </a:solidFill>
            <a:miter/>
            <a:tailEnd len="med" type="arrow" w="med"/>
          </a:ln>
        </p:spPr>
      </p:cxnSp>
      <p:sp>
        <p:nvSpPr>
          <p:cNvPr id="549" name="副标题 1"/>
          <p:cNvSpPr/>
          <p:nvPr/>
        </p:nvSpPr>
        <p:spPr>
          <a:xfrm>
            <a:off x="3317760" y="2911320"/>
            <a:ext cx="6051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400" spc="-1" strike="noStrike">
                <a:solidFill>
                  <a:srgbClr val="294b87"/>
                </a:solidFill>
                <a:latin typeface="黑体"/>
                <a:ea typeface="黑体"/>
              </a:rPr>
              <a:t>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45720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f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971640" y="190512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4b87"/>
                </a:solidFill>
                <a:latin typeface="Arial"/>
              </a:rPr>
              <a:t>Thanks</a:t>
            </a:r>
            <a:r>
              <a:rPr b="0" lang="zh-CN" sz="4800" spc="-1" strike="noStrike">
                <a:solidFill>
                  <a:srgbClr val="294b87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7"/>
          <p:cNvGrpSpPr/>
          <p:nvPr/>
        </p:nvGrpSpPr>
        <p:grpSpPr>
          <a:xfrm>
            <a:off x="539640" y="2211480"/>
            <a:ext cx="8209080" cy="691920"/>
            <a:chOff x="539640" y="2211480"/>
            <a:chExt cx="8209080" cy="691920"/>
          </a:xfrm>
        </p:grpSpPr>
        <p:sp>
          <p:nvSpPr>
            <p:cNvPr id="599" name="矩形 5"/>
            <p:cNvSpPr/>
            <p:nvPr/>
          </p:nvSpPr>
          <p:spPr>
            <a:xfrm>
              <a:off x="4665600" y="2211480"/>
              <a:ext cx="4083120" cy="69192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ff3"/>
                  </a:solidFill>
                  <a:latin typeface="黑体"/>
                  <a:ea typeface="黑体"/>
                </a:rPr>
                <a:t>非常感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6"/>
            <p:cNvSpPr/>
            <p:nvPr/>
          </p:nvSpPr>
          <p:spPr>
            <a:xfrm>
              <a:off x="539640" y="2658960"/>
              <a:ext cx="4125960" cy="24444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589cd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589cda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"/>
          <p:cNvSpPr/>
          <p:nvPr/>
        </p:nvSpPr>
        <p:spPr>
          <a:xfrm>
            <a:off x="-5221440" y="2957400"/>
            <a:ext cx="15389280" cy="530244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48200" y="484200"/>
            <a:ext cx="6678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8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1749600" y="268200"/>
            <a:ext cx="69944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ctr">
              <a:spcBef>
                <a:spcPts val="7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下箭头 9"/>
          <p:cNvSpPr/>
          <p:nvPr/>
        </p:nvSpPr>
        <p:spPr>
          <a:xfrm flipV="1">
            <a:off x="1042920" y="-452520"/>
            <a:ext cx="289080" cy="583272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5394E-006 -2.76554E-006 L -0.43359 -2.76554E-006 E">
                                      <p:cBhvr>
                                        <p:cTn id="33" dur="5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5"/>
          <p:cNvSpPr/>
          <p:nvPr/>
        </p:nvSpPr>
        <p:spPr>
          <a:xfrm>
            <a:off x="-1116000" y="-596880"/>
            <a:ext cx="2232000" cy="6048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下箭头 7"/>
          <p:cNvSpPr/>
          <p:nvPr/>
        </p:nvSpPr>
        <p:spPr>
          <a:xfrm flipV="1">
            <a:off x="1042920" y="-524520"/>
            <a:ext cx="289080" cy="5832360"/>
          </a:xfrm>
          <a:prstGeom prst="downArrow">
            <a:avLst>
              <a:gd name="adj1" fmla="val 50000"/>
              <a:gd name="adj2" fmla="val 135905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"/>
          <p:cNvSpPr/>
          <p:nvPr/>
        </p:nvSpPr>
        <p:spPr>
          <a:xfrm>
            <a:off x="253080" y="339840"/>
            <a:ext cx="7898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黑体"/>
                <a:ea typeface="黑体"/>
              </a:rPr>
              <a:t>概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2122560" y="843120"/>
            <a:ext cx="69944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692000" y="1200240"/>
            <a:ext cx="6994440" cy="3394080"/>
          </a:xfrm>
          <a:prstGeom prst="rect">
            <a:avLst/>
          </a:prstGeom>
          <a:ln w="0">
            <a:noFill/>
          </a:ln>
        </p:spPr>
      </p:pic>
      <p:sp>
        <p:nvSpPr>
          <p:cNvPr id="560" name="矩形 5"/>
          <p:cNvSpPr/>
          <p:nvPr/>
        </p:nvSpPr>
        <p:spPr>
          <a:xfrm>
            <a:off x="-7453440" y="-596880"/>
            <a:ext cx="8569440" cy="604836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下箭头 4"/>
          <p:cNvSpPr/>
          <p:nvPr/>
        </p:nvSpPr>
        <p:spPr>
          <a:xfrm flipV="1" rot="5400000">
            <a:off x="1183320" y="766440"/>
            <a:ext cx="144360" cy="1736640"/>
          </a:xfrm>
          <a:prstGeom prst="downArrow">
            <a:avLst>
              <a:gd name="adj1" fmla="val 50000"/>
              <a:gd name="adj2" fmla="val 136061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下箭头 8"/>
          <p:cNvSpPr/>
          <p:nvPr/>
        </p:nvSpPr>
        <p:spPr>
          <a:xfrm flipV="1" rot="5400000">
            <a:off x="1184040" y="2710080"/>
            <a:ext cx="142920" cy="173664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6"/>
          <p:cNvSpPr/>
          <p:nvPr/>
        </p:nvSpPr>
        <p:spPr>
          <a:xfrm>
            <a:off x="2268360" y="789120"/>
            <a:ext cx="6191280" cy="17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7"/>
          <p:cNvSpPr/>
          <p:nvPr/>
        </p:nvSpPr>
        <p:spPr>
          <a:xfrm>
            <a:off x="2268360" y="2697120"/>
            <a:ext cx="6191280" cy="172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9"/>
          <p:cNvSpPr/>
          <p:nvPr/>
        </p:nvSpPr>
        <p:spPr>
          <a:xfrm>
            <a:off x="-356400" y="771480"/>
            <a:ext cx="13993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在此此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58025E-006 L 0.95677 -3.58025E-006 E">
                                      <p:cBhvr>
                                        <p:cTn id="107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5"/>
          <p:cNvSpPr/>
          <p:nvPr/>
        </p:nvSpPr>
        <p:spPr>
          <a:xfrm>
            <a:off x="6885000" y="1284120"/>
            <a:ext cx="1719360" cy="257508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294b87"/>
                </a:solidFill>
                <a:latin typeface="黑体"/>
                <a:ea typeface="黑体"/>
              </a:rPr>
              <a:t>、在此输入文字注意</a:t>
            </a: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3"/>
          <p:cNvSpPr/>
          <p:nvPr/>
        </p:nvSpPr>
        <p:spPr>
          <a:xfrm>
            <a:off x="4356000" y="1284120"/>
            <a:ext cx="2592360" cy="2575080"/>
          </a:xfrm>
          <a:prstGeom prst="rect">
            <a:avLst/>
          </a:prstGeom>
          <a:solidFill>
            <a:srgbClr val="777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其次  </a:t>
            </a: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4"/>
          <p:cNvSpPr/>
          <p:nvPr/>
        </p:nvSpPr>
        <p:spPr>
          <a:xfrm>
            <a:off x="-2700360" y="0"/>
            <a:ext cx="3959280" cy="5143680"/>
          </a:xfrm>
          <a:prstGeom prst="rect">
            <a:avLst/>
          </a:prstGeom>
          <a:solidFill>
            <a:srgbClr val="294b87"/>
          </a:solidFill>
          <a:ln w="28440">
            <a:solidFill>
              <a:srgbClr val="294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11280" y="16351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文字重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-957240" y="4808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34253 0 E">
                                      <p:cBhvr>
                                        <p:cTn id="140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5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8" nodeType="after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5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25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5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5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9"/>
          <p:cNvSpPr/>
          <p:nvPr/>
        </p:nvSpPr>
        <p:spPr>
          <a:xfrm>
            <a:off x="755640" y="1563840"/>
            <a:ext cx="18716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0"/>
          <p:cNvSpPr/>
          <p:nvPr/>
        </p:nvSpPr>
        <p:spPr>
          <a:xfrm>
            <a:off x="2701800" y="1563840"/>
            <a:ext cx="179892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1"/>
          <p:cNvSpPr/>
          <p:nvPr/>
        </p:nvSpPr>
        <p:spPr>
          <a:xfrm>
            <a:off x="4573440" y="1563840"/>
            <a:ext cx="18734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6516720" y="1563840"/>
            <a:ext cx="180036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介  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/>
                                        <p:tgtEl>
                                          <p:spTgt spid="578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10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1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1000" fill="hold"/>
                                        <p:tgtEl>
                                          <p:spTgt spid="58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2" dur="5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4" dur="5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6" dur="5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5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3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2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5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5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5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8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下箭头 4"/>
          <p:cNvSpPr/>
          <p:nvPr/>
        </p:nvSpPr>
        <p:spPr>
          <a:xfrm rot="5400000">
            <a:off x="4548600" y="743400"/>
            <a:ext cx="90360" cy="792180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下箭头 5"/>
          <p:cNvSpPr/>
          <p:nvPr/>
        </p:nvSpPr>
        <p:spPr>
          <a:xfrm rot="5400000">
            <a:off x="4523400" y="-3504240"/>
            <a:ext cx="90360" cy="792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图表 6"/>
          <p:cNvGraphicFramePr/>
          <p:nvPr/>
        </p:nvGraphicFramePr>
        <p:xfrm>
          <a:off x="453960" y="800280"/>
          <a:ext cx="5060880" cy="44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图表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800280"/>
                    <a:ext cx="506088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矩形标注 7"/>
          <p:cNvSpPr/>
          <p:nvPr/>
        </p:nvSpPr>
        <p:spPr>
          <a:xfrm rot="5400000">
            <a:off x="5180400" y="1023120"/>
            <a:ext cx="3528720" cy="3168360"/>
          </a:xfrm>
          <a:prstGeom prst="wedgeRectCallout">
            <a:avLst>
              <a:gd name="adj1" fmla="val -9138"/>
              <a:gd name="adj2" fmla="val 6601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标注 11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-921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标注 12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8560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" descr="C:\Users\11\Desktop\499308_103217509356_2.jpg"/>
          <p:cNvPicPr/>
          <p:nvPr/>
        </p:nvPicPr>
        <p:blipFill>
          <a:blip r:embed="rId1"/>
          <a:srcRect l="10704" t="21682" r="5751" b="8685"/>
          <a:stretch/>
        </p:blipFill>
        <p:spPr>
          <a:xfrm>
            <a:off x="3479760" y="1096920"/>
            <a:ext cx="4957920" cy="2825640"/>
          </a:xfrm>
          <a:prstGeom prst="rect">
            <a:avLst/>
          </a:prstGeom>
          <a:ln w="0">
            <a:noFill/>
          </a:ln>
        </p:spPr>
      </p:pic>
      <p:sp>
        <p:nvSpPr>
          <p:cNvPr id="595" name="矩形 4"/>
          <p:cNvSpPr/>
          <p:nvPr/>
        </p:nvSpPr>
        <p:spPr>
          <a:xfrm>
            <a:off x="861840" y="1096920"/>
            <a:ext cx="2773440" cy="2825640"/>
          </a:xfrm>
          <a:prstGeom prst="rect">
            <a:avLst/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ff3"/>
                </a:solidFill>
                <a:latin typeface="黑体"/>
                <a:ea typeface="黑体"/>
              </a:rPr>
              <a:t>在此输入文字</a:t>
            </a:r>
            <a:r>
              <a:rPr b="0" lang="en-US" sz="18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C:\Users\11\Desktop\118156_114047516191_2.jpg"/>
          <p:cNvPicPr/>
          <p:nvPr/>
        </p:nvPicPr>
        <p:blipFill>
          <a:blip r:embed="rId2"/>
          <a:srcRect l="0" t="4142" r="3125" b="12709"/>
          <a:stretch/>
        </p:blipFill>
        <p:spPr>
          <a:xfrm>
            <a:off x="3635280" y="1096920"/>
            <a:ext cx="480240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>ppt宝藏</dc:creator>
  <dc:description/>
  <dc:language>en-US</dc:language>
  <cp:lastModifiedBy>yu wang</cp:lastModifiedBy>
  <cp:lastPrinted>1899-12-30T00:00:00Z</cp:lastPrinted>
  <dcterms:modified xsi:type="dcterms:W3CDTF">2015-08-03T12:19:18Z</dcterms:modified>
  <cp:revision>9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