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hdphoto1.wdp" ContentType="image/vnd.ms-photo"/>
  <Override PartName="/ppt/media/image2.png" ContentType="image/png"/>
  <Override PartName="/ppt/media/image3.png" ContentType="image/png"/>
  <Override PartName="/ppt/media/hdphoto2.wdp" ContentType="image/vnd.ms-photo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477C-C003-4886-9E6C-F025BFE18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365760"/>
            <a:ext cx="77720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0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43000" y="4101480"/>
            <a:ext cx="77720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C749-837A-4FCB-89D2-4E743C8B6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365760"/>
            <a:ext cx="77720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37926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25680" y="1828800"/>
            <a:ext cx="37926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43000" y="4101480"/>
            <a:ext cx="37926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25680" y="4101480"/>
            <a:ext cx="37926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5C06-2473-4C47-9FFE-8315EBBE7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365760"/>
            <a:ext cx="77720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25023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71000" y="1828800"/>
            <a:ext cx="25023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98640" y="1828800"/>
            <a:ext cx="25023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43000" y="4101480"/>
            <a:ext cx="25023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771000" y="4101480"/>
            <a:ext cx="25023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98640" y="4101480"/>
            <a:ext cx="25023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2422-3DD3-4D25-8B66-DF846C47E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3D312-40E3-4B62-9D60-E209152E5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365760"/>
            <a:ext cx="77720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143000" y="1828800"/>
            <a:ext cx="77720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C121F-3DB8-4383-893F-9BA383E6C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365760"/>
            <a:ext cx="77720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0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7ED27-A234-48FA-81CC-157A06825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365760"/>
            <a:ext cx="77720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37926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25680" y="1828800"/>
            <a:ext cx="37926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679CB-873A-488C-A4E2-6267C82EF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365760"/>
            <a:ext cx="77720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6CF4B-118C-4141-8E4A-84FD72849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143000" y="365760"/>
            <a:ext cx="77720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982BF-3260-4873-BD6E-244964C39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365760"/>
            <a:ext cx="77720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37926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25680" y="1828800"/>
            <a:ext cx="37926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43000" y="4101480"/>
            <a:ext cx="37926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53497-A58D-4CC0-AD3E-363423F8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365760"/>
            <a:ext cx="77720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43000" y="1828800"/>
            <a:ext cx="77720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4B1E-4FFC-4ABA-9DF3-87973012E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365760"/>
            <a:ext cx="77720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37926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25680" y="1828800"/>
            <a:ext cx="37926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125680" y="4101480"/>
            <a:ext cx="37926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7BBEE-68E5-4292-BBF0-A561D9E12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365760"/>
            <a:ext cx="77720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37926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25680" y="1828800"/>
            <a:ext cx="37926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4101480"/>
            <a:ext cx="77720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0D5C3-0A22-4AD8-941C-05118A8F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365760"/>
            <a:ext cx="77720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0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143000" y="4101480"/>
            <a:ext cx="77720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80458-3142-4703-B220-33548FC00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365760"/>
            <a:ext cx="77720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37926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25680" y="1828800"/>
            <a:ext cx="37926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43000" y="4101480"/>
            <a:ext cx="37926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125680" y="4101480"/>
            <a:ext cx="37926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C0192-F787-428E-9D71-587BF0C5A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3000" y="365760"/>
            <a:ext cx="77720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25023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771000" y="1828800"/>
            <a:ext cx="25023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98640" y="1828800"/>
            <a:ext cx="25023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143000" y="4101480"/>
            <a:ext cx="25023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771000" y="4101480"/>
            <a:ext cx="25023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98640" y="4101480"/>
            <a:ext cx="25023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BA209-96F3-474D-9284-A42AEE3CC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365760"/>
            <a:ext cx="77720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0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1FF5-D27C-4895-AB64-68D63C48C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365760"/>
            <a:ext cx="77720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37926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5680" y="1828800"/>
            <a:ext cx="37926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5229-183B-4F20-919B-51C95A4EC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365760"/>
            <a:ext cx="77720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4060-B938-4622-80EA-0152F017C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43000" y="365760"/>
            <a:ext cx="77720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7020-48B8-4EA1-8154-7C448F55B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365760"/>
            <a:ext cx="77720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37926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25680" y="1828800"/>
            <a:ext cx="37926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3000" y="4101480"/>
            <a:ext cx="37926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33A6-5B3D-41F5-B5FE-113D4DDEB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365760"/>
            <a:ext cx="77720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37926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25680" y="1828800"/>
            <a:ext cx="37926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25680" y="4101480"/>
            <a:ext cx="37926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EF1B-AEDB-41AC-9BE0-3CF4F08E8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365760"/>
            <a:ext cx="77720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37926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25680" y="1828800"/>
            <a:ext cx="37926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43000" y="4101480"/>
            <a:ext cx="77720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44A8-CFF6-402E-9CD8-7A8F77BB7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microsoft.com/office/2007/relationships/hdphoto" Target="../media/hdphoto1.wdp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microsoft.com/office/2007/relationships/hdphoto" Target="../media/hdphoto2.wdp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artisticBlur/>
                    </a14:imgEffect>
                  </a14:imgLayer>
                </a14:imgProps>
              </a:ext>
            </a:extLst>
          </a:blip>
          <a:srcRect l="25973" t="0" r="0" b="0"/>
          <a:stretch/>
        </p:blipFill>
        <p:spPr>
          <a:xfrm>
            <a:off x="0" y="0"/>
            <a:ext cx="7611120" cy="6857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"/>
          <p:cNvPicPr/>
          <p:nvPr/>
        </p:nvPicPr>
        <p:blipFill>
          <a:blip r:embed="rId4"/>
          <a:srcRect l="0" t="0" r="88303" b="0"/>
          <a:stretch/>
        </p:blipFill>
        <p:spPr>
          <a:xfrm>
            <a:off x="0" y="0"/>
            <a:ext cx="890280" cy="6858360"/>
          </a:xfrm>
          <a:prstGeom prst="rect">
            <a:avLst/>
          </a:prstGeom>
          <a:ln w="0">
            <a:noFill/>
          </a:ln>
          <a:effectLst>
            <a:innerShdw blurRad="63500" dist="50800">
              <a:srgbClr val="000000">
                <a:alpha val="50000"/>
              </a:srgbClr>
            </a:innerShdw>
          </a:effectLst>
        </p:spPr>
      </p:pic>
      <p:sp>
        <p:nvSpPr>
          <p:cNvPr id="2" name="Rectangle 9" hidden="1"/>
          <p:cNvSpPr/>
          <p:nvPr/>
        </p:nvSpPr>
        <p:spPr>
          <a:xfrm>
            <a:off x="900000" y="0"/>
            <a:ext cx="8243640" cy="6857640"/>
          </a:xfrm>
          <a:prstGeom prst="rect">
            <a:avLst/>
          </a:pr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ffffff"/>
              </a:gs>
            </a:gsLst>
            <a:lin ang="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grpSp>
        <p:nvGrpSpPr>
          <p:cNvPr id="3" name="Group 12"/>
          <p:cNvGrpSpPr/>
          <p:nvPr/>
        </p:nvGrpSpPr>
        <p:grpSpPr>
          <a:xfrm>
            <a:off x="360" y="0"/>
            <a:ext cx="9143640" cy="6870600"/>
            <a:chOff x="360" y="0"/>
            <a:chExt cx="9143640" cy="6870600"/>
          </a:xfrm>
        </p:grpSpPr>
        <p:pic>
          <p:nvPicPr>
            <p:cNvPr id="4" name="Picture 6" descr=""/>
            <p:cNvPicPr/>
            <p:nvPr/>
          </p:nvPicPr>
          <p:blipFill>
            <a:blip r:embed="rId5">
              <a:extLst>
                <a:ext uri="{BEBA8EAE-BF5A-486C-A8C5-ECC9F3942E4B}">
                  <a14:imgProps xmlns:a14="http://schemas.microsoft.com/office/drawing/2010/main">
                    <a14:imgLayer r:embed="rId6">
                      <a14:imgEffect>
                        <a14:artisticBlur/>
                      </a14:imgEffect>
                    </a14:imgLayer>
                  </a14:imgProps>
                </a:ext>
              </a:extLst>
            </a:blip>
            <a:stretch/>
          </p:blipFill>
          <p:spPr>
            <a:xfrm flipH="1">
              <a:off x="360" y="0"/>
              <a:ext cx="9143640" cy="687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Picture 7" descr=""/>
            <p:cNvPicPr/>
            <p:nvPr/>
          </p:nvPicPr>
          <p:blipFill>
            <a:blip r:embed="rId7"/>
            <a:srcRect l="9350" t="0" r="63900" b="0"/>
            <a:stretch/>
          </p:blipFill>
          <p:spPr>
            <a:xfrm>
              <a:off x="855000" y="0"/>
              <a:ext cx="2445840" cy="687060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6" name="Straight Connector 9"/>
            <p:cNvCxnSpPr/>
            <p:nvPr/>
          </p:nvCxnSpPr>
          <p:spPr>
            <a:xfrm>
              <a:off x="863280" y="0"/>
              <a:ext cx="360" cy="6870600"/>
            </a:xfrm>
            <a:prstGeom prst="straightConnector1">
              <a:avLst/>
            </a:prstGeom>
            <a:ln w="38100">
              <a:solidFill>
                <a:srgbClr val="ffffff"/>
              </a:solidFill>
              <a:round/>
            </a:ln>
          </p:spPr>
        </p:cxnSp>
        <p:cxnSp>
          <p:nvCxnSpPr>
            <p:cNvPr id="7" name="Straight Connector 11"/>
            <p:cNvCxnSpPr/>
            <p:nvPr/>
          </p:nvCxnSpPr>
          <p:spPr>
            <a:xfrm>
              <a:off x="3301200" y="0"/>
              <a:ext cx="10440" cy="6858360"/>
            </a:xfrm>
            <a:prstGeom prst="straightConnector1">
              <a:avLst/>
            </a:prstGeom>
            <a:ln w="38100">
              <a:solidFill>
                <a:srgbClr val="ffffff"/>
              </a:solidFill>
              <a:round/>
            </a:ln>
          </p:spPr>
        </p:cxnSp>
      </p:grpSp>
      <p:sp>
        <p:nvSpPr>
          <p:cNvPr id="8" name="PlaceHolder 1"/>
          <p:cNvSpPr>
            <a:spLocks noGrp="1"/>
          </p:cNvSpPr>
          <p:nvPr>
            <p:ph type="dt" idx="1"/>
          </p:nvPr>
        </p:nvSpPr>
        <p:spPr>
          <a:xfrm>
            <a:off x="114300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ftr" idx="2"/>
          </p:nvPr>
        </p:nvSpPr>
        <p:spPr>
          <a:xfrm>
            <a:off x="348876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sldNum" idx="3"/>
          </p:nvPr>
        </p:nvSpPr>
        <p:spPr>
          <a:xfrm>
            <a:off x="685800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9D7617D-D319-4168-A18F-56126A2BAB5F}" type="slidenum">
              <a:rPr b="0" lang="en-US" sz="1100" spc="-1" strike="noStrike">
                <a:solidFill>
                  <a:srgbClr val="8b8b8b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863640" y="4076640"/>
            <a:ext cx="8280000" cy="2123640"/>
          </a:xfrm>
          <a:prstGeom prst="rect">
            <a:avLst/>
          </a:prstGeom>
          <a:gradFill rotWithShape="0">
            <a:gsLst>
              <a:gs pos="65000">
                <a:srgbClr val="ffffff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1143000" y="4508640"/>
            <a:ext cx="7772040" cy="11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r">
              <a:lnSpc>
                <a:spcPct val="90000"/>
              </a:lnSpc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0" descr="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artisticBlur/>
                    </a14:imgEffect>
                  </a14:imgLayer>
                </a14:imgProps>
              </a:ext>
            </a:extLst>
          </a:blip>
          <a:srcRect l="25973" t="0" r="0" b="0"/>
          <a:stretch/>
        </p:blipFill>
        <p:spPr>
          <a:xfrm>
            <a:off x="0" y="0"/>
            <a:ext cx="7611120" cy="6857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"/>
          <p:cNvPicPr/>
          <p:nvPr/>
        </p:nvPicPr>
        <p:blipFill>
          <a:blip r:embed="rId3"/>
          <a:srcRect l="0" t="0" r="88303" b="0"/>
          <a:stretch/>
        </p:blipFill>
        <p:spPr>
          <a:xfrm>
            <a:off x="0" y="0"/>
            <a:ext cx="890280" cy="6858360"/>
          </a:xfrm>
          <a:prstGeom prst="rect">
            <a:avLst/>
          </a:prstGeom>
          <a:ln w="0">
            <a:noFill/>
          </a:ln>
          <a:effectLst>
            <a:innerShdw blurRad="63500" dist="50800">
              <a:srgbClr val="000000">
                <a:alpha val="50000"/>
              </a:srgbClr>
            </a:innerShdw>
          </a:effectLst>
        </p:spPr>
      </p:pic>
      <p:sp>
        <p:nvSpPr>
          <p:cNvPr id="52" name="Rectangle 9"/>
          <p:cNvSpPr/>
          <p:nvPr/>
        </p:nvSpPr>
        <p:spPr>
          <a:xfrm>
            <a:off x="900000" y="0"/>
            <a:ext cx="8243640" cy="6857640"/>
          </a:xfrm>
          <a:prstGeom prst="rect">
            <a:avLst/>
          </a:pr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ffffff"/>
              </a:gs>
            </a:gsLst>
            <a:lin ang="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365760"/>
            <a:ext cx="77720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143000" y="1828800"/>
            <a:ext cx="77720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Master text sty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rd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urth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fth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114300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48876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85800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5373A67-7CC8-41A5-97E3-E941A73DE116}" type="slidenum">
              <a:rPr b="0" lang="en-US" sz="1100" spc="-1" strike="noStrike">
                <a:solidFill>
                  <a:srgbClr val="8b8b8b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65920" y="4508640"/>
            <a:ext cx="8349120" cy="11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大学规划专业毕业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答辩在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2057400" y="5740560"/>
            <a:ext cx="6857640" cy="46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0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96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365760"/>
            <a:ext cx="77720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0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1" lang="en-US" sz="1050" spc="-1" strike="noStrike" u="sng">
                <a:solidFill>
                  <a:srgbClr val="0563c1"/>
                </a:solidFill>
                <a:uFillTx/>
                <a:latin typeface="Times New Roman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563c1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563c1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900" spc="-1" strike="noStrike" u="sng">
                <a:solidFill>
                  <a:srgbClr val="0563c1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563c1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en-US" sz="900" spc="-1" strike="noStrike" u="sng">
                <a:solidFill>
                  <a:srgbClr val="0563c1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563c1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563c1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563c1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563c1"/>
                </a:solidFill>
                <a:uFillTx/>
                <a:latin typeface="Times New Roman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563c1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563c1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563c1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0563c1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563c1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563c1"/>
                </a:solidFill>
                <a:uFillTx/>
                <a:latin typeface="Times New Roman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563c1"/>
                </a:solidFill>
                <a:uFillTx/>
                <a:latin typeface="Times New Roman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563c1"/>
                </a:solidFill>
                <a:uFillTx/>
                <a:latin typeface="Times New Roman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563c1"/>
                </a:solidFill>
                <a:uFillTx/>
                <a:latin typeface="Times New Roman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563c1"/>
                </a:solidFill>
                <a:uFillTx/>
                <a:latin typeface="Times New Roman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563c1"/>
                </a:solidFill>
                <a:uFillTx/>
                <a:latin typeface="Times New Roman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0563c1"/>
                </a:solidFill>
                <a:uFillTx/>
                <a:latin typeface="Times New Roman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563c1"/>
                </a:solidFill>
                <a:uFillTx/>
                <a:latin typeface="Times New Roman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0563c1"/>
                </a:solidFill>
                <a:uFillTx/>
                <a:latin typeface="Times New Roman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ffice Theme</Template>
  <TotalTime>29</TotalTime>
  <Application>LibreOffice/7.4.7.2$Linux_X86_64 LibreOffice_project/40$Build-2</Application>
  <AppVersion>15.0000</AppVersion>
  <Words>157</Words>
  <Paragraphs>31</Paragraphs>
  <Company>Sky123.Org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cp:category>UDi-主题模板</cp:category>
  <dcterms:created xsi:type="dcterms:W3CDTF">2012-08-09T11:57:07Z</dcterms:created>
  <dc:creator>果因PPT工作室</dc:creator>
  <dc:description/>
  <cp:keywords>XS-普屏 4：3 SC-淡灰色 BG-浅色 DH-静态</cp:keywords>
  <dc:language>en-US</dc:language>
  <cp:lastModifiedBy>yu wang</cp:lastModifiedBy>
  <dcterms:modified xsi:type="dcterms:W3CDTF">2015-08-03T12:21:04Z</dcterms:modified>
  <cp:revision>10</cp:revision>
  <dc:subject>TP-营造建筑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3</vt:r8>
  </property>
</Properties>
</file>