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EAE-8F90-4279-A391-0FA06DFD58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2506-5E09-48EA-A536-CF748251A6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663-E3FC-4EC2-ADB1-8C73725F6A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AC10-90F7-4872-B004-0071152C1F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6BE0-F5C8-4A0E-8EDE-D13B8FCF42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D9D-27A1-4CC1-A974-75E2D89BDC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3DE2-07F3-460E-BC6E-3AF342B8DE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82E-A95E-475E-8348-95062507FC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D34-0812-4A31-AB91-4FF9DA942C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EFD9-4B24-4506-92EA-171098CD26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9CA-A3CA-4D11-8B62-A2EF45625F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DB1-7523-405F-B476-D17B956038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4EEB-F861-4776-B021-0DD2E3D895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397-65B5-4509-9B1B-D8108181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589-D8C1-49A4-8C48-D55E5B36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9E5-2C22-4F67-867B-0934D7FB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183-3331-4DF8-8605-C8C2878C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E57C-F598-455B-ABCF-38EB6075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3F5E-3915-43BD-8CD1-A685108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1C7-F68F-4E06-9947-9796E9EF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BEE-CAE9-42B0-94A7-B3CB3B1D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3D42-FFBF-4BC2-8E35-F9D4C78F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D2A-62FB-442A-86E9-F857B0F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C980-2425-42F6-AE8D-A42DC18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B48-1F0B-4174-A07F-FDF48FB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AD23-2871-42FB-9F93-41DD8184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700-E610-404D-A7FB-BA14127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F846-4810-4777-A2A1-715A291B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D7EA-6609-4FD7-A8D7-A641032D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E977-6970-4CE6-A84F-614D4C11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64FC-9E6A-437A-85FE-1842C215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B9E9-4588-4E01-B69F-D96619D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AB9B-1B5B-4466-B49D-99C3064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A433-09CA-438B-928C-5642E667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AE14-C3AD-4407-BCFD-7966BF68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DB3F-9FBB-45AA-A9B4-F7795B97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0678-C9A3-4F1A-9E77-B0401739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A7D4-ADE7-40A0-80A1-C5A3DA0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5749-390B-446C-B221-86F559A4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3FD1-8278-424A-9A16-3D327DAE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B7D5-4368-4C50-B38A-E3D91F7A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6A01-3AA6-446A-9D71-D9BCF469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7BA6-B3F0-4BC1-991F-18DA54F9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1AE8-6BCB-4D59-B005-83056B9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B12A-DE9D-4B6C-A3F9-F0365D61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4F9B-9383-4273-BA38-8E075926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457C-C6A9-40B1-B7E2-98F059F6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C30F-7C2D-429E-B10B-5B6A0D3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757B-F49D-455B-911C-1EFAC07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2D27-8996-4188-BAF1-1613555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3BB9-BAD5-477C-BB6A-54546BB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5ED3-FAF4-4CEC-9AE7-8A300CC2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1056-2DA8-4296-BEAB-3D7EF154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5DC62-EAEF-4277-B8EF-293D3AA7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1A5DA-91E4-4CB8-9C3D-835CCD06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D0DF-FECD-4F9A-9156-F2F9F6EE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3FE0-2AD2-4316-B7C4-AD9DE05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556F-5912-4F2B-B522-334C9E93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8F39-B282-432A-BC39-A00F5D80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B141-9063-4152-BDBE-468B0E2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FDE72-B14B-430F-AB08-70F2CFFB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7765-BF31-4635-B8DA-FF65A0F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0B3C-B8E3-4D7B-836C-5C13526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BF7D-10C8-426B-A41E-ACE5EEAA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82D1-FF17-4AAF-8A2C-EC58B524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BC5C-6B80-40FC-B444-756915E7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0373-590A-4049-924B-6FB92E1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610C6-C5D3-4035-9BD0-37E84AB7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75CCE-432B-436B-83A9-CFCBE709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B143C-D671-4980-A883-D9F28A8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0A6F1-E5C3-4374-A08D-8D368C6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2A7F-2C1F-4A5C-8DDA-AC4EB87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CCEBD-CEE2-471E-9FFE-005D460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017DE-B642-48AC-B785-471EF94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2BC5-8AA9-4BF4-8F36-5D1236E1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89C85-3C8A-4B9B-8B9D-C21E0A27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9C19-E7E0-4B77-91E1-1B40608B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C542-BD16-4CD3-BC46-E7D36A32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D6E38-2CAC-47E9-A6AC-235AB1D6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AD38-B333-4F08-B397-0C6567FE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8258-2BB7-47DC-B2FA-7E5375C5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EFFB-81A6-476F-BA64-972F8D8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0E7E7-38B6-49FF-B80F-7F87A5FC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9E0C4-BF31-4FCD-B339-C3C1686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A9E0-8E28-43C5-8E05-AB552FB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0E609-F2F0-423A-AA68-5FAB2E7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53FA5-FDED-4F01-8AE2-4E8403C5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74F6E-84B3-4AB3-A40A-90CD4CB9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FCA5-7A76-4B92-8322-3FA350C8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0C5-1DE7-4A3A-A19F-7EDE0383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71F-CDEE-4F0D-9C0A-9339999C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AB0-BFA7-46E6-BC27-9673EDAB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DD4-BA56-4B78-B697-1E42D93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194-A84A-4616-AB55-05BF4A0E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245-AFC2-4E3F-B24C-99607AC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56D-CC00-4E5A-AB19-2A5BAEC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F19-BAC9-418E-9280-3C67468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532-DB85-45C0-9356-4D54AC0B8B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9C50-8518-49D9-95A4-AC56179522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76BA-645E-4714-938A-D0405CA644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2207-6D0E-4F9C-83FB-8F4A8F0F83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38C-C296-481C-BBBC-65A94F5917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4" descr="广告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11B0-FC63-40F8-A387-F1BBDFF613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922E-6636-4072-8062-9150380049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返校1-1.png"/>
          <p:cNvPicPr/>
          <p:nvPr/>
        </p:nvPicPr>
        <p:blipFill>
          <a:blip r:embed="rId2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6" descr="bs_05.png"/>
          <p:cNvPicPr/>
          <p:nvPr/>
        </p:nvPicPr>
        <p:blipFill>
          <a:blip r:embed="rId2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2" descr="sb_06.png"/>
          <p:cNvPicPr/>
          <p:nvPr/>
        </p:nvPicPr>
        <p:blipFill>
          <a:blip r:embed="rId3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"/>
          <p:cNvSpPr/>
          <p:nvPr/>
        </p:nvSpPr>
        <p:spPr>
          <a:xfrm>
            <a:off x="6429240" y="357120"/>
            <a:ext cx="2286000" cy="164304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8"/>
          <p:cNvSpPr/>
          <p:nvPr/>
        </p:nvSpPr>
        <p:spPr>
          <a:xfrm>
            <a:off x="4572000" y="3500280"/>
            <a:ext cx="1677960" cy="127980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9" descr="未标题-1_13.png"/>
          <p:cNvPicPr/>
          <p:nvPr/>
        </p:nvPicPr>
        <p:blipFill>
          <a:blip r:embed="rId2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bs_05.png"/>
          <p:cNvPicPr/>
          <p:nvPr/>
        </p:nvPicPr>
        <p:blipFill>
          <a:blip r:embed="rId3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2" descr="sb_06.png"/>
          <p:cNvPicPr/>
          <p:nvPr/>
        </p:nvPicPr>
        <p:blipFill>
          <a:blip r:embed="rId4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7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7" descr="返校2_03.png"/>
          <p:cNvPicPr/>
          <p:nvPr/>
        </p:nvPicPr>
        <p:blipFill>
          <a:blip r:embed="rId2"/>
          <a:stretch/>
        </p:blipFill>
        <p:spPr>
          <a:xfrm>
            <a:off x="6000840" y="4214880"/>
            <a:ext cx="3143160" cy="24210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sb_06.png"/>
          <p:cNvPicPr/>
          <p:nvPr/>
        </p:nvPicPr>
        <p:blipFill>
          <a:blip r:embed="rId3"/>
          <a:stretch/>
        </p:blipFill>
        <p:spPr>
          <a:xfrm>
            <a:off x="6786720" y="5286240"/>
            <a:ext cx="10126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13"/>
          <p:cNvGrpSpPr/>
          <p:nvPr/>
        </p:nvGrpSpPr>
        <p:grpSpPr>
          <a:xfrm>
            <a:off x="6572160" y="3159000"/>
            <a:ext cx="3000600" cy="1774080"/>
            <a:chOff x="6572160" y="3159000"/>
            <a:chExt cx="3000600" cy="1774080"/>
          </a:xfrm>
        </p:grpSpPr>
        <p:sp>
          <p:nvSpPr>
            <p:cNvPr id="169" name="矩形 9"/>
            <p:cNvSpPr/>
            <p:nvPr/>
          </p:nvSpPr>
          <p:spPr>
            <a:xfrm>
              <a:off x="6929280" y="3159000"/>
              <a:ext cx="228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</a:rPr>
                <a:t>B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</a:rPr>
                <a:t>A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</a:rPr>
                <a:t>C</a:t>
              </a: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</a:rPr>
                <a:t>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0"/>
            <p:cNvSpPr/>
            <p:nvPr/>
          </p:nvSpPr>
          <p:spPr>
            <a:xfrm>
              <a:off x="7358040" y="3659040"/>
              <a:ext cx="128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</a:rPr>
                <a:t>T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1"/>
            <p:cNvSpPr/>
            <p:nvPr/>
          </p:nvSpPr>
          <p:spPr>
            <a:xfrm>
              <a:off x="6572160" y="4168800"/>
              <a:ext cx="30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1859c"/>
                  </a:solidFill>
                  <a:latin typeface="Arial Rounded MT Bold"/>
                </a:rPr>
                <a:t>S</a:t>
              </a:r>
              <a:r>
                <a:rPr b="0" lang="en-US" sz="4400" spc="-1" strike="noStrike">
                  <a:solidFill>
                    <a:srgbClr val="e42c58"/>
                  </a:solidFill>
                  <a:latin typeface="Arial Rounded MT Bold"/>
                </a:rPr>
                <a:t>C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</a:rPr>
                <a:t>H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</a:rPr>
                <a:t>O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</a:rPr>
                <a:t>O</a:t>
              </a:r>
              <a:r>
                <a:rPr b="0" lang="en-US" sz="4400" spc="-1" strike="noStrike">
                  <a:solidFill>
                    <a:srgbClr val="31859c"/>
                  </a:solidFill>
                  <a:latin typeface="Arial Rounded MT Bold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8"/>
          <p:cNvSpPr/>
          <p:nvPr/>
        </p:nvSpPr>
        <p:spPr>
          <a:xfrm>
            <a:off x="6429240" y="357120"/>
            <a:ext cx="2286000" cy="164304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9"/>
          <p:cNvSpPr/>
          <p:nvPr/>
        </p:nvSpPr>
        <p:spPr>
          <a:xfrm>
            <a:off x="5357880" y="3857760"/>
            <a:ext cx="1428840" cy="108900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2" descr="sb_06.png"/>
          <p:cNvPicPr/>
          <p:nvPr/>
        </p:nvPicPr>
        <p:blipFill>
          <a:blip r:embed="rId2"/>
          <a:stretch/>
        </p:blipFill>
        <p:spPr>
          <a:xfrm>
            <a:off x="7572240" y="4929120"/>
            <a:ext cx="1144800" cy="15019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5" descr="未标题-1_13.png"/>
          <p:cNvPicPr/>
          <p:nvPr/>
        </p:nvPicPr>
        <p:blipFill>
          <a:blip r:embed="rId3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6" descr="sb_03.png"/>
          <p:cNvPicPr/>
          <p:nvPr/>
        </p:nvPicPr>
        <p:blipFill>
          <a:blip r:embed="rId2"/>
          <a:stretch/>
        </p:blipFill>
        <p:spPr>
          <a:xfrm>
            <a:off x="7429680" y="4357800"/>
            <a:ext cx="1568160" cy="19620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9" descr="bs_05.png"/>
          <p:cNvPicPr/>
          <p:nvPr/>
        </p:nvPicPr>
        <p:blipFill>
          <a:blip r:embed="rId3"/>
          <a:stretch/>
        </p:blipFill>
        <p:spPr>
          <a:xfrm>
            <a:off x="571680" y="1214280"/>
            <a:ext cx="1169640" cy="17510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" descr="bs_08.png"/>
          <p:cNvPicPr/>
          <p:nvPr/>
        </p:nvPicPr>
        <p:blipFill>
          <a:blip r:embed="rId4"/>
          <a:stretch/>
        </p:blipFill>
        <p:spPr>
          <a:xfrm>
            <a:off x="7694640" y="4878360"/>
            <a:ext cx="949320" cy="8366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sb_06.png"/>
          <p:cNvPicPr/>
          <p:nvPr/>
        </p:nvPicPr>
        <p:blipFill>
          <a:blip r:embed="rId5"/>
          <a:stretch/>
        </p:blipFill>
        <p:spPr>
          <a:xfrm>
            <a:off x="7215120" y="5286240"/>
            <a:ext cx="1013040" cy="13305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1" descr="返校2_03.png"/>
          <p:cNvPicPr/>
          <p:nvPr/>
        </p:nvPicPr>
        <p:blipFill>
          <a:blip r:embed="rId6"/>
          <a:stretch/>
        </p:blipFill>
        <p:spPr>
          <a:xfrm>
            <a:off x="2428920" y="1071720"/>
            <a:ext cx="3143160" cy="24206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2" descr="返校1_03.png"/>
          <p:cNvPicPr/>
          <p:nvPr/>
        </p:nvPicPr>
        <p:blipFill>
          <a:blip r:embed="rId7"/>
          <a:stretch/>
        </p:blipFill>
        <p:spPr>
          <a:xfrm>
            <a:off x="3357720" y="571680"/>
            <a:ext cx="2011320" cy="132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4" descr="{DF512866-3CB9-4A0D-A54D-82A1C76D83BE}.png"/>
          <p:cNvPicPr/>
          <p:nvPr/>
        </p:nvPicPr>
        <p:blipFill>
          <a:blip r:embed="rId2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14" descr="{DF512866-3CB9-4A0D-A54D-82A1C76D83BE}.png"/>
          <p:cNvPicPr/>
          <p:nvPr/>
        </p:nvPicPr>
        <p:blipFill>
          <a:blip r:embed="rId2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ppt-to-dvd.com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http://www.ppt-to-dvd.com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矩形 3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871040" cy="707760"/>
          </a:xfrm>
          <a:prstGeom prst="rect">
            <a:avLst/>
          </a:prstGeom>
          <a:ln w="0">
            <a:noFill/>
          </a:ln>
        </p:spPr>
      </p:pic>
      <p:sp>
        <p:nvSpPr>
          <p:cNvPr id="673" name="矩形 4"/>
          <p:cNvSpPr/>
          <p:nvPr/>
        </p:nvSpPr>
        <p:spPr>
          <a:xfrm>
            <a:off x="298800" y="5715000"/>
            <a:ext cx="2475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857160" y="1714680"/>
            <a:ext cx="51436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[View] menu, point to [Master], and then click [Slide Master] or [Notes Master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3642840" y="714240"/>
            <a:ext cx="4643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642840" y="2999880"/>
            <a:ext cx="3071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图片占位符 12" descr="study103.jpg"/>
          <p:cNvPicPr/>
          <p:nvPr/>
        </p:nvPicPr>
        <p:blipFill>
          <a:blip r:embed="rId1"/>
          <a:srcRect l="0" t="7137" r="0" b="7137"/>
          <a:stretch/>
        </p:blipFill>
        <p:spPr>
          <a:xfrm>
            <a:off x="857160" y="3000240"/>
            <a:ext cx="2500560" cy="21434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占位符 16" descr="study032.jpg"/>
          <p:cNvPicPr/>
          <p:nvPr/>
        </p:nvPicPr>
        <p:blipFill>
          <a:blip r:embed="rId2"/>
          <a:srcRect l="11416" t="0" r="11416" b="0"/>
          <a:stretch/>
        </p:blipFill>
        <p:spPr>
          <a:xfrm>
            <a:off x="857160" y="714240"/>
            <a:ext cx="2500560" cy="2143440"/>
          </a:xfrm>
          <a:prstGeom prst="rect">
            <a:avLst/>
          </a:prstGeom>
          <a:ln w="0">
            <a:noFill/>
          </a:ln>
        </p:spPr>
      </p:pic>
      <p:sp>
        <p:nvSpPr>
          <p:cNvPr id="724" name="矩形 17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肘形连接符 19"/>
          <p:cNvCxnSpPr/>
          <p:nvPr/>
        </p:nvCxnSpPr>
        <p:spPr>
          <a:xfrm>
            <a:off x="3357720" y="1785600"/>
            <a:ext cx="1000800" cy="50076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6" name="组合 9"/>
          <p:cNvGrpSpPr/>
          <p:nvPr/>
        </p:nvGrpSpPr>
        <p:grpSpPr>
          <a:xfrm>
            <a:off x="4429080" y="2000160"/>
            <a:ext cx="3571920" cy="785880"/>
            <a:chOff x="4429080" y="2000160"/>
            <a:chExt cx="3571920" cy="785880"/>
          </a:xfrm>
        </p:grpSpPr>
        <p:sp>
          <p:nvSpPr>
            <p:cNvPr id="727" name="矩形 22"/>
            <p:cNvSpPr/>
            <p:nvPr/>
          </p:nvSpPr>
          <p:spPr>
            <a:xfrm>
              <a:off x="4429080" y="2000160"/>
              <a:ext cx="3571920" cy="785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23"/>
            <p:cNvSpPr/>
            <p:nvPr/>
          </p:nvSpPr>
          <p:spPr>
            <a:xfrm>
              <a:off x="4932720" y="2000160"/>
              <a:ext cx="259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Put your tex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3"/>
          <p:cNvSpPr/>
          <p:nvPr/>
        </p:nvSpPr>
        <p:spPr>
          <a:xfrm>
            <a:off x="1285920" y="657360"/>
            <a:ext cx="66438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4"/>
          <p:cNvSpPr/>
          <p:nvPr/>
        </p:nvSpPr>
        <p:spPr>
          <a:xfrm>
            <a:off x="1643040" y="38545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7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组合 11"/>
          <p:cNvGrpSpPr/>
          <p:nvPr/>
        </p:nvGrpSpPr>
        <p:grpSpPr>
          <a:xfrm>
            <a:off x="1071720" y="1357200"/>
            <a:ext cx="5124240" cy="1200240"/>
            <a:chOff x="1071720" y="1357200"/>
            <a:chExt cx="5124240" cy="1200240"/>
          </a:xfrm>
        </p:grpSpPr>
        <p:pic>
          <p:nvPicPr>
            <p:cNvPr id="733" name="矩形 8" descr=""/>
            <p:cNvPicPr/>
            <p:nvPr/>
          </p:nvPicPr>
          <p:blipFill>
            <a:blip r:embed="rId1"/>
            <a:stretch/>
          </p:blipFill>
          <p:spPr>
            <a:xfrm>
              <a:off x="1083600" y="1357200"/>
              <a:ext cx="51123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矩形 9" descr=""/>
            <p:cNvPicPr/>
            <p:nvPr/>
          </p:nvPicPr>
          <p:blipFill>
            <a:blip r:embed="rId2"/>
            <a:stretch/>
          </p:blipFill>
          <p:spPr>
            <a:xfrm>
              <a:off x="1071720" y="1357200"/>
              <a:ext cx="51123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矩形 4"/>
          <p:cNvSpPr/>
          <p:nvPr/>
        </p:nvSpPr>
        <p:spPr>
          <a:xfrm>
            <a:off x="298800" y="5715000"/>
            <a:ext cx="2475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/>
              </a:rPr>
              <a:t>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示 7" descr=""/>
          <p:cNvPicPr/>
          <p:nvPr/>
        </p:nvPicPr>
        <p:blipFill>
          <a:blip r:embed="rId1"/>
          <a:stretch/>
        </p:blipFill>
        <p:spPr>
          <a:xfrm>
            <a:off x="1066680" y="1427040"/>
            <a:ext cx="5937480" cy="328464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999720" y="357120"/>
            <a:ext cx="3429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6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3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99680" y="356760"/>
            <a:ext cx="8139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Hot T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4360" y="1356840"/>
            <a:ext cx="81327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[ Image information in product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 to customers : This image has been licensed to be used with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PowerPoint template onl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may not extract the image for any other us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857160" y="499680"/>
            <a:ext cx="54295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Chapter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4"/>
          <p:cNvSpPr/>
          <p:nvPr/>
        </p:nvSpPr>
        <p:spPr>
          <a:xfrm>
            <a:off x="857160" y="1673280"/>
            <a:ext cx="5000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5"/>
          <p:cNvSpPr/>
          <p:nvPr/>
        </p:nvSpPr>
        <p:spPr>
          <a:xfrm>
            <a:off x="857160" y="29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3"/>
          <p:cNvSpPr/>
          <p:nvPr/>
        </p:nvSpPr>
        <p:spPr>
          <a:xfrm>
            <a:off x="1000080" y="500040"/>
            <a:ext cx="3429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4"/>
          <p:cNvSpPr/>
          <p:nvPr/>
        </p:nvSpPr>
        <p:spPr>
          <a:xfrm>
            <a:off x="4357800" y="571680"/>
            <a:ext cx="3500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示 5" descr=""/>
          <p:cNvPicPr/>
          <p:nvPr/>
        </p:nvPicPr>
        <p:blipFill>
          <a:blip r:embed="rId1"/>
          <a:stretch/>
        </p:blipFill>
        <p:spPr>
          <a:xfrm>
            <a:off x="1200240" y="2255760"/>
            <a:ext cx="6681600" cy="3114720"/>
          </a:xfrm>
          <a:prstGeom prst="rect">
            <a:avLst/>
          </a:prstGeom>
          <a:ln w="0">
            <a:noFill/>
          </a:ln>
        </p:spPr>
      </p:pic>
      <p:sp>
        <p:nvSpPr>
          <p:cNvPr id="688" name="矩形 10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示 3" descr=""/>
          <p:cNvPicPr/>
          <p:nvPr/>
        </p:nvPicPr>
        <p:blipFill>
          <a:blip r:embed="rId1"/>
          <a:stretch/>
        </p:blipFill>
        <p:spPr>
          <a:xfrm>
            <a:off x="1633680" y="407880"/>
            <a:ext cx="5736960" cy="194472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1000080" y="2500200"/>
            <a:ext cx="7215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0640" indent="-350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nge images to the one you lik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0640" indent="-350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t will apply to all the other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7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928800" y="428400"/>
            <a:ext cx="4643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4"/>
          <p:cNvSpPr/>
          <p:nvPr/>
        </p:nvSpPr>
        <p:spPr>
          <a:xfrm>
            <a:off x="928800" y="1673280"/>
            <a:ext cx="5000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928800" y="29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组合 26"/>
          <p:cNvGrpSpPr/>
          <p:nvPr/>
        </p:nvGrpSpPr>
        <p:grpSpPr>
          <a:xfrm>
            <a:off x="428760" y="2499840"/>
            <a:ext cx="8428680" cy="2357640"/>
            <a:chOff x="428760" y="2499840"/>
            <a:chExt cx="8428680" cy="2357640"/>
          </a:xfrm>
        </p:grpSpPr>
        <p:grpSp>
          <p:nvGrpSpPr>
            <p:cNvPr id="696" name="Group 33"/>
            <p:cNvGrpSpPr/>
            <p:nvPr/>
          </p:nvGrpSpPr>
          <p:grpSpPr>
            <a:xfrm>
              <a:off x="428760" y="2826720"/>
              <a:ext cx="8428680" cy="2030760"/>
              <a:chOff x="428760" y="2826720"/>
              <a:chExt cx="8428680" cy="2030760"/>
            </a:xfrm>
          </p:grpSpPr>
          <p:sp>
            <p:nvSpPr>
              <p:cNvPr id="697" name="AutoShape 34"/>
              <p:cNvSpPr/>
              <p:nvPr/>
            </p:nvSpPr>
            <p:spPr>
              <a:xfrm>
                <a:off x="428760" y="3420360"/>
                <a:ext cx="2798280" cy="1437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35"/>
              <p:cNvSpPr/>
              <p:nvPr/>
            </p:nvSpPr>
            <p:spPr>
              <a:xfrm>
                <a:off x="42876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b3a2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36"/>
              <p:cNvSpPr/>
              <p:nvPr/>
            </p:nvSpPr>
            <p:spPr>
              <a:xfrm>
                <a:off x="3256920" y="3420360"/>
                <a:ext cx="2798280" cy="1437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37"/>
              <p:cNvSpPr/>
              <p:nvPr/>
            </p:nvSpPr>
            <p:spPr>
              <a:xfrm>
                <a:off x="325692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42"/>
              <p:cNvSpPr/>
              <p:nvPr/>
            </p:nvSpPr>
            <p:spPr>
              <a:xfrm>
                <a:off x="6059160" y="3415680"/>
                <a:ext cx="2798280" cy="1437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43"/>
              <p:cNvSpPr/>
              <p:nvPr/>
            </p:nvSpPr>
            <p:spPr>
              <a:xfrm>
                <a:off x="6059160" y="282672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4f81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Freeform 46"/>
            <p:cNvSpPr/>
            <p:nvPr/>
          </p:nvSpPr>
          <p:spPr>
            <a:xfrm>
              <a:off x="428760" y="2511000"/>
              <a:ext cx="8383680" cy="31572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 flipV="1">
              <a:off x="3252960" y="2499840"/>
              <a:ext cx="247320" cy="28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8"/>
            <p:cNvSpPr/>
            <p:nvPr/>
          </p:nvSpPr>
          <p:spPr>
            <a:xfrm flipH="1" flipV="1">
              <a:off x="5794200" y="2505960"/>
              <a:ext cx="252360" cy="30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矩形 22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25"/>
          <p:cNvGrpSpPr/>
          <p:nvPr/>
        </p:nvGrpSpPr>
        <p:grpSpPr>
          <a:xfrm>
            <a:off x="2143080" y="714240"/>
            <a:ext cx="4929120" cy="1643040"/>
            <a:chOff x="2143080" y="714240"/>
            <a:chExt cx="4929120" cy="1643040"/>
          </a:xfrm>
        </p:grpSpPr>
        <p:sp>
          <p:nvSpPr>
            <p:cNvPr id="708" name="下箭头标注 24"/>
            <p:cNvSpPr/>
            <p:nvPr/>
          </p:nvSpPr>
          <p:spPr>
            <a:xfrm>
              <a:off x="2143080" y="714240"/>
              <a:ext cx="4929120" cy="1643040"/>
            </a:xfrm>
            <a:prstGeom prst="downArrowCallout">
              <a:avLst>
                <a:gd name="adj1" fmla="val 25002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23"/>
            <p:cNvSpPr/>
            <p:nvPr/>
          </p:nvSpPr>
          <p:spPr>
            <a:xfrm>
              <a:off x="2285640" y="78552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Rectangle 38"/>
          <p:cNvSpPr/>
          <p:nvPr/>
        </p:nvSpPr>
        <p:spPr>
          <a:xfrm>
            <a:off x="1039680" y="28954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0"/>
          <p:cNvSpPr/>
          <p:nvPr/>
        </p:nvSpPr>
        <p:spPr>
          <a:xfrm>
            <a:off x="660240" y="3559320"/>
            <a:ext cx="248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9"/>
          <p:cNvSpPr/>
          <p:nvPr/>
        </p:nvSpPr>
        <p:spPr>
          <a:xfrm>
            <a:off x="3867120" y="290844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1"/>
          <p:cNvSpPr/>
          <p:nvPr/>
        </p:nvSpPr>
        <p:spPr>
          <a:xfrm>
            <a:off x="3500280" y="3559320"/>
            <a:ext cx="248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4"/>
          <p:cNvSpPr/>
          <p:nvPr/>
        </p:nvSpPr>
        <p:spPr>
          <a:xfrm>
            <a:off x="6670440" y="29034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5"/>
          <p:cNvSpPr/>
          <p:nvPr/>
        </p:nvSpPr>
        <p:spPr>
          <a:xfrm>
            <a:off x="6273720" y="3554280"/>
            <a:ext cx="2441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内容占位符 6" descr=""/>
          <p:cNvPicPr/>
          <p:nvPr/>
        </p:nvPicPr>
        <p:blipFill>
          <a:blip r:embed="rId1"/>
          <a:stretch/>
        </p:blipFill>
        <p:spPr>
          <a:xfrm>
            <a:off x="858960" y="706320"/>
            <a:ext cx="2854080" cy="4432320"/>
          </a:xfrm>
          <a:prstGeom prst="rect">
            <a:avLst/>
          </a:prstGeom>
          <a:ln w="0">
            <a:noFill/>
          </a:ln>
        </p:spPr>
      </p:pic>
      <p:sp>
        <p:nvSpPr>
          <p:cNvPr id="717" name="内容占位符 4"/>
          <p:cNvSpPr/>
          <p:nvPr/>
        </p:nvSpPr>
        <p:spPr>
          <a:xfrm>
            <a:off x="3571920" y="808200"/>
            <a:ext cx="40003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 ThemeGallery is a Design Digital Content &amp; Contents mall 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8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0" y="6381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22:21:27Z</dcterms:created>
  <dc:creator>微软用户</dc:creator>
  <dc:description/>
  <dc:language>en-US</dc:language>
  <cp:lastModifiedBy>yu wang</cp:lastModifiedBy>
  <dcterms:modified xsi:type="dcterms:W3CDTF">2015-08-03T12:21:01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540000000000010250500207f7000400038000</vt:lpwstr>
  </property>
</Properties>
</file>