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681-4363-479D-99E7-720CEE3D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0B3-1238-428B-8918-691AEE8F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FB5-5130-453D-8B06-D104D2B5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9E1D-50B8-41C0-9039-CBEF13FB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8887-3BA1-4ADF-9BE6-C34CF380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085E-58C5-4224-8C92-8ABA5FA8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BD53-9881-4C0C-9782-17A26273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54E3-23FA-4A96-ADF3-D0046D44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5EFE-7192-44E9-9BF2-59F70B91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0859-9932-4E06-BB06-C54DC703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7BF9-A8B9-4F21-90E7-E6894B12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209A-C3AB-4851-B2F7-D0302C3C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7863-69FD-4953-8840-81A5E407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C3EF-5C3C-4FB3-8FCE-A2B77799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3A17-413A-49BD-9E22-5B2D1835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67B5-8E09-45ED-8ABB-50D07363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74F2-B59F-49D7-A957-5C9F89CC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CA31-3EBF-42FE-A1AC-E4AD193D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B9A-9B56-41D1-B2DD-9252A6BB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2C0E-ABE5-4929-882E-7054C897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42D-AF80-4044-932E-A41547C7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FEEB-E735-44EF-89F9-A79DAD3D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BD7-2154-4751-AA58-3C2DF288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A2D3-1777-47E0-BBF3-8ECA292A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122320-EA42-429F-9FE9-4FC21050161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819540-92E6-4EB3-B66A-471D736A949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500280" y="5214960"/>
            <a:ext cx="41428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可爱情新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2609280" y="450720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淡雅清新简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714240" y="35712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449748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60688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385452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24256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"/>
          <p:cNvSpPr/>
          <p:nvPr/>
        </p:nvSpPr>
        <p:spPr>
          <a:xfrm>
            <a:off x="87660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514044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242568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514044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278280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8"/>
          <p:cNvSpPr/>
          <p:nvPr/>
        </p:nvSpPr>
        <p:spPr>
          <a:xfrm>
            <a:off x="87660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60688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235440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/>
          <p:cNvSpPr/>
          <p:nvPr/>
        </p:nvSpPr>
        <p:spPr>
          <a:xfrm>
            <a:off x="435456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414036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8"/>
          <p:cNvSpPr/>
          <p:nvPr/>
        </p:nvSpPr>
        <p:spPr>
          <a:xfrm>
            <a:off x="116244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306864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521172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535464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285444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8"/>
          <p:cNvSpPr/>
          <p:nvPr/>
        </p:nvSpPr>
        <p:spPr>
          <a:xfrm>
            <a:off x="80532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564048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392580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606888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249732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28760" y="65232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206856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592632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421164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  <Words>259</Words>
  <Paragraphs>6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03T12:23:19Z</dcterms:modified>
  <cp:revision>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