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ACC36-1DEE-4986-9AD1-FFC8D9452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822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760" y="4005000"/>
            <a:ext cx="822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7B299-47EB-4F3F-954B-2C3D1C65D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4580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28760" y="400500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45800" y="400500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A02AC-B09C-4C96-99FA-80758E43D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11200" y="195408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3640" y="195408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28760" y="400500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11200" y="400500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3640" y="400500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36CB4-004B-4CDC-84C7-4075E7407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74D8A-EF3E-4AE8-8837-D121D5055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28760" y="1954080"/>
            <a:ext cx="8229600" cy="392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45DDD-A751-4DE4-969F-35C2EF077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82296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7BAB2-18EC-43DA-B32B-BFCADBAED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40158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45800" y="1954080"/>
            <a:ext cx="40158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72900-59B6-41E8-A7F0-EC2AD5F4A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AE3CA-FF16-4DD0-A2C4-87C7171F1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15800" y="94464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5089E-4D5A-4CD7-BB7F-36EF5C7BE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45800" y="1954080"/>
            <a:ext cx="40158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28760" y="400500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11264-822B-4766-94B5-3B4EA3FFF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28760" y="1954080"/>
            <a:ext cx="8229600" cy="392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D2CF8-8D88-4C41-A0D5-23C80FADF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40158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580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45800" y="400500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8B353-3B09-493C-8B58-2C314542C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580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28760" y="4005000"/>
            <a:ext cx="822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9C321-4487-403B-A59B-9EABCDEC8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822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28760" y="4005000"/>
            <a:ext cx="822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64AF4-F3A1-43B5-B977-C5BD8E06E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580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28760" y="400500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45800" y="400500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897FD-ED46-4862-A0C7-E4D15D6FA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11200" y="195408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3640" y="195408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28760" y="400500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11200" y="400500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3640" y="4005000"/>
            <a:ext cx="264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767D8-34FA-4922-BB97-DAC230CF1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82296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EE36B-E722-418D-AEE6-95E299759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40158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45800" y="1954080"/>
            <a:ext cx="40158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8E5E0-C725-4111-A3FA-E17557E7F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9AC1D-9FB7-48B5-8DC4-E36F85EAF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5800" y="94464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A0DFF-5392-48E2-91C2-C75D21D2D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45800" y="1954080"/>
            <a:ext cx="40158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28760" y="400500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AA1D1-1407-4432-BD4C-C53E4A3F2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40158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4580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45800" y="400500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8EA71-19DC-46EF-8BFD-E8AE7188B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2876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45800" y="1954080"/>
            <a:ext cx="40158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760" y="4005000"/>
            <a:ext cx="8229600" cy="18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23632-C95F-42D6-9C37-F9B8EB285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8760" y="1954080"/>
            <a:ext cx="82296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3C435-155A-40FB-95C7-8871A0D5F4D7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8" descr="图片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" name="Text Box 11"/>
          <p:cNvSpPr/>
          <p:nvPr/>
        </p:nvSpPr>
        <p:spPr>
          <a:xfrm>
            <a:off x="4221000" y="6419880"/>
            <a:ext cx="702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311C5-CC36-4115-A9BC-B4971F6E3C5E}" type="slidenum">
              <a:rPr b="1" lang="en-US" sz="1600" spc="-1" strike="noStrike">
                <a:solidFill>
                  <a:srgbClr val="000000"/>
                </a:solidFill>
                <a:latin typeface="黑体"/>
                <a:ea typeface="黑体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0" descr="图片2"/>
          <p:cNvPicPr/>
          <p:nvPr/>
        </p:nvPicPr>
        <p:blipFill>
          <a:blip r:embed="rId2"/>
          <a:stretch/>
        </p:blipFill>
        <p:spPr>
          <a:xfrm>
            <a:off x="-15840" y="0"/>
            <a:ext cx="9159840" cy="6870600"/>
          </a:xfrm>
          <a:prstGeom prst="rect">
            <a:avLst/>
          </a:prstGeom>
          <a:ln w="0">
            <a:noFill/>
          </a:ln>
        </p:spPr>
      </p:pic>
      <p:sp>
        <p:nvSpPr>
          <p:cNvPr id="44" name="Text Box 11"/>
          <p:cNvSpPr/>
          <p:nvPr/>
        </p:nvSpPr>
        <p:spPr>
          <a:xfrm>
            <a:off x="4221000" y="6419880"/>
            <a:ext cx="702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B169B-26C3-4291-BD12-FC07FB806297}" type="slidenum">
              <a:rPr b="1" lang="en-US" sz="1600" spc="-1" strike="noStrike">
                <a:solidFill>
                  <a:srgbClr val="000000"/>
                </a:solidFill>
                <a:latin typeface="黑体"/>
                <a:ea typeface="黑体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15800" y="944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28760" y="1954080"/>
            <a:ext cx="82296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AF2C5-88F0-4DDF-84CD-20652EA488C2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hyperlink" Target="http://www.eeppt.com/moban/huiyi/" TargetMode="External"/><Relationship Id="rId2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26DFB-E6A5-47E7-A53A-6D40E0923E6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51040" y="1698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2"/>
          <p:cNvSpPr/>
          <p:nvPr/>
        </p:nvSpPr>
        <p:spPr>
          <a:xfrm>
            <a:off x="1445760" y="193680"/>
            <a:ext cx="5982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细黑"/>
              </a:rPr>
              <a:t>非常漂亮的国画风格中国移动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细黑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细黑"/>
              </a:rPr>
              <a:t>模板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12"/>
          <p:cNvSpPr/>
          <p:nvPr/>
        </p:nvSpPr>
        <p:spPr>
          <a:xfrm>
            <a:off x="206280" y="6519960"/>
            <a:ext cx="299232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24BF0-410F-474B-B141-36AC42F3C8E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611FB-1366-4465-91A7-959FBEA4BEC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2" descr="001"/>
          <p:cNvPicPr/>
          <p:nvPr/>
        </p:nvPicPr>
        <p:blipFill>
          <a:blip r:embed="rId1"/>
          <a:stretch/>
        </p:blipFill>
        <p:spPr>
          <a:xfrm>
            <a:off x="0" y="144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3"/>
          <p:cNvSpPr/>
          <p:nvPr/>
        </p:nvSpPr>
        <p:spPr>
          <a:xfrm>
            <a:off x="1857240" y="3645000"/>
            <a:ext cx="590580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华文中宋"/>
                <a:ea typeface="黑体"/>
              </a:rPr>
              <a:t>感谢聆听！</a:t>
            </a:r>
            <a:br>
              <a:rPr sz="6000"/>
            </a:b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494000" y="998280"/>
            <a:ext cx="61560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24000" y="1809720"/>
            <a:ext cx="6696000" cy="39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000" spc="-1" strike="noStrike" u="sng">
                <a:solidFill>
                  <a:srgbClr val="ff00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0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ff0000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900" spc="-1" strike="noStrike" u="sng">
                <a:solidFill>
                  <a:srgbClr val="ff0000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ff0000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900" spc="-1" strike="noStrike" u="sng">
                <a:solidFill>
                  <a:srgbClr val="ff0000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ff0000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900" spc="-1" strike="noStrike" u="sng">
                <a:solidFill>
                  <a:srgbClr val="ff0000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ff0000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900" spc="-1" strike="noStrike" u="sng">
                <a:solidFill>
                  <a:srgbClr val="ff0000"/>
                </a:solidFill>
                <a:uFillTx/>
                <a:latin typeface="Arial"/>
                <a:hlinkClick r:id="rId10"/>
              </a:rPr>
              <a:t>说课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kejian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ff0000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900" spc="-1" strike="noStrike" u="sng">
                <a:solidFill>
                  <a:srgbClr val="ff0000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ff0000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900" spc="-1" strike="noStrike" u="sng">
                <a:solidFill>
                  <a:srgbClr val="ff0000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ff0000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900" spc="-1" strike="noStrike" u="sng">
                <a:solidFill>
                  <a:srgbClr val="ff0000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ff0000"/>
                </a:solidFill>
                <a:uFillTx/>
                <a:latin typeface="Arial"/>
                <a:hlinkClick r:id="rId17"/>
              </a:rPr>
              <a:t>国外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900" spc="-1" strike="noStrike" u="sng">
                <a:solidFill>
                  <a:srgbClr val="ff0000"/>
                </a:solidFill>
                <a:uFillTx/>
                <a:latin typeface="Arial"/>
                <a:hlinkClick r:id="rId18"/>
              </a:rPr>
              <a:t>简洁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ff0000"/>
                </a:solidFill>
                <a:uFillTx/>
                <a:latin typeface="Arial"/>
                <a:hlinkClick r:id="rId19"/>
              </a:rPr>
              <a:t>公司会议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7"/>
          <p:cNvSpPr/>
          <p:nvPr/>
        </p:nvSpPr>
        <p:spPr>
          <a:xfrm>
            <a:off x="6608880" y="1106640"/>
            <a:ext cx="1041120" cy="263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2T15:56:23Z</dcterms:created>
  <dc:creator/>
  <dc:description/>
  <dc:language>en-US</dc:language>
  <cp:lastModifiedBy>yu wang</cp:lastModifiedBy>
  <dcterms:modified xsi:type="dcterms:W3CDTF">2015-08-03T12:25:30Z</dcterms:modified>
  <cp:revision>595</cp:revision>
  <dc:subject/>
  <dc:title> </dc:title>
</cp:coreProperties>
</file>