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gif" ContentType="image/gif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幸福</c:v>
                </c:pt>
              </c:strCache>
            </c:strRef>
          </c:tx>
          <c:spPr>
            <a:solidFill>
              <a:srgbClr val="4f81bd"/>
            </a:solidFill>
            <a:ln w="63360">
              <a:noFill/>
            </a:ln>
          </c:spPr>
          <c:explosion val="0"/>
          <c:dPt>
            <c:idx val="0"/>
            <c:explosion val="30"/>
            <c:spPr>
              <a:noFill/>
              <a:ln w="63360">
                <a:noFill/>
              </a:ln>
            </c:spPr>
          </c:dPt>
          <c:dPt>
            <c:idx val="1"/>
            <c:spPr>
              <a:solidFill>
                <a:srgbClr val="4f81bd"/>
              </a:solidFill>
              <a:ln w="6336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0.97</c:v>
                </c:pt>
                <c:pt idx="1">
                  <c:v>0.0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不幸福</c:v>
                </c:pt>
              </c:strCache>
            </c:strRef>
          </c:tx>
          <c:spPr>
            <a:solidFill>
              <a:srgbClr val="c0504d"/>
            </a:solidFill>
            <a:ln w="0">
              <a:solidFill>
                <a:srgbClr val="ffffff"/>
              </a:solidFill>
            </a:ln>
          </c:spPr>
          <c:explosion val="0"/>
          <c:dPt>
            <c:idx val="0"/>
            <c:spPr>
              <a:noFill/>
              <a:ln w="0">
                <a:solidFill>
                  <a:srgbClr val="ffffff"/>
                </a:solidFill>
              </a:ln>
            </c:spPr>
          </c:dPt>
          <c:dPt>
            <c:idx val="1"/>
            <c:spPr>
              <a:solidFill>
                <a:srgbClr val="7030a0"/>
              </a:solidFill>
              <a:ln w="0">
                <a:solidFill>
                  <a:srgbClr val="ffffff"/>
                </a:solidFill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0.71</c:v>
                </c:pt>
                <c:pt idx="1">
                  <c:v>0.29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中立</c:v>
                </c:pt>
              </c:strCache>
            </c:strRef>
          </c:tx>
          <c:spPr>
            <a:solidFill>
              <a:srgbClr val="9bbb59"/>
            </a:solidFill>
            <a:ln w="25560">
              <a:solidFill>
                <a:srgbClr val="ffffff"/>
              </a:solidFill>
              <a:round/>
            </a:ln>
          </c:spPr>
          <c:explosion val="0"/>
          <c:dPt>
            <c:idx val="0"/>
            <c:spPr>
              <a:noFill/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558ed5"/>
              </a:solidFill>
              <a:ln w="2556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0.32</c:v>
                </c:pt>
                <c:pt idx="1">
                  <c:v>0.68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A50-A735-4193-81B7-1628661E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A19-C433-4A5E-B76E-D0E61E08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00F-B408-419D-945E-B4811D3F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0CC-9085-4C22-96F4-57A8F218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0EAF-DE91-4070-81A2-F15EC9E7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D616-545E-41EA-9935-CF06AF31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D335-4F07-435B-9D58-6020A5D3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6894-A858-4511-99C1-4E44A3F7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2B24-0B41-4409-AC65-C5A22646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EE04-E2A8-4F61-964C-2EE6C761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345E-99C4-47F5-8193-AB2D1C7C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31F-8D6C-4B2F-8196-F8258B5B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6340-76FD-4FCC-B659-AD3C5ADF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C8AC-9422-47AF-B780-1A911F7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760C-D8D1-42A2-A1E7-FA9C0F55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F2CC-7E5F-45D5-8954-2D4FCD50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A351-447B-4F20-9C77-C493AA79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101-D443-4C9D-95BF-678312D8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373-8466-44D9-8554-F724390F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3A9-7490-4B14-BA7E-E7689044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3F6-1C9A-4D1B-AD23-E066B87F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FF8-8BC7-4206-A409-BBD4A660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FDEA-178E-4640-9264-C5E3D3A1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B07-776E-4696-B043-0D76D99E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EC2204-E39E-48B0-8304-15FD2831EA58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8CDC30-CC22-4045-9864-FE8BA3D0F613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chart" Target="../charts/chart1.xml"/><Relationship Id="rId4" Type="http://schemas.openxmlformats.org/officeDocument/2006/relationships/image" Target="../media/image4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385800" y="908640"/>
            <a:ext cx="5760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粉色爱情树简洁</a:t>
            </a:r>
            <a:r>
              <a:rPr b="0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286560" y="116640"/>
            <a:ext cx="754200" cy="1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300" spc="-1" strike="noStrike">
                <a:solidFill>
                  <a:srgbClr val="ffffff"/>
                </a:solidFill>
                <a:latin typeface="Calibri"/>
              </a:rPr>
              <a:t>www.1ppt.com/moban/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2"/>
          <a:stretch/>
        </p:blipFill>
        <p:spPr>
          <a:xfrm>
            <a:off x="-3240" y="5644800"/>
            <a:ext cx="1590480" cy="121968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9"/>
          <p:cNvGrpSpPr/>
          <p:nvPr/>
        </p:nvGrpSpPr>
        <p:grpSpPr>
          <a:xfrm>
            <a:off x="1941120" y="1205640"/>
            <a:ext cx="5361480" cy="4476600"/>
            <a:chOff x="1941120" y="1205640"/>
            <a:chExt cx="5361480" cy="4476600"/>
          </a:xfrm>
        </p:grpSpPr>
        <p:sp>
          <p:nvSpPr>
            <p:cNvPr id="87" name="矩形 3"/>
            <p:cNvSpPr/>
            <p:nvPr/>
          </p:nvSpPr>
          <p:spPr>
            <a:xfrm>
              <a:off x="1941120" y="2874240"/>
              <a:ext cx="1532520" cy="807840"/>
            </a:xfrm>
            <a:prstGeom prst="rect">
              <a:avLst/>
            </a:prstGeom>
            <a:gradFill rotWithShape="0">
              <a:gsLst>
                <a:gs pos="77000">
                  <a:srgbClr val="e46c0a"/>
                </a:gs>
                <a:gs pos="100000">
                  <a:srgbClr val="fac090"/>
                </a:gs>
              </a:gsLst>
              <a:lin ang="16200000"/>
            </a:gradFill>
            <a:ln>
              <a:solidFill>
                <a:srgbClr val="ffffff"/>
              </a:solidFill>
              <a:round/>
            </a:ln>
            <a:effectLst>
              <a:glow rad="63360">
                <a:srgbClr val="e46c0a">
                  <a:alpha val="40000"/>
                </a:srgbClr>
              </a:glow>
              <a:innerShdw blurRad="63500" dir="16200000" dist="50800">
                <a:schemeClr val="accent6">
                  <a:lumMod val="75000"/>
                  <a:alpha val="50000"/>
                </a:schemeClr>
              </a:innerShdw>
            </a:effectLst>
            <a:scene3d>
              <a:camera prst="orthographicFront"/>
              <a:lightRig dir="t" rig="threePt"/>
            </a:scene3d>
            <a:sp3d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88" name="矩形 5"/>
            <p:cNvSpPr/>
            <p:nvPr/>
          </p:nvSpPr>
          <p:spPr>
            <a:xfrm>
              <a:off x="1941120" y="4170240"/>
              <a:ext cx="1532520" cy="807840"/>
            </a:xfrm>
            <a:prstGeom prst="rect">
              <a:avLst/>
            </a:prstGeom>
            <a:gradFill rotWithShape="0">
              <a:gsLst>
                <a:gs pos="0">
                  <a:srgbClr val="d99694"/>
                </a:gs>
                <a:gs pos="100000">
                  <a:srgbClr val="953735"/>
                </a:gs>
              </a:gsLst>
              <a:lin ang="5400000"/>
            </a:gradFill>
            <a:ln>
              <a:solidFill>
                <a:srgbClr val="ffffff"/>
              </a:solidFill>
              <a:round/>
            </a:ln>
            <a:effectLst>
              <a:glow rad="63360">
                <a:srgbClr val="e6b9b8">
                  <a:alpha val="40000"/>
                </a:srgbClr>
              </a:glow>
              <a:innerShdw blurRad="63500" dir="16200000" dist="50800">
                <a:schemeClr val="accent6">
                  <a:lumMod val="40000"/>
                  <a:lumOff val="60000"/>
                  <a:alpha val="50000"/>
                </a:schemeClr>
              </a:innerShdw>
            </a:effectLst>
            <a:scene3d>
              <a:camera prst="orthographicFront"/>
              <a:lightRig dir="t" rig="threePt"/>
            </a:scene3d>
            <a:sp3d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89" name="矩形 6"/>
            <p:cNvSpPr/>
            <p:nvPr/>
          </p:nvSpPr>
          <p:spPr>
            <a:xfrm>
              <a:off x="1941120" y="1578240"/>
              <a:ext cx="1532520" cy="807840"/>
            </a:xfrm>
            <a:prstGeom prst="rect">
              <a:avLst/>
            </a:prstGeom>
            <a:gradFill rotWithShape="0">
              <a:gsLst>
                <a:gs pos="0">
                  <a:srgbClr val="77933c"/>
                </a:gs>
                <a:gs pos="100000">
                  <a:srgbClr val="4f6228"/>
                </a:gs>
              </a:gsLst>
              <a:lin ang="5400000"/>
            </a:gradFill>
            <a:ln>
              <a:solidFill>
                <a:srgbClr val="ffffff"/>
              </a:solidFill>
              <a:round/>
            </a:ln>
            <a:effectLst>
              <a:glow rad="63360">
                <a:srgbClr val="a8e034">
                  <a:alpha val="40000"/>
                </a:srgbClr>
              </a:glow>
              <a:innerShdw blurRad="63500" dir="16200000" dist="50800">
                <a:srgbClr val="000000">
                  <a:alpha val="50000"/>
                </a:srgbClr>
              </a:innerShdw>
            </a:effectLst>
            <a:scene3d>
              <a:camera prst="orthographicFront"/>
              <a:lightRig dir="t" rig="threePt"/>
            </a:scene3d>
            <a:sp3d/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90" name="矩形 10"/>
            <p:cNvSpPr/>
            <p:nvPr/>
          </p:nvSpPr>
          <p:spPr>
            <a:xfrm rot="21068400">
              <a:off x="3881520" y="1453680"/>
              <a:ext cx="3333960" cy="1387800"/>
            </a:xfrm>
            <a:prstGeom prst="rect">
              <a:avLst/>
            </a:prstGeom>
            <a:gradFill rotWithShape="0">
              <a:gsLst>
                <a:gs pos="0">
                  <a:srgbClr val="c3d69b"/>
                </a:gs>
                <a:gs pos="100000">
                  <a:srgbClr val="77933c"/>
                </a:gs>
              </a:gsLst>
              <a:lin ang="4866000"/>
            </a:gradFill>
            <a:ln>
              <a:noFill/>
            </a:ln>
            <a:effectLst>
              <a:outerShdw blurRad="152280" dir="5400000" dist="317520" rotWithShape="0" sx="90000" sy="-19000">
                <a:srgbClr val="000000">
                  <a:alpha val="15000"/>
                </a:srgbClr>
              </a:outerShdw>
            </a:effectLst>
            <a:scene3d>
              <a:camera prst="isometricOffAxis2Top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91" name="矩形 11"/>
            <p:cNvSpPr/>
            <p:nvPr/>
          </p:nvSpPr>
          <p:spPr>
            <a:xfrm rot="21068400">
              <a:off x="3881520" y="2762640"/>
              <a:ext cx="3333960" cy="1387800"/>
            </a:xfrm>
            <a:prstGeom prst="rect">
              <a:avLst/>
            </a:prstGeom>
            <a:gradFill rotWithShape="0">
              <a:gsLst>
                <a:gs pos="0">
                  <a:srgbClr val="fac090"/>
                </a:gs>
                <a:gs pos="100000">
                  <a:srgbClr val="e46c0a"/>
                </a:gs>
              </a:gsLst>
              <a:lin ang="4866000"/>
            </a:gradFill>
            <a:ln>
              <a:noFill/>
            </a:ln>
            <a:effectLst>
              <a:outerShdw blurRad="152280" dir="5400000" dist="317520" rotWithShape="0" sx="90000" sy="-19000">
                <a:srgbClr val="000000">
                  <a:alpha val="15000"/>
                </a:srgbClr>
              </a:outerShdw>
            </a:effectLst>
            <a:scene3d>
              <a:camera prst="isometricOffAxis2Top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92" name="矩形 12"/>
            <p:cNvSpPr/>
            <p:nvPr/>
          </p:nvSpPr>
          <p:spPr>
            <a:xfrm rot="21068400">
              <a:off x="3792600" y="4045680"/>
              <a:ext cx="3333960" cy="1387800"/>
            </a:xfrm>
            <a:prstGeom prst="rect">
              <a:avLst/>
            </a:prstGeom>
            <a:gradFill rotWithShape="0">
              <a:gsLst>
                <a:gs pos="0">
                  <a:srgbClr val="d99694"/>
                </a:gs>
                <a:gs pos="100000">
                  <a:srgbClr val="953735"/>
                </a:gs>
              </a:gsLst>
              <a:lin ang="4866000"/>
            </a:gradFill>
            <a:ln>
              <a:noFill/>
            </a:ln>
            <a:effectLst>
              <a:outerShdw blurRad="152280" dir="5400000" dist="317520" rotWithShape="0" sx="90000" sy="-19000">
                <a:srgbClr val="000000">
                  <a:alpha val="15000"/>
                </a:srgbClr>
              </a:outerShdw>
            </a:effectLst>
            <a:scene3d>
              <a:camera prst="isometricOffAxis2Top"/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</p:grpSp>
      <p:pic>
        <p:nvPicPr>
          <p:cNvPr id="93" name="图片 8" descr=""/>
          <p:cNvPicPr/>
          <p:nvPr/>
        </p:nvPicPr>
        <p:blipFill>
          <a:blip r:embed="rId3"/>
          <a:srcRect l="26568" t="10195" r="0" b="0"/>
          <a:stretch/>
        </p:blipFill>
        <p:spPr>
          <a:xfrm>
            <a:off x="-3240" y="0"/>
            <a:ext cx="633960" cy="865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3"/>
          <p:cNvSpPr/>
          <p:nvPr/>
        </p:nvSpPr>
        <p:spPr>
          <a:xfrm>
            <a:off x="683640" y="260640"/>
            <a:ext cx="1439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75000"/>
                  </a:schemeClr>
                </a:solidFill>
                <a:latin typeface="Cooper Std Black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2483640" y="1748880"/>
            <a:ext cx="385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2483640" y="3087720"/>
            <a:ext cx="385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2483640" y="4397040"/>
            <a:ext cx="385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4536000" y="2010240"/>
            <a:ext cx="755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4536000" y="3287520"/>
            <a:ext cx="755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4536000" y="4574520"/>
            <a:ext cx="755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2"/>
          <a:stretch/>
        </p:blipFill>
        <p:spPr>
          <a:xfrm>
            <a:off x="107640" y="5445360"/>
            <a:ext cx="1588680" cy="1240920"/>
          </a:xfrm>
          <a:prstGeom prst="rect">
            <a:avLst/>
          </a:prstGeom>
          <a:ln w="0">
            <a:noFill/>
          </a:ln>
        </p:spPr>
      </p:pic>
      <p:sp>
        <p:nvSpPr>
          <p:cNvPr id="102" name="椭圆 5"/>
          <p:cNvSpPr/>
          <p:nvPr/>
        </p:nvSpPr>
        <p:spPr>
          <a:xfrm>
            <a:off x="1547640" y="3861000"/>
            <a:ext cx="1439640" cy="143964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  <a:scene3d>
            <a:camera prst="orthographicFront"/>
            <a:lightRig dir="t" rig="threePt"/>
          </a:scene3d>
          <a:sp3d>
            <a:bevelT w="6350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03" name="椭圆 3"/>
          <p:cNvSpPr/>
          <p:nvPr/>
        </p:nvSpPr>
        <p:spPr>
          <a:xfrm>
            <a:off x="3276000" y="2747880"/>
            <a:ext cx="1295640" cy="129564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  <a:scene3d>
            <a:camera prst="orthographicFront"/>
            <a:lightRig dir="t" rig="threePt"/>
          </a:scene3d>
          <a:sp3d>
            <a:bevelT w="635000" h="635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04" name="椭圆 4"/>
          <p:cNvSpPr/>
          <p:nvPr/>
        </p:nvSpPr>
        <p:spPr>
          <a:xfrm>
            <a:off x="6660360" y="1412640"/>
            <a:ext cx="935640" cy="93564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  <a:scene3d>
            <a:camera prst="orthographicFront"/>
            <a:lightRig dir="t" rig="threePt">
              <a:rot lat="0" lon="0" rev="600000"/>
            </a:lightRig>
          </a:scene3d>
          <a:sp3d>
            <a:bevelT w="317500" h="317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05" name="椭圆 6"/>
          <p:cNvSpPr/>
          <p:nvPr/>
        </p:nvSpPr>
        <p:spPr>
          <a:xfrm>
            <a:off x="5004000" y="1917000"/>
            <a:ext cx="1151640" cy="115164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  <a:scene3d>
            <a:camera prst="orthographicFront"/>
            <a:lightRig dir="t" rig="threePt">
              <a:rot lat="0" lon="0" rev="600000"/>
            </a:lightRig>
          </a:scene3d>
          <a:sp3d>
            <a:bevelT w="381000" h="3810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06" name="上弧形箭头 10"/>
          <p:cNvSpPr/>
          <p:nvPr/>
        </p:nvSpPr>
        <p:spPr>
          <a:xfrm rot="18014400">
            <a:off x="2293920" y="3150360"/>
            <a:ext cx="935640" cy="4316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962d14"/>
          </a:solidFill>
          <a:ln>
            <a:noFill/>
          </a:ln>
          <a:scene3d>
            <a:camera prst="orthographicFront">
              <a:rot lat="300000" lon="21299997" rev="21299999"/>
            </a:camera>
            <a:lightRig dir="t" rig="threePt"/>
          </a:scene3d>
          <a:sp3d>
            <a:bevelT w="127000" h="63500"/>
            <a:bevelB w="190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上弧形箭头 11"/>
          <p:cNvSpPr/>
          <p:nvPr/>
        </p:nvSpPr>
        <p:spPr>
          <a:xfrm rot="18039000">
            <a:off x="4104000" y="2141640"/>
            <a:ext cx="935640" cy="4316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962d14"/>
          </a:solidFill>
          <a:ln>
            <a:noFill/>
          </a:ln>
          <a:scene3d>
            <a:camera prst="orthographicFront">
              <a:rot lat="300000" lon="21299997" rev="21299999"/>
            </a:camera>
            <a:lightRig dir="t" rig="threePt"/>
          </a:scene3d>
          <a:sp3d>
            <a:bevelT w="127000" h="63500"/>
            <a:bevelB w="190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上弧形箭头 12"/>
          <p:cNvSpPr/>
          <p:nvPr/>
        </p:nvSpPr>
        <p:spPr>
          <a:xfrm rot="18529200">
            <a:off x="5904360" y="1528920"/>
            <a:ext cx="858600" cy="33084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962d14"/>
          </a:solidFill>
          <a:ln>
            <a:noFill/>
          </a:ln>
          <a:scene3d>
            <a:camera prst="orthographicFront">
              <a:rot lat="300000" lon="21299997" rev="21299999"/>
            </a:camera>
            <a:lightRig dir="t" rig="threePt"/>
          </a:scene3d>
          <a:sp3d>
            <a:bevelT w="127000" h="63500"/>
            <a:bevelB w="190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3"/>
          <a:srcRect l="12098" t="9942" r="0" b="0"/>
          <a:stretch/>
        </p:blipFill>
        <p:spPr>
          <a:xfrm>
            <a:off x="0" y="0"/>
            <a:ext cx="787320" cy="900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3"/>
          <p:cNvSpPr/>
          <p:nvPr/>
        </p:nvSpPr>
        <p:spPr>
          <a:xfrm>
            <a:off x="787680" y="188640"/>
            <a:ext cx="1439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75000"/>
                  </a:schemeClr>
                </a:solidFill>
                <a:latin typeface="Cooper Std Black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2011680" y="4293000"/>
            <a:ext cx="43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3708000" y="3141000"/>
            <a:ext cx="43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5364000" y="2205000"/>
            <a:ext cx="43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6948360" y="1628640"/>
            <a:ext cx="43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"/>
          <p:cNvPicPr/>
          <p:nvPr/>
        </p:nvPicPr>
        <p:blipFill>
          <a:blip r:embed="rId2"/>
          <a:stretch/>
        </p:blipFill>
        <p:spPr>
          <a:xfrm>
            <a:off x="107640" y="5509080"/>
            <a:ext cx="1511640" cy="12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图表 2"/>
          <p:cNvGraphicFramePr/>
          <p:nvPr/>
        </p:nvGraphicFramePr>
        <p:xfrm>
          <a:off x="2411640" y="1927800"/>
          <a:ext cx="3744000" cy="3460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117" name="TextBox 3"/>
          <p:cNvSpPr/>
          <p:nvPr/>
        </p:nvSpPr>
        <p:spPr>
          <a:xfrm>
            <a:off x="2483640" y="1116000"/>
            <a:ext cx="410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你幸福吗？统计调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4356000" y="2036880"/>
            <a:ext cx="2016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558ed5"/>
                </a:solidFill>
                <a:latin typeface="微软雅黑"/>
                <a:ea typeface="微软雅黑"/>
              </a:rPr>
              <a:t>68%</a:t>
            </a:r>
            <a:r>
              <a:rPr b="1" lang="zh-CN" sz="1200" spc="-1" strike="noStrike">
                <a:solidFill>
                  <a:srgbClr val="558ed5"/>
                </a:solidFill>
                <a:latin typeface="微软雅黑"/>
                <a:ea typeface="微软雅黑"/>
              </a:rPr>
              <a:t>的人表示过得还不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356000" y="2320920"/>
            <a:ext cx="2244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29%</a:t>
            </a:r>
            <a:r>
              <a:rPr b="1" lang="zh-CN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的人表示生活压力很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4356000" y="2637000"/>
            <a:ext cx="1872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3%</a:t>
            </a:r>
            <a:r>
              <a:rPr b="1" lang="zh-CN" sz="1200" spc="-1" strike="noStrike">
                <a:solidFill>
                  <a:schemeClr val="accent6">
                    <a:lumMod val="75000"/>
                  </a:schemeClr>
                </a:solidFill>
                <a:latin typeface="微软雅黑"/>
                <a:ea typeface="微软雅黑"/>
              </a:rPr>
              <a:t>的人表示我姓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8" descr=""/>
          <p:cNvPicPr/>
          <p:nvPr/>
        </p:nvPicPr>
        <p:blipFill>
          <a:blip r:embed="rId4"/>
          <a:srcRect l="26568" t="10195" r="0" b="0"/>
          <a:stretch/>
        </p:blipFill>
        <p:spPr>
          <a:xfrm>
            <a:off x="-3240" y="0"/>
            <a:ext cx="633960" cy="8654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683640" y="260640"/>
            <a:ext cx="1439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6">
                    <a:lumMod val="75000"/>
                  </a:schemeClr>
                </a:solidFill>
                <a:latin typeface="Cooper Std Black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57360" y="652320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4860000" y="2061000"/>
            <a:ext cx="2448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0000"/>
                </a:solidFill>
                <a:latin typeface="Edwardian Script ITC"/>
              </a:rPr>
              <a:t>Thank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Times New Roman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  <Words>219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8:36:44Z</dcterms:created>
  <dc:creator>张一婵</dc:creator>
  <dc:description/>
  <dc:language>en-US</dc:language>
  <cp:lastModifiedBy>yu wang</cp:lastModifiedBy>
  <dcterms:modified xsi:type="dcterms:W3CDTF">2015-08-03T12:24:12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